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4B6-3BA0-4683-9110-CB3CD41E0C3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A6F2-8490-4781-A549-EFE752F9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DD6B-4BC7-4821-8991-5C531A4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3B80-B00F-4D3D-A5BC-28AD65CE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3411-4E0A-42F8-83AF-5E84AFFC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CE0F-544A-44FE-9EAD-CA1F752B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C6D-1964-4FF7-8F95-41A5B52E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5F9E-F1E7-42BC-803A-27AE2F01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39D-1B6C-49D4-902D-0EB41623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9B26-B7EE-4732-A615-F81FFEB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5B7-DF13-45A5-9C5C-815B7108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ACB2-BC28-455E-9C02-EB33A2B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CCAE-7845-4C03-856A-FF318A7E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139F-86AC-4AB1-83F0-FF65588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58F3-BE42-4C48-A2D8-6CF38867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1521-6A2A-4C7F-B4D1-0950E52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D6B-9789-48DC-BBF4-D646E40F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3B3D-E4EB-495C-ABCF-021F3F27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1A41-F7D6-4FCA-96ED-F3AEC24C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EEF9-9638-4BA2-BEAD-E648DD5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31C4-C3FC-4802-93F7-FA6F65CF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760A-D361-4D37-B80A-74CFDFF3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2C23-8474-477E-A01D-649CBDB9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0498-612E-4401-BAF2-D12EA3E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6685-A2B9-46DC-8C41-43F9029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C270-4A78-4636-B5C7-D226D04D6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12D-69B2-497A-9AAA-DFBE46CB9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nedu.sk/VaG/2005/VESF/FORM05/form05.ht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ffff00"/>
                </a:solidFill>
                <a:latin typeface="Arial Narrow"/>
              </a:rPr>
              <a:t>Finančné riadenie projektov podporených z ESF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C. iný ako pracovnoprávny vzťah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-    v prípade ak je pracovník v inom ako pracovnoprávnom vzťahu s konečným prijímateľ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-    zmluvu v súlade s Obchodným zákonníkom, resp. iným platným právnym predpisom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(Zmluva o dielo/Zmluva o vykonaní diel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faktúru a preberací protokol podpísaný štatutárnym zástupcom konečného prijímateľ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ankový výpis dokumentujúci reálnu úhradu </a:t>
            </a: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(ako variabilný symbol uvádzať číslo faktúry, ak dodávateľ nemá iné)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D. Diéty, ubytovanie, stravné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cestovný príkaz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cestovný doklad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oklad za ubytovanie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i využití súkromného motorového vozidla pre služobné účely: overená kópia technického preukazu, zákonnej  a havarijnej poistky, výpočet oprávnených výdavkov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správa zo služobnej ces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bankový výpis dokumentujúci reálnu úhradu, resp. výdavkový pokladničný doklad dokumentujúci reálnu úhra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Cestovné náhrady je potrebné účtovať na základe Zákona č. 283/2002 o cestovných náhradách v znení neskorších predpisov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2. Zariadenie / vybaveni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áznam o verejnom obstarávaní (záznam z vyhodnotenia ponúk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rámcová zmluva, zmluva s dodávateľom, resp. dodatok k zmluve (poistná zmluv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objednávk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ehlásenie o pôvode tovar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faktúra (dodací list s podpisom potvrdzujúcim prevzati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bankový výpis dokumentujúci reálnu úhradu (ako variabilný symbol uvádzať číslo faktúry, ak dodávateľ nemá iné), resp. výdavkový pokladničný doklad dokumentujúci reálnu úhra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Len bežné výdavky 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(zaradené na osobnej/inventárnej kart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3. Výdavky projektu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484280"/>
            <a:ext cx="381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A. Energie a nájomn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faktúra (nie vnútroorganizačná faktúr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zmlu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kľúč k prepočítaniu nákladov pre projekt (nájomné, elektrická energia, služby atď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ankový výpis dokumentujúci reálnu úhradu, resp. výdavkový  pokladničný doklad dokumentujúci reálnu úhrad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B. Spotrebný tovar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Záznam z verejného obstarávan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Objednávka, zmlu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Faktúra (dodací list), pokladničný blok ER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ankový výpis dokumentujúci reálnu úhradu, resp. výdavkový pokladničný doklad dokumentujúci reálnu úhrad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22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C. Poštovné a telekomunikačné poplat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4653000"/>
            <a:ext cx="828036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- podací lístok alebo výpis z podacieho hárku s adresa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výdavkový pokladničný doklad alebo bankový výpis (zmluv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faktúra, výpis hovorov s označením hovor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zmluva o pripoj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D. Prevádzka vozidla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cestovný príka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overená kópia knihy jázd s vyznačenými jazdami pre projek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faktúra, pokladničný blok ER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výpočet nákladov na pohonné hmo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výpočet nákladov na poistenie, údržbu, poistná zmlu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ankový výpis dokumentujúci reálnu úhradu, výdavkový pokladničný dokl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4. Odpisy vlastného majetku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doklad deklarujúci výšku obstarávacej ceny (protokol o zaradení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stanovená metóda odpisovan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výpočet výšky oprávnených odpiso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ložka s vlastníckym právom, len počas realizácie projekt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5. Podpora frekventantov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cestovný príkaz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cestovný dokla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doklad za ubytovani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ezenčná listina (dátum, miesto, čas trvania a názov aktivity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návratka  s potvrdením účasti frekventanta na školení/kurz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bankový výpis dokumentujúci reálnu úhradu, resp. výdavkový pokladničný doklad dokumentujúci reálnu úhrad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i využití súkromného motorového vozidla pre služobné účely: výpočet oprávnených výdavkov, doklad o výške cestovného prostredníctvom verejnej doprav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Cestovné náhrady je potrebné účtovať na základe Zákona č. 283/2002 o cestovných náhradách v znení neskorších predpisov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záznam z verejného obstarávani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objednávka, zmluva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faktúra (dodací list) alebo výdavkový pokladničný doklad, pokladničný blok ER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ýpis z bankového účtu (originál, s hlavičkou banky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6. Ostatné náklady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3645000"/>
            <a:ext cx="8569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Garamond"/>
              </a:rPr>
              <a:t>2x rovnopis originálu doklad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Garamond"/>
              </a:rPr>
              <a:t>v prípade, že povaha dokladu neumožňuje vyhotoviť viac rovnopisov originálov, KP predloží overenú kópiu s pečiatkou a podpisom štatutárneho zástupcu K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Garamond"/>
              </a:rPr>
              <a:t>2 x originál výpisu z bankového účtu, resp dokladu deklarujúceho uhradenie nákladov v hotov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00"/>
                </a:solidFill>
                <a:latin typeface="Arial"/>
              </a:rPr>
              <a:t>Zmena neovplyvňuje účel a ciele projektu,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nenávratný finančný príspevok nie je možné zvýšiť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sun max. 10% pôvodnej čiastky hlavnej ča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ezodkladne informovať SORO a zaslať zmenený rozpoč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Schválenie zme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A.     Nezmenený počet jednotiek, nezmenená hlavná časť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Zmena v komentári, nezmenený počet jednotiek, jednotková cen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= bez dodatku k zmluve o poskytnutí nenávratného finančného príspevk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B.     Zmena počtu jednotiek / jednotkovej ceny, nezmenená daná podpolož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Zmena komentára- zmenený počet jednotiek / jednotková cena / účel použiti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Presun 10% medzi jednotlivými hlavnými časťam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00"/>
                </a:solidFill>
                <a:latin typeface="Arial"/>
              </a:rPr>
              <a:t>= dodatok k zmluve o poskytnutí nenávratného finančného príspevku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Garamond"/>
              </a:rPr>
              <a:t>Zmeny v rozpočte</a:t>
            </a:r>
            <a:r>
              <a:rPr b="1" lang="sk-SK" sz="4000" spc="-1" strike="noStrike">
                <a:solidFill>
                  <a:srgbClr val="ff33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91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Obsa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ystémy a proces financovania projekt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Žiadosti o plat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Prílohy k žiadostiam o platb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meny v rozpočte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363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ffff00"/>
                </a:solidFill>
                <a:latin typeface="Garamond"/>
              </a:rPr>
              <a:t>Ďakujem za pozornosť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ystémy financovania projektu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16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ystém zálohových plat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Žiadosť konečného prijímateľa o zálohovú platb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Žiadosť konečného prijímateľa o zúčtovanie zálohovej plat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ystém priebežných plat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-   Žiadosť konečného prijímateľa o priebežnú platb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4000" y="5373720"/>
            <a:ext cx="82296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- vychádzajú z finančného plánu, rozpočtu a harmonogram projektu zakotvených v zmluve o poskytnutí nenávratného finančného príspev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Žiadosť KP o zálohovú platbu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09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Žiadosť KP o zúčtovanie zálohovej platby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1407960"/>
            <a:ext cx="8523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Žiadosť KP o priebežnú platbu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945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ypĺňanie formulárov žiadostí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Príloha zmluv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minedu.sk/VaG/2005/VESF/FORM05/form05.ht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VZOREC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8534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68360" y="1557360"/>
            <a:ext cx="81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A. pracovná zmluva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549360"/>
            <a:ext cx="84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00"/>
                </a:solidFill>
                <a:latin typeface="Arial"/>
              </a:rPr>
              <a:t>Prílohy k žiadostiam o platbu </a:t>
            </a:r>
            <a:br>
              <a:rPr sz="2800"/>
            </a:b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.Personálne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v prípade ak je pracovník projektu v pracovnoprávnom vzťahu na základe pracovnej zmluvy (príp. dodatok)</a:t>
            </a:r>
            <a:br>
              <a:rPr sz="1800"/>
            </a:b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acovnú zmluvu, resp. vymenovanie do štátnej služby spolu s náplňou práce, resp. opisom činnosti štátno-zamestnaneckého miesta a platový návr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pracovný výkaz podpísaný štatutárnym zástupcom konečného prijímateľ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mzdový lis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-    členenie oprávnenej mzdy na podpoložky platnej ekonomickej klasifikácie (rozpočtové  a príspevkové organizáci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00"/>
                </a:solidFill>
                <a:latin typeface="Arial"/>
              </a:rPr>
              <a:t>-    bankový výpis (originál), resp. výdavkový pokladničný doklad dokumentujúci reálnu úhradu (dodržiavať limit zakotvený v zmluve o poskytnutí nenávratného finančného príspevku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e5e5ff"/>
                </a:solidFill>
                <a:latin typeface="Garamond"/>
              </a:rPr>
              <a:t>B. dohoda o vykonaní prác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v prípade, ak je pracovník projektu v pracovnoprávnom vzťahu na základe  dohody o vykonaní prá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dohodu o vykonaní práce (číslo účtu zamestnanc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acovný výkaz podpísaný štatutárnym zástupcom konečného   prijímateľ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mzdový l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spôsob výpočtu oprávnenej mzd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bankový výpis, resp. výdavkový pokladničný doklad dokumentujúci reálnu úhrad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687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0:20:44Z</dcterms:created>
  <dc:creator>Lubik</dc:creator>
  <dc:description/>
  <dc:language>en-US</dc:language>
  <cp:lastModifiedBy>lubica.toporcerova</cp:lastModifiedBy>
  <dcterms:modified xsi:type="dcterms:W3CDTF">2005-10-24T09:10:37Z</dcterms:modified>
  <cp:revision>9</cp:revision>
  <dc:subject/>
  <dc:title>Finančné riadenie projektov podporených z ESF</dc:title>
</cp:coreProperties>
</file>