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249BC3-7F5B-4D85-AE82-F8A1B9265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E7EA4C-CA9F-4C77-9FD5-D63505E61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13400C-9807-41A6-B30A-C5FA45A1B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496E45-BA70-4DE2-9E81-456971D47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7419B-75DE-440B-A165-B17482969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87D93-65F4-40A2-B095-7F742769C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9D06A-DDC1-43B3-B057-C0400B336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3BB32-FE16-40A2-93EB-94C722197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9548E-6F85-4909-B78C-C515426C0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EB86B-5455-47C3-9193-C428A97CE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DB998-B9E1-4BAF-B4E3-9FBCAE029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F56472-3A23-4284-818C-6BDC71C52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8B70E-FD61-47C5-91A2-DFD7A9672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F8855-508B-4E01-B074-58DA72411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9A3A3-2C8F-4377-AD5E-208E05A64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401BD-D651-471B-8213-9C89EEC59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92C68-3B07-48B6-8470-0C9AF49B7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944C08-7640-4AA8-ADB9-FA6EAF504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03DC4-755B-4CF5-80EF-0D80D56D5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8DCAEB-E0F6-47EB-890B-6E3A954E3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E55917-FD2D-4089-AB78-03B7FAE17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E09EEC-F888-4504-AE89-BC794B232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9495E1-C1A5-421E-B5B6-7E7D5D636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C68802-BFC7-46D7-A396-86CD24F34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4209E-148F-4661-89B1-1F9528DE9C0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F2C6E-7D72-4918-9CAA-C81125525E3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096640"/>
            <a:ext cx="77724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Finančné riadenie projektov ESF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3168720" cy="3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Iné zmluvné vzťahy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zmluva obsahuje percentuálny alebo číselný údaj o počte hodín venovaných projektu/činnosti za mesiac a zamestnanec tento počet hodín na výkaze práce v danom mesiaci presiahn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ýkon práce aj po ukončení zmluvného vzťahu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hýbajúce verejné obstarávani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3168720" cy="3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Zariadenie a vybavenie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hybné alebo chýbajúce verejné obstarávani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bstaranie dlhodobého hmotného a nehmotného majetku – kapitálový výdavo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uplatňovanie odpisov pri majetku, ktorý bol obstaraný z verejných zdrojov (ES, SR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epoistený majeto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yužiteľnosť majetku – nehospodárne nakladanie a využívanie majetku aj na iné činnost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3168720" cy="3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Ostatné položky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uplatňovanie výdavkov, ktoré nesúvisia s realizáciou projektu – spotrebný tova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hýbajúci alikvotný prepočet uplatňovania výdavkov na energie, plyn, vodu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adhodnotenie nárokovaných výdavkov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ýdavky na neoprávnené cieľové skupin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3168720" cy="3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Diskusia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3168720" cy="3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Obsah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právnenosť výdavkov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rmálne a vecné nedostatky žiadostí o platbu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edostatky v podpornej dokumentácii a účtovných doklado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ozpočet a komentá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účty, prevody, limity, spolufinancovani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é nedostatk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kusi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3168720" cy="3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Oprávnenosť výdavkov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Nariadenie (ES) 448/2004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právnený výdavok musí byť vynaložený v oprávnenom období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právnený výdavok musí byť vynaložený na oprávnenom mies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právnený výdavok musí byť vynaložený v súlade s cieľom opatrenia programu a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musí existovať jeho priame spojenie s projekto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výdavok musí byť skutočne vynaložený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právnený výdavok musí byť riadne doložený účtovným dokladom a správne zaevidovaný v účtovných knihách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3168720" cy="3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000" y="633240"/>
            <a:ext cx="821844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Formálne a vecné nedostatky žiadostí o platbu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esprávny formulá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esprávne informácie (chybné IČO, DIČ, bankový účet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eúplné informácie (neúplná hlavička, skrátený názov projektu, neúplný zoznam príloh, neuvedený účtovný doklad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atematické chyby (chybný súčet, nesprávne uvedená suma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hybná klasifikácia položk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3168720" cy="3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000" y="345600"/>
            <a:ext cx="821844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Nedostatky v podpornej dokumentácii a účtovných dokladoch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hýbajúce podklady (dodacie listy alebo preberacie protokoly; objednávka; zmluva na dodanie tovaru alebo služby; prehlásenie o pôvode tovaru;...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eúplné podklady – potvrdenie prevzatia tovaru na dodacom liste; chýbajúce dátumy na objednávkach; na kópiách dokladoch chýbajúce pečiatky alebo podpisy štatutárneho orgánu; na prezenčných listinách chýbajúce dátumy konania aktivity; miesto konania aktivity a čas konania aktivity a iné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3168720" cy="3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82184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Nedostatky v podpornej dokumentácii a účtovných dokladoch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eúplne vypísaný účtovný doklad – neočíslovaný, chýbajúci dátum, obsah účtovného dokladu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ajchybovejšie účtovné doklady – cestovné príkazy a pokladničné doklad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3168720" cy="3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Rozpočet a komentár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Garamond"/>
              </a:rPr>
              <a:t>nedodržanie počtu jednotiek uvedených v rozpočt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Garamond"/>
              </a:rPr>
              <a:t>prekročenie jednotkovej cen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Garamond"/>
              </a:rPr>
              <a:t>nedodržanie komentára k rozpočtu (napr. ohraničenie výkonu práce počtom hodín v komentári; obstaranie tovaru, resp. služieb neuvedených v komentári; ...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Garamond"/>
              </a:rPr>
              <a:t>nesprávne zvolená jednotka (osobodeň, mesiac,...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3168720" cy="3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Účty, prevody, limity, spolufinancovanie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uhrádzanie z bankových účtov, ktoré nie sú uvedené v zmluv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edodržanie hotovostných limitov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hýbajúci prevod peňažných prostriedkov cez rozpočet zriaďovateľa (platí pre verejný sektor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hýbajúce spolufinancovanie zo strany KP pri úhrade výdavkov (platí pre verejný sektor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3168720" cy="3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acovnoprávne vzťah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výkon práce pred podpísaním zmluvy, resp. dohod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zmluva/dohoda obsahuje percentuálny alebo číselný údaj o počte hodín venovaných projektu/činnosti za mesiac a zamestnanec tento počet hodín na výkaze práce v danom mesiaci presiahne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výkon práce v rovnaký deň ako je podpísaná dohoda o vykonaní prác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blematika odmeňovania zamestnancov pri výkone práce vo verejnom záujm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3168720" cy="3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3T17:36:18Z</dcterms:created>
  <dc:creator>miroslav.hrudkay</dc:creator>
  <dc:description/>
  <dc:language>en-US</dc:language>
  <cp:lastModifiedBy> </cp:lastModifiedBy>
  <dcterms:modified xsi:type="dcterms:W3CDTF">2007-09-24T07:23:21Z</dcterms:modified>
  <cp:revision>5</cp:revision>
  <dc:subject/>
  <dc:title>Finančné riadenie projektov ESF</dc:title>
</cp:coreProperties>
</file>