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3B88-EF80-4F0C-842E-D340D7D5C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36DC-613C-4779-B384-16147D38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166C-969C-444F-8053-DF68F1A30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6738-6DD5-4463-B5BB-6C2881A97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028C-7255-4ABA-9D2B-2C071D3FA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0B1E-3F91-4FD1-99AA-0B04821E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8C44-8769-48DA-99FB-1B485AA6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7BCD-B41A-461A-9080-9B917EAF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F7B4-511C-44E2-9EB2-35265DF7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4B79-F325-49F7-B925-7D1BD26D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13C5-89D9-4C3B-B324-28B0FE5E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F488-B1D3-4F53-A89D-1903DAE5A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D970-2904-4BBC-9F75-6945C31A1E11}" type="slidenum">
              <a:rPr b="0" lang="sk-SK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minedu.sk/usmernenie-k-ssjn-vzdelavanie-pedagogickych-a-odbornych-zamestnancov-&#8211;-zoznam-absolventov-vzdelavania/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428720" y="4071960"/>
            <a:ext cx="427212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e46c0a"/>
                </a:solidFill>
                <a:latin typeface="Calibri"/>
              </a:rPr>
              <a:t>Finančná čas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428720" y="5516640"/>
            <a:ext cx="425772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898989"/>
                </a:solidFill>
                <a:latin typeface="Calibri"/>
              </a:rPr>
              <a:t>oprávnené a neoprávnené výdavk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898989"/>
                </a:solidFill>
                <a:latin typeface="Calibri"/>
              </a:rPr>
              <a:t>financovanie projektu/tvorba rozpočtu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BlokTextu 5"/>
          <p:cNvSpPr/>
          <p:nvPr/>
        </p:nvSpPr>
        <p:spPr>
          <a:xfrm>
            <a:off x="250920" y="5769000"/>
            <a:ext cx="32400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1" lang="sk-SK" sz="1200" spc="-1" strike="noStrike">
                <a:solidFill>
                  <a:srgbClr val="a6a6a6"/>
                </a:solidFill>
                <a:latin typeface="Arial"/>
              </a:rPr>
              <a:t>Informačné seminá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a6a6a6"/>
                </a:solidFill>
                <a:latin typeface="Arial"/>
              </a:rPr>
              <a:t>výzva </a:t>
            </a:r>
            <a:r>
              <a:rPr b="0" lang="sk-SK" sz="1200" spc="-1" strike="noStrike">
                <a:solidFill>
                  <a:srgbClr val="a6a6a6"/>
                </a:solidFill>
                <a:latin typeface="Arial"/>
              </a:rPr>
              <a:t>č. OPLZ-PO1/2018/DOP/1.1.1-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a6a6a6"/>
                </a:solidFill>
                <a:latin typeface="Arial"/>
              </a:rPr>
              <a:t>„</a:t>
            </a:r>
            <a:r>
              <a:rPr b="1" lang="sk-SK" sz="1200" spc="-1" strike="noStrike">
                <a:solidFill>
                  <a:srgbClr val="a6a6a6"/>
                </a:solidFill>
                <a:latin typeface="Arial"/>
              </a:rPr>
              <a:t>Čitateľská, matematická a prírodovedná gramotnosť v základnej škole</a:t>
            </a:r>
            <a:r>
              <a:rPr b="0" lang="sk-SK" sz="1200" spc="-1" strike="noStrike">
                <a:solidFill>
                  <a:srgbClr val="a6a6a6"/>
                </a:solidFill>
                <a:latin typeface="Arial"/>
              </a:rPr>
              <a:t> </a:t>
            </a:r>
            <a:r>
              <a:rPr b="1" lang="sk-SK" sz="1200" spc="-1" strike="noStrike">
                <a:solidFill>
                  <a:srgbClr val="a6a6a6"/>
                </a:solidFill>
                <a:latin typeface="Arial"/>
              </a:rPr>
              <a:t>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základnej školy vyučujúceho extra hodiny IX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Zástupný objekt pre obsah 5" descr=""/>
          <p:cNvPicPr/>
          <p:nvPr/>
        </p:nvPicPr>
        <p:blipFill>
          <a:blip r:embed="rId1"/>
          <a:stretch/>
        </p:blipFill>
        <p:spPr>
          <a:xfrm>
            <a:off x="1612800" y="1600200"/>
            <a:ext cx="5918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základnej školy vyučujúceho extra hodiny X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riadku "Prijímateľ NFP" sa uvedie názov prijímateľa podľa zmluvy o poskytnutí nenávratného finančného príspevku (ďalej len "zmluva o NFP"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riadku "Názov projektu" sa uvedie úplný názov projektu podľa zmluvy NFP, nepoužíva sa skrátený názov projekt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riadku "Kód ŽoP ITMS2014+ " sa uvedie kód príslušnej žiadosti o platbu, v ktorej budú výdavky za extra hodiny predložené na preplaten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stĺpci A "Poradové číslo" poradové číslo pedagogického zamestnanca "extra hodiny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stĺpci B a C  "Priezvisko a Meno" uvedie sa celé priezvisko a meno pedagogického zamestnanca  "s extra hodinami"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stĺpci D  "Názov vzdelávacej aktivity - extra hodiny" uvedie sa názov vyučovacieho predmetu, na ktorom boli realizované vyučovacie hodiny nad rámec hodín financovaných zo štátneho rozpočt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stĺpci F  "Škola" uvedie sa škola, na ktorej boli realizované vyučovacie hodiny nad rámec hodín financovaných zo štátneho rozpočt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základnej školy vyučujúceho extra hodiny X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stĺpci  G, H a  I   "Počet hodín" uvedie sa  za každý mesiac samostatne celkový  počet hodín v mesiaci realizovaných nad rámec hodín financovaných zo štátneho rozpočtu , 1 extra hodina = 60 min, 45 min. priama výchovno- vzdelávacia činnosť (priama vyučovacia povinnosť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15 min. ostatné činnosti súvisiace s priamou výchovno-vzdelávacou činnosťou (t.j. príprava na priamu vyučovaciu povinnosť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stĺpci J  "Spolu" sumár za štvrťrok - vyplní sa automaticky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Riadok 27 "Meno a podpis štatutárneho orgánu prijímateľa" uvedie sa meno a vlastnoručný podpis štatutárneho orgánu prijímateľa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riadku 28 "Dátum vypracovania" uvedie sa dátum vypracovania zoznamu vo formáte DD.MM.RRRR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financovanie činnosti a aktivít  pedagogických klubo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 pedagogických kluboch (ďalej aj „klub“) sa stretávajú a vymieňajú si skúsenosti vybrané kategórie pedagogických zamestnancov, ktorí vo svojom voľnom čase majú záujem vzdelávať sa a získavať nové poznatky a vymieňať si navzájom skúsenost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účasť v pedagogických kluboch </a:t>
            </a:r>
            <a:r>
              <a:rPr b="1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je výlučne určená </a:t>
            </a: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re nasledovné kategórie pedagogických zamestnancov: učitelia, pedagogickí asistenti, vychovávatelia a majstri odborného výcvik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hlavným účelom týchto klubov je </a:t>
            </a: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oskytnúť platformu pre aktívne sieťovanie a spoločnú spoluprácu pedagogických zamestnancov na spoločných témach a pre medzigeneračnú výmenu medzi mladými a staršími/skúsenejšími pedagogickými zamestnancam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 </a:t>
            </a:r>
            <a:r>
              <a:rPr b="1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Výška štandardnej stupnice jednotkových nákladov je 10,60 EUR/1 hodina/pedagogický zamestnanec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ríprava a účasť na stretnutiach klubu za účelom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ýmeny skúseností a best practice z vlastnej vyučovacej činnost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rieskumno-analytickej a tvorivej činnosti týkajúca sa výchovy a vzdelávania a vedúca k jej zlepšeniu a identifikácii osvedčených pedagogických skúsenost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ýmeny skúseností pri využívaní  moderných vyučovacích postupov a metód podporujúcich inovácie vo vzdelávan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ýmenu skúseností v oblasti medzipredmetových vzťaho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obsahové zameranie klubu závisí od zloženia resp. zastúpenia jeho členov a/alebo od ich vyučovacích predmetov. Každý klub má svoj harmonogram činnosti na príslušný školský rok členený na mesiace.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ri definovaní svojej činnosti si každý klub musí vybrať minimálne jednu tému, ktorá je tematicky v súlade s obsahom výzvy na predkladanie projektov. 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Činnosť aktivít klubu sa musí zameriavať na témy ako sú výsledky medzinárodných meraní PISA a možné spôsoby/cesty pre ich zlepšenie, implementovanie medzipredmetových vzťahov vo vzdelávacom procese, identifikovanie problémov vo vzdelávaní a možné spôsoby ich riešenia, výmena skúsenosti s aplikovaním nových progresívnych metód a foriem práce, výmena skúsenosti s využívaním didaktických postupov a metód orientovaných na rozvoj kľúčových kompetencií žiakov, výmena skúseností  s využívaním nových progresívnych a moderných nástrojov a didaktickej techniky – IKT, na prevenciu závislostí, rasizmu, násilia a iných foriem/druhov extrémneho správ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min. počet členov klubu je 3 učitelia a max. 10 učiteľov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. Klub môžu tvoriť učitelia z jednej školy, ale aj/alebo učitelia z viacerých škôl v okrese resp. v kraji. Na základe spoločného rozhodnutia členov klubu je  jeden z pedagogických zamestnancov vymenovaný/určený za koordinátora klubu, ktorý organizuje a koordinuje činnosť klubu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 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klub sa stretáva </a:t>
            </a: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maximálne dvakrát mesačne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. </a:t>
            </a: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Dĺžka jedného stretnutia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klubu je </a:t>
            </a: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max. 3 hodiny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každý klub si vypracuje plán svojej práce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lán práce klubu</a:t>
            </a: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musí</a:t>
            </a: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obsahovať opis a zdôvodnenie plánovanej činnosti, rámcový program stretnutí, dĺžku ich trvania,  predbežné termíny realizácie činnosti a počet členov klubu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I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každý klub musí zverejňovať dosiahnuté výsledky a výstupy svojej činnosti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na webovom sídle prijímateľa resp. projektu. Okrem toho výsledky a výstupy práce klubu musia byť zverejnené a dostupné pre všetkých pedagogických zamestnancov a pre zainteresovanú verejnosť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za výsledky a výstupy klubu sa považujú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správy o činnosti  klubu (t.j. správy zo zasadnutí klubov) a písomné výstupy klubu (napr. osvedčená pedagogická prax, analýza s odporúčaniami, správa s odporúčaniami)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Štruktúra činnosti klubu – 2 varianty/typy klubov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kluby bez písomného výstupu</a:t>
            </a:r>
            <a:r>
              <a:rPr b="0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– činnosti preplácané v rámci JC sa budú týkať zasadnutí klubov a výmeny skúseností prebiehajúcej na týchto zasadnutiach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Maximálny  rozsah hodín na 1 klub na 1 školský polrok = 30 hodín na zasadnutia klubu na 1 PZ ako účastníka klubovej činnost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kluby s písomným výstupom</a:t>
            </a:r>
            <a:r>
              <a:rPr b="0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- činnosti preplácané v rámci JC sa budú týkať zasadnutí klubov a výmeny skúseností prebiehajúcej na týchto zasadnutiach; navyše bude za každý školský polrok písomný výstup práce klubu - napr. osvedčenú pedagogickú prax, analýzu s odporúčaniami, správu s odporúčaniami. Maximálny  počet hodín na tvorbu tohto výstupu je 50 hodín na jeden klub na jeden školský polrok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Maximálny  rozsah hodín na 1 klub na 1 školský polrok = 30 hodín na zasadnutia klubu na 1 PZ ako účastníka klubovej činnosti a 50 hodín na 1 klub na tvorbu písomného výstupu klubu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 </a:t>
            </a:r>
            <a:r>
              <a:rPr b="1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Nie je možné kombinovať tieto 2 varianty v rámci jedného klubu. Klub/žiadateľ si vybral jeden z vyššie uvedených variantov/typov pri tvorbe projektu (v rámci žiadosti o NFP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IV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re školu platia nasledovné limity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každá škola môže mať na  len jeden klub na ten istý/jeden vyučovací predmet a na istú/jednu prierezovú tém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ten istý pedagogický zamestnanec môže byť účastníkom len jedného klubu na ten istý/jeden vyučovací predmet a na istú/jednu prierezovú tém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ten istý pedagogický zamestnanec môže byť účastníkom vo viacerých kluboch s rôznymi/rozdielnymi vyučovacími predmetmi a  prierezovými témam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z každého zasadnutia/stretnutia klubu bude vyhotovená správa o činnosti klubu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. Uvedené sa týka oboch variantov/typov klubov. </a:t>
            </a: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Správa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 bude obsahovať  stručné zhrnutie stretnutia klubu – témy, ktoré boli predmetom stretnutia, závery a odporúčania zo stretnutia. Prílohou správy bude prezenčná listina podpísaná účastníkmi klubu, ktorí sa daného zasadnutia zúčastnil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štruktúra písomného výstupu klubu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– úvod (stručná anotácia, kľúčové slová, zámer a priblíženie témy písomného výstupu), jadro (popis témy/problém), záver (zhrnutie a odporúčania pre činnosť pedagogických zamestnancov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formuláre :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 1) plán práce klubu; 2) správa o činnosti klubu; 3) písomný výstup klubu ; 4) pedagogický klub menný zoznam; 5) pedagogické kluby zdroje financov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ff0000"/>
                </a:solidFill>
                <a:latin typeface="Calibri"/>
              </a:rPr>
              <a:t>http://www.minedu.sk/formulare-–-ssjn-„pedagogicke-kluby-hodina-ucasti-pedagogickeho-zamestnanca-na-aktivitach-pedagogickeho-klubu“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V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Overovanie v rámci administratívnej finančnej kontroly žiadosti o platb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JC bude preplatená  raz za školský polrok, t.j. za obdobie 5 mesiacov. Počas letných prázdnin sa aktivity v školských kluboch nerealizuj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ri každej ŽoP predloženej prijímateľom bude overené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lán práce klubu a harmonogram činnosti klubu na príslušný školský polrok členený na mesiace (miesto       a  termíny konania zasadnutí klubov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zoznam účastníkov klubu, ktorý bude obsahovať najmä tieto údaje : názov klubu, meno a priezvisko účastníka klubu a koordinátora klubu, aprobácia učiteľa, počet hodín,  na ktorých sa v rámci klubu zúčastni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zoznam zdrojov financovania klubu učiteľov (napr. NP, DOP, iné zdroj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správa o činnosti klubu, vrátane prezenčných listín (za každé stretnutie zvlášť), odkaz na webové sídlo, kde sú správy zverejnené, správa je potrebné predložiť v papierovej a elektronickej for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ísomný výstup (ak relevantné) odkaz na webové sídlo , kde sú písomné výstupy zverejnené, výstupy je potrebné predložiť v papierovej a elektronickej for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a účasti pedagogického zamestnanca na aktivitách pedagogického klubu V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Overovanie počas finančnej kontroly na mies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uistenia sa, že sa  aktivity reálne vykonávajú v deklarovanom rozsahu v projekte. Finančná  kontrola na mieste sa bude vykonávať primárne ako neohlásená finančná kontrola na mieste. Pri plánovaní neohlásenej finančnej kontrole na mieste sa bude vychádzať z Plánu práce klubu, ktorý je Prijímateľ povinný zaslať Poskytovateľovi najmenej 7 dní vopred pred uskutočnením aktivity. Prípadné zmeiny v konaní aktivity je Prijímateľ povinný poskytovateľovi oznámiť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redmetom tejto kontroly bude overenie konania aktivity, overenie počtu osôb, prípadne rozhovor s účastníkmi za účelom overenia si konania aktivity, prípadne spokojnosti s realizovanými aktivitam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na každom dopytovo-orientovanom projekte musí byť vykonaná min. 1 finančná kontrola na mieste počas jeho realizác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redmetom kontroly bude aj overenie, či realizácia aktivít prebieha v súlade so schváleným projekt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c00000"/>
                </a:solidFill>
                <a:latin typeface="Calibri"/>
              </a:rPr>
              <a:t>ŠSJN vzdelávanie pedagogických a odborných zamestnancov - výdavky  na 1 hodinu účasti na kontinuálnom vzdelávaní pedagogického a odborného zamestnanca 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zdelávanie pedagogických zamestnancov (PZ) a odborných zamestnancov (OZ)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jedná sa o akreditované kontinuálne vzdelávanie (ďalej len „KV“)  ako aj o neakreditované vzdelávanie. Ide o vzdelávanie poskytované prijímateľom (t.j. jeho zamestnancami – internými a/alebo externými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jednotková cena sa nevzťahuje na vzdelávanie poskytovaného externými spoločnosťami (t.j. vzdelávanie zabezpečované/realizované prostredníctvom verejného obstarávania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Štandardná stupnica jednotkových nákladov j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re skupinu s 20 účastníkmi: 10,10 EUR na hodinu účastníka vzdeláv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re skupinu s 12 účastníkmi (IKT a jazykové vzdelávanie): 10,65 EUR na hodinu účastníka vzdeláv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základnej školy vyučujúceho extra hodiny 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Cieľom je zavedenie jednotkových nákladov na zvýšenie počtu hodín školského vzdelávacieho programu resp. učebného plánu nad rámec hodín povinne stanovených a financovaných zo štátneho rozpočt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70c0"/>
                </a:solidFill>
                <a:uFillTx/>
                <a:latin typeface="Calibri"/>
              </a:rPr>
              <a:t>Výška štandardnej stupnice jednotkových nákladov je pre učiteľa ZŠ 11, 70 Eur/1 extra hodina (60 minút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Rozsah extra hodín na školu a školský rok je stanovený max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Calibri"/>
              </a:rPr>
              <a:t>pre ZŠ I. stupeň max. 12 hodín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 týždenne</a:t>
            </a:r>
            <a:r>
              <a:rPr b="0" lang="en-GB" sz="1400" spc="-1" strike="noStrike">
                <a:solidFill>
                  <a:srgbClr val="0070c0"/>
                </a:solidFill>
                <a:latin typeface="Calibri"/>
              </a:rPr>
              <a:t> (45 minútových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, t.j. 0,75 hod.</a:t>
            </a:r>
            <a:r>
              <a:rPr b="0" lang="en-GB" sz="14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70c0"/>
                </a:solidFill>
                <a:latin typeface="Calibri"/>
              </a:rPr>
              <a:t>pre ZŠ II. stupeň max. 15 hodín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 týždenne</a:t>
            </a:r>
            <a:r>
              <a:rPr b="0" lang="en-GB" sz="1400" spc="-1" strike="noStrike">
                <a:solidFill>
                  <a:srgbClr val="0070c0"/>
                </a:solidFill>
                <a:latin typeface="Calibri"/>
              </a:rPr>
              <a:t> ( 45 minútových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, t.j. 0,75 hod.</a:t>
            </a:r>
            <a:r>
              <a:rPr b="0" lang="en-GB" sz="1400" spc="-1" strike="noStrike">
                <a:solidFill>
                  <a:srgbClr val="0070c0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Extra hodiny sú financované nad rámec hodín financovaných zo štátneho rozpočtu, t.j. predstavujú doplnok zdrojov k zdrojom štátneho rozpočtu. Extra hodina trvá 60 minút a je zložená zo 45 minútovej vyučovacej hodiny a 15 minútovej prípravy na vyučovaciu hodin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rozhodnutie o obsahu extra hodín je na rozhodnutí školy, podľa svojho zamerania a potrieb, pričom extra hodiny musia byť v súlade so štátnym a/alebo školským vzdelávacím program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c00000"/>
                </a:solidFill>
                <a:latin typeface="Calibri"/>
              </a:rPr>
              <a:t>ŠSJN vzdelávanie pedagogických a odborných zamestnancov - výdavky  na 1 hodinu účasti na kontinuálnom vzdelávaní pedagogického a odborného zamestnanca 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11280" y="141768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70c0"/>
                </a:solidFill>
                <a:latin typeface="Calibri"/>
              </a:rPr>
              <a:t>Akreditované vzdelávani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podľa zákona č. 317/2009 Z.z o pedagogických a odborných zamestnancov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predmetom/obsahom je akékoľvek vzdelávanie vedúce k rozšíreniu a/alebo zvýšeniu kvalifikácie a/alebo profesijných kompetencií a zručností PZ a OZ, a/alebo vedúce k ich osobnostnému ras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 </a:t>
            </a: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vzdelávanie  je  realizované prezenčnou formo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osoba môže absolvovať to isté vzdelávanie iba raz. Jednotková cena (ďalej aj „JC“) bude preplatená iba v prípade, ak sa PZ/OZ zúčastní  min. 80% prezenčného vzdelávani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70c0"/>
                </a:solidFill>
                <a:latin typeface="Calibri"/>
              </a:rPr>
              <a:t>Neakreditované vzdelávan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predmetom/obsahom je akékoľvek vzdelávanie vedúce k rozšíreniu/rozvoju kvalifikácie a/alebo profesijných kompetencií a zručností PZ a OZ, a/alebo vedúce k ich osobnostnému rastu.  </a:t>
            </a:r>
            <a:r>
              <a:rPr b="1" lang="sk-SK" sz="1200" spc="-1" strike="noStrike">
                <a:solidFill>
                  <a:srgbClr val="0070c0"/>
                </a:solidFill>
                <a:latin typeface="Calibri"/>
              </a:rPr>
              <a:t>Výstupom vzdelávania je certifikát o absolvovaní vzdelávania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 </a:t>
            </a: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vzdelávanie je realizované prezenčnou formo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osoba môže absolvovať to isté vzdelávanie iba raz. JC bude preplatená iba v prípade, ak sa PZ/OZ zúčastní  min. 80% prezenčného vzdelávan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v prípade neakreditovaného vzdelávania sa počet prípustných hodín na trvanie vzdelávania v priebehu roka stanovuje na min. 10  hodín a na max.  55 hodí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prijímateľ je povinný predložiť na MŠVVaŠ SR ako SO min. 7 dní pred začatím vzdelávania informáciu o konaní vzdelávania (miesto, čas konania vzdelávania, názov vzdelávani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70c0"/>
                </a:solidFill>
                <a:latin typeface="Calibri"/>
              </a:rPr>
              <a:t>jednotková cena nepokrýva všetky výdavky spojené s operáciou. Bude kombinovaná s ďalšími výdavkami – reálnymi výdavkami zahŕňajúcimi ubytovanie a nájom priestorov</a:t>
            </a: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 – t.j. bude kombinovaná s reálnymi výdavkami - ide o výdavky na nájom priestorov a ubytovanie lektorov a frekventanto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c00000"/>
                </a:solidFill>
                <a:latin typeface="Calibri"/>
              </a:rPr>
              <a:t>ŠSJN vzdelávanie pedagogických a odborných zamestnancov - výdavky  na 1 hodinu účasti na kontinuálnom vzdelávaní pedagogického a odborného zamestnanca 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70c0"/>
                </a:solidFill>
                <a:latin typeface="Calibri"/>
              </a:rPr>
              <a:t>Overovanie v rámci kontroly žiadosti o platb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70c0"/>
                </a:solidFill>
                <a:latin typeface="Calibri"/>
              </a:rPr>
              <a:t>finančné prostriedky budú uhradené prijímateľovi po ukončení vzdelávania </a:t>
            </a: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(akreditovaného, neakreditovaného), t.j. až po absolvovaní vzdelávania frekventantom. Finančné prostriedky sú uhrádzané prijímateľovi na základe predloženia  potvrdenia o absolvovaní vzdelávania (napr. certifikát, osvedčenie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70c0"/>
                </a:solidFill>
                <a:latin typeface="Calibri"/>
              </a:rPr>
              <a:t>JC bude preplatená iba v prípade, ak sa PZ/OZ zúčastní  min. 80% prezenčného vzdeláva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Podmienky preplatenia  JC – doklady potrebné pre preplatenie jednotkovej ceny po absolvovaní vzdelávani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doklad o absolvovaní vzdelávania  - osvedčenie o ukončení kontinuálneho vzdelávania v prípade akreditovaného vzdelávani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doklad o absolvovaní vzdelávania  - certifikát o absolvovaní vzdelávania v prípade neakreditovaného vzdelávani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zoznam absolventov vzdelávania (meno a priezvisko, názov vzdelávania, rozsah vzdelávania, projekt, prijímateľ; miesto konania vzdelávania, adresa školy absolventa; počet hodín vzdelávania, ktorých sa absolvent zúčastnil) – usmernenie </a:t>
            </a:r>
            <a:r>
              <a:rPr b="0" lang="sk-SK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inedu.sk/usmernenie-k-ssjn-vzdelavanie-pedagogickych-a-odbornych-zamestnancov-–-zoznam-absolventov-vzdelavania/</a:t>
            </a: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prezenčné listiny účastníkov vzdelávania v prípade neakreditovaného vzdelávan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Súčasťou overovania žiadosti o platbu budú aj nasledovné skutočnosti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overovanie duplicít účasti frekventantov na tom istom vzdelávaní – overovanie duplicít bude prebiehať prostredníctvom databázy absolventov vzdelávania, ktorá bude obsahovať všetky projekty, v ktorých sa realizovalo vzdelávanie; databáza vzdelávania bude vytvorená na základe údajov uvedených v zozname absolventov, ktorý predkladá prijímateľ  ako doklad/podmienku pre preplatenie jednotkovej ce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70c0"/>
                </a:solidFill>
                <a:latin typeface="Calibri"/>
              </a:rPr>
              <a:t>overenie, či frekventant absolvoval 80% prezenčného vzdelávania – na základe údajov uvedených v zozname absolvento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c00000"/>
                </a:solidFill>
                <a:latin typeface="Calibri"/>
              </a:rPr>
              <a:t>ŠSJN vzdelávanie pedagogických a odborných zamestnancov - výdavky  na 1 hodinu účasti na kontinuálnom vzdelávaní pedagogického a odborného zamestnanca I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Overovanie počas kontroly na mies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uistenie sa, že školenia sa vykonávajú v deklarovanom rozsahu. Kontrola na mieste sa bude vykonávať primárne ako neohlásená kontrola na mieste. Predmetom kontroly bude overenie konania aktivity, overenie počtu osôb, prípadne rozhovor s účastníkmi za účelom overenia si konania aktivity, prípadne spokojnosti s realizovaným školením. V prípade akreditovaných vzdelávacích programov budú predmetom overovania aj prezenčné listiny účastníkov vzdelávania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9680" y="2420640"/>
            <a:ext cx="8186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e46c0a"/>
                </a:solidFill>
                <a:latin typeface="Calibri"/>
              </a:rPr>
              <a:t>Ďakujem za pozornosť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základnej  školy vyučujúceho extra hodiny 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Zvýšený počet hodín nad rámec hodín financovaných zo štátneho rozpočtu môže škola využiť n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yučovacie predmety, ktoré rozširujú a prehlbujú obsah predmetov zaradených do štátneho vzdelávacieho program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yučovacie predmety, ktoré si škola sama zvolí a sama si pripraví ich obsah, vrátane predmetov vytvárajúcich profiláciu školy a experimentálne overených inovačných programov zavedených do vyučovacej prax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yučovacie predmety, ktorých obsah je doplnením vyučovacieho predmetu pre žiakov so špeciálnymi výchovno-vzdelávacími potrebami, ktorí nemôžu napredovať v rámci bežných vyučovacích hodín a ktorí postupujú podľa individuálnych vzdelávacích programo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špecifické vyučovacie predmety pre žiakov so špeciálnymi výchovno-vzdelávacími potrebam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odporu gramotnosti v oblasti IKT a cudzích jazykov a ďalších vzdelávacích aktivít vyplývajúcich zo školského vzdelávacieho program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základnej školy vyučujúceho extra hodiny I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Overovanie výdavkov – jednotkovej ceny bude prebiehať v 3 etapá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rámci konania žiadosti o NFP (t.j. v rámci hodnotiaceho procesu žiadosti o NFP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v rámci administratívnej finančnej kontroly žiadosti o platb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očas finančnej kontroly na miest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základnej školy vyučujúceho extra hodiny IV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Overovanie v rámci administratívnej finančnej kontroly žiadosti o platb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finančné prostriedky budú </a:t>
            </a: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replácané na štvrťročnej báze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 </a:t>
            </a: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finančné prostriedky sú uhrádzané prijímateľovi na základe zdokladovania skutočne realizovaných zvýšených hodín vzdelávacích aktivít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odmienky preplatenia JC - JC bude preplácaná na základe nasledovných  dokladov, ktoré predloží prijímateľ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Raz ročne a pri každej zmen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aktuálny učebný plán resp. školský vzdelávací program zahrňujúci zvýšené hodiny nad rámec hodín financovaných zo štátneho rozpočtu resp. iný dokument stanovujúci rozsah hodín; v dokumentoch budú jasne vyznačené extra hodiny financované v rámci projektu; prijímateľ preukáže, že sa jedná o extra hodiny, ktoré nie sú financované zo štátneho rozpočt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rozvrh hodín s vyznačením extra hodín financovaných z projekt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latná pracovná zmluva pedagogického zamestnanc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ri každej ŽoP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štatutárom školy potvrdený menný zoznam učiteľov a počet hodín jednotlivých učiteľov, ktorí zabezpečovali/realizovali zvýšené hodiny vzdelávacích aktiví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štvrťročné správy o činnosti PZ podľa jednotlivých škôl, vrátane popisu extra hodín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ak relevantné, dokumenty preukazujúce výšku školného plateného rodičmi pred a počas realizácie projektu; v prípade, ak je školné počas implementácie projektu vyššie, musí prijímateľ poskytnúť zdôvodnenie jeho zvýšenia, vrátane potrebnej podpornej dokumentác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základnej školy vyučujúceho extra hodiny V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Overovanie počas finančnej kontroly na mies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uistenia sa, že sa  extra hodiny reálne vykonávajú v deklarovanom rozsahu stanovenom v projekte. Finančná  kontrola na mieste sa bude vykonávať primárne ako neohlásená finančná kontrola na mieste. Pri plánovaní neohlásenej finančnej kontroly na mieste sa bude vychádzať z rozvrhu hodín predloženého ako súčasť Žo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predmetom tejto kontroly bude overenie konania aktivity, overenie počtu osôb, prípadne rozhovor s účastníkmi za účelom overenia si konania aktivity, prípadne spokojnosti s realizovaným aktivity. Okrem toho bude overovaná pedagogická dokumentácia súvisiaca s extra hodinami (napr. triedna kniha, dochádzka žiakov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Na každom dopytovo-orientovanom projekte musí byť vykonaná min. 1 finančná kontrola na mieste počas jeho realizác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ff0000"/>
                </a:solidFill>
                <a:latin typeface="Calibri"/>
              </a:rPr>
              <a:t>http://www.minedu.sk/formulare-–-ssjn-„hodinova-sadzba-ucitelaucitelov-podla-kategorie-skol-zs-ss-pocet-hodin-stravenych-vzdelavacimi-aktivitami-„extra-hodiny““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základnej školy vyučujúceho extra hodiny </a:t>
            </a:r>
            <a:r>
              <a:rPr b="0" lang="sk-SK" sz="3200" spc="-1" strike="noStrike">
                <a:solidFill>
                  <a:srgbClr val="c00000"/>
                </a:solidFill>
                <a:latin typeface="Calibri"/>
              </a:rPr>
              <a:t>V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Zástupný objekt pre obsah 6"/>
          <p:cNvGraphicFramePr/>
          <p:nvPr/>
        </p:nvGraphicFramePr>
        <p:xfrm>
          <a:off x="3043080" y="1600200"/>
          <a:ext cx="3057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Zástupný objekt pre obsah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3080" y="1600200"/>
                    <a:ext cx="3057840" cy="4525920"/>
                  </a:xfrm>
                  <a:prstGeom prst="rect">
                    <a:avLst/>
                  </a:prstGeom>
                  <a:ln w="9360">
                    <a:solidFill>
                      <a:srgbClr val="4f81bd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základnej školy vyučujúceho extra hodiny V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70c0"/>
                </a:solidFill>
                <a:latin typeface="Calibri"/>
              </a:rPr>
              <a:t>Pokyny k vyplneniu Štvrťročnej správy o činnosti pedagogického zamestnanca „extra hodiny“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1. V riadku Prijímateľ - uvedie sa názov prijímateľa podľa zmluvy o poskytnutí nenávratného finančného príspevku (ďalej len "zmluva o NFP"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2. V riadku Názov projektu - uvedie sa úplný názov projektu podľa zmluvy NFP, nepoužíva sa skrátený názov projektu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3. V riadku Kód ITMS ŽoP - uvedie sa kód ŽoP podľa ITMS2014+ - vyplní prijímateľ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4. V riadku Meno a priezvisko zamestnanca – uvedie sa meno a priezvisko pedagogického zamestnanca  ktorý  predmetnú činnosť vykonával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5. Druh školy – uvedie sa škola, na ktorej bola realizovaná vzdelávacia aktivita (ZŠ I. stupeň, ZŠ II. Stupeň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6. V riadku Názov a číslo rozpočtovej položky projektu - uvedie sa názov a číslo rozpočtovej položky podľa zmluvy o NFP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7. V riadku Obdobie vykonávania činnosti – uvedie sa obdobie, za ktoré sa štvrťročná správa o činnosti predkladá. Obdobie sa uvádza v nasledovnom formáte DD.MM.RRRR – DD.MM.RRR, ( napr.01.01.2018 – 31.03.2018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000" spc="-1" strike="noStrike">
                <a:solidFill>
                  <a:srgbClr val="c00000"/>
                </a:solidFill>
                <a:latin typeface="Calibri"/>
              </a:rPr>
              <a:t>ŠSJN hodinová sadzba učiteľa základnej školy vyučujúceho extra hodiny VIII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8. V riadku Správa o činnosti - uvedú a popíšu sa činnosti, ktoré pedagogický zamestnanec vykonával v rámci „extra hodín“  v danom štvrťroku za každý mesiac samostatne . Ide o činnosti, ktoré boli zabezpečované nad rámec hodín financovaných zo štátneho rozpočtu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9. V riadku Vypracoval – uvedie sa celé meno a priezvisko zamestnanca, ktorý štvrťročnú správu o činnosti vypracoval a dátum vypracovania štvrťročnej správy o činnost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10. V riadku Podpis – zamestnanec, ktorý štvrťročnú správu o činnosti vypracoval sa vlastnoručne podpíše, (nie je možné použiť faximile pečiatky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11. V riadku Schválil - uvedie sa celé meno a priezvisko zamestnanca, ktorý štvrťročnú správu schválil (štatutárny zástupca školy) a dátum schválenia štvrťročnej správy o činnosti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70c0"/>
                </a:solidFill>
                <a:latin typeface="Calibri"/>
              </a:rPr>
              <a:t>12. V riadku Podpis – zamestnanec, ktorý štvrťročnú správu o činnosti schválil sa vlastnoručne podpíše, (nie je možné použiť faximile pečiatky). 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3T20:40:01Z</dcterms:created>
  <dc:creator>paul sly</dc:creator>
  <dc:description/>
  <dc:language>en-US</dc:language>
  <cp:lastModifiedBy>Feková Eva</cp:lastModifiedBy>
  <cp:lastPrinted>2019-03-05T11:31:17Z</cp:lastPrinted>
  <dcterms:modified xsi:type="dcterms:W3CDTF">2019-03-05T11:59:26Z</dcterms:modified>
  <cp:revision>185</cp:revision>
  <dc:subject/>
  <dc:title>Snímka 1</dc:title>
</cp:coreProperties>
</file>