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194216-B94C-4334-915F-7364BB4CC0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B4637D-AA84-481B-A8CB-CC07373EC5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9BFD1E-ADE7-4EF3-8BC4-59AB553B80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8B876A-96A1-4BE1-AB40-A278EDBAD8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83A20E-17F3-46FC-A955-780DEDF467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138671-E518-4459-B80D-694A7149E9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B810E7-146E-489E-B13B-F964CBF13C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7F4314-87D0-46EA-A78C-490A74247C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60C3B5-B49C-45A7-8A33-C07629201E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03BF90-C489-4FB2-B8A4-FD0F5BCFF4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87BA5D-D2CC-468F-94B6-6B7FED07F0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B19BB1-4016-4B00-871D-1C085949E7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219628-7ED7-408D-AEA6-6DC694A449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66F006-4BDB-4588-B5E4-EFA8ED7301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366F9C-D74D-42F1-B1B1-B9A64BBFE7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B947FD-5044-4852-8C4D-F4A93A2197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E9C54C-D09A-4F8D-AC98-AA33D6365E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588BA4-ED9C-49C3-9627-D2512F1B68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84D97E-3C40-40D5-AF35-ED6A208C71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0B420C-BE36-4F2C-B415-184EE00BA5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2D4FC5-390D-4493-8E4C-F03B126ECC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82025-37D7-444C-A9B9-F3A685DECD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CF17E-C803-46FA-8F8E-D0EA4F554A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E3B36-7CF5-4680-A017-E5E97C8832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C9BDB-FFC1-4313-A58D-7FADF0F0036F}" type="slidenum">
              <a:rPr b="0" lang="sk-SK"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898989"/>
                </a:solidFill>
                <a:latin typeface="Calibri"/>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EFA85-C5FB-473C-BD7B-5A27EBBA081D}" type="slidenum">
              <a:rPr b="0" lang="sk-SK"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428720" y="4071960"/>
            <a:ext cx="4272120" cy="137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3200" spc="-1" strike="noStrike">
                <a:solidFill>
                  <a:srgbClr val="000000"/>
                </a:solidFill>
                <a:latin typeface="Calibri"/>
              </a:rPr>
              <a:t>Prepojenie vysokoškolského vzdelávania </a:t>
            </a:r>
            <a:br>
              <a:rPr sz="3200"/>
            </a:br>
            <a:r>
              <a:rPr b="0" i="1" lang="sk-SK" sz="3200" spc="-1" strike="noStrike">
                <a:solidFill>
                  <a:srgbClr val="000000"/>
                </a:solidFill>
                <a:latin typeface="Calibri"/>
              </a:rPr>
              <a:t>s potrebami praxe</a:t>
            </a:r>
            <a:endParaRPr b="0" lang="en-US" sz="3200" spc="-1" strike="noStrike">
              <a:solidFill>
                <a:srgbClr val="000000"/>
              </a:solidFill>
              <a:latin typeface="Calibri"/>
            </a:endParaRPr>
          </a:p>
        </p:txBody>
      </p:sp>
      <p:sp>
        <p:nvSpPr>
          <p:cNvPr id="83" name="BlokTextu 5"/>
          <p:cNvSpPr/>
          <p:nvPr/>
        </p:nvSpPr>
        <p:spPr>
          <a:xfrm>
            <a:off x="539640" y="5805360"/>
            <a:ext cx="324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7f7f7f"/>
                </a:solidFill>
                <a:latin typeface="Calibri"/>
              </a:rPr>
              <a:t>21.01.201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txBox="1"/>
          <p:nvPr/>
        </p:nvSpPr>
        <p:spPr>
          <a:xfrm>
            <a:off x="250560" y="260280"/>
            <a:ext cx="8186760" cy="583272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Calibri"/>
              </a:rPr>
              <a:t>2. Podmienka nebyť dlžníkom na daniach</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Žiadateľ nesmie byť dlžníkom na daniach u miestne príslušného správcu dane. </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Forma preukázania: Čestné vyhlásenie žiadateľa v ŽoNFP (bod 15) </a:t>
            </a:r>
            <a:endParaRPr b="0" lang="en-US" sz="24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Calibri"/>
              </a:rPr>
              <a:t>3. Podmienka nebyť dlžníkom poistného na zdravotnom poistení</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Žiadateľ nesmie byť dlžníkom poistného na zdravotnom poistení v žiadnej zdravotnej poisťovni poskytujúcej verejné zdravotné poistenie v SR. </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Forma preukázania: Čestné vyhlásenie žiadateľa v ŽoNFP (bod 15)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txBox="1"/>
          <p:nvPr/>
        </p:nvSpPr>
        <p:spPr>
          <a:xfrm>
            <a:off x="250560" y="260280"/>
            <a:ext cx="8186760" cy="583272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Calibri"/>
              </a:rPr>
              <a:t>4. Podmienka nebyť dlžníkom na sociálnom poistení</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Žiadateľ nesmie byť dlžníkom na sociálnom poistení.</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Forma preukázania: Čestné vyhlásenie žiadateľa v ŽoNFP (bod 15) </a:t>
            </a:r>
            <a:endParaRPr b="0" lang="en-US" sz="24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Calibri"/>
              </a:rPr>
              <a:t>5. Podmienka zákazu vedenia výkonu rozhodnutia voči žiadateľovi</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Voči žiadateľovi nesmie byť vedený výkon rozhodnutia ani vymáhacie konanie v súlade s článkom 71 všeobecného nariadenia.</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Forma preukázania Čestné vyhlásenie žiadateľa v ŽoNFP (bod 15)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txBox="1"/>
          <p:nvPr/>
        </p:nvSpPr>
        <p:spPr>
          <a:xfrm>
            <a:off x="250560" y="260280"/>
            <a:ext cx="8186760" cy="583272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Calibri"/>
              </a:rPr>
              <a:t>6. Podmienka, že voči žiadateľovi sa nenárokuje vrátenie pomoci na základe rozhodnutia EK, ktorým bola pomoc označená za neoprávnenú a nezlučiteľnú s vnútorným trhom</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Voči žiadateľovi sa nesmie nárokovať vrátenie pomoci na základe rozhodnutia Európskej komisie, ktorým bola pomoc označená za neoprávnenú a nezlučiteľnú so spoločným trhom. </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Spôsob overenia: Čestné vyhlásenie žiadateľa v ŽoNFP (bod 15)</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txBox="1"/>
          <p:nvPr/>
        </p:nvSpPr>
        <p:spPr>
          <a:xfrm>
            <a:off x="250560" y="260280"/>
            <a:ext cx="8186760" cy="583272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Calibri"/>
              </a:rPr>
              <a:t>7. Podmienka finančnej spôsobilosti spolufinancovania projektu – </a:t>
            </a:r>
            <a:r>
              <a:rPr b="1" lang="sk-SK" sz="2400" spc="-1" strike="noStrike">
                <a:solidFill>
                  <a:srgbClr val="ff0000"/>
                </a:solidFill>
                <a:latin typeface="Calibri"/>
              </a:rPr>
              <a:t>týka sa verejných vysokých škôl</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Žiadateľ musí byť finančne spôsobilý na spolufinancovanie projektu. Finančná spôsobilosť na spolufinancovanie projektu znamená, že žiadateľ má zabezpečené finančné prostriedky na spolufinancovanie oprávnených výdavkov projektu. Výška spolufinancovania projektu zo strany žiadateľa sa stanovuje ako rozdiel medzi celkovými oprávnenými výdavkami projektu a žiadaným NFP.</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Forma preukázania: Sken dokumentu: napr. výpis z bankového účtu, resp. potvrdenie komerčnej banky, že žiadateľ disponuje požadovanou výškou finančných prostriedkov; úverová zmluva; Čestné vyhlásenie žiadateľa v ŽoNFP (bod 15)</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txBox="1"/>
          <p:nvPr/>
        </p:nvSpPr>
        <p:spPr>
          <a:xfrm>
            <a:off x="250560" y="260280"/>
            <a:ext cx="8186760" cy="5832720"/>
          </a:xfrm>
          <a:prstGeom prst="rect">
            <a:avLst/>
          </a:prstGeom>
          <a:noFill/>
          <a:ln w="0">
            <a:noFill/>
          </a:ln>
        </p:spPr>
        <p:txBody>
          <a:bodyPr anchor="t">
            <a:norm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200" spc="-1" strike="noStrike">
                <a:solidFill>
                  <a:srgbClr val="000000"/>
                </a:solidFill>
                <a:latin typeface="Calibri"/>
              </a:rPr>
              <a:t>8. Podmienka, že žiadateľ ani jeho štatutárny orgán, ani žiadny člen štatutárneho orgánu, ani prokurista/i, ani osoba splnomocnená zastupovať žiadateľa v konaní o ŽoNFP neboli právoplatne odsúdení za trestný čin korupcie, za trestný čin poškodzovania finančných záujmov Európskej únie, za trestný čin legalizácie príjmu z trestnej činnosti, za trestný čin založenia, zosnovania a podporovania zločineckej skupiny, alebo za trestný čin machinácie pri verejnom obstarávaní a verejnej dražbe</a:t>
            </a:r>
            <a:endParaRPr b="0" lang="en-US" sz="2200" spc="-1" strike="noStrike">
              <a:solidFill>
                <a:srgbClr val="000000"/>
              </a:solidFill>
              <a:latin typeface="Calibri"/>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200" spc="-1" strike="noStrike">
                <a:solidFill>
                  <a:srgbClr val="000000"/>
                </a:solidFill>
                <a:latin typeface="Calibri"/>
              </a:rPr>
              <a:t>Žiadateľ, jeho štatutárny orgán, žiadny člen štatutárneho orgánu, prokurista/i ani osoba splnomocnená zastupovať žiadateľa v konaní o ŽoNFP neboli právoplatne odsúdení podľa Trestného zákona za trestný čin (ďalej len „TČ“) korupcie, TČ poškodzovania finančných záujmov Európskej únie, TČ legalizácie príjmu z trestnej činnosti, TČ založenia, zosnovania a podporovania zločineckej skupiny alebo TČ machinácie pri verejnom obstarávaní a verejnej dražbe. </a:t>
            </a:r>
            <a:endParaRPr b="0" lang="en-US" sz="2200" spc="-1" strike="noStrike">
              <a:solidFill>
                <a:srgbClr val="000000"/>
              </a:solidFill>
              <a:latin typeface="Calibri"/>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200" spc="-1" strike="noStrike">
                <a:solidFill>
                  <a:srgbClr val="000000"/>
                </a:solidFill>
                <a:latin typeface="Calibri"/>
              </a:rPr>
              <a:t>Forma preukázania: Čestné vyhlásenie žiadateľa v ŽoNFP (bod 15)</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txBox="1"/>
          <p:nvPr/>
        </p:nvSpPr>
        <p:spPr>
          <a:xfrm>
            <a:off x="250560" y="260280"/>
            <a:ext cx="8186760" cy="583272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Calibri"/>
              </a:rPr>
              <a:t>9. Podmienka, že voči žiadateľovi nie je vedené konkurzné konanie, reštrukturalizačné konanie, nie je v konkurze ani v reštrukturalizácii</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Voči žiadateľovi sa nesmie viesť konkurzné konanie, reštrukturalizačné konanie, nesmie byť v konkurze ani v reštrukturalizácii. Podmienka sa vzťahuje aj na konania začaté a neukončené podľa zákona č. 328/1991 Zb. o konkurze a vyrovnaní v znení neskorších predpisov. Podmienka zahŕňa aj prípady zastavenia konkurzného konania z dôvodu nedostatku majetku alebo zrušenia konkurzu z dôvodu nedostatku majetku.</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Forma preukázania: Čestné vyhlásenie žiadateľa v ŽoNFP (bod 15)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txBox="1"/>
          <p:nvPr/>
        </p:nvSpPr>
        <p:spPr>
          <a:xfrm>
            <a:off x="250560" y="260280"/>
            <a:ext cx="8186760" cy="583272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Calibri"/>
              </a:rPr>
              <a:t>10. </a:t>
            </a:r>
            <a:r>
              <a:rPr b="1" lang="pl-PL" sz="2400" spc="-1" strike="noStrike">
                <a:solidFill>
                  <a:srgbClr val="000000"/>
                </a:solidFill>
                <a:latin typeface="Calibri"/>
              </a:rPr>
              <a:t>Podmienka oprávnenosti cieľovej skupiny projektu</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Oprávnenou cieľovou skupinou v súlade so znením OP ĽZ pre výzvu sú: </a:t>
            </a: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študenti vysokých škôl (študenti dennej formy prvého, druhého a tretieho stupňa vrátane študentov so špecifickými potrebami a študentov zo sociálne znevýhodneného prostredia a marginalizovaných komunít ako sú napr. Rómovia) </a:t>
            </a: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vysokoškolskí učitelia </a:t>
            </a: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zamestnanci v oblasti výskumu a vývoja (výskumní pracovníci a umeleckí pracovníci vysokých škôl)</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Forma preukázania: Formulár ŽoNFP (bod 7.2 a 8) </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Pozn.: Podmienka nie je preukazovaná zo strany žiadateľa samostatnou prílohou.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
          <p:cNvSpPr txBox="1"/>
          <p:nvPr/>
        </p:nvSpPr>
        <p:spPr>
          <a:xfrm>
            <a:off x="250560" y="260280"/>
            <a:ext cx="8186760" cy="5832720"/>
          </a:xfrm>
          <a:prstGeom prst="rect">
            <a:avLst/>
          </a:prstGeom>
          <a:noFill/>
          <a:ln w="0">
            <a:noFill/>
          </a:ln>
        </p:spPr>
        <p:txBody>
          <a:bodyPr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11. Podmienka, že hlavné aktivity projektu sú vo vecnom súlade s oprávnenými aktivitami OP ĽZ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u="sng">
                <a:solidFill>
                  <a:srgbClr val="000000"/>
                </a:solidFill>
                <a:uFillTx/>
                <a:latin typeface="Calibri"/>
              </a:rPr>
              <a:t>Povinná aktivita</a:t>
            </a:r>
            <a:r>
              <a:rPr b="0" lang="sk-SK" sz="2000" spc="-1" strike="noStrike">
                <a:solidFill>
                  <a:srgbClr val="000000"/>
                </a:solidFill>
                <a:latin typeface="Calibri"/>
              </a:rPr>
              <a:t>: </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tvorba a inovácia študijných programov s dôrazom na potreby trhu práce, vrátane prakticky zameraných bakalárskych študijných programov a programov ďalšieho vzdelávania v spolupráci so súkromným sektorom a organizáciami zastupujúcimi podnikateľský sektor, malé a stredné podnikanie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Oprávnená dĺžka realizácie aktivity – maximálne 12 mesiacov.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Poznámka: Pre účely tejto výzvy je oprávnenou činnosťou v rámci hlavnej aktivity projektu priradenej k tomuto typu aktivity tvorba resp. inovácia profesijne orientovaných bakalárskych programov v súlade so zákonom č. 131/2002 Z. z.</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u="sng">
                <a:solidFill>
                  <a:srgbClr val="000000"/>
                </a:solidFill>
                <a:uFillTx/>
                <a:latin typeface="Calibri"/>
              </a:rPr>
              <a:t>Voliteľná/nepovinná aktivita</a:t>
            </a:r>
            <a:r>
              <a:rPr b="0" lang="sk-SK" sz="2000" spc="-1" strike="noStrike">
                <a:solidFill>
                  <a:srgbClr val="000000"/>
                </a:solidFill>
                <a:latin typeface="Calibri"/>
              </a:rPr>
              <a:t>: </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podpora manažérskych/podnikateľských, inovačných a riešiteľských schopností v rámci vyššieho vzdelávania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Oprávnená dĺžka realizácie aktivity – maximálne 24 mesiacov.</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Forma preukázania: Formulár ŽoNFP (bod 7.2 a 9)</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
          <p:cNvSpPr txBox="1"/>
          <p:nvPr/>
        </p:nvSpPr>
        <p:spPr>
          <a:xfrm>
            <a:off x="250560" y="260280"/>
            <a:ext cx="8186760" cy="5832720"/>
          </a:xfrm>
          <a:prstGeom prst="rect">
            <a:avLst/>
          </a:prstGeom>
          <a:noFill/>
          <a:ln w="0">
            <a:noFill/>
          </a:ln>
        </p:spPr>
        <p:txBody>
          <a:bodyPr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12. Podmienka, že výdavky projektu sú oprávnené a nárokovaná výška výdavkov je oprávnená na financovanie z OP ĽZ- samostatná ppt k podmienke (výdavkom)</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Výdavky projektu musia byť preukázateľne oprávnené na financovanie z OP ĽZ, to znamená, že sú v súlade s podmienkami oprávnenosti podrobne definovanými v dokumente Príručka pre žiadateľa (príloha č. 2 výzvy) a v súlade s prílohou č. 4 výzvy Zoznam oprávnených a neoprávnených výdavkov.</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Forma preukázania: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Rozpočet s komentárom: Rozpočet projektu s podrobným komentárom, Príloha ŽoNFP (1a), žiadateľ prílohu vkladá do ITMS2014+ vo formáte excel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Rozpočet (formulár ŽoNFP časť 11)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Prieskum/y trhu (príloha č. 1c ŽoNFP)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Štruktúrovaný/é životopis/y v predpísanom formáte s uvedením overiteľných referencií – príloha č. 1e ŽoNFP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kópie dokladu/dokladov o získanom vzdelaní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Príloha 1b ŽoNFP – Doplňujúce informácie k časti 7.4 ŽoNFP Administratívna a prevádzková kapacita žiadateľa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txBox="1"/>
          <p:nvPr/>
        </p:nvSpPr>
        <p:spPr>
          <a:xfrm>
            <a:off x="250560" y="260280"/>
            <a:ext cx="8186760" cy="5832720"/>
          </a:xfrm>
          <a:prstGeom prst="rect">
            <a:avLst/>
          </a:prstGeom>
          <a:noFill/>
          <a:ln w="0">
            <a:noFill/>
          </a:ln>
        </p:spPr>
        <p:txBody>
          <a:bodyPr anchor="t">
            <a:normAutofit fontScale="99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Calibri"/>
              </a:rPr>
              <a:t>13. Podmienka, že projekt je realizovaný na oprávnenom území</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Oprávneným miestom realizácie aktivít projektu sú všetky kraje menej rozvinutého regiónu a viac rozvinutý región. </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Geografická oprávnenosť žiadateľa (oprávnené miesto realizácie projektu) sa určuje prostredníctvom toho, z ktorého regiónu Slovenskej republiky pochádza cieľová skupina v projekte, pričom pri študentoch vysokej školy sa za rozhodujúce považuje sídlo vysokej školy/fakulty, ktorej sú študentami. Pokiaľ ide o oprávnenú cieľovú skupinu vysokoškolskí učitelia a zamestnanci v oblasti výskumu a vývoja , rozhodujúce je územie kraja, v rámci ktorého sú zamestnaní.</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Forma preukázania: Formulár ŽoNFP (bod 5 a 6) </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Pozn.: Podmienka nie je preukazovaná zo strany žiadateľa samostatnou prílohou.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Všeobecné informácie</a:t>
            </a:r>
            <a:endParaRPr b="0" lang="en-US" sz="3600" spc="-1" strike="noStrike">
              <a:solidFill>
                <a:srgbClr val="000000"/>
              </a:solidFill>
              <a:latin typeface="Calibri"/>
            </a:endParaRPr>
          </a:p>
        </p:txBody>
      </p:sp>
      <p:sp>
        <p:nvSpPr>
          <p:cNvPr id="85" name=""/>
          <p:cNvSpPr txBox="1"/>
          <p:nvPr/>
        </p:nvSpPr>
        <p:spPr>
          <a:xfrm>
            <a:off x="352440" y="1458720"/>
            <a:ext cx="8331120" cy="5398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Výzva v rámci prioritnej osi Vzdelávanie OP Ľudské zdroje</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Vyhlásenie výzvy dňa 27.12.2018</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Otvorená výzva (systém hodnotiacich kôl)</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Uzávierka 1. hodnotiaceho kola </a:t>
            </a:r>
            <a:r>
              <a:rPr b="1" lang="sk-SK" sz="2400" spc="-1" strike="noStrike">
                <a:solidFill>
                  <a:srgbClr val="000000"/>
                </a:solidFill>
                <a:latin typeface="Calibri"/>
              </a:rPr>
              <a:t>8/2/2019</a:t>
            </a:r>
            <a:r>
              <a:rPr b="0" lang="sk-SK" sz="2400" spc="-1" strike="noStrike">
                <a:solidFill>
                  <a:srgbClr val="000000"/>
                </a:solidFill>
                <a:latin typeface="Calibri"/>
              </a:rPr>
              <a:t>, 2. kolo </a:t>
            </a:r>
            <a:r>
              <a:rPr b="1" lang="sk-SK" sz="2400" spc="-1" strike="noStrike">
                <a:solidFill>
                  <a:srgbClr val="000000"/>
                </a:solidFill>
                <a:latin typeface="Calibri"/>
              </a:rPr>
              <a:t>16/4/2019</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Celé územie Slovensk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Alokácia 15 mil. EUR (z toho pre BSK 1,5 mil. EUR)</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Alokácia na projekt 100 001 EUR- 300 000 EUR</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Dĺžka trvania projektov do 24 mesiacov (aktivita na tvorbu bakalárskych programov do 12 mesiacov)</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txBox="1"/>
          <p:nvPr/>
        </p:nvSpPr>
        <p:spPr>
          <a:xfrm>
            <a:off x="250560" y="260280"/>
            <a:ext cx="8186760" cy="5832720"/>
          </a:xfrm>
          <a:prstGeom prst="rect">
            <a:avLst/>
          </a:prstGeom>
          <a:noFill/>
          <a:ln w="0">
            <a:noFill/>
          </a:ln>
        </p:spPr>
        <p:txBody>
          <a:bodyPr anchor="t">
            <a:normAutofit fontScale="99000"/>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200" spc="-1" strike="noStrike">
                <a:solidFill>
                  <a:srgbClr val="000000"/>
                </a:solidFill>
                <a:latin typeface="Calibri"/>
              </a:rPr>
              <a:t>14. Podmienka splnenia kritérií pre výber projektov</a:t>
            </a:r>
            <a:endParaRPr b="0" lang="en-US" sz="2200" spc="-1" strike="noStrike">
              <a:solidFill>
                <a:srgbClr val="000000"/>
              </a:solidFill>
              <a:latin typeface="Calibri"/>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200" spc="-1" strike="noStrike">
                <a:solidFill>
                  <a:srgbClr val="000000"/>
                </a:solidFill>
                <a:latin typeface="Calibri"/>
              </a:rPr>
              <a:t>ŽoNFP musí splniť kritériá pre výber projektov, ktoré boli schválené prostredníctvom monitorovacieho výboru pre OP ĽZ a sú prílohou č. 7 výzvy. </a:t>
            </a:r>
            <a:endParaRPr b="0" lang="en-US" sz="2200" spc="-1" strike="noStrike">
              <a:solidFill>
                <a:srgbClr val="000000"/>
              </a:solidFill>
              <a:latin typeface="Calibri"/>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200" spc="-1" strike="noStrike">
                <a:solidFill>
                  <a:srgbClr val="000000"/>
                </a:solidFill>
                <a:latin typeface="Calibri"/>
              </a:rPr>
              <a:t>V rámci výzvy sa uplatňuje doplňujúce kritérium zamerané na podporu profesijne orientovaných bakalárskych programov: </a:t>
            </a:r>
            <a:endParaRPr b="0" lang="en-US" sz="2200" spc="-1" strike="noStrike">
              <a:solidFill>
                <a:srgbClr val="000000"/>
              </a:solidFill>
              <a:latin typeface="Calibri"/>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200" spc="-1" strike="noStrike">
                <a:solidFill>
                  <a:srgbClr val="000000"/>
                </a:solidFill>
                <a:latin typeface="Calibri"/>
              </a:rPr>
              <a:t>Počet novovytvorených profesijne orientovaných bakalárskych programov podporených z projektu: </a:t>
            </a:r>
            <a:endParaRPr b="0" lang="en-US" sz="2200" spc="-1" strike="noStrike">
              <a:solidFill>
                <a:srgbClr val="000000"/>
              </a:solidFill>
              <a:latin typeface="Calibri"/>
            </a:endParaRPr>
          </a:p>
          <a:p>
            <a:pPr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200" spc="-1" strike="noStrike">
                <a:solidFill>
                  <a:srgbClr val="000000"/>
                </a:solidFill>
                <a:latin typeface="Calibri"/>
              </a:rPr>
              <a:t>5 a viac podporených profesijne orientovaných bakalárskych programov (5 bodov) </a:t>
            </a:r>
            <a:endParaRPr b="0" lang="en-US" sz="2200" spc="-1" strike="noStrike">
              <a:solidFill>
                <a:srgbClr val="000000"/>
              </a:solidFill>
              <a:latin typeface="Calibri"/>
            </a:endParaRPr>
          </a:p>
          <a:p>
            <a:pPr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200" spc="-1" strike="noStrike">
                <a:solidFill>
                  <a:srgbClr val="000000"/>
                </a:solidFill>
                <a:latin typeface="Calibri"/>
              </a:rPr>
              <a:t>3 a 4 podporené profesijne orientované bakalárske programy (3 body) </a:t>
            </a:r>
            <a:endParaRPr b="0" lang="en-US" sz="2200" spc="-1" strike="noStrike">
              <a:solidFill>
                <a:srgbClr val="000000"/>
              </a:solidFill>
              <a:latin typeface="Calibri"/>
            </a:endParaRPr>
          </a:p>
          <a:p>
            <a:pPr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200" spc="-1" strike="noStrike">
                <a:solidFill>
                  <a:srgbClr val="000000"/>
                </a:solidFill>
                <a:latin typeface="Calibri"/>
              </a:rPr>
              <a:t>2 podporené profesijne orientované bakalárske programy (1 bod). </a:t>
            </a:r>
            <a:endParaRPr b="0" lang="en-US" sz="2200" spc="-1" strike="noStrike">
              <a:solidFill>
                <a:srgbClr val="000000"/>
              </a:solidFill>
              <a:latin typeface="Calibri"/>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200" spc="-1" strike="noStrike">
                <a:solidFill>
                  <a:srgbClr val="000000"/>
                </a:solidFill>
                <a:latin typeface="Calibri"/>
              </a:rPr>
              <a:t>Pozn.: Podmienka nie je preukazovaná zo strany žiadateľa samostatnou prílohou. Informácie potrebné k vyhodnoteniu doplňujúceho kritéria uvedie žiadateľ vo formulári ŽoNFP (bod 7.2).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txBox="1"/>
          <p:nvPr/>
        </p:nvSpPr>
        <p:spPr>
          <a:xfrm>
            <a:off x="250560" y="259920"/>
            <a:ext cx="8186760" cy="5977080"/>
          </a:xfrm>
          <a:prstGeom prst="rect">
            <a:avLst/>
          </a:prstGeom>
          <a:noFill/>
          <a:ln w="0">
            <a:noFill/>
          </a:ln>
        </p:spPr>
        <p:txBody>
          <a:bodyPr anchor="t">
            <a:normAutofit fontScale="99000"/>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15. Podmienka relevantného spôsobu financovania</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V rámci tejto výzvy sa uplatňuje spôsob financovania prostredníctvom: refundácie, formou zálohových platieb, a/alebo formou kombinácie zálohových platieb a refundácie v súlade s platným Systémom finančného riadenia EŠIF.</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Forma poskytovaného príspevku: nenávratný finančný príspevok.</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Táto podmienka nie je predmetom preukázania splnenia zo strany žiadateľa pri predložení žiadosti o NFP.</a:t>
            </a:r>
            <a:endParaRPr b="0" lang="en-US" sz="20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16. Podmienka neporušenia zákazu nelegálneho zamestná-vania štátneho príslušníka tretej krajiny za obdobie 5 rokov predchádzajúcich podaniu ŽoNFP</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Žiadateľ nesmie porušiť zákaz nelegálnej práce a nelegálneho zamestnávania podľa osobitného predpisu (Zákon č. 82/2005 Z. z. o nelegálnej práci a nelegálnom zamestnávaní a o zmene a doplnení niektorých zákonov v znení neskorších predpisov) za obdobie 5 rokov predchádzajúcich predloženiu žiadosti o NFP.</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Forma preukázania: Čestné vyhlásenie Formulár ŽoNFP časť 15</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
          <p:cNvSpPr txBox="1"/>
          <p:nvPr/>
        </p:nvSpPr>
        <p:spPr>
          <a:xfrm>
            <a:off x="250560" y="260280"/>
            <a:ext cx="8186760" cy="583272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Calibri"/>
              </a:rPr>
              <a:t>17. Podmienky týkajúce sa štátnej pomoci a vyplývajúce zo schém štátnej pomoci/pomoci de minimis </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Oprávnené aktivity tak, ako sú stanovené touto výzvou nie sú poskytovaním štátnej pomoci a teda vo vzťahu k oprávneným aktivitám sa neuplatňujú pravidlá štátnej pomoci. Žiadateľ/prijímateľ si je vedomý, že štátnou pomocou sa v tejto súvislosti rozumie každá pomoc v akejkoľvek forme, ktorú poskytuje na podnikanie alebo v súvislosti s ním poskytovateľ priamo alebo nepriamo z prostriedkov štátneho rozpočtu, zo svojho rozpočtu alebo z vlastných zdrojov podniku, pričom však nezáleží na právnej forme žiadateľa/prijímateľa a spôsobe jeho financovania. </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Forma preukázania: Nie je predmetom preukazovania zo strany žiadateľa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txBox="1"/>
          <p:nvPr/>
        </p:nvSpPr>
        <p:spPr>
          <a:xfrm>
            <a:off x="250560" y="259920"/>
            <a:ext cx="8186760" cy="5977080"/>
          </a:xfrm>
          <a:prstGeom prst="rect">
            <a:avLst/>
          </a:prstGeom>
          <a:noFill/>
          <a:ln w="0">
            <a:noFill/>
          </a:ln>
        </p:spPr>
        <p:txBody>
          <a:bodyPr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18. Oprávnenosť z hľadiska súladu s HP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Predložená ŽoNFP, musí byť v súlade s horizontálnymi princípmi rovnosť mužov a žien a nediskriminácia a udržateľný rozvoj na roky 2014 – 2020 a v čl. 7 a 8 všeobecného nariadenia.</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Forma preukázania: </a:t>
            </a:r>
            <a:r>
              <a:rPr b="0" lang="sk-SK" sz="2000" spc="-1" strike="noStrike">
                <a:solidFill>
                  <a:srgbClr val="000000"/>
                </a:solidFill>
                <a:latin typeface="Calibri"/>
              </a:rPr>
              <a:t>Formulár ŽoNFP (bod 5 a časť 7.2) a Čestné vyhlásenie žiadateľa v ŽoNFP (bod 15)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Pozn.: Podmienka súladu s HP nie je preukazovaná zo strany žiadateľa samostatnou prílohou.</a:t>
            </a:r>
            <a:endParaRPr b="0" lang="en-US" sz="20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19. Minimálna a maximálna výška príspevku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Minimálna výška príspevku na projekt je 100 001 €.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Maximálna výška príspevku na projekt je 300 000 €.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Pozn.: Žiadateľ je povinný plniť podmienku minimálnej výšky príspevku do momentu poskytnutia súčinnosti podľa § 25 ods. 4 zákona o príspevku z EŠIF v prípade vydania rozhodnutia o schválení ŽoNFP.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Forma preukázania: </a:t>
            </a:r>
            <a:r>
              <a:rPr b="0" lang="sk-SK" sz="2000" spc="-1" strike="noStrike">
                <a:solidFill>
                  <a:srgbClr val="000000"/>
                </a:solidFill>
                <a:latin typeface="Calibri"/>
              </a:rPr>
              <a:t>Formulár ŽoNFP (bod 11) a Rozpočet projektu s podrobným komentárom (Príloha č. 1a ŽoNFP)</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txBox="1"/>
          <p:nvPr/>
        </p:nvSpPr>
        <p:spPr>
          <a:xfrm>
            <a:off x="250560" y="260280"/>
            <a:ext cx="8186760" cy="5832720"/>
          </a:xfrm>
          <a:prstGeom prst="rect">
            <a:avLst/>
          </a:prstGeom>
          <a:noFill/>
          <a:ln w="0">
            <a:noFill/>
          </a:ln>
        </p:spPr>
        <p:txBody>
          <a:bodyPr anchor="t">
            <a:normAutofit fontScale="99000"/>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20. Časová oprávnenosť realizácie projektu</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Minimálna dĺžka na realizáciu aktivít projektu sa nestanovuje.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Maximálna dĺžka na realizáciu aktivít projektu je 24 mesiacov</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Forma preukázania: </a:t>
            </a:r>
            <a:r>
              <a:rPr b="0" lang="sk-SK" sz="2000" spc="-1" strike="noStrike">
                <a:solidFill>
                  <a:srgbClr val="000000"/>
                </a:solidFill>
                <a:latin typeface="Calibri"/>
              </a:rPr>
              <a:t>Formulár ŽoNFP (bod 9)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Pozn.: Podmienka nie je preukazovaná zo strany žiadateľa samostatnou prílohou.</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21. Podmienky poskytnutia príspevku z hľadiska definovania merateľných ukazovateľov projektu</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Žiadateľ v ŽoNFP priradí „aktivitu projektu“ vopred preddefinovanému „typu aktivít“. Typy aktivít sú preddefinované vo výzve. Následne žiadateľ zadáva plánované cieľové hodnoty MU pre všetky vybrané MU v súlade s prílohou č. 3 výzvy a k aktivitám projektu priradeným vybranému typu aktivity priradí všetky povinné ukazovatele pre daný typ aktivity.</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Forma preukázania: Formulár ŽoNFP (bod 10.1 a 10.2)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Pozn.: Podmienka nie je preukazovaná zo strany žiadateľa samostatnou prílohou.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txBox="1"/>
          <p:nvPr/>
        </p:nvSpPr>
        <p:spPr>
          <a:xfrm>
            <a:off x="250560" y="260280"/>
            <a:ext cx="8186760" cy="583272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Calibri"/>
              </a:rPr>
              <a:t>22. Podmienka zákazu predloženia viacero ŽoNFP vo vzťahu k prebiehajúcemu alebo ukončenému schvaľovaciemu procesu ŽoNFP </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Žiadateľ nie je oprávnený predložiť viacero ŽoNFP v rámci tejto výzvy resp. hodnotiaceho kola tejto výzvy pre rovnaké aktivity a zároveň rovnakú cieľovú skupinu ak konanie o predmetnej ŽoNFP stále trvá resp. bolo vydané Rozhodnutie o schválení ŽoNFP. </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Forma preukázania: Čestné vyhlásenie žiadateľa o NFP v časti 15 žiadosti o NFP </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Pozn.: Podmienka nie je preukazovaná zo strany žiadateľa samostatnou prílohou.</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99680" y="242064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4400" spc="-1" strike="noStrike">
                <a:solidFill>
                  <a:srgbClr val="e46c0a"/>
                </a:solidFill>
                <a:latin typeface="Calibri"/>
              </a:rPr>
              <a:t>Ďakujem za pozornosť.</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99680" y="274320"/>
            <a:ext cx="81867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Predkladanie projektov</a:t>
            </a:r>
            <a:endParaRPr b="0" lang="en-US" sz="3600" spc="-1" strike="noStrike">
              <a:solidFill>
                <a:srgbClr val="000000"/>
              </a:solidFill>
              <a:latin typeface="Calibri"/>
            </a:endParaRPr>
          </a:p>
        </p:txBody>
      </p:sp>
      <p:sp>
        <p:nvSpPr>
          <p:cNvPr id="87" name=""/>
          <p:cNvSpPr txBox="1"/>
          <p:nvPr/>
        </p:nvSpPr>
        <p:spPr>
          <a:xfrm>
            <a:off x="355680" y="1052640"/>
            <a:ext cx="8331120" cy="4897440"/>
          </a:xfrm>
          <a:prstGeom prst="rect">
            <a:avLst/>
          </a:prstGeom>
          <a:noFill/>
          <a:ln w="0">
            <a:noFill/>
          </a:ln>
        </p:spPr>
        <p:txBody>
          <a:bodyPr anchor="t">
            <a:normAutofit fontScale="97000"/>
          </a:bodyPr>
          <a:p>
            <a:pPr marL="332640" indent="-33264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Calibri"/>
              </a:rPr>
              <a:t>Predkladanie projektov – MŠVVaŠ SR (nie Výskumná agentúra/ASFEU)</a:t>
            </a:r>
            <a:endParaRPr b="0" lang="en-US" sz="2300" spc="-1" strike="noStrike">
              <a:solidFill>
                <a:srgbClr val="000000"/>
              </a:solidFill>
              <a:latin typeface="Calibri"/>
            </a:endParaRPr>
          </a:p>
          <a:p>
            <a:pPr marL="332640" indent="-33264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Calibri"/>
              </a:rPr>
              <a:t>Projekty sa predkladajú cez ITMS2014+ (neplatia prístupy z minulosti)</a:t>
            </a:r>
            <a:endParaRPr b="0" lang="en-US" sz="2300" spc="-1" strike="noStrike">
              <a:solidFill>
                <a:srgbClr val="000000"/>
              </a:solidFill>
              <a:latin typeface="Calibri"/>
            </a:endParaRPr>
          </a:p>
          <a:p>
            <a:pPr marL="332640" indent="-332640" algn="just">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Calibri"/>
              </a:rPr>
              <a:t>písomná verzia osobne/poštou/kuriérom</a:t>
            </a:r>
            <a:endParaRPr b="0" lang="en-US" sz="2300" spc="-1" strike="noStrike">
              <a:solidFill>
                <a:srgbClr val="000000"/>
              </a:solidFill>
              <a:latin typeface="Calibri"/>
            </a:endParaRPr>
          </a:p>
          <a:p>
            <a:pPr marL="332640" indent="-332640" algn="just">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Calibri"/>
              </a:rPr>
              <a:t>elektronická verzia – možnosť využiť elektronickú schránku</a:t>
            </a:r>
            <a:endParaRPr b="0" lang="en-US" sz="2300" spc="-1" strike="noStrike">
              <a:solidFill>
                <a:srgbClr val="000000"/>
              </a:solidFill>
              <a:latin typeface="Calibri"/>
            </a:endParaRPr>
          </a:p>
          <a:p>
            <a:pPr marL="332640" indent="-33264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Calibri"/>
              </a:rPr>
              <a:t>Minimalizovanie počtu predkladaných dokumentov zo strany škôl (potvrdenia)</a:t>
            </a:r>
            <a:endParaRPr b="0" lang="en-US" sz="2300" spc="-1" strike="noStrike">
              <a:solidFill>
                <a:srgbClr val="000000"/>
              </a:solidFill>
              <a:latin typeface="Calibri"/>
            </a:endParaRPr>
          </a:p>
          <a:p>
            <a:pPr marL="332640" indent="-33264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Calibri"/>
              </a:rPr>
              <a:t>Po predložení projektu administratívna kontrola (možnosť zaslať výzvu na doplnenie chýbajúcich náležitostí/klarifikáciu), odborné hodnotenie, vydanie Rozhodnutí o schválení/neschválení ŽoNFP, v Rozhodnutí môžu byť podmienky, uzavretie Zmluvy o poskytnutí NFP</a:t>
            </a:r>
            <a:endParaRPr b="0" lang="en-US" sz="23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39280" y="259920"/>
            <a:ext cx="818676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Prílohy výzvy</a:t>
            </a:r>
            <a:endParaRPr b="0" lang="en-US" sz="3600" spc="-1" strike="noStrike">
              <a:solidFill>
                <a:srgbClr val="000000"/>
              </a:solidFill>
              <a:latin typeface="Calibri"/>
            </a:endParaRPr>
          </a:p>
        </p:txBody>
      </p:sp>
      <p:sp>
        <p:nvSpPr>
          <p:cNvPr id="89" name=""/>
          <p:cNvSpPr txBox="1"/>
          <p:nvPr/>
        </p:nvSpPr>
        <p:spPr>
          <a:xfrm>
            <a:off x="395280" y="1052640"/>
            <a:ext cx="8331120" cy="525600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Formulár ŽoNFP s prílohami (ŽoNFP, rozpočet, doplňujúce informácie k administratívnej a prevádzkovej kapacite, prieskum trhu, plnomocenstvo, životopis, čestné vyhlásenie, formulár žiadosti o výpis z registra trestov)</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Príručka pre žiadateľa pre prioritnú os 1 Vzdelávanie OP ĽZ, verzia 5.0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Zoznam povinných merateľných ukazovateľov, vrátane ukazovateľov relevantných k HP a iných údajov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Zoznam oprávnených a neoprávnených výdavkov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Riadenie projektu – vytypované pozície – náplň činnosti a kvalifikačné predpoklady</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Prílohy výzvy</a:t>
            </a:r>
            <a:endParaRPr b="0" lang="en-US" sz="3600" spc="-1" strike="noStrike">
              <a:solidFill>
                <a:srgbClr val="000000"/>
              </a:solidFill>
              <a:latin typeface="Calibri"/>
            </a:endParaRPr>
          </a:p>
        </p:txBody>
      </p:sp>
      <p:sp>
        <p:nvSpPr>
          <p:cNvPr id="91" name=""/>
          <p:cNvSpPr txBox="1"/>
          <p:nvPr/>
        </p:nvSpPr>
        <p:spPr>
          <a:xfrm>
            <a:off x="324000" y="1267920"/>
            <a:ext cx="8331120" cy="525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Kritériá akreditácie profesijne orientovaných bakalárskych študijných programov vysokoškolského vzdelávani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Kritériá pre výber projektov OP ĽZ a metodika ich uplatňovani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Informácia pre žiadateľov o nenávratný finančný príspevok, resp. o príspevok, ktorá je zverejnená na webovom sídle http://www.olaf.vlada.gov.sk/system-vcasneho-odhalovania-rizika-a-vylucenia-ede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Ďalšie podporné dokumenty a informácie (zoznam odkazov)</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52320" y="177480"/>
            <a:ext cx="80028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Oprávnení žiadatelia</a:t>
            </a:r>
            <a:endParaRPr b="0" lang="en-US" sz="3600" spc="-1" strike="noStrike">
              <a:solidFill>
                <a:srgbClr val="000000"/>
              </a:solidFill>
              <a:latin typeface="Calibri"/>
            </a:endParaRPr>
          </a:p>
        </p:txBody>
      </p:sp>
      <p:sp>
        <p:nvSpPr>
          <p:cNvPr id="93" name=""/>
          <p:cNvSpPr txBox="1"/>
          <p:nvPr/>
        </p:nvSpPr>
        <p:spPr>
          <a:xfrm>
            <a:off x="250560" y="764640"/>
            <a:ext cx="8404200" cy="129564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u="sng">
                <a:solidFill>
                  <a:srgbClr val="000000"/>
                </a:solidFill>
                <a:uFillTx/>
                <a:latin typeface="Calibri"/>
              </a:rPr>
              <a:t>Žiadatelia</a:t>
            </a: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Verejné a štátne vysoké školy v zmysle § 2 ods. 2 písm. a) a b) zákona č. 121/2002 Z. z. o vysokých školách</a:t>
            </a: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4" name="Nadpis 1"/>
          <p:cNvSpPr/>
          <p:nvPr/>
        </p:nvSpPr>
        <p:spPr>
          <a:xfrm>
            <a:off x="900000" y="2158920"/>
            <a:ext cx="8002800" cy="7779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ea typeface="Arial"/>
              </a:rPr>
              <a:t>Oprávnené cieľové skupiny</a:t>
            </a:r>
            <a:endParaRPr b="0" lang="en-US" sz="3600" spc="-1" strike="noStrike">
              <a:solidFill>
                <a:srgbClr val="000000"/>
              </a:solidFill>
              <a:latin typeface="Arial"/>
            </a:endParaRPr>
          </a:p>
        </p:txBody>
      </p:sp>
      <p:sp>
        <p:nvSpPr>
          <p:cNvPr id="95" name="Zástupný symbol obsahu 2"/>
          <p:cNvSpPr/>
          <p:nvPr/>
        </p:nvSpPr>
        <p:spPr>
          <a:xfrm>
            <a:off x="250920" y="2906640"/>
            <a:ext cx="8404200" cy="3181320"/>
          </a:xfrm>
          <a:prstGeom prst="rect">
            <a:avLst/>
          </a:prstGeom>
          <a:noFill/>
          <a:ln w="0">
            <a:noFill/>
          </a:ln>
        </p:spPr>
        <p:style>
          <a:lnRef idx="0"/>
          <a:fillRef idx="0"/>
          <a:effectRef idx="0"/>
          <a:fontRef idx="minor"/>
        </p:style>
        <p:txBody>
          <a:bodyPr lIns="90000" rIns="90000" tIns="46800" bIns="46800" anchor="t">
            <a:normAutofit fontScale="97000"/>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u="sng">
                <a:solidFill>
                  <a:srgbClr val="000000"/>
                </a:solidFill>
                <a:uFillTx/>
                <a:latin typeface="Calibri"/>
                <a:ea typeface="Arial"/>
              </a:rPr>
              <a:t>Cieľové skupiny</a:t>
            </a:r>
            <a:endParaRPr b="0" lang="en-US" sz="2400" spc="-1" strike="noStrike">
              <a:solidFill>
                <a:srgbClr val="000000"/>
              </a:solidFill>
              <a:latin typeface="Arial"/>
            </a:endParaRPr>
          </a:p>
          <a:p>
            <a:pPr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ea typeface="Arial"/>
              </a:rPr>
              <a:t>študenti vysokých škôl (študenti dennej formy prvého, druhého a tretieho stupňa vrátane študentov so špecifickými potrebami a študentov zo sociálne znevýhodneného prostredia a marginalizovaných komunít ako sú napr. Rómovia)</a:t>
            </a:r>
            <a:endParaRPr b="0" lang="en-US" sz="2400" spc="-1" strike="noStrike">
              <a:solidFill>
                <a:srgbClr val="000000"/>
              </a:solidFill>
              <a:latin typeface="Arial"/>
            </a:endParaRPr>
          </a:p>
          <a:p>
            <a:pPr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ea typeface="Arial"/>
              </a:rPr>
              <a:t> </a:t>
            </a:r>
            <a:r>
              <a:rPr b="0" lang="sk-SK" sz="2400" spc="-1" strike="noStrike">
                <a:solidFill>
                  <a:srgbClr val="000000"/>
                </a:solidFill>
                <a:latin typeface="Calibri"/>
                <a:ea typeface="Arial"/>
              </a:rPr>
              <a:t>vysokoškolskí učitelia </a:t>
            </a:r>
            <a:endParaRPr b="0" lang="en-US" sz="2400" spc="-1" strike="noStrike">
              <a:solidFill>
                <a:srgbClr val="000000"/>
              </a:solidFill>
              <a:latin typeface="Arial"/>
            </a:endParaRPr>
          </a:p>
          <a:p>
            <a:pPr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ea typeface="Arial"/>
              </a:rPr>
              <a:t>zamestnanci v oblasti výskumu a vývoja (výskumní pracovníci a umeleckí pracovníci VŠ)</a:t>
            </a:r>
            <a:endParaRPr b="0" lang="en-US" sz="2400" spc="-1" strike="noStrike">
              <a:solidFill>
                <a:srgbClr val="000000"/>
              </a:solidFill>
              <a:latin typeface="Arial"/>
            </a:endParaRPr>
          </a:p>
          <a:p>
            <a:pPr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Oprávnené aktivity</a:t>
            </a:r>
            <a:endParaRPr b="0" lang="en-US" sz="3600" spc="-1" strike="noStrike">
              <a:solidFill>
                <a:srgbClr val="000000"/>
              </a:solidFill>
              <a:latin typeface="Calibri"/>
            </a:endParaRPr>
          </a:p>
        </p:txBody>
      </p:sp>
      <p:sp>
        <p:nvSpPr>
          <p:cNvPr id="97" name=""/>
          <p:cNvSpPr txBox="1"/>
          <p:nvPr/>
        </p:nvSpPr>
        <p:spPr>
          <a:xfrm>
            <a:off x="324000" y="1125360"/>
            <a:ext cx="8331120" cy="5399280"/>
          </a:xfrm>
          <a:prstGeom prst="rect">
            <a:avLst/>
          </a:prstGeom>
          <a:noFill/>
          <a:ln w="0">
            <a:noFill/>
          </a:ln>
        </p:spPr>
        <p:txBody>
          <a:bodyPr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Povinná aktivita: </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tvorba a inovácia študijných programov s dôrazom na potreby trhu práce, vrátane prakticky zameraných bakalárskych študijných programov a programov ďalšieho vzdelávania v spolupráci so súkromným sektorom a organizáciami zastupujúcimi podnikateľský sektor, malé a stredné podnikanie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Oprávnená dĺžka realizácie aktivity – maximálne 12 mesiacov.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Pre účely tejto výzvy je oprávnenou činnosťou v rámci hlavnej aktivity projektu priradenej k tomuto typu aktivity </a:t>
            </a:r>
            <a:r>
              <a:rPr b="0" lang="sk-SK" sz="2000" spc="-1" strike="noStrike" u="sng">
                <a:solidFill>
                  <a:srgbClr val="000000"/>
                </a:solidFill>
                <a:uFillTx/>
                <a:latin typeface="Calibri"/>
              </a:rPr>
              <a:t>tvorba resp. inovácia profesijne orientovaných bakalárskych programov v súlade so zákonom č. 131/2002 Z. z.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u="sng">
                <a:solidFill>
                  <a:srgbClr val="000000"/>
                </a:solidFill>
                <a:uFillTx/>
                <a:latin typeface="Calibri"/>
              </a:rPr>
              <a:t>POZOR: potrebné vnímať v kontexte hodnotiaceho kritéria „Počet novovytvorených profesijne orientovaných bakalárskych programov podporených z projektu“ , t. j. musí ísť o tvorbu min. 2 programov</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Prijímateľ je povinný počas platnosti a účinnosti Zmluvy o poskytnutí NFP predložiť žiadosť o akreditáciu profesijne orientovaného bakalárskeho študijného programu. Nepredloženie bude mať za následok krátenie výdavkov súvisiacich s aktivitou zameranou na tvorbu programu.</a:t>
            </a:r>
            <a:endParaRPr b="0" lang="en-US" sz="20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Oprávnené aktivity</a:t>
            </a:r>
            <a:endParaRPr b="0" lang="en-US" sz="3600" spc="-1" strike="noStrike">
              <a:solidFill>
                <a:srgbClr val="000000"/>
              </a:solidFill>
              <a:latin typeface="Calibri"/>
            </a:endParaRPr>
          </a:p>
        </p:txBody>
      </p:sp>
      <p:sp>
        <p:nvSpPr>
          <p:cNvPr id="99" name=""/>
          <p:cNvSpPr txBox="1"/>
          <p:nvPr/>
        </p:nvSpPr>
        <p:spPr>
          <a:xfrm>
            <a:off x="468000" y="1483920"/>
            <a:ext cx="8186760" cy="504036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Voliteľná/nepovinná aktivita: </a:t>
            </a: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 </a:t>
            </a:r>
            <a:r>
              <a:rPr b="0" lang="sk-SK" sz="2400" spc="-1" strike="noStrike">
                <a:solidFill>
                  <a:srgbClr val="000000"/>
                </a:solidFill>
                <a:latin typeface="Calibri"/>
              </a:rPr>
              <a:t>podpora manažérskych/podnikateľských, inovačných a riešiteľských schopností v rámci vyššieho vzdelávania</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Oprávnená dĺžka realizácie aktivity – maximálne 24 mesiacov. </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Aktivita: Riadenie/koordinácia projektu – povinná ako samostatná aktivita v prípade realizácie oboch aktivít – povinnej aj voliteľnej, t. j na bakalárske programy aj podporu riešiteľských schopností</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Podmienky poskytnutia príspevku</a:t>
            </a:r>
            <a:endParaRPr b="0" lang="en-US" sz="3600" spc="-1" strike="noStrike">
              <a:solidFill>
                <a:srgbClr val="000000"/>
              </a:solidFill>
              <a:latin typeface="Calibri"/>
            </a:endParaRPr>
          </a:p>
        </p:txBody>
      </p:sp>
      <p:sp>
        <p:nvSpPr>
          <p:cNvPr id="101" name=""/>
          <p:cNvSpPr txBox="1"/>
          <p:nvPr/>
        </p:nvSpPr>
        <p:spPr>
          <a:xfrm>
            <a:off x="468000" y="1483920"/>
            <a:ext cx="8186760" cy="5040360"/>
          </a:xfrm>
          <a:prstGeom prst="rect">
            <a:avLst/>
          </a:prstGeom>
          <a:noFill/>
          <a:ln w="0">
            <a:noFill/>
          </a:ln>
        </p:spPr>
        <p:txBody>
          <a:bodyPr anchor="t">
            <a:normAutofit/>
          </a:bodyPr>
          <a:p>
            <a:pPr marL="457200" indent="-457200" algn="just">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Calibri"/>
              </a:rPr>
              <a:t>Podmienka oprávnenosti žiadateľa (právna forma)</a:t>
            </a:r>
            <a:endParaRPr b="0" lang="en-US" sz="2400" spc="-1" strike="noStrike">
              <a:solidFill>
                <a:srgbClr val="000000"/>
              </a:solidFill>
              <a:latin typeface="Calibri"/>
            </a:endParaRPr>
          </a:p>
          <a:p>
            <a:pPr marL="457200" indent="-457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Verejné a štátne vysoké školy v zmysle §2 ods. 2, písm. a) a b) zákona č. 131/2002 Z. z. o vysokých školách a o zmene a doplnení niektorých zákonov v znení neskorších predpisov (Oprávneným žiadateľom je výlučne vysoká škola. Vysoká škola je oprávnená podať ŽoNFP pre viacero fakúlt, buď v rámci jednej ŽoNFP, alebo formou viacerých ŽoNFP.)</a:t>
            </a:r>
            <a:endParaRPr b="0" lang="en-US" sz="2400" spc="-1" strike="noStrike">
              <a:solidFill>
                <a:srgbClr val="000000"/>
              </a:solidFill>
              <a:latin typeface="Calibri"/>
            </a:endParaRPr>
          </a:p>
          <a:p>
            <a:pPr marL="457200" indent="-457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Forma preukázania: Identifikácia žiadateľa vo formulári ŽoNFP (bod 1) </a:t>
            </a:r>
            <a:endParaRPr b="0" lang="en-US" sz="2400" spc="-1" strike="noStrike">
              <a:solidFill>
                <a:srgbClr val="000000"/>
              </a:solidFill>
              <a:latin typeface="Calibri"/>
            </a:endParaRPr>
          </a:p>
          <a:p>
            <a:pPr marL="457200" indent="-457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03T20:40:01Z</dcterms:created>
  <dc:creator>paul sly</dc:creator>
  <dc:description/>
  <dc:language>en-US</dc:language>
  <cp:lastModifiedBy>Windows User</cp:lastModifiedBy>
  <dcterms:modified xsi:type="dcterms:W3CDTF">2019-01-24T07:11:25Z</dcterms:modified>
  <cp:revision>163</cp:revision>
  <dc:subject/>
  <dc:title>Snímka 1</dc:title>
</cp:coreProperties>
</file>