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C6E-7C85-49A9-8361-3E25492D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5E5-DF95-465B-8C60-1231E27F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55E-BADE-4F93-8BCB-649A1C11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000-3928-4B38-9914-DC8B1CE4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B07-F523-4A93-AD92-B7C619E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EC36-297F-43F0-AEED-1E74505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B63-3185-4EA6-B454-D4547DE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89B6-27A8-427F-806F-845190E7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6898-B098-4B13-9ED5-DEEBA01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D60-22E9-4CDE-BAE9-74AB0E6C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8697-0DD7-43F2-A588-34CDEF6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5CE-A3B7-40FE-93FF-C0BC786E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3DC-B391-4067-BD7A-D040292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0D2F-BA39-4C2E-B5F9-18F3C8B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C1C-8119-4373-9866-832A0B11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8FF2-2FEC-42BB-A800-443F25E0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3564-5967-491F-83DE-B9496D97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F95-3621-4D03-9C22-6A21B7C8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C76-C64C-4B3D-A354-AFE04198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F76-0CA3-40AE-AC66-FF48421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A5A-D789-46F4-AB7B-8BDE1522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E99-A5C1-460E-8850-19E7E50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FC8-9B8F-45D8-813A-99CFD0F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53-C243-4259-B2C0-F9AC575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8F5-037F-46C3-8A74-8AE7E616237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18D-29D4-425E-9245-3DAAD82CA3A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0000"/>
                </a:solidFill>
                <a:latin typeface="Calibri"/>
              </a:rPr>
              <a:t>Čitateľská, matematická, prírodovedná a finančná gramotnosť na gymnáz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BlokTextu 5"/>
          <p:cNvSpPr/>
          <p:nvPr/>
        </p:nvSpPr>
        <p:spPr>
          <a:xfrm>
            <a:off x="539640" y="580536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23.11.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-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íloha č. 6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redloženie aktuálneho ŠkVP školy a rámcového učebného plánu a plánovaného ŠkVP školy a rámcového učebného plá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 – na ktorú sa neuplatňuje vzdelávací poukaz a ktorá nie je realizovaná v rámci výchovného programu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pora rozvoja kľúčových kompetencií pedagogických a odborných zamestnancov vrátane oblasti jazykových a IKT zručnost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finančnej gramo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Z/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amostatná aktivita Riadenie/Koordinác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Vzdelávanie OP Ľudské zd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9/11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1/1/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8/2/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é územie Slove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20 mil. EUR (z toho pre BSK 1,5 mil. E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na projekt 100 001 EUR- 3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ĺžka trvania projektov od 18 do 36 mesiac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ačné semináre pre žiadateľov v Bratislave (23/11/2018), Banskej Bystrici (26/11/2018), Košiciach (27/11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sobne/poštou/kurié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ožnosť využiť elektronickú schrá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škôl (potvrd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rozpočet, prieskum trhu, ŽoNFP, plán práce pedagogických klubov, životopis, doplňujúce informácie k administratívnej a prevádzkovej kapac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4.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– hodinová sadzba učiteľa/učiteľov podľa kategórie škôl (ZŠ, SŠ) - počet hodín strávených vzdelávacími aktivitami („extra hodiny“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– pedagogické kluby - Hodina účasti pedagogického zamestnanca na aktivitách pedagogického klub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- vzdelávanie pedagogických a odborných zamestnancov - výdavky na 1 hodinu účasti na kontinuálnom vzdelávaní pedagogického a odborného zamestnan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eračného programu Ľudské zdroje a metodika ich uplatňova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 v zmysle čl. 105a a nasl. nariadenia Európskeho parlamentu a Rady (EÚ, Euratom) 1929/2015 z 28. októbra 2015, ktorým sa mení nariadenie (EÚ, Euratom) č. 966/2012 o rozpočtových pravidlách, ktoré sa vzťahujú na všeobecný rozpočet Ú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907920"/>
            <a:ext cx="8404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Žiadat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gymnáziá v zmysle §27 ods. 2 písm. c) zákona č. 245/2008 Z. z o výchove a vzdelávaní (školský zákon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é športové školy – študijný odbor 7451 J športové gymnázium podľa § 27 ods. 2 písm. e) zákona č. 245/2008 Z. z. o výchove a vzdelávaní (školský zák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, že je škola zaradená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ároveň nesmie byť financovaný prevažne zo súkromných zdrojov, t. j. súkromné zdroje nepredstavujú 50% a via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(príloha 1h žiadosti o NFP) – relevantné pre žiadateľov zo súkromného sektora- novovzniknuté subjekty, ktorí nemajú ukončený fiškálny r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edloženie dokladu preukazujúceho finančné prostriedky na spolufinancov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907920"/>
            <a:ext cx="8404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Cieľové skup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ci vrátane žiakov so ŠV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a odborní zame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Obe cieľové skupiny sú pov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šetky aktivity vo výzve povinné (3) – aktivita na žiakov, aktivita na PZ a riadenie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asť 7 formulára žiadosti o NFP – 7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1.aktiv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, prírodovedných, matematických, environmentálnych, jazykových, IKT zručností vrátane finančnej gramotnosti vrátane podnikateľských vedomostí a ekonomického myslenia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, matematických zručností a finančnej gramo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8-12-11T07:17:02Z</dcterms:modified>
  <cp:revision>134</cp:revision>
  <dc:subject/>
  <dc:title>Snímka 1</dc:title>
</cp:coreProperties>
</file>