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6F4-7050-46D0-A0B3-71BE14FA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533-7097-4361-8A8B-EB4AC550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48B-A6EF-4334-8DA4-98603350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766-7E0C-4193-91B9-ECE29C50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60D-4C9E-4194-8CD4-5CD55151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192-DB4C-4565-A17A-F2D28767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A67-46FB-4CAD-8DFF-B19486A5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04B-C96D-4D4C-ABBB-93E2D158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81D-16B5-4B23-ABAD-D0621DA9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919-9B54-480C-9324-62D35654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5AD-BF94-4FBF-9160-78EF142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D57-D625-4691-B5C5-CC0EF434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A9D2-AF15-4B00-BD99-F4EE78BE61BF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tvorba rozpočt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BlokTextu 5"/>
          <p:cNvSpPr/>
          <p:nvPr/>
        </p:nvSpPr>
        <p:spPr>
          <a:xfrm>
            <a:off x="250920" y="5769000"/>
            <a:ext cx="324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výzva </a:t>
            </a:r>
            <a:r>
              <a:rPr b="0" lang="sk-SK" sz="1200" spc="-1" strike="noStrike">
                <a:solidFill>
                  <a:srgbClr val="a6a6a6"/>
                </a:solidFill>
                <a:latin typeface="Arial"/>
              </a:rPr>
              <a:t>č. OPLZ-PO1/2019/DOP/1.2.1-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„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Prepojenie stredoškolského vzdelávania s praxou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V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riadku "Prijímateľ NFP" sa uvedie názov prijímateľa podľa zmluvy o 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riadku "Názov projektu" sa uvedie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riadku "Kód ŽoP ITMS2014+ " sa uvedie kód príslušnej žiadosti o platbu, v ktorej budú výdavky za extra hodiny predložené na preplate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A "Poradové číslo" poradové číslo pedagogického zamestnanca "extra hodiny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B a C  "Priezvisko a Meno" uvedie sa celé priezvisko a meno pedagogického zamestnanca  "s extra hodinami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D  "Názov vzdelávacej aktivity - extra hodiny" uvedie sa názov vyučovacieho predmetu, na ktorom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F  "Škola" uvedie sa škola, na ktorej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V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 G, H a  I   "Počet hodín" uvedie sa  za každý mesiac samostatne celkový  počet hodín v mesiaci realizovaných nad rámec hodín financovaných zo štátneho rozpočtu , 1 extra hodina = 60 min, 45 min. priama výchovno- vzdelávacia činnosť (priama vyučovacia povinnosť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5 min. ostatné činnosti súvisiace s priamou výchovno-vzdelávacou činnosťou (t.j. príprava na priamu vyučovaciu povinnosť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stĺpci J  "Spolu" sumár za štvrťrok - vyplní sa automatick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Riadok 27 "Meno a podpis štatutárneho orgánu prijímateľa" uvedie sa meno a vlastnoručný podpis štatutárneho orgánu prijímateľ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 riadku 28 "Dátum vypracovania" uvedie sa dátum vypracovania zoznamu vo formáte DD.MM.RRRR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účasť v pedagogických kluboch </a:t>
            </a: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je výlučne určená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e nasledovné kategórie pedagogických zamestnancov: učitelia, pedagogickí asistenti, vychovávatelia a majstri odborného výcvi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Výška štandardnej stupnice jednotkových nákladov je 11,20 EUR/1 hodina/pedagogický zamestnane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Každý klub má svoj harmonogram činnosti na príslušný školský rok členený na mesiace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min. počet členov klubu je 3 učitelia a max. 10 učiteľov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. Klub môžu tvoriť učitelia z jednej školy, ale aj/alebo učitelia z viacerých škôl v okrese resp. v kraji. Na základe spoločného rozhodnutia členov klubu je  jeden z pedagogických zamestnancov vymenovaný/určený za koordinátora klubu, ktorý organizuje a koordinuje činnosť klu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klub sa stretáva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maximálne dvakrát mesačne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Dĺžka jedného stretnutia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klubu je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max. 3 hodi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lán práce klubu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musí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obsahovať opis a zdôvodnenie plánovanej činnosti, rámcový program stretnutí, dĺžku ich trvania,  predbežné termíny realizácie činnosti a počet členov klub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každý klub musí zverejňovať dosiahnuté výsledky a výstupy svojej činnosti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na webovom sídle prijímateľa resp. projektu. Okrem toho výsledky a výstupy práce klubu musia byť zverejnené a dostupné pre všetkých pedagogických zamestnancov a pre zainteresovanú verejnosť – v elektronickej forme sa preto posielajú na OIP, ktorý zabezpečí ich zverejneni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za výsledky a výstupy klubu sa považujú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správy o činnosti  klubu (t.j. správy zo zasadnutí klubov) a písomné výstupy klubu (napr. osvedčená pedagogická prax, analýza s odporúčaniami, správa s odporúčaniami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Štruktúra činnosti klubu – 2 varianty/typy klubov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kluby bez písomného výstupu</a:t>
            </a:r>
            <a:r>
              <a:rPr b="0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– činnosti preplácané v rámci JC sa budú týkať zasadnutí klubov a výmeny skúseností prebiehajúcej na týchto zasadnutia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Maximálny  rozsah hodín na 1 klub na 1 školský polrok = 30 hodín na zasadnutia klubu na 1 PZ ako účastníka klubovej 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kluby s písomným výstupom</a:t>
            </a:r>
            <a:r>
              <a:rPr b="0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- činnosti preplácané v rámci JC sa budú týkať zasadnutí klubov a výmeny skúseností prebiehajúcej na týchto zasadnutiach; navyše bude za každý školský polrok písomný výstup práce klubu - napr. osvedčenú pedagogickú prax, analýzu s odporúčaniami, správu s odporúčaniami. Maximálny  počet hodín na tvorbu tohto výstupu je 50 hodín na jeden klub na jeden školský polrok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Maximálny  rozsah hodín na 1 klub na 1 školský polrok = 30 hodín na zasadnutia klubu na 1 PZ ako účastníka klubovej činnosti a 50 hodín na 1 klub na tvorbu písomného výstupu klub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Nie je možné kombinovať tieto 2 varianty v rámci jedného klubu. Klub/žiadateľ si vybral jeden z vyššie uvedených variantov/typov pri tvorbe projektu (v rámci žiadosti o NFP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e školu platia nasledovné limit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každá škola môže mať na  len jeden klub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ten istý pedagogický zamestnanec môže byť účastníkom len jedného klubu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ten istý pedagogický zamestnanec môže byť účastníkom vo viacerých kluboch s rôznymi/rozdielnymi vyučovacími predmetmi a  prierezovými témam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z každého zasadnutia/stretnutia klubu bude vyhotovená správa o činnosti klubu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. Uvedené sa týka oboch variantov/typov klubov.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Správa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bude obsahovať  stručné zhrnutie stretnutia klubu – témy, ktoré boli predmetom stretnutia, závery a odporúčania zo stretnutia. Prílohou správy bude prezenčná listina podpísaná účastníkmi klubu, ktorí sa daného zasadnutia zúčastni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štruktúra písomného výstupu klubu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– úvod (stručná anotácia, kľúčové slová, zámer a priblíženie témy písomného výstupu), jadro (popis témy/problém), záver (zhrnutie a odporúčania pre činnosť pedagogických zamestnanc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formuláre :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1) plán práce klubu; 2) správa o činnosti klubu; 3) písomný výstup klubu ; 4) pedagogický klub menný zoznam; 5) pedagogické kluby zdroje financo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pedagogicke-kluby-hodina-ucasti-pedagogickeho-zamestnanca-na-aktivitach-pedagogickeho-klubu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Overovanie v rámci administratívnej finančnej kontroly žiadosti o plat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JC bude preplatená  raz za školský polrok, t.j. za obdobie 5 mesiacov. Počas letných prázdnin sa aktivity v školských kluboch nerealizuj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i každej ŽoP predloženej prijímateľom bude overené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lán práce klubu a harmonogram činnosti klubu na príslušný školský polrok členený na mesiace (miesto       a  termíny konania zasadnutí klub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zoznam účastníkov klubu, ktorý bude obsahovať najmä tieto údaje : názov klubu, meno a priezvisko účastníka klubu a koordinátora klubu, aprobácia učiteľa, počet hodín,  na ktorých sa v rámci klubu zúčastn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zoznam zdrojov financovania klubu učiteľov (napr. NP, DOP, iné zdroj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správa o činnosti klubu, vrátane prezenčných listín (za každé stretnutie zvlášť), odkaz na webové sídlo, kde sú správy zverejnené, správa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ísomný výstup (ak relevantné) odkaz na webové sídlo , kde sú písomné výstupy zverejnené, výstupy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Najčastejšie kladené otáz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Uzatvorenie pracovného pomeru – pracovný pomer 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/ dohoda o práci vykonávanej mimo pracovného pome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558ed5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Závisí od ekonomickej klasifikácie stanovenej v rozpočte projektu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610620 – pracovná zmluv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637027 + 610620 – dohoda o pracovnej činnosti/dohoda o vykonaní prác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Štatutárny zástupca školy/organizácie – projektový manažé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Ide o rozšírenie pracovnej náplne – nakoľko ide pri pracovnej pozícii projektový manažér o rovnaký dru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áce. V uvedenom prípade nie je možná žiadna dohoda o práci vykonávaná mimo pracovného pomeru</a:t>
            </a: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Vo všeobecnosti platí, že rozšírenie pracovnej náplne je možné len v tom prípade, ak zamestnane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vykonáva rovnaký druh práce v pracovnom pomere aj práce pre projekt. V prípade, ak ide o iný dru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áce, zamestnávateľ môže so zamestnancom dohodnúť niekoľko pracovných pomer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Výpočet oprávnenej mzdy pri rozšírenej pracovnej nápln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Refundácia časti mzdy zamestnanca, pri ktorej nie sú oprávnené všetky zložky mzdy, napr. dovolenka, PN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OČR apod. Oprávnený rozsah práce len podľa skutočne odpracovaných hodín pre projek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Najčastejšie kladené otáz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4.      Aký druh pracovného pomeru uzavrieť s pedagogickým zamestnancom pri kluboch učiteľ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Ide o ŠSJN, kde SO/OIP neoveruje výšku skutočnej mzdy vyplatenej účastníkom klubu. ŠSJN je hraden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škole na úhradu výdavkov, ktoré súvisia s klubovou činnosťo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5.      Aký druh pracovného pomeru uzavrieť s pedagogickým zamestnancom pri extra hodinác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Ide o ten istý druh práce – pedagogickú činnosť, rozšírenie pracovného  úväzku o extra hodin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6.     Jednotková cena stanovená v rozpočte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Jednotková cena stanovená v rozpočte projektu pri každej rozpočtovej položke je maximálna a musí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byť primeraná jednotkovej cene v organizácii. Z uvedeného dôvodu dochádza ku kráteniu mzdy aj v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ípade, ak jednotková cena stanovená v rozpočte projektu nebola prekročená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Najčastejšie kladené otáz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7.   Zastupovanie extra hodí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Zastupovanie učiteľa extra hodín je možná, pričom zastupujúci učiteľ musí mať aprobáciu na predmet, n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ktorý sa extra hodiny realizujú. Prijímateľ opätovne pri zastupujúcom učiteľovi predkladá platnú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acovnú zmluv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8.    Môže pedagogický zamestnanec vykonávať pracovné pozície patriace do koordinácie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Áno, ak príslušný zamestnanec spĺňa predpísané kvalifikačné požiadavky. S  pedagogickým zamestnan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musí  však škola uzavrieť nový pracovný pomer formou pracovnej zmluvy/dohody o prácach vykonávaný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mimo pracovného pomeru. Na rozšírenie pracovnej zmluvy uvedené činnosti nie je možné vykonávať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nakoľko ide o iný druh práce ako je pedagogická činnosť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Oprávnené výdavky prijímateľ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14173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iame výdavky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)  Personálne výdavky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– výdavky  vzniknuté na základe pracovnoprávnych vzťahov alebo obdobnýc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vzťahov (napr. zákonník práce, zákon o štátnej službe.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) koordinačné 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b) odborné 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b)   školiaci materiá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c) nákup hmotného a nehmotného majet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d) cestovné náhrad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e)  dodávky na priame personálne výdavky – odborné aktivit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f) odpis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g) monitor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h) riziková priráž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Nepriame výdavky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aušálna sadzba – slúži na úhradu bežných výdavkov (prevádzková réžia) a  na financovanie podpornýc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ktivít projekt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Oprávnené výdavky prijímateľ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Nepriame výdavky sa uplatňujú ako 15% paušálna sadzba z priamych personálnych výdavkov. V každej žiadosti o platbu obsahujúcej priame personálne výdavky, môžu byť nároková 15% paušálna sadzba na nepriame výdavk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riamymi personálnymi výdavkami sú interné personálne výdavky (t.j. ekon. klasifikácia 610620 – pracovný pomer; ekon. klasifikácia 637027 – dohody zamestnancov mimo pracovného pomeru a    k nim súvisiace/prislúchajúce odvody – ekon. klasifikácia 610620 resp. zo skupiny výdavkov 521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3.   Zjednodušené vykazovanie výdavkov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)  štandardná stupnica jednotkových nákladov „hodinová sadzba učiteľa podľa kategórie škôl (ZŠ,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SŠ)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zvýšené hodiny strávené vzdelávacími aktivitami“– „extra hodiny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b) štandardná stupnica jednotkových nákladov „pedagogické kluby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Cieľom je zavedenie jednotkových nákladov na zvýšenie počtu hodín školského vzdelávacieho programu resp. učebného plánu nad rámec hodín povinne stanovených a financovaných zo štátneho rozpoč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Calibri"/>
              </a:rPr>
              <a:t>Výška štandardnej stupnice jednotkových nákladov je pre učiteľa SŠ 13, 20 Eur/1 extra hodina (60 minú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Rozsah extra hodín na školu a školský rok je stanovený max. = 33 hodín týždenne (45 minútový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Extra hodiny sú financované nad rámec hodín financovaných zo štátneho rozpočtu, t.j. predstavujú doplnok zdrojov k zdrojom štátneho rozpočtu. Extra hodina trvá 60 minút a je zložená zo 45 minútovej vyučovacej hodiny a 15 minútovej prípravy na vyučovaciu hodin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rozhodnutie o obsahu extra hodín je na rozhodnutí školy, podľa svojho zamerania a potrieb, pričom extra hodiny musia byť v súlade so štátnym a/alebo školským vzdelávacím program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Overovanie v rámci administratívnej finančnej kontroly žiadosti o plat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finančné prostriedky budú 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eplácané na štvrťročnej báze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finančné prostriedky sú uhrádzané prijímateľovi na základe zdokladovania skutočne realizovaných zvýšených hodín vzdelávacích aktiví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odmienky preplatenia JC - JC bude preplácaná na základe nasledovných  dokladov, ktoré predloží prijímate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Raz ročne a pri každej zmen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ktuálny učebný plán resp. školský vzdelávací program zahrňujúci zvýšené hodiny nad rámec hodín financovaných zo štátneho rozpočtu resp. iný dokument stanovujúci rozsah hodín; v dokumentoch budú jasne vyznačené extra hodiny financované v rámci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rozvrh hodín s vyznačením extra hodín financovaných z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platná pracovná zmluva pedagogického zamestnan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ri každej ŽoP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štatutárom školy potvrdený menný zoznam učiteľov a počet hodín jednotlivých učiteľov, ktorí zabezpečovali/realizovali zvýšené hodiny vzdelávacích aktiví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štvrťročné správy o činnosti PZ podľa jednotlivých škôl, vrátane popisu extra hodí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ak relevantné, dokumenty preukazujúce výšku školného plateného rodičmi pred a počas realizácie projektu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hodinova-sadzba-ucitelaucitelov-podla-kategorie-skol-zs-ss-pocet-hodin-stravenych-vzdelavacimi-aktivitami-„extra-hodiny“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</a:t>
            </a:r>
            <a:r>
              <a:rPr b="0" lang="sk-SK" sz="3200" spc="-1" strike="noStrike">
                <a:solidFill>
                  <a:srgbClr val="c00000"/>
                </a:solidFill>
                <a:latin typeface="Calibri"/>
              </a:rPr>
              <a:t>II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Zástupný objekt pre obsah 6"/>
          <p:cNvGraphicFramePr/>
          <p:nvPr/>
        </p:nvGraphicFramePr>
        <p:xfrm>
          <a:off x="3043080" y="1600200"/>
          <a:ext cx="3057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Zástupný objekt pre obsah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1600200"/>
                    <a:ext cx="3057840" cy="4525920"/>
                  </a:xfrm>
                  <a:prstGeom prst="rect">
                    <a:avLst/>
                  </a:prstGeom>
                  <a:ln w="936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Pokyny k vyplneniu Štvrťročnej správy o činnosti pedagogického zamestnanca „extra hodiny“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. V riadku Prijímateľ - uvedie sa názov prijímateľa podľa zmluvy o poskytnutí nenávratného finančného príspevku (ďalej len "zmluva o NFP"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2. V riadku Názov projektu - uvedie sa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3. V riadku Kód ITMS ŽoP - uvedie sa kód ŽoP podľa ITMS2014+ - vyplní prijímate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4. V riadku Meno a priezvisko zamestnanca – uvedie sa meno a priezvisko pedagogického zamestnanca  ktorý  predmetnú činnosť vykonáv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5. Druh školy – uvedie sa škola, na ktorej bola realizovaná vzdelávacia aktivita (ZŠ I. stupeň, ZŠ II. Stupeň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6. V riadku Názov a číslo rozpočtovej položky projektu - uvedie sa názov a číslo rozpočtovej položky podľa zmluvy o NFP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7. V riadku Obdobie vykonávania činnosti – uvedie sa obdobie, za ktoré sa štvrťročná správa o činnosti predkladá. Obdobie sa uvádza v nasledovnom formáte DD.MM.RRRR – DD.MM.RRR, ( napr.01.01.2018 – 31.03.2018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školy vyučujúceho extra hodiny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8. V riadku Správa o činnosti - uvedú a popíšu sa činnosti, ktoré pedagogický zamestnanec vykonával v rámci „extra hodín“  v danom štvrťroku za každý mesiac samostatne . Ide o činnosti, ktoré boli zabezpečované nad rámec hodín financovaných zo štátneho rozpočt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9. V riadku Vypracoval – uvedie sa celé meno a priezvisko zamestnanca, ktorý štvrťročnú správu o činnosti vypracoval a dátum vypracova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0. V riadku Podpis – zamestnanec, ktorý štvrťročnú správu o činnosti vypracoval sa vlastnoručne podpíše, (nie je možné použiť faximile pečiatky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1. V riadku Schválil - uvedie sa celé meno a priezvisko zamestnanca, ktorý štvrťročnú správu schválil (štatutárny zástupca školy) a dátum schvále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12. V riadku Podpis – zamestnanec, ktorý štvrťročnú správu o činnosti schválil sa vlastnoručne podpíše, (nie je možné použiť faximile pečiatky)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strednej  školy vyučujúceho extra hodiny V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ástupný objekt pre obsah 5" descr=""/>
          <p:cNvPicPr/>
          <p:nvPr/>
        </p:nvPicPr>
        <p:blipFill>
          <a:blip r:embed="rId1"/>
          <a:stretch/>
        </p:blipFill>
        <p:spPr>
          <a:xfrm>
            <a:off x="1612800" y="1600200"/>
            <a:ext cx="591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9-03-05T11:31:17Z</cp:lastPrinted>
  <dcterms:modified xsi:type="dcterms:W3CDTF">2021-01-22T12:09:22Z</dcterms:modified>
  <cp:revision>198</cp:revision>
  <dc:subject/>
  <dc:title>Snímka 1</dc:title>
</cp:coreProperties>
</file>