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B7F2-1EA3-4545-A989-17DB4C2B8DD2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ástupný objekt pre číslo snímky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9363-8E2F-43AD-87B8-2695B45E8788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BA9-D701-4D9B-828A-66FF41D6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C2E-628C-4928-8B90-98C87BEC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30E-CD5A-44E9-B143-811969EF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6DF-8397-4E71-92BA-CD834A28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19E-7923-4103-8EF0-56BE898D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2D3-021A-436F-9175-C587B00F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6D5-9E47-49F2-99C2-5381E2E9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0C9-67A4-4029-8B55-5E046BDD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F30-5C11-4853-838E-B9E69748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E71-6277-42B9-8487-C662EBF7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A01-FCDF-4C00-9F44-3361E3B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ECF-6CFA-40DA-9A75-1B084170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F06F-7E05-477B-A097-08485DBA929D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tvorba rozpočt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BlokTextu 5"/>
          <p:cNvSpPr/>
          <p:nvPr/>
        </p:nvSpPr>
        <p:spPr>
          <a:xfrm>
            <a:off x="250920" y="5769000"/>
            <a:ext cx="324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k-SK" sz="1200" spc="-1" strike="noStrike">
                <a:solidFill>
                  <a:srgbClr val="000000"/>
                </a:solidFill>
                <a:latin typeface="Calibri"/>
              </a:rPr>
              <a:t>Výzva "Podpora zlepšovania študijných výsledkov a kompetencií žiakov" - OPLZ-PO1/2019/DOP/1.1.1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Oprávnené výdavky prijímateľ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ersonálne výdavky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– výdavky  vzniknuté na základe pracovnoprávnych vzťahov alebo obdobných vzťahov (napr. zákonník práce, zákon o štátnej službe.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) koordinačné čin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b) odborné čin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2.   Paušálna sadzba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na pokrytie zostávajúcich oprávnených nákladov na  operáciu/projekt 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o výške 40 % oprávnených priamych nákladov na zamestnancov.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riamymi personálnymi výdavkami sú interné personálne výdavky (t.j. ekon. klasifikácia 610620 – pracovný pomer; ekon. klasifikácia 637027 – dohody zamestnancov mimo pracovného pomeru a    k nim súvisiace/prislúchajúce odvody – ekon. klasifikácia 610620 resp. zo skupiny výdavkov 521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Preukazovanie oprávnenosti výdavkov – personálne výdavk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žadovaná dokumentácia v zmysle Príručky pre prijímateľ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racovná zmluva, resp. vymenovanie do štátnej služby spolu s náplňou práce/dohoda o vykonaní práce, resp. iná dohoda v zmysle Zákonníka prá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racovný výkaz a kumulatívny mesačný výkaz práce (prílohy č. 3a a 3b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mzdový list, resp. výplatná pásk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pôsob výpočtu oprávnenej výšky výdavku (ak relevantn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bankový výp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sumárny prehľad (príloha č. 11a, 11b a 11c – podľa typu organizáci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Preukazovanie oprávnenosti výdavkov – paušálna sadz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aušálna sadzba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– prijímateľ si v každej žiadosti o platbu nárokuje 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40%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z predložených priamych personálnych výdavko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Paušálnu sadzbu prijímateľ nedokladuje žiadnymi dokladmi. Výdavky, realizované z paušálnej sadzby musia byť v súlade s aktivitami projektu, ale nepodliehajú kontrole zo stany SO/OI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V prípade krátenia predložených výdavkov v rámci administratívnej kontroly žiadosti o platbu  je nadväzne na výsledky krátenia znížená aj nárokovaná výška paušálnej sadzb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</a:rPr>
              <a:t>Uzatvorenie pracovného pomeru – pracovný pomer </a:t>
            </a: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/ dohoda o práci vykonávanej mimo pracovného pome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558ed5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Závisí od ekonomickej klasifikácie stanovenej v rozpočte projektu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610620 – pracovná zmluv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637027 + 610620 – dohoda o pracovnej činnosti/dohoda o vykonaní prác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Štatutárny zástupca školy/organizácie – projektový manažé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de o rozšírenie pracovnej náplne – nakoľko ide pri pracovnej pozícii projektový manažér o rovnaký dru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áce. V uvedenom prípade nie je možná žiadna dohoda o práci vykonávaná mimo pracovného pomeru</a:t>
            </a: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Vo všeobecnosti platí, že rozšírenie pracovnej náplne je možné len v tom prípade, ak zamestnane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vykonáva rovnaký druh práce v pracovnom pomere aj práce pre projekt. V prípade, ak ide o iný dru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áce, zamestnávateľ môže so zamestnancom dohodnúť niekoľko pracovných pomer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Výpočet oprávnenej mzdy pri rozšírenej pracovnej nápln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Refundácia časti mzdy zamestnanca, pri ktorej nie sú oprávnené všetky zložky mzdy, napr. dovolenka, PN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OČR apod. Oprávnený rozsah práce len podľa skutočne odpracovaných hodín pre projek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Najčastejšie kladené otáz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Je príprava na lektorovanie oprávnenou činnosťo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Iba v prípade zamestnancov, ktorí vykonávajú vzdelávaciu činnosť v pracovnom pomer (pracovná zmluva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rozsah prípravy na vyučovanie nemôže presiahnuť polovicu hodinovej výmery vyučovania aleb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ednášania ako oprávnenej aktiv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4.     Jednotková cena stanovená v rozpočte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Jednotková cena stanovená v rozpočte projektu pri každej rozpočtovej položke je maximálna a musí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byť primeraná jednotkovej cene v organizácii. Z uvedeného dôvodu dochádza ku kráteniu mzdy aj v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ípade, ak jednotková cena stanovená v rozpočte projektu nebola prekročená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Zmena spôsobu realizácie odbornej aktiv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V odôvodnených prípadoch, vzhľadom na mimoriadnu situáciu, prijímateľ je oprávnený požiadať 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zmenu zmluvy o NFP a realizovať vzdelávanie aj online formou. Uvedená zmena je významnejšia zmen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projektu a po jej schválení musí byť vypracovaný a podpísaný Dodatok k zmluve o NFP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9-03-05T11:31:17Z</cp:lastPrinted>
  <dcterms:modified xsi:type="dcterms:W3CDTF">2021-01-18T16:49:03Z</dcterms:modified>
  <cp:revision>205</cp:revision>
  <dc:subject/>
  <dc:title>Snímka 1</dc:title>
</cp:coreProperties>
</file>