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63FA-0EC9-4ED8-AE9D-90E06245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BF51-A841-4810-8150-F18CE6F3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C4D3-ECA0-431C-8EC3-38D65617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382D-4059-4302-B5F8-9FBEC6C5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20BD-AE27-4955-95F1-3098292A5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4403-B736-4889-A5DE-4605CB0C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CBFE-ADFE-440F-B7D3-8835440C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7D80-51CA-4ECB-BB07-3D733208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A3CD-4A39-4E67-AEA6-2A159CAC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A71E-2598-4DF7-8251-DA361F73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3D42-471C-44D9-B137-D15739AF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2124-1277-4C34-9AF0-381A695D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9B8E-65F5-42FA-9F7C-0B31F5D7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3738-5A44-4528-96CE-F718F01F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DA7C-9AF7-465B-916C-003CE81D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25C8-6467-4351-9918-CAA9C701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AD5C-4CB3-4151-8CB9-EFFBC530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E990-0AD3-4583-8B6E-8ADAE109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B044-BF9C-4EAD-9225-194BDD89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6510-D616-4543-994C-323D7A66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58F5-5911-406A-BD5E-B86FB36A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24B6-6842-4682-B6B1-2AA8877A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0A79-9260-48F4-9CF4-305DDE0D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5D95-263D-4A3C-B865-C3C2D475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F022-EBD6-412A-852E-99C89BE4B1FE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147D-19BD-4582-BFB6-1AD3ABD658C1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www.upsvr.gov.sk/statistiky/zoznamnajmenej-rozvinutychokresov.html?page_id=561733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28720" y="4071960"/>
            <a:ext cx="427212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000000"/>
                </a:solidFill>
                <a:latin typeface="Calibri"/>
              </a:rPr>
              <a:t>Výzva na predkladanie žiadostí o NFP "Prepojenie stredoškolského vzdelávania s praxou„ kód OPLZ-PO1/2019/DOP/1.2.1-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BlokTextu 5"/>
          <p:cNvSpPr/>
          <p:nvPr/>
        </p:nvSpPr>
        <p:spPr>
          <a:xfrm>
            <a:off x="0" y="587700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7f7f7f"/>
                </a:solidFill>
                <a:latin typeface="Calibri"/>
              </a:rPr>
              <a:t>05.08.20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ak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99680" y="1052640"/>
            <a:ext cx="8155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extra hodiny v súlade s prílohou č. 6 výzvy, v takom prípade je žiadateľ povinný postupovať podľa štandardnej stupnice v prílohe č. 6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A/ALEB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mimoškolská činnosť, na ktorú sa neuplatňuje vzdelávací poukaz a ktorá nie je realizovaná v rámci výchovného programu ško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Všetky činnosti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realizované v rámci podaktivít projektu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musia prispievať k zvýšeniu kompetencií žiakov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(povinnej cieľovej skupiny)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potrebných pre prispôsobenie vzdelávania požiadavkám trhu práce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(žiadateľ popíše v časti 7.2 ŽoNFP ak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ak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99680" y="1052640"/>
            <a:ext cx="8155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Voliteľná podaktivita pre voliteľnú cieľovú skupinu pedagogickí a odborní zamestnanci stredných škô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edagogické kluby v súlade s prílohou č. 7 výzv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A/ALEB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zdelávanie pedagogických a odborných zamestnancov zabezpečené dodávateľsk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Riadenie/koordinácia projektu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– povinná ako samostatná podaktivita bez ohľadu na to, ktoré činnosti/podaktivity bude žiadateľ realizovať. Žiadateľ je oprávnený zvoliť si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výlučne pracovné pozície uvedené v prílohe č. 5 výzvy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(projektový manažér, finančný manažér, manažér pre monitorovania a administratívny zamestnane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ak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5280" y="1052640"/>
            <a:ext cx="82598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ulár ŽoNFP (bod 7.2 a 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dôvodnenie rozsahu a obsahu extra hodín, popísanie súladu extra hodín so štátnym/školským vzdelávacím progra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Aktuálny školský vzdelávací program vrátane Rámcového učebného plánu a návrh nového vzdelávacieho programu vrátane návrhu Rámcového učebného plá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lán práce klub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nemôže predložiť viacero žiadostí o NFP s rovnakými oprávnenými aktivitami a súčasne rovnakou cieľovou skupinou. V prípade, ak žiadateľ predloží viacero žiadostí o NFP, ktoré porušia čo i len jednu z uvedených podmienok, budú tieto žiadosti o NFP vylúčené zo schvaľovacieho proces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Podmienky poskytnutia príspevk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99680" y="1196640"/>
            <a:ext cx="8155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Podmienka oprávnenosti žiadateľa (právna form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iď slide č. 4-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2. Podmienka nebyť dlžníkom na dani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nesmie byť dlžníkom na daniach u miestne príslušného správcu dan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3. Podmienka nebyť dlžníkom poistného na zdravotnom poist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nesmie byť dlžníkom poistného na zdravotnom poistení v žiadnej zdravotnej poisťovni poskytujúcej verejné zdravotné poistenie v S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4. Podmienka nebyť dlžníkom na sociálnom poist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nesmie byť dlžníkom na sociálnom poist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5. Podmienka zákazu vedenia výkonu rozhodnutia voči žiadateľo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oči žiadateľovi nesmie byť vedený výkon rozhodnutia ani vymáhacie konanie v súlade s článkom 71 všeobecného nariade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 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6. Podmienka, že voči žiadateľovi sa nenárokuje vrátenie pomoci na základe rozhodnutia EK, ktorým bola pomoc označená za neoprávnenú a nezlučiteľnú s vnútorným trh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oči žiadateľovi sa nesmie nárokovať vrátenie pomoci na základe rozhodnutia Európskej komisie, ktorým bola pomoc označená za neoprávnenú a nezlučiteľnú so spoločným trho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Spôsob overenia: Čestné vyhlásenie žiadateľa v ŽoNFP (bod 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7. Podmienka finančnej spôsobilosti spolufinancovania projek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musí byť finančne spôsobilý na spolufinancovanie projektu. Finančná spôsobilosť na spolufinancovanie projektu znamená, že žiadateľ má zabezpečené finančné prostriedky na spolufinancovanie oprávnených výdavkov projekt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Sken relevantného dokumen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Čestné vyhlásenie žiadateľa v ŽoNFP (bod 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ríloha 1b Doplňujúce informácie k časti 7.4 žiadosti o NF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8. Podmienka, že žiadateľ ani jeho štatutárny orgán, ani žiadny člen štatutárneho orgánu, ani prokurista/i, ani osoba splnomocnená zastupovať žiadateľa v konaní o ŽoNFP neboli právoplatne odsúdení za trestný čin korupcie, za trestný čin poškodzovania finančných záujmov Európskej únie, za trestný čin legalizácie príjmu z trestnej činnosti, za trestný čin založenia, zosnovania a podporovania zločineckej skupiny, alebo za trestný čin machinácie pri verejnom obstarávaní a verejnej draž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Žiadateľ, jeho štatutárny orgán, žiadny člen štatutárneho orgánu, prokurista/i ani osoba splnomocnená zastupovať žiadateľa v konaní o ŽoNFP neboli právoplatne odsúdení podľa Trestného zákona za trestný čin (ďalej len „TČ“) korupcie, TČ poškodzovania finančných záujmov Európskej únie, TČ legalizácie príjmu z trestnej činnosti, TČ založenia, zosnovania a podporovania zločineckej skupiny alebo TČ machinácie pri verejnom obstarávaní a verejnej dražb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Forma preukázania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Čestné vyhlásenie žiadateľa v ŽoNFP (bod 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9. Podmienka, že voči žiadateľovi nie je vedené konkurzné konanie, reštrukturalizačné konanie, nie je v konkurze ani v reštrukturalizác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oči žiadateľovi sa nesmie viesť konkurzné konanie, reštrukturalizačné konanie, nesmie byť v konkurze ani v reštrukturalizácii. Podmienka sa vzťahuje aj na konania začaté a neukončené podľa zákona č. 328/1991 Zb. o konkurze a vyrovnaní v znení neskorších predpisov. Podmienka zahŕňa aj prípady zastavenia konkurzného konania z dôvodu nedostatku majetku alebo zrušenia konkurzu z dôvodu nedostatku majetk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0. Podmienka, že voči žiadateľovi ktorým je právnická osoba, nemá právoplatným rozsudkom uložený trest zákazu prijímať dotácie alebo subvencie, trest zákazu prijímať pomoc a podporu poskytovanú z fondov EÚ alebo trest zákazu činnosti vo verejnom obstarávaní podľa osobitného predpis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oči žiadateľovi sa nesmie viesť konkurzné konanie, reštrukturalizačné konanie, nesmie byť v konkurze ani v reštrukturalizácii. Podmienka sa vzťahuje aj na konania začaté a neukončené podľa zákona č. 328/1991 Zb. o konkurze a vyrovnaní v znení neskorších predpisov. Podmienka zahŕňa aj prípady zastavenia konkurzného konania z dôvodu nedostatku majetku alebo zrušenia konkurzu z dôvodu nedostatku majetk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Všeobecné informác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52440" y="1458720"/>
            <a:ext cx="833112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ýzva v rámci prioritnej osi č. 1 Vzdelávanie OP Ľudské zdroje, špecifický cieľ 1.2.1 </a:t>
            </a:r>
            <a:r>
              <a:rPr b="0" i="1" lang="sk-SK" sz="2400" spc="-1" strike="noStrike">
                <a:solidFill>
                  <a:srgbClr val="000000"/>
                </a:solidFill>
                <a:latin typeface="Calibri"/>
              </a:rPr>
              <a:t>Zvýšiť kvalitu odborného vzdelávania a prípravy reflektujúc potreby trhu prá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hlásenie výzvy dňa 30.08.20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Otvorená výzva (systém hodnotiacich kô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Uzávierka 1. hodnotiaceho kola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28.10.2019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, 2. kolo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5.01.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Alokácia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30 mil. EUR (28,5 mil. EUR pre MRR a 1,5 mil. EUR pre VR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ýzva určená pre všetky kraje S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1.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dmienka oprávnenosti cieľovej skupiny projek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iď slide č. 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Formulár ŽoNFP (bod 7.2 a 8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zn.: Podmienka nie je preukazovaná zo strany žiadateľa samostatnou príloho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2. Podmienka, že hlavné aktivity projektu sú vo vecnom súlade s oprávnenými aktivitami OP Ľ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iď slide 8-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3. Podmienka, že výdavky projektu sú oprávnené a nárokovaná výška výdavkov je oprávnená na financovanie z OP Ľ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- samostatná ppt k podmienke (výdavko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4. Podmienka, že projekt je realizovaný na oprávnenom územ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Oprávneným miestom realizácie aktivít projektu </a:t>
            </a: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sú všetky kraje S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Geografická oprávnenosť žiadateľa (oprávnené miesto realizácie projektu) sa určuje prostredníctvom toho, z ktorého regiónu Slovenskej republiky pochádza cieľová skupina v projekte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ri žiakoch sa za rozhodujúce považuje sídlo školy, ktorej sú žiakm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ri pedagogických a odborných zamestnancoch je rozhodujúce územie kraja, v rámci ktorého sú zamestna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Forma preukázania: Formulár ŽoNFP (bod 5 a 6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ozn.: Podmienka nie je preukazovaná zo strany žiadateľa samostatnou prílohou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15. Podmienka splnenia kritérií pre výber projekto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ŽoNFP musí splniť kritériá pre výber projektov, ktoré boli schválené prostredníctvom monitorovacieho výboru pre OP ĽZ a sú prílohou č. 6 výzv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Vo výzve sa aplikuje kritérium: Prínos k podpore najmenej rozvinutých okresov. Ich zoznam je zverejnený na sídle: </a:t>
            </a:r>
            <a:r>
              <a:rPr b="0" lang="sk-SK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www.upsvr.gov.sk/statistiky/zoznamnajmenej-rozvinutychokresov.html?page_id=561733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ozn.: Podmienka nie je preukazovaná zo strany žiadateľa samostatnou prílohou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50560" y="259920"/>
            <a:ext cx="81867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16. Podmienka relevantného spôsobu financov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V rámci tejto výzvy sa uplatňuje spôsob financovania prostredníctvom: refundácie, formou zálohových platieb, a/alebo formou kombinácie zálohových platieb a refundácie v súlade s platným Systémom finančného riadenia EŠI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a poskytovaného príspevku: nenávratný finančný príspevo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Táto podmienka nie je predmetom preukázania splnenia zo strany žiadateľa pri predložení žiadosti o NF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17. Podmienka neporušenia zákazu nelegálneho zamestnávania štátneho príslušníka tretej krajiny žiadateľom za obdobie 5 rokov predchádzajúcich podaniu ŽoNF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Žiadateľ nesmie porušiť zákaz nelegálnej práce a nelegálneho zamestnávania podľa osobitného predpisu za obdobie 5 rokov predchádzajúcich predloženiu žiadosti o NF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a preukázania: Čestné vyhlásenie Formulár ŽoNFP časť 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8. Podmienky týkajúce sa štátnej pomoci a vyplývajúce zo schém štátnej pomoci/pomoci de minimi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Nie je predmetom preukazovania zo strany žiadateľ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Aktivity výzvy nie sú poskytovaním štátnej pomo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50560" y="259920"/>
            <a:ext cx="81867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19. Oprávnenosť z hľadiska súladu s H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redložená ŽoNFP, musí byť v súlade s horizontálnymi princípmi rovnosť mužov a žien a nediskriminácia a udržateľný rozvoj na roky 2014 – 2020 a v čl. 7 a 8 všeobecného nariaden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Forma preukázania: 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ulár ŽoNFP (bod 5 a časť 7.2) a Čestné vyhlásenie žiadateľa v ŽoNFP (bod 15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ozn.: Podmienka súladu s HP nie je preukazovaná zo strany žiadateľa samostatnou príloho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20. Minimálna a maximálna výška príspevk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Minimálna výška príspevku na projekt je 100 001 €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Maximálna výška príspevku na projekt je 2 000 000 €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ozn.: Žiadateľ je povinný plniť podmienku minimálnej výšky príspevku do momentu poskytnutia súčinnosti podľa § 25 ods. 4 zákona o príspevku z EŠIF v prípade vydania rozhodnutia o schválení ŽoNFP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Forma preukázania: 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ulár ŽoNFP (bod 11) a Rozpočet projektu s podrobným komentárom (Príloha č. 1a ŽoNF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21. Časová oprávnenosť realizácie projek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Minimálna dĺžka na realizáciu aktivít projektu – 12 mesiacov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Maximálna dĺžka na realizáciu aktivít projektu je 30 mesiac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Forma preukázania: 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ulár ŽoNFP (bod 9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ozn.: Podmienka nie je preukazovaná zo strany žiadateľa samostatnou príloho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22. Podmienky poskytnutia príspevku z hľadiska definovania merateľných ukazovateľov projek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Merateľné ukazovatele projektu pre túto výzvu sú definované v prílohe č. 3 Zoznam povinných merateľných ukazovateľov projektu merateľných ukazovateľov (ďalej „MU“), vrátane ukazovateľov relevantných k HP a iných údajov tejto výzv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a preukázania: Formulár ŽoNFP (body 9, 10.1 a 10.2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ozn.: Podmienka nie je preukazovaná zo strany žiadateľa samostatnou príloho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23. Podmienka zákazu predloženia viacero ŽoNFP vo vzťahu k prebiehajúcemu alebo ukončenému schvaľovaciemu procesu ŽoNF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nie je oprávnený predložiť viacero ŽoNFP v rámci tejto výzvy resp. hodnotiaceho kola tejto výzvy pre rovnaké aktivity a zároveň rovnakú cieľovú skupinu ak konanie o predmetnej ŽoNFP stále trvá resp. bolo vydané Rozhodnutie o schválení ŽoNFP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Čestné vyhlásenie žiadateľa o NFP v časti 15 žiadosti o NF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zn.: Podmienka nie je preukazovaná zo strany žiadateľa samostatnou príloho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1867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Prílohy výzv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5280" y="1052640"/>
            <a:ext cx="83311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ulár ŽoNFP s prílohami (ŽoNFP, rozpočet, doplňujúce informácie k administratívnej a prevádzkovej kapacite, prieskum trhu, plnomocenstvo, životopis, čestné vyhláseni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ríručka pre žiadateľa pre prioritnú os 1 Vzdelávanie OP ĽZ, verzia 6.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oznam povinných merateľných ukazovateľov, vrátane ukazovateľov relevantných k HP a iných údajo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oznam oprávnených a neoprávnených výdavko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Koordinačné činnosti– vytypované pozície – náplň činnosti a kvalifikačné predpokla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Štandardná stupnica jednotkových nákaldov- hodinová sadzba učiteľa/učiteľov podľa kategórie škôl- počet hodín strávených vzdelávacími aktivitami („extra hodiny“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Prílohy výzv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24000" y="1267920"/>
            <a:ext cx="83311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Štandardná stupnica jednotkových nákladov- pedagogické kluby – hodina účasti pedagogického zamestnanca na aktivitách pedagogického klub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Kritériá pre výber projektov OP ĽZ a metodika ich uplatňov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formácia pre žiadateľov o nenávratný finančný príspevok, resp. o príspevok, ktorá je zverejnená na webovom sídle http://www.olaf.vlada.gov.sk/system-vcasneho-odhalovania-rizika-a-vylucenia-edes/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Ďalšie podporné dokumenty a informácie (zoznam odkazo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Predkladanie projekto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55680" y="1052640"/>
            <a:ext cx="83311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Calibri"/>
              </a:rPr>
              <a:t>Predkladanie projektov – MŠVVaŠ SR (nie Výskumná agentúra/ASFEU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Calibri"/>
              </a:rPr>
              <a:t>Projekty sa predkladajú cez ITMS2014+ (neplatia prístupy z minulosti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Calibri"/>
              </a:rPr>
              <a:t>písomná verzia osobne/poštou/kuriéro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Calibri"/>
              </a:rPr>
              <a:t>elektronická verzia – možnosť využiť elektronickú schránku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Calibri"/>
              </a:rPr>
              <a:t>Minimalizovanie počtu predkladaných dokumentov zo strany žiadateľov (potvrdenia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Calibri"/>
              </a:rPr>
              <a:t>Po predložení projektu administratívna kontrola (možnosť zaslať výzvu na doplnenie chýbajúcich náležitostí/klarifikáciu), odborné hodnotenie, vydanie Rozhodnutí o schválení/neschválení ŽoNFP, v Rozhodnutí môžu byť podmienky, uzavretie Zmluvy o poskytnutí NF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9680" y="242064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46c0a"/>
                </a:solidFill>
                <a:latin typeface="Calibri"/>
              </a:rPr>
              <a:t>Ďakujem za pozornosť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2320" y="177480"/>
            <a:ext cx="800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0560" y="836640"/>
            <a:ext cx="84042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Stredné školy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 zmysle § 32 písm. b), c), d) a e) a § 95 ods. 1 písm. c)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stredná odborná ško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stredná športová škola (okrem študijného odboru 7451 J športové gymnáziu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škola umeleckého priemys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Konzervatór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stredné školy pre žiakov so zdravotným znevýhodnení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Nadpis 1"/>
          <p:cNvSpPr/>
          <p:nvPr/>
        </p:nvSpPr>
        <p:spPr>
          <a:xfrm>
            <a:off x="1042920" y="2421000"/>
            <a:ext cx="7859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2320" y="177480"/>
            <a:ext cx="800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560" y="836640"/>
            <a:ext cx="84042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-1677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Samosprávne kraje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ako zriaďovatelia stredných škôl uvedených vyšši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samosprávny kraj je oprávnený predložiť jednu alebo viacero ŽoNFP pre jednu školu alebo viac škôl, avšak tá istá škola môže byť predmetom podpory len v jednej ŽoNF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zn.: V prípade, ak v rámci niektorého zo samosprávnych krajov predloží ŽoNFP samosprávny kraj za školy vo svojej zriaďovateľskej pôsobnosti, nemôže v rámci výzvy predložiť samostatnú ŽoNFP ako žiadateľ škola, ktorej zriaďovateľom je tento samosprávny kraj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Nadpis 1"/>
          <p:cNvSpPr/>
          <p:nvPr/>
        </p:nvSpPr>
        <p:spPr>
          <a:xfrm>
            <a:off x="1042920" y="2421000"/>
            <a:ext cx="7859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2320" y="177480"/>
            <a:ext cx="800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560" y="836640"/>
            <a:ext cx="84042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Forma preukázani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aradenie do Siete škôl a školských zariad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Čestné vyhlásenie (príloha 1h žiadosti o NFP) – relevantné pre žiadateľov zo súkromného sektora- novovzniknuté subjekty, ktorí nemajú ukončený fiškálny r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Nadpis 1"/>
          <p:cNvSpPr/>
          <p:nvPr/>
        </p:nvSpPr>
        <p:spPr>
          <a:xfrm>
            <a:off x="1042920" y="2421000"/>
            <a:ext cx="7859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2320" y="177480"/>
            <a:ext cx="800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cieľové skupin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24000" y="404640"/>
            <a:ext cx="83311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30320" indent="-1303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30320" indent="-1303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 u="sng">
                <a:solidFill>
                  <a:srgbClr val="000000"/>
                </a:solidFill>
                <a:uFillTx/>
                <a:latin typeface="Calibri"/>
              </a:rPr>
              <a:t>Povinná cieľová skupi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30320" indent="-1303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v ITMS2014+ 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žiaci základných a stredných škôl vrátane žiakov so ŠVVP vrátane marginalizovaných komunít ako sú napr. Rómov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30320" indent="-1303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žiaci stredných škôl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rátane žiakov so ŠVVP vrátane marginalizovaných komunít ako sú napr. Rómov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30320" indent="-1303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30320" indent="-1303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 u="sng">
                <a:solidFill>
                  <a:srgbClr val="000000"/>
                </a:solidFill>
                <a:uFillTx/>
                <a:latin typeface="Calibri"/>
              </a:rPr>
              <a:t>Voliteľná cieľová skupi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30320" indent="-1303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edagogickí zamestnanci a odborní zamestnanci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stredných škôl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 zmysle platnej legislatív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30320" indent="-1303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30320" indent="-1303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 u="sng">
                <a:solidFill>
                  <a:srgbClr val="000000"/>
                </a:solidFill>
                <a:uFillTx/>
                <a:latin typeface="Calibri"/>
              </a:rPr>
              <a:t>Forma preukázania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30320" indent="-1303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Formulár ŽoNFP (bod 7.2 a 8), podmienka nie je preukazovaná zo strany žiadateľa samostatnou príloho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30320" indent="-1303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30320" indent="-1303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30320" indent="-1303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ak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99680" y="1052640"/>
            <a:ext cx="8155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Znenie aktivity v ITMS2014+ (názov typu aktivity z textu OPĽZ)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Calibri"/>
              </a:rPr>
              <a:t>tvorba, inovácia, realizácia vzdelávacích programov zameraných na zvýšenie kompetencií potrebných pre prispôsobenie vzdelávania požiadavkám trhu práce (napr. jazykové, IKT zručnosti a finančná gramotnosť vrátane podnikateľských vedomostí a ekonomického mysleni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V žiadosti o NFP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zadefinuje v časti 9 jednu hlavnú aktivitu priradenú k typu aktivity „</a:t>
            </a:r>
            <a:r>
              <a:rPr b="0" i="1" lang="sk-SK" sz="2400" spc="-1" strike="noStrike">
                <a:solidFill>
                  <a:srgbClr val="000000"/>
                </a:solidFill>
                <a:latin typeface="Calibri"/>
              </a:rPr>
              <a:t>tvorba, inovácia, realizácia vzdelávacích programov zameraných na zvýšenie kompetencií potrebných pre prispôsobenie vzdelávania požiadavkám trhu práce (napr. jazykové, IKT zručnosti a finančná gramotnosť vrátane podnikateľských vedomostí a ekonomického myslenia)“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a v časti 7.2 popíše činnosti/podaktivity v rámci hlavnej ak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ak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99680" y="1052640"/>
            <a:ext cx="8155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Oprávnené podaktivity/činnosti vo vzťahu k cieľovej skupine žiaci, ktoré je potrebné podrobne popísať v časti 7.2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Čitateľská gramotnos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Matematická gramotnos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rírodovedná gramotnos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inančná gramotnosť vrátane podnikateľských vedomostí a ekonomického mysle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Jazykové zruč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KT zruč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20:40:01Z</dcterms:created>
  <dc:creator>paul sly</dc:creator>
  <dc:description/>
  <dc:language>en-US</dc:language>
  <cp:lastModifiedBy>Paľková Veronika</cp:lastModifiedBy>
  <dcterms:modified xsi:type="dcterms:W3CDTF">2019-09-23T10:43:55Z</dcterms:modified>
  <cp:revision>189</cp:revision>
  <dc:subject/>
  <dc:title>Snímka 1</dc:title>
</cp:coreProperties>
</file>