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4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42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88B-6AC5-403B-A506-B2D12161F5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C112-5109-48CE-9F0A-15A6BF568397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6A0-2117-4328-9C63-63EF52FEC4A7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9E6-4247-4993-A4DB-65469A2D952E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703-2737-4121-9899-04EA4BC8FEA7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4F94-F704-4B00-85A8-43A6094B61A8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005-6467-495F-8752-38466338B947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3B31-9368-49A2-98D1-47ABE8F1EF4D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20A-8212-4214-8E26-A1DE3187D11E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26D-88FF-4293-84E2-FAC50576FA26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989-2D81-4C56-9DCD-C7E9A021B81E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Zástupný symbol pro číslo snímku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E72C-02C2-45AF-9891-67C34DACE25E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CE9-AF7C-44C9-8C65-2A0EE23F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8B8-94E0-4425-BA37-F154F754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26497-60B3-4829-8A3E-C137FA3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8B672-632C-4556-89A2-92A8F67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42FDB-6CC0-4795-8D77-A16A4BA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0931C-3E90-4F27-8E19-D923BBF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E684-3FC7-4896-88E3-D3DAC60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E7DBB-C9A2-493C-87A1-0334815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2066-07BD-46AB-BBF6-C0A938E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4E3DC-2F7A-4A42-9DFE-99FF936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4A25-91C6-47E4-AA0A-6B48D742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F7A13-F954-4D06-B9B9-A99D9AA4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FC8-018E-4920-A184-A04F5C7B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9D229-D812-4BB7-A0F1-B541DE6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FA9E-B063-4A1A-9AC0-955A70AC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E3A9F-115D-45DC-8AF4-D5D9CBEB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FE2A6-428F-4C9D-AC35-AE568502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EE1D7-BF8B-41AB-B78B-F4EDCBF5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F25FF-5C15-45BC-A8A6-86C4FBF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D2C2B-7874-43AC-9600-89996C4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6B64C-05F1-481D-9627-4C8FC54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7AC5B-B716-4AD7-93F1-068C4C1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22B1-080B-4139-AB84-A0927515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B8B-2A9D-4E17-A26A-3A0AD886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67A83-9608-47F0-A934-DDA3C3F3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5D9F7-CC10-4439-A140-192E9DE1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57DF-DBA6-453B-BC0D-A92D110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D42C0-FEE6-4CB0-8F3C-600FF7F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9809-C077-411D-A9DF-7325E9C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A29F8-8868-4D9E-9158-7CADA9A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C998-D9B7-4F08-9827-63D7379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6F6E-5F4B-4CF3-98FC-6EA4FB7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F7BB-2406-4630-8DE6-065BFE4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3A2F-6CEB-4A65-9501-48D015A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214-4738-490F-8483-6D875EAD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73A7C-FC22-44A1-8308-81484C7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BB70A-6153-4CEF-A9E6-3F480B2D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F2178-88DB-4ECA-908D-C33E6379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DC807-5D0A-4E08-89CF-4338835F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17F83-04A0-46BE-A304-DEA4B390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C5431-1C5B-4467-8B52-E367C8AA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15910-B729-4A1D-BFF2-D7AB0BE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8C2DD-D61B-4FF3-8372-5226D5D4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E1D7B-407B-428F-814D-F26CB2A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F27CD-CF7C-48EE-A9A2-4488FED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26F-F8BF-41FF-A925-7165023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26AC3-605D-4B64-BA0D-DC28DB2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07EEE-DF2E-4066-ADF3-B12CBE2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ADBAC-3053-4F2E-B170-6CD4C268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C44B5-5C70-431D-AF77-E0BD5A0F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1C8C2-00A8-4065-AB0B-10C65DC4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A20E3-8712-4066-97C9-9A94975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8A9B5-6D90-4088-9FA1-D7B1A1C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21DFE-636D-4E31-9F58-772B6FA2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0C1A0-97A6-49CE-AD8C-7CBCD69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6CBA7-A886-4A2E-BBBA-17AF6C5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3A5-C627-4069-B819-0077AEE1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601FF-A8AA-411C-B52B-E381E99C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7EE81-957E-4440-A983-8FD257F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10D91-15E9-495F-BA67-551E898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AA5A3-ABA5-4139-8FC8-07945AC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EBF46-4D8F-4395-B6D2-F6F32D2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A00A7-D176-4411-873B-547AC579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FE9B7-4145-4E92-A721-B1A8C7EA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C17-1411-4787-B2A7-5D752A2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996-24BE-4715-BA9B-5AB987A0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70F2-CC8D-4264-BC63-B83CC68E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9B2B-2BBE-4B05-B38F-DD4CE77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C19-A09E-40EA-83A4-CF0C5FD9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116-6A67-45D4-938A-D1BDF74A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64E1-6D20-4152-A861-FF863C5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A2C1-DBDC-4D56-BC74-F4AF8A0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2FC-6DEB-420E-9C92-91864F09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4A23-37D8-4845-9316-9CFD1D85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7333-31EF-4AEC-8D6F-33D59276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F9B3-CC37-42E1-A80A-82ABF61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93AA-3A1F-4F07-8FC0-93DE194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EF4F-DDDF-48CF-86C7-6B4FA39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CACD-7F98-4BC5-9529-277CD21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CDF-066F-4123-93FF-2DBE773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C50B-957B-42EF-A2E3-A1F3D87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7940-2C3F-47B0-973A-76FC0BD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5F39-6D48-437D-B4D8-B0743E98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49A4-0089-4DE9-B9F0-C90AE22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BE4D-F020-4D31-95D8-41D9166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F6E7-2FB2-498B-A70C-CB374FE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D621-DB99-48CF-9A31-0B2FFFE2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B1C8-0929-452B-B566-6CD70439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816C-3237-4E99-B7A1-E8C0806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DEC1-3577-414A-ACBA-68F8B2E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857-7CA1-4141-B620-11CAF681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12A7-39A0-4E21-A3D4-9BE85468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FF84-8268-4809-AF95-B864A06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F1A0-A849-4BF6-9B3D-6FAA41F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8B60-F6A8-4558-804B-0EA77CD8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5DDE-EAD8-4E29-9DA9-8F54320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3668-03AF-47B8-BFE1-1342AE0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018F-43AC-4C39-B388-DF350216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A0B8-C1A8-444F-B8A3-5AF3B437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7E91-3532-46E0-A5EA-27A26205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4933-D944-492E-B710-3DCE422F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570-22B2-4A9E-9F17-F5FAF17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D5B47-BC97-404D-AA7E-A79A85E8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30CD-34DA-4E32-8643-7D1CCD20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8241-7C29-413E-A8D4-27B0D6D4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EBD5-09B7-4386-A5B7-EB815BE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3723-637B-4BB4-95B2-D60623D3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21FC-009A-4840-B0BB-A1AA510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087D-85DC-4B00-A8C4-ADE950E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61B4-7BB9-4704-9BF3-13BE53E3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A010-53D8-42C7-9394-965CB7F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A3B1-2E19-4D5F-9522-CD22F8D3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5EF-9260-4ECB-96C0-29EDAD6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8151-8213-49CC-B0A9-AAA54FF8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F7BEA-F7BD-4969-B8FA-7D85B494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B5E6-EFE3-4132-8810-E9BDF0C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6037-3694-408B-8EA8-48A3B195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BF55-548E-456D-AA6C-CFC01CB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D72C-F43A-4B5A-9ACB-8C4EC505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2711-EE3D-43C9-AAB0-7CBC41F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FC28-A6F9-40B1-A9BB-19E89A2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7B42-64DA-4FE8-B9A9-B5972C2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20610-4B07-4D6E-A1E4-EDAC2A4D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FA2-BBB1-4222-9E1E-CF31E8E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61F5-3A36-4604-99EC-DDE544A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1792-E481-4C4B-99BD-58F29C08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14ED-EE1E-47A0-A05A-42D1742E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CC98-F87F-4432-B25C-8D5AE049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7D7E-5C10-444F-A254-D24F7CD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1106-9781-4D6D-8037-5DFBA40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F802-88AE-4AFA-B8A0-6200AC30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4CEFD-581B-4CD3-9820-AFDE361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0A85-D331-4ECB-AC39-4C544468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9852-8DC3-4501-B7A1-4E13DFC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873-86DB-4009-909F-4067141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DE07-72A6-4A35-AA42-BEC6E35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90DBB-B46E-4D3E-B988-7A4DC0B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0D94-47AD-4035-817D-84B563F9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37065-42E3-4AE3-BD15-E5FABAB2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F394D-6539-4224-8027-79BA11F3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3D1C-0DF5-46FD-9EF9-0779A0BE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6FEE7-CA18-410A-8400-CC7CAB2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9D23-1B55-49D8-97C3-9F6C343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091BF-462B-475B-9697-4516A50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04A6-0BF2-463F-ABD1-271833C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566-DB9E-4DA4-BA2E-E7CC7AA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9F8C-5384-4A97-93DF-1C49C2A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FF43-7C93-420C-BBC5-72D15ED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0014-9562-40D3-8FEB-1910B3A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BE7B-D54B-4C78-B29B-1E10F98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A4BD3-1269-4BBA-B8B2-E81A074D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A721-039C-4F2C-98BB-91A69767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2C1B-745F-41DF-8869-75665A59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3B94E-3B62-4EF8-A549-2D6A9F6B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9F942-095C-45B0-89DE-BA68C76D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DB4D-BE36-490A-9E0D-02A99A0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95E-2A7F-497E-BC16-D2D05BC3BC7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AED1-6B84-4C73-99C6-22A021F72396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E2DB-9077-48A7-8E36-73FC8AEE125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1B6-97FC-411E-B97F-C536014FA30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569-3E7E-4D52-A766-918ED33D3A57}" type="slidenum"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0EF-EBDB-4514-8744-E92CD40C4D25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D24-B095-4B8F-AD6D-BB416CDA987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0A2-83D5-4212-BBDB-82131B69E57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80D-1460-4E64-AB81-C3930E0E553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6C16-A2F0-4494-AAF9-4EE1B9BF605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1E2-DF29-4137-A53A-003AB7D2B6E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7AF-B231-4A01-9891-5D2C86E8207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1DD-EF4D-4622-98EB-5122ACDC13A3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7240" y="2923920"/>
            <a:ext cx="43135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derná stredná škol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714240" y="4929120"/>
            <a:ext cx="450072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trukturálne fondy EÚ.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0" name="Skupina 5"/>
          <p:cNvGrpSpPr/>
          <p:nvPr/>
        </p:nvGrpSpPr>
        <p:grpSpPr>
          <a:xfrm>
            <a:off x="642960" y="1214280"/>
            <a:ext cx="1379520" cy="500400"/>
            <a:chOff x="642960" y="1214280"/>
            <a:chExt cx="1379520" cy="500400"/>
          </a:xfrm>
        </p:grpSpPr>
        <p:sp>
          <p:nvSpPr>
            <p:cNvPr id="621" name="Obdĺžnik 6"/>
            <p:cNvSpPr/>
            <p:nvPr/>
          </p:nvSpPr>
          <p:spPr>
            <a:xfrm>
              <a:off x="642960" y="1214280"/>
              <a:ext cx="1357560" cy="50040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22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8556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500040" y="2142720"/>
            <a:ext cx="8352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Fotodokumentá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0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91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3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94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9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6" name="Picture 10" descr="C:\Users\MARGIT~1.HUD\AppData\Local\Temp\Rar$DIa0.144\dielne.jpg"/>
          <p:cNvPicPr/>
          <p:nvPr/>
        </p:nvPicPr>
        <p:blipFill>
          <a:blip r:embed="rId2"/>
          <a:stretch/>
        </p:blipFill>
        <p:spPr>
          <a:xfrm>
            <a:off x="900000" y="2708280"/>
            <a:ext cx="2335320" cy="30970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1" descr="C:\Users\MARGIT~1.HUD\AppData\Local\Temp\Rar$DIa0.745\povod a plemena koz.jpg"/>
          <p:cNvPicPr/>
          <p:nvPr/>
        </p:nvPicPr>
        <p:blipFill>
          <a:blip r:embed="rId3"/>
          <a:stretch/>
        </p:blipFill>
        <p:spPr>
          <a:xfrm>
            <a:off x="3335400" y="2708280"/>
            <a:ext cx="513720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2" descr="C:\Users\MARGIT~1.HUD\AppData\Local\Temp\Rar$DIa0.490\Geny a gen expresia2.JPG"/>
          <p:cNvPicPr/>
          <p:nvPr/>
        </p:nvPicPr>
        <p:blipFill>
          <a:blip r:embed="rId1"/>
          <a:stretch/>
        </p:blipFill>
        <p:spPr>
          <a:xfrm>
            <a:off x="468360" y="1940040"/>
            <a:ext cx="4032360" cy="308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C:\Users\MARGIT~1.HUD\AppData\Local\Temp\Rar$DIa0.189\Fotografia0154.jpg"/>
          <p:cNvPicPr/>
          <p:nvPr/>
        </p:nvPicPr>
        <p:blipFill>
          <a:blip r:embed="rId2"/>
          <a:stretch/>
        </p:blipFill>
        <p:spPr>
          <a:xfrm>
            <a:off x="4643280" y="19558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0977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entúra Ministerstva školstva, vedy, výskumu a športu SR pre štrukturálne fondy E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anulova 5/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841 01 Bratisl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www.asfeu.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sk-SK" sz="2400" spc="-1" strike="noStrike">
                <a:solidFill>
                  <a:srgbClr val="000000"/>
                </a:solidFill>
                <a:latin typeface="Arial"/>
              </a:rPr>
              <a:t>Ďakujem Vám za pozornosť.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1" name="Skupina 2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702" name="Obdĺžnik 3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BlokTextu 4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4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705" name="Obdĺžnik 6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70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61520" y="2225520"/>
            <a:ext cx="8147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Zameranie výzvy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dpora inovácií obsahu a metód výučby a realizácia kariérneho poradenstva na stredných školá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ác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eb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riadeni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boratórií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(biologické, chemické alebo fyzikálne), odborných učební praktického vyučovania a inovácia stredísk odbornej prax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dpora zavádzania nových študijných a učebných odborov zvyšujúcich uplatnenie absolventov školy na trhu práce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4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25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6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27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28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29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Výzva OPV-2012/1.1/08-SO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98600" y="2187720"/>
            <a:ext cx="814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rávnení žiadatel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tredné školy v zriaďovateľskej pôsobnosti samosprávnych krajov a ob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tredné školy, ktorých zriaďovateľom sú orgány štátnej správ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cirkevné a súkromné stredné ško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2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33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4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5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36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3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Výzva OPV-2012/1.1/08-SO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500040" y="2142720"/>
            <a:ext cx="8352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čet prijatých Žiadostí o NFP: 30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vo výške NFP 93 431 333,25 EU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čet schválených Žiadostí o NFP: 17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vo výške NFP 38 611 563,16 EU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čet uzatvorených Zmlúv o NFP: 17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vo výške NFP 38 200 582,80 EU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0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41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43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44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4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Výzva OPV-2012/1.1/08-SO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411120" y="2112480"/>
            <a:ext cx="83520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jímateľ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Stredná odborná škola Turan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ázov projektu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Kvalitnou prípravou k odbor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ITMS kód projekt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6110130726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eľová skupina: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edagogickí zamestnanci a žiaci strednej ško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ealizácia aktivít: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02/2014 – 07/201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FP: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170 869,32 E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Čerpanie: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121 786,50E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2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8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49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1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52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53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4" name="Rectangle 5"/>
          <p:cNvSpPr/>
          <p:nvPr/>
        </p:nvSpPr>
        <p:spPr>
          <a:xfrm>
            <a:off x="971640" y="141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Príklad dobrej prax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60360" y="2133720"/>
            <a:ext cx="835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kvalitnenie vzdelávania žiakov novými formami, metódami a vzdelávacími prostriedkami pre potreby trhu práce vo vedomostnej spoločnosti modernými učiteľ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inovácia a modernizácia vzdelávania prostredníctvom učebných materiálov, didaktických prostriedkov a vybavením odborných učeb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zvyšovanie odbornej kvalifikácie pedagogických zamestnancov potrebnej k premene tradičnej školy na modern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Cieľ projek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7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58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0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61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6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60000" y="1988640"/>
            <a:ext cx="838836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inovovaný obsah pre jednotlivé predmety - učebné materiály, modernizácia didaktických prostriedkov, odborný výcvik – operátor drevárskej a nábytkárskej výro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é dotazníky žiakov a pedagogických zamestnancov, overenie rozvoja kľúčových kompetencií žiakov pomocou test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osvedčenia o absolvovaní jednotlivých školení a prezenčné listiny z realizovaných škol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Výstupy projek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5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66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8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69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70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60360" y="1989000"/>
            <a:ext cx="835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interaktívne vyučova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rozvoja kľúčových kompetencií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žiakov za účelom zvýšenia ich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konkurencieschopnosti na trhu prá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využívanie netradičných metód vzdelávania prostredníctvom hier, experimentálnych metód a didaktických prostried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Benefity projek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3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74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76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77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7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9" name="Picture 10" descr="C:\Users\MARGIT~1.HUD\AppData\Local\Temp\Rar$DIa0.691\bio2.JPG"/>
          <p:cNvPicPr/>
          <p:nvPr/>
        </p:nvPicPr>
        <p:blipFill>
          <a:blip r:embed="rId2"/>
          <a:stretch/>
        </p:blipFill>
        <p:spPr>
          <a:xfrm>
            <a:off x="6372360" y="1890720"/>
            <a:ext cx="200484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60360" y="2133360"/>
            <a:ext cx="835200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pedagogickí zamestnanci nadobudnú zručnosti v oblasti inovatívnych metód vzdelávania – prenos teoretických vedomostí k ich praktickému využiti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zvýšenie konkurencieschopnosti absolventov školy a učiteľov na trhu prá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1000080" y="14288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ea9f3a"/>
                </a:solidFill>
                <a:latin typeface="Arial"/>
              </a:rPr>
              <a:t>Prínos projekt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82" name="Skupina 3"/>
          <p:cNvGrpSpPr/>
          <p:nvPr/>
        </p:nvGrpSpPr>
        <p:grpSpPr>
          <a:xfrm>
            <a:off x="324000" y="6292800"/>
            <a:ext cx="8496000" cy="396000"/>
            <a:chOff x="324000" y="6292800"/>
            <a:chExt cx="8496000" cy="396000"/>
          </a:xfrm>
        </p:grpSpPr>
        <p:sp>
          <p:nvSpPr>
            <p:cNvPr id="683" name="Obdĺžnik 4"/>
            <p:cNvSpPr/>
            <p:nvPr/>
          </p:nvSpPr>
          <p:spPr>
            <a:xfrm>
              <a:off x="324000" y="6292800"/>
              <a:ext cx="8496000" cy="30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BlokTextu 5"/>
            <p:cNvSpPr/>
            <p:nvPr/>
          </p:nvSpPr>
          <p:spPr>
            <a:xfrm>
              <a:off x="324000" y="6381720"/>
              <a:ext cx="84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85" name="Skupina 8"/>
          <p:cNvGrpSpPr/>
          <p:nvPr/>
        </p:nvGrpSpPr>
        <p:grpSpPr>
          <a:xfrm>
            <a:off x="4714920" y="642960"/>
            <a:ext cx="1379520" cy="428760"/>
            <a:chOff x="4714920" y="642960"/>
            <a:chExt cx="1379520" cy="428760"/>
          </a:xfrm>
        </p:grpSpPr>
        <p:sp>
          <p:nvSpPr>
            <p:cNvPr id="686" name="Obdĺžnik 7"/>
            <p:cNvSpPr/>
            <p:nvPr/>
          </p:nvSpPr>
          <p:spPr>
            <a:xfrm>
              <a:off x="4714920" y="642960"/>
              <a:ext cx="135756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68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1492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4:46:45Z</dcterms:created>
  <dc:creator>Kiko</dc:creator>
  <dc:description/>
  <dc:language>en-US</dc:language>
  <cp:lastModifiedBy>Pavlovičová Katarína</cp:lastModifiedBy>
  <dcterms:modified xsi:type="dcterms:W3CDTF">2015-06-18T15:23:42Z</dcterms:modified>
  <cp:revision>303</cp:revision>
  <dc:subject/>
  <dc:title>Snímka 1</dc:title>
</cp:coreProperties>
</file>