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6D8C-3319-4D87-BF50-16051D79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B74-3033-4A4F-978F-6574DBAE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2DD0-9266-46BE-AF94-91ADF1F6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06F-8B1B-420B-97C0-9DF586F1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87CA-1D11-45C0-9CA1-D34DBA6F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79AC-FE07-443E-B687-63246FFB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250F-FCEE-4151-BBBB-62A839E6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F4ED-F0BA-4918-AFB7-7CE976FF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4FD2-14F8-4583-95EA-4379829C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E3B1-FCCD-4AA7-A71D-03F921D2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0F66-F355-445F-9D9C-6FD87238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2816-46E2-4AE0-8D51-8299F7F3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B60A-2AEE-482C-8863-0661B1E2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2079-30CF-4256-A412-17ECE788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6283-A7D5-46B7-8714-08D5F2E3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9C10-0EBA-4E98-83CC-515062EF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B0F0-68BA-4864-B5E2-FF53859A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9E53-F089-420C-BB4E-8472DE38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8AB9-C707-4D51-96F6-7544AF1B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6F44-EC84-444B-A91A-D494311B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3B29-336E-40EC-A66C-F23CB6CD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64BD-33D8-484B-B032-53D2F1EA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6C6-0DCF-4890-A5D3-66D6F78C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F269-9E60-4F9E-8BE5-173AAD03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4D39-DE4D-4BF1-AF2B-2F0F865E5C59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C52F-D3E9-4AC9-BE07-735E7D5AA414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inedu.sk/03052017-dodatok-c-2-kscheme-pomoci-de-minimis-na-podporuvzdelavania-schema-dm-32016/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semp.kti2dc.sk/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Calibri"/>
              </a:rPr>
              <a:t>Výzva na predkladanie žiadostí o NFP "Podpora zlepšovania študijných výsledkov a kompetencií žiakov„ kód OPLZ-PO1/2019/DOP/1.1.1-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BlokTextu 5"/>
          <p:cNvSpPr/>
          <p:nvPr/>
        </p:nvSpPr>
        <p:spPr>
          <a:xfrm>
            <a:off x="0" y="587700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05.08.2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odmienky poskytnutia príspevk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9680" y="1196640"/>
            <a:ext cx="815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Podmienka oprávnenosti žiadateľa (právna form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iď slide č. 4-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2. Podmienka nebyť dlžníkom na dani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smie byť dlžníkom na daniach u miestne príslušného správcu da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3. Podmienka nebyť dlžníkom poistného na zdravotnom poist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smie byť dlžníkom poistného na zdravotnom poistení v žiadnej zdravotnej poisťovni poskytujúcej verejné zdravotné poistenie v S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4. Podmienka nebyť dlžníkom na sociálnom poist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smie byť dlžníkom na sociálnom poist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5. Podmienka zákazu vedenia výkonu rozhodnutia voči žiadateľo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nesmie byť vedený výkon rozhodnutia ani vymáhacie konanie v súlade s článkom 71 všeobecného nariade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6. Podmienka, že voči žiadateľovi sa nenárokuje vrátenie pomoci na základe rozhodnutia EK, ktorým bola pomoc označená za neoprávnenú a nezlučiteľnú s vnútorným trh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sa nesmie nárokovať vrátenie pomoci na základe rozhodnutia Európskej komisie, ktorým bola pomoc označená za neoprávnenú a nezlučiteľnú so spoločným trh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pôsob overenia: Čestné vyhlásenie žiadateľa v ŽoNFP (bod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7. Podmienka finančnej spôsobilosti spolufinancovania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musí byť finančne spôsobilý na spolufinancovanie projektu. Finančná spôsobilosť na spolufinancovanie projektu znamená, že žiadateľ má zabezpečené finančné prostriedky na spolufinancovanie oprávnených výdavkov projekt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Čestné vyhlásenie žiadateľa v ŽoNFP (bod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íloha 1b Doplňujúce informácie k časti 7.4 žiadosti o NFP- Finančná situácia žiadateľa (účtovná závierk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8. Podmienka, že žiadateľ ani jeho štatutárny orgán, ani žiadny člen štatutárneho orgánu, ani prokurista/i, ani osoba splnomocnená zastupovať žiadateľa v konaní o ŽoNFP neboli právoplatne odsúdení za trestný čin korupcie, za trestný čin poškodzovania finančných záujmov Európskej únie, za trestný čin legalizácie príjmu z trestnej činnosti, za trestný čin založenia, zosnovania a podporovania zločineckej skupiny, alebo za trestný čin machinácie pri verejnom obstarávaní a verejnej draž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Žiadateľ, jeho štatutárny orgán, žiadny člen štatutárneho orgánu, prokurista/i ani osoba splnomocnená zastupovať žiadateľa v konaní o ŽoNFP neboli právoplatne odsúdení podľa Trestného zákona za trestný čin (ďalej len „TČ“) korupcie, TČ poškodzovania finančných záujmov Európskej únie, TČ legalizácie príjmu z trestnej činnosti, TČ založenia, zosnovania a podporovania zločineckej skupiny alebo TČ machinácie pri verejnom obstarávaní a verejnej dražb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Príloha 1g formulára ŽoNF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Čestné vyhlásenie žiadateľa v ŽoNFP (bod 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9. Podmienka, že voči žiadateľovi nie je vedené konkurzné konanie, reštrukturalizačné konanie, nie je v konkurze ani v reštrukturalizác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sa nesmie viesť konkurzné konanie, reštrukturalizačné konanie, nesmie byť v konkurze ani v reštrukturalizácii. Podmienka sa vzťahuje aj na konania začaté a neukončené podľa zákona č. 328/1991 Zb. o konkurze a vyrovnaní v znení neskorších predpisov. Podmienka zahŕňa aj prípady zastavenia konkurzného konania z dôvodu nedostatku majetku alebo zrušenia konkurzu z dôvodu nedostatku majet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0. Podmienka, že voči žiadateľovi ktorým je právnická osoba, nemá právoplatným rozsudkom uložený trest zákazu prijímať dotácie alebo subvencie, trest zákazu prijímať pomoc a podporu poskytovanú z fondov EÚ alebo trest zákazu činnosti vo verejnom obstarávaní podľa osobitného predpi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oči žiadateľovi sa nesmie viesť konkurzné konanie, reštrukturalizačné konanie, nesmie byť v konkurze ani v reštrukturalizácii. Podmienka sa vzťahuje aj na konania začaté a neukončené podľa zákona č. 328/1991 Zb. o konkurze a vyrovnaní v znení neskorších predpisov. Podmienka zahŕňa aj prípady zastavenia konkurzného konania z dôvodu nedostatku majetku alebo zrušenia konkurzu z dôvodu nedostatku majet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dmienka oprávnenosti cieľovej skupiny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iď slide č. 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Formulár ŽoNFP (bod 7.2 a 8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2. Podmienka, že hlavné aktivity projektu sú vo vecnom súlade s oprávnenými aktivitami OP Ľ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iď slide 8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3. Podmienka, že výdavky projektu sú oprávnené a nárokovaná výška výdavkov je oprávnená na financovanie z OP Ľ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- samostatná ppt k podmienke (výdavko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4. Podmienka, že projekt je realizovaný na oprávnenom územ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Oprávneným miestom realizácie aktivít projektu </a:t>
            </a: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sú všetky kraje menej rozvinutého regiónu, t. j. všetky kraje s výnimkou BSK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Geografická oprávnenosť žiadateľa (oprávnené miesto realizácie projektu) sa určuje prostredníctvom toho, z ktorého regiónu Slovenskej republiky pochádza cieľová skupina v projekte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ri žiakoch sa za rozhodujúce považuje sídlo školy, ktorej sú žiakm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ri pedagogických a odborných zamestnancoch je rozhodujúce územie kraja, v rámci ktorého sú zamestna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ri profesijných a dobrovoľných pracovníkoch s mládežou je rozhodujúce územie kraja, v rámci kt. sú zamestnaní/kraja, na ktorý sa viaže ich výkon činnost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Forma preukázania: Formulár ŽoNFP (bod 5 a 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alibri"/>
              </a:rPr>
              <a:t>15. Podmienka splnenia kritérií pre výber projekt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ŽoNFP musí splniť kritériá pre výber projektov, ktoré boli schválené prostredníctvom monitorovacieho výboru pre OP ĽZ a sú prílohou č. 6 výzv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Informácie potrebné k vyhodnoteniu doplňujúceho kritéria uvedie žiadateľ vo formulári ŽoNFP (bod 7.2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Všeobecné informác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2440" y="1458720"/>
            <a:ext cx="833112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ýzva v rámci prioritnej osi č. 1 Vzdelávanie OP Ľudské zdroje, špecifický cieľ 1.1.1 </a:t>
            </a:r>
            <a:r>
              <a:rPr b="0" i="1" lang="sk-SK" sz="2400" spc="-1" strike="noStrike">
                <a:solidFill>
                  <a:srgbClr val="000000"/>
                </a:solidFill>
                <a:latin typeface="Calibri"/>
              </a:rPr>
              <a:t>Zvýšiť inkluzívnosť a rovnaký prístup ku kvalitnému vzdelávaniu a zlepšiť výsledky a kompetencie detí a žiak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hlásenie výzvy dňa 26.07.20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ýzva cez schému pomoci de minimis na podporu vzdeláv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tvorená výzva (systém hodnotiacich kô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Uzávierka 1. hodnotiaceho kola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5.10.2019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, 2. kolo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29.11.20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Alokácia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2 mil. EU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ýzva určená pre všetky kraje s výnimkou B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560" y="259920"/>
            <a:ext cx="81867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16. Podmienka relevantného spôsobu financov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V rámci tejto výzvy sa uplatňuje spôsob financovania prostredníctvom: refundácie, formou zálohových platieb, a/alebo formou kombinácie zálohových platieb a refundácie v súlade s platným Systémom finančného riadenia EŠI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oskytovaného príspevku: nenávratný finančný príspevo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Táto podmienka nie je predmetom preukázania splnenia zo strany žiadateľa pri predložení žiadosti o NF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17. Podmienka neporušenia zákazu nelegálneho zamestnávania štátneho príslušníka tretej krajiny žiadateľom za obdobie 5 rokov predchádzajúcich podaniu ŽoNF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Žiadateľ nesmie porušiť zákaz nelegálnej práce a nelegálneho zamestnávania podľa osobitného predpisu za obdobie 5 rokov predchádzajúcich predloženiu žiadosti o NF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Čestné vyhlásenie Formulár ŽoNFP časť 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8. Podmienky týkajúce sa štátnej pomoci a vyplývajúce zo schém štátnej pomoci/pomoci de minimi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ýzva je podmienená Schémou pomoci de minimis na podporu vzdelávania (v aktuálnom znení): </a:t>
            </a:r>
            <a:r>
              <a:rPr b="0" lang="sk-SK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minedu.sk/03052017-dodatok-c-2-kscheme-pomoci-de-minimis-na-podporuvzdelavania-schema-dm-32016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íloha č. 9 výz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dmienka poskytnutia príspevku musí byť splnená v deň/dátum nadobudnutia účinnosti zmluvy o poskytnutí NFP, t. j. pomoc sa považuje za poskytnutú v okamihu, kedy prijímateľ nadobudne právny nárok na poskytnutie pomoci - deň/dátum nadobudnutia účinnosti zmluvy o poskytnutí NFP s prijímateľom pomo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18. Podmienky týkajúce sa štátnej pomoci a vyplývajúce zo schém štátnej pomoci/pomoci de minimi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Čestné vyhlásenie žiadateľa v ŽoNFP (bod 15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hlásenie o poskytnutej pomoci de minimis - doklad preukazujúci nepresiahnutie maximálnej výšky pomoci v prípade poskytovania pomoci de minimis (príloha č. 10 výzvy), ITMS2014+ /účtovná závierka (príloha 1b ŽoNFP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S pre evidenciu a monitorovanie pomoci (IS SEMP) </a:t>
            </a:r>
            <a:r>
              <a:rPr b="0" lang="sk-SK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semp.kti2dc.sk/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plnenie podmienok Schémy pomoci de minimis na podporu vzdelávania v aktuálnom znení (príloha č. 9 výzvy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0560" y="259920"/>
            <a:ext cx="81867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19. Oprávnenosť z hľadiska súladu s H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redložená ŽoNFP, musí byť v súlade s horizontálnymi princípmi rovnosť mužov a žien a nediskriminácia a udržateľný rozvoj na roky 2014 – 2020 a v čl. 7 a 8 všeobecného nariaden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ulár ŽoNFP (bod 5 a časť 7.2) a Čestné vyhlásenie žiadateľa v ŽoNFP (bod 15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Podmienka súladu s HP nie je preukazovaná zo strany žiadateľa samostatnou príloho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20. Minimálna a maximálna výška príspevk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inimálna výška príspevku na projekt je 100 000 €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aximálna výška príspevku na projekt je 200 000 €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Žiadateľ je povinný plniť podmienku minimálnej výšky príspevku do momentu poskytnutia súčinnosti podľa § 25 ods. 4 zákona o príspevku z EŠIF v prípade vydania rozhodnutia o schválení ŽoNFP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ulár ŽoNFP (bod 11) a Rozpočet projektu s podrobným komentárom (Príloha č. 1a ŽoNF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21. Časová oprávnenosť realizácie projek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inimálna dĺžka na realizáciu aktivít projektu – 12 mesiacov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aximálna dĺžka na realizáciu aktivít projektu je 30 mesiac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orma preukázania: </a:t>
            </a: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ulár ŽoNFP (bod 9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22. Podmienky poskytnutia príspevku z hľadiska definovania merateľných ukazovateľov projek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Merateľné ukazovatele projektu pre túto výzvu sú definované v prílohe č. 3 Zoznam povinných merateľných ukazovateľov projektu merateľných ukazovateľov (ďalej „MU“), vrátane ukazovateľov relevantných k HP a iných údajov tejto výzv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Forma preukázania: Formulár ŽoNFP (body 9, 10.1 a 10.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0560" y="260280"/>
            <a:ext cx="81867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23. Podmienka zákazu predloženia viacero ŽoNFP vo vzťahu k prebiehajúcemu alebo ukončenému schvaľovaciemu procesu ŽoNF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ie je oprávnený predložiť viacero ŽoNFP v rámci tejto výzvy resp. hodnotiaceho kola tejto výzvy pre rovnaké aktivity a zároveň rovnakú cieľovú skupinu ak konanie o predmetnej ŽoNFP stále trvá resp. bolo vydané Rozhodnutie o schválení ŽoNF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Čestné vyhlásenie žiadateľa o NFP v časti 15 žiadosti o NF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zn.: Podmienka nie je preukazovaná zo strany žiadateľa samostatnou príloh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867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ílohy výz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95280" y="1052640"/>
            <a:ext cx="8331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ulár ŽoNFP s prílohami (ŽoNFP, rozpočet, doplňujúce informácie k administratívnej a prevádzkovej kapacite, prieskum trhu, plnomocenstvo, životopis, čestné vyhlásenie, formulár žiadosti o výpis z registra tresto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íručka pre žiadateľa pre prioritnú os 1 Vzdelávanie OP ĽZ, verzia 6.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oznam povinných merateľných ukazovateľov, vrátane ukazovateľov relevantných k HP a iných údajo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oznam oprávnených a neoprávnených výdavko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iadenie projektu – vytypované pozície – náplň činnosti a kvalifikačné predpokla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ílohy výzv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267920"/>
            <a:ext cx="8331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Kritériá pre výber projektov OP ĽZ a metodika ich uplatňov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formácia pre žiadateľov o nenávratný finančný príspevok, resp. o príspevok, ktorá je zverejnená na webovom sídle http://www.olaf.vlada.gov.sk/system-vcasneho-odhalovania-rizika-a-vylucenia-edes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Ďalšie podporné dokumenty a informácie (zoznam odkazo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Schéma pomoci de minimis na podporu vzdelávania (v aktuálnom znen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hlásenie žiadateľa o poskytnuje pomoci de minim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Predkladanie projekto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55680" y="1052640"/>
            <a:ext cx="83311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redkladanie projektov – MŠVVaŠ SR (nie Výskumná agentúra/ASFEU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rojekty sa predkladajú cez ITMS2014+ (neplatia prístupy z minulosti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ísomná verzia osobne/poštou/kuriéro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elektronická verzia – možnosť využiť elektronickú schránku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Minimalizovanie počtu predkladaných dokumentov zo strany žiadateľov (potvrdenia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Calibri"/>
              </a:rPr>
              <a:t>Po predložení projektu administratívna kontrola (možnosť zaslať výzvu na doplnenie chýbajúcich náležitostí/klarifikáciu), odborné hodnotenie, vydanie Rozhodnutí o schválení/neschválení ŽoNFP, v Rozhodnutí môžu byť podmienky, uzavretie Zmluvy o poskytnutí NF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560" y="836640"/>
            <a:ext cx="84042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nezisková organizácia poskytujúca všeobecne prospešné služby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(založená v zmysle zákona č. 213/1997 Z. z. o neziskových organizáciách poskytujúcich všeobecne prospešné služby v znení neskorších predpisov), zapísaná v Registri mimovládnych neziskových organizáci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občianske združenie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(založené v zmysle zákona č. 83/1990 Z. z. o združovaní občanov v znení neskorších predpisov), zapísaná v Registri mimovládnych neziskových organizáci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nadácia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(založená v zmysle zákona č. 34/2002 Z. z. o nadáciách a o zmene Občianskeho zákonníka v znení neskorších predpisov), zapísaná v Registri zapísaná mimovládnych neziskových organizáci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Nadpis 1"/>
          <p:cNvSpPr/>
          <p:nvPr/>
        </p:nvSpPr>
        <p:spPr>
          <a:xfrm>
            <a:off x="1042920" y="2421000"/>
            <a:ext cx="7859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560" y="836640"/>
            <a:ext cx="84042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účelové zariadenia cirkvi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dľa zákona č. 308/1991 Zb. o slobode náboženskej viery a postavení cirkví a náboženských spoločností, registrované Ministerstvom kultúry Slovenskej republi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Ďalšie podmienky oprávnenost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 deň vyhlásenia výzvy na predkladanie ŽoNFP právoplatne 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zaregistrovaný aspoň 2 roky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 príslušnom registri organizáci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predmet činnosti je v súlade s oprávnenými aktivitami tejto výzv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je realizátorom projektu a nebude vystupovať len ako sprostredkovate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nie je zriaďovateľom, resp. školou a/alebo školským zariadením zaradeným do Siete škôl a školských zariadení S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Nadpis 1"/>
          <p:cNvSpPr/>
          <p:nvPr/>
        </p:nvSpPr>
        <p:spPr>
          <a:xfrm>
            <a:off x="1042920" y="2421000"/>
            <a:ext cx="7859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836640"/>
            <a:ext cx="84042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Forma preukázan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rávoplatné rozhodnutie obvodného úradu v sídle kraja o registrácii spolu s predloženou zakladacou listinou vrátane štatútu, alebo nadačná listina s dňom zápisu nadácie do registra nadácií vyznačeným Ministerstvom vnútra SR, alebo stanovy s dňom registrácie vyznačeným Ministerstvom vnútra SR, alebo iné obdobné pre subjekt záväzné dokumen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Nadpis 1"/>
          <p:cNvSpPr/>
          <p:nvPr/>
        </p:nvSpPr>
        <p:spPr>
          <a:xfrm>
            <a:off x="1042920" y="2421000"/>
            <a:ext cx="7859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2320" y="177480"/>
            <a:ext cx="800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cieľové skupi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404640"/>
            <a:ext cx="83311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-123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Calibri"/>
              </a:rPr>
              <a:t>Povinná cieľová skupi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Žiaci ZŠ a SŠ vrátane žiakov so ŠVV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a/aleb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edagogickí a odborní zamestnanci v zmysle platnej legislatív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Calibri"/>
              </a:rPr>
              <a:t>Voliteľná cieľová skupi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profesijní a dobrovoľní pracovníci s mládežou, pre účely tejto výzvy sa nimi rozumejú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mladý vedúci, mládežnícky vedúci, pracovník s mládežou, podľa zákona č. 282/2008 Z. z. o podpore práce s mládežou a o zmene a doplnení zákona č. 131/2002 Z. z. o vysokých školách a o zmene a doplnení niektorých zákonov v znení neskorších predpisov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Forma preukázania: Formulár ŽoNFP (bod 7.2 a 8), podmienka nie je preukazovaná zo strany žiadateľa samostatnou príloho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3480" indent="-123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9680" y="1052640"/>
            <a:ext cx="8155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Znenie aktivity v ITMS2014+ (názov typu aktivity z textu OPĽZ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Calibri"/>
              </a:rPr>
              <a:t>aktivity zamerané na zlepšenie školskej úspešnosti žiakov vrátane žiakov so špeciálnymi výchovno-vzdelávacími potreb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V žiadosti o NF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zadefinuje v časti 9 jednu hlavnú aktivitu priradenú k typu aktivity „aktivity zamerané na zlepšenie školskej úspešnosti žiakov vrátane žiakov so špeciálnymi výchovno-vzdelávacími potrebami“ a v časti 7.2 popíše činnosti/podaktivity v rámci hlavnej ak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Oprávnené ak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5280" y="1052640"/>
            <a:ext cx="82598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Riadenie/koordinácia projektu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k-SK" sz="2400" spc="-1" strike="noStrike">
                <a:solidFill>
                  <a:srgbClr val="ff0000"/>
                </a:solidFill>
                <a:latin typeface="Calibri"/>
              </a:rPr>
              <a:t>povinná ako samostatná podaktivita bez ohľadu na to, ktoré činnosti/podaktivity bude žiadateľ realizova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Forma preukázania: Formulár ŽoNFP (bod 7.2 a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Žiadateľ nemôže predložiť viacero žiadostí o NFP s rovnakými oprávnenými aktivitami a súčasne rovnakou cieľovou skupinou. V prípade, ak žiadateľ predloží viacero žiadostí o NFP, ktoré porušia čo i len jednu z uvedených podmienok, budú tieto žiadosti o NFP vylúčené zo schvaľovacieho proces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Paľková Veronika</cp:lastModifiedBy>
  <dcterms:modified xsi:type="dcterms:W3CDTF">2019-08-06T06:38:17Z</dcterms:modified>
  <cp:revision>182</cp:revision>
  <dc:subject/>
  <dc:title>Snímka 1</dc:title>
</cp:coreProperties>
</file>