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7E2-C631-4BDD-B935-5151E37E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1E0-47DC-4400-908F-CC4DFDD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3A3-E31B-4A4D-A5C4-C664F2D7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C01-043B-4D5E-A961-4384E08B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DB2-C052-469F-91A2-8C15083C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010-8769-49E7-ADB1-C99E7C7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325-AC7B-4274-ABB3-C54D05B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736-D01D-431B-83A6-2D848C3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5BD-52DC-40F0-A638-6BE0EA8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CD3-6D63-47D6-8CD6-D0D81E66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46C-C063-46A2-B563-69E311A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C1C-940B-45BF-9B04-189429F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A277-4A58-488B-A92A-815B2E288F8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8000" y="3428640"/>
            <a:ext cx="59054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ritériá pre výber projektov</a:t>
            </a:r>
            <a:br>
              <a:rPr sz="2800"/>
            </a:br>
            <a:br>
              <a:rPr sz="2800"/>
            </a:b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„Podpora vnútorných systémov zabezpečovania kvality vysokoškolského vzdelávania“</a:t>
            </a:r>
            <a:br>
              <a:rPr sz="2400"/>
            </a:b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kód OPLZ-PO1/2021/DOP/1.3.1-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9240" y="5661000"/>
            <a:ext cx="190008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8.06.20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Kritériá pre výber projektov – všeobec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Základný dok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Kritériá pre výber projektov operačného programu Ľudské zdroje a metodika ich uplatňovani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ktuálne platná je 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verzia 5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zo dňa 18.11.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účel – výber projektov, ktorých prínos k príslušným špecifickým cieľom OP je najväčší vo vzťahu k vynaloženým finančným prostriedkom (výber najvhodnejších projekt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dokument dostupný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https://www.minedu.sk/kriteria-pre-vyber-projektov-op-ludske-zdroje-a-metodika-ich-uplatnovania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Kritéria pre výber projektov – výz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Podmienka poskytnutia príspevku č. 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oNFP musí splniť kritériá pre výber projektov 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„Kritériá pre výber projektov operačného programu Ľudské zdroje a metodika ich uplatňovania“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, ktoré boli schválené prostredníctvom MV OP ĽZ a sú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prílohou č. 6 výz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uplatňuje sa 15 hodnotiacich kritér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 výzve </a:t>
            </a:r>
            <a:r>
              <a:rPr b="1" lang="sk-SK" sz="2000" spc="-1" strike="noStrike">
                <a:solidFill>
                  <a:srgbClr val="ff0000"/>
                </a:solidFill>
                <a:latin typeface="Calibri"/>
              </a:rPr>
              <a:t>sa neaplikujú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kritériá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doplňujúce kritéri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hodnotiace kritériá – 3 bodované kritéri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ýberové kritéri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Hodnotiace kritéri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OH sa bude uplatňovať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kombinácia vylučovacích (4) a bodovaných (11) kritér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oNFP sa bude podľa kritérií posudzovať v nasledujúcich 4 oblastia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íspevok navrhovaného projektu k cieľom a výsledkom operačného programu a prioritnej os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avrhovaný spôsob realizáci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dministratívna a prevádzková kapacit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inančná a ekonomická stránka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7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Hodnotiace kritériá – uplatňov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Vylučovacie kritéri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oNFP musí úspešne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splniť všetky vylučovacie kritériá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– nesplnenie ktoréhokoľvek vylučovacieho kritéria / kritérií má za následok vylúčenie ŽoNFP z ďalšieho hodnotenia a SO pre OP ĽZ rozhodne o neschválení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 úspešnom vyhodnotení všetkých vylučovacích kritérií postupuje ŽoNFP do fázy hodnotenia stanovenými bodovanými kritéri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Bodované kritéri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oNFP musí pre splnenie bodovaných kritérií získať v každej oblasti minimálne 50 % možných bodov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Calibri"/>
              </a:rPr>
              <a:t>a zároveň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 dosiahnuť minimálne 60 % z celkového možného počtu bodov (t. j.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z celkového počtu 58 bodov dosiahne minimálne 35 bodov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Príspevok navrhovaného projektu k cieľom a výsledkom operačného programu a prioritnej osi (oblasť č. 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kombinácia hodnotiacich kritéri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 výzve s kódom OPLZ-PO1/2021/DOP/1.3.1-01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sa neuplatňujú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.1.4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ínos k RIÚS alebo URM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bodované kritéri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.1.5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ínos k podpore najmenej rozvinutých okresov (bodované kritéri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doplňujúce kritéri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628640"/>
          <a:ext cx="8147160" cy="2275200"/>
        </p:xfrm>
        <a:graphic>
          <a:graphicData uri="http://schemas.openxmlformats.org/drawingml/2006/table">
            <a:tbl>
              <a:tblPr/>
              <a:tblGrid>
                <a:gridCol w="741600"/>
                <a:gridCol w="5811840"/>
                <a:gridCol w="1593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hodnotiaceho kri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.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ispieva projekt k naplneniu cieľov stanovených vo výz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ylučova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.1.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úlad projektu s potrebami cieľovej skupiny / užívateľov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ylučova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a prispievania projektu k naplneniu cieľov stanovených vo výz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1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a súladu projektu s potrebami cieľovej skupi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1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álnosť hodnoty plánovaných merateľných ukazovateľo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Navrhovaný spôsob realizácie (oblasť č.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hodnotiace kritériá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o výzve s kódom OPLZ-PO1/2021/DOP/1.3.1-01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sa neuplatňuje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.2.3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osúdenie efektivity projekt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bodované kritéri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657440"/>
          <a:ext cx="8147160" cy="1290600"/>
        </p:xfrm>
        <a:graphic>
          <a:graphicData uri="http://schemas.openxmlformats.org/drawingml/2006/table">
            <a:tbl>
              <a:tblPr/>
              <a:tblGrid>
                <a:gridCol w="741600"/>
                <a:gridCol w="5811840"/>
                <a:gridCol w="1593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hodnotiaceho kri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hodnosť aktivít s ohľadom na ciele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álnosť aktivít projektu vo vzťahu k návrhu časového harmonogramu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Administratívna a prevádzková kapacita (oblasť č. 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hodnotiace kritériá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657440"/>
          <a:ext cx="8147160" cy="1484280"/>
        </p:xfrm>
        <a:graphic>
          <a:graphicData uri="http://schemas.openxmlformats.org/drawingml/2006/table">
            <a:tbl>
              <a:tblPr/>
              <a:tblGrid>
                <a:gridCol w="741600"/>
                <a:gridCol w="5811840"/>
                <a:gridCol w="1593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hodnotiaceho kri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á kapacita žiadateľ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ádzková kapacita žiadateľ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3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lnosť navrhnutého systému riadenia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o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46c0a"/>
                </a:solidFill>
                <a:latin typeface="Calibri"/>
              </a:rPr>
              <a:t>Finančná a ekonomická stránka projektu</a:t>
            </a:r>
            <a:r>
              <a:rPr b="0" lang="sk-SK" sz="2200" spc="-1" strike="noStrike">
                <a:solidFill>
                  <a:srgbClr val="e46c0a"/>
                </a:solidFill>
                <a:latin typeface="Calibri"/>
              </a:rPr>
              <a:t> (oblasť č. 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kombinácia hodnotiacich kritéri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ýzvy s kódom OPLZ-PO1/2021/DOP/1.3.1-01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sa netýka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.4.3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iera hospodárnosti výdavkov projekt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bodované kritérium) (kritérium B.4.3 sa vzťahuje na projekty financované z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EFRR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na rozdiel od uplatňovaného kritéria B.4.2, ktoré sa vzťahuje na projekty ES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9640" y="1628640"/>
          <a:ext cx="8147160" cy="2454480"/>
        </p:xfrm>
        <a:graphic>
          <a:graphicData uri="http://schemas.openxmlformats.org/drawingml/2006/table">
            <a:tbl>
              <a:tblPr/>
              <a:tblGrid>
                <a:gridCol w="741600"/>
                <a:gridCol w="5811840"/>
                <a:gridCol w="1593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hodnotiaceho kri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.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Nevyhnutnosť výdavkov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ylučova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.4.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ospodárnosť výdavkov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ylučova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a nevyhnutnosti výdavkov projek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a hospodárnosti výdavkov projektu (vzťahuje sa na projekty financované z </a:t>
                      </a:r>
                      <a:r>
                        <a:rPr b="0" lang="sk-SK" sz="15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SF</a:t>
                      </a: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á kapacita žiadateľ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dovan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Hlavenková Lucia</cp:lastModifiedBy>
  <dcterms:modified xsi:type="dcterms:W3CDTF">2021-06-02T08:48:40Z</dcterms:modified>
  <cp:revision>319</cp:revision>
  <dc:subject/>
  <dc:title>Snímka 1</dc:title>
</cp:coreProperties>
</file>