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F71-A760-4640-B077-C60644D9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715-853A-4488-8740-09BE13FD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691-3CF4-476B-8153-BF37B755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6C5-2F76-49D1-B9AA-B1857AA7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B4A-9FFE-4A61-AB47-E6D972DA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B13-F9D4-4442-9879-BD6BD66C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604-1FC8-443B-98EA-2C1AFFA9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6D4-6672-439E-A334-60F0E8BE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7FD-9111-4739-8D47-8AD803F3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C08-6892-4D82-B791-061C71DA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41B-B04E-42FE-820D-AFCC7808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590-21C5-4C00-A608-C56691BC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66EA-7DE5-4036-8CC9-5E13FD469FD2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3280" y="3428640"/>
            <a:ext cx="6049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Výzva na predkladanie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žiadostí o NFP</a:t>
            </a:r>
            <a:br>
              <a:rPr sz="2800"/>
            </a:br>
            <a:r>
              <a:rPr b="0" i="1" lang="sk-SK" sz="2800" spc="-1" strike="noStrike">
                <a:solidFill>
                  <a:srgbClr val="000000"/>
                </a:solidFill>
                <a:latin typeface="Calibri"/>
              </a:rPr>
              <a:t>„Podpora vnútorných systémov zabezpečovania kvality vysokoškolského vzdelávania“</a:t>
            </a:r>
            <a:br>
              <a:rPr sz="2800"/>
            </a:br>
            <a:r>
              <a:rPr b="0" i="1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kód OPLZ-PO1/2021/DOP/1.3.1-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9240" y="5661000"/>
            <a:ext cx="190008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08.06.20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. Podmienka oprávnenosti žiadateľa (právna for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iď snímka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2. Podmienka nebyť dlžníkom na dania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 nesmie byť dlžníkom na daniach u miestne príslušného správcu d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15 – čestné vyhláse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3. Podmienka nebyť dlžníkom poistného na zdravotnom poist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 nesmie byť dlžníkom poistného na zdravotnom poistení v žiadnej zdravotnej poisťovni poskytujúcej verejné zdravotné poistenie v S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15 – čestné vyhláse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4. Podmienka nebyť dlžníkom na sociálnom poist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 nesmie byť dlžníkom na sociálnom poist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15 – čestné vyhláse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5. Podmienka zákazu vedenia výkonu rozhodnutia voči žiadateľov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oči žiadateľovi nesmie byť vedený výkon rozhodnutia ani vymáhacie konanie v súlade s čl. 71 všeobecného nariad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15 – čestné vyhláse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6. Podmienka, že voči žiadateľovi sa nenárokuje vrátenie pomoci na základe rozhodnutia EK, ktorým bola pomoc označená za neoprávnenú a nezlučiteľnú s vnútorným trho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oči žiadateľovi sa nesmie nárokovať vrátenie pomoci na základe rozhodnutia Európskej komisie, ktorým bola pomoc označená za neoprávnenú a nezlučiteľnú so spoločným trh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15 – čestné vyhláse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7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7. Podmienka finančnej spôsobilosti spolufinancovania projek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 musí byť finančne spôsobilý na spolufinancovanie projektu. Finančná spôsobilosť na spolufinancovanie projektu znamená, že žiadateľ má zabezpečené finančné prostriedky na spolufinancovanie oprávnených výdavkov projektu (ak relevantné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sken dokumentu: napr. výpis z bankového účtu, resp. potvrdenie komerčnej banky, že žiadateľ disponuje požadovanou výškou finančných prostriedkov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úverová zmluva (ak relevantné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časť 15 – čestné vyhláseni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íloha č. 1b ŽoNFP – v rámci tejto prílohy predkladá žiadateľ údaje k finančnej situácii žiadateľ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rázok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28760" y="980640"/>
            <a:ext cx="8229600" cy="5877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8. Podmienka, že žiadateľ ani jeho štatutárny orgán, ani žiadny člen štatutárneho orgánu, ani prokurista/i, ani osoba splnomocnená zastupovať žiadateľa v konaní o ŽoNFP neboli právoplatne odsúdení za trestný čin korupcie, za trestný čin poškodzovania finančných záujmov Európskej únie, za trestný čin legalizácie príjmu z trestnej činnosti, za trestný čin založenia, zosnovania a podporovania zločineckej skupiny, alebo za trestný čin machinácie pri verejnom obstarávaní a verejnej draž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, jeho štatutárny orgán, žiadny člen štatutárneho orgánu, prokurista/i ani osoba splnomocnená zastupovať žiadateľa v konaní o ŽoNFP neboli právoplatne odsúdení podľa Trestného zákona za trestný čin („TČ“) korupcie, TČ poškodzovania finančných záujmov Európskej únie, TČ legalizácie príjmu z trestnej činnosti, TČ založenia, zosnovania a podporovania zločineckej skupiny alebo TČ machinácie pri verejnom obstarávaní a verejnej dražb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15 – čestné vyhlásenie); príloha č. 12 výzv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7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9. Podmienka, že voči žiadateľovi nie je vedené konkurzné konanie, reštrukturalizačné konanie, nie je v konkurze ani v reštrukturalizáci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nevzťahuje na subjekty podľa § 2 zákona č. 7/2005 Z. z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15 – čestné vyhlásen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0. Podmienka, že žiadateľ, ktorým je právnická osoba, nemá právoplatným rozsudkom uložený trest zákazu prijímať dotácie alebo subvencie, trest zákazu prijímať pomoc a podporu poskytovanú z fondov Európskej únie alebo trest zákazu účasti vo verejnom obstarávaní podľa osobitného predpis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ovi, ktorým je právnická osoba, nemôže byť právoplatným rozsudkom uložený trest zákazu prijímať dotácie alebo subvencie, trest zákazu prijímať pomoc a podporu poskytovanú z fondov EÚ alebo trest zákazu účasti vo verejnom obstarávaní podľa zákona č. 91/2016 Z. z. Podmienka sa nevzťahuje na tie právnické osoby, ktoré sú vymedzené v § 5 zákona č. 91/2016 Z. 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15 – čestné vyhláse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1. Podmienka oprávnenosti cieľovej skupiny projek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iď snímka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2. Podmienka, že hlavné aktivity projektu sú vo vecnom súlade s oprávnenými aktivitami OP Ľ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iď snímky 7-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3. Podmienka, že projekt je realizovaný na oprávnenom územ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Oprávneným miesto realizácie aktivít projektu sú všetky kraje menej rozvinutého regiónu a viac rozvinutý reg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46c0a"/>
                </a:solidFill>
                <a:latin typeface="Calibri"/>
              </a:rPr>
              <a:t>Žiadateľ predkladá ŽoNFP za jednu kategóriu regiónov, tzn. menej rozvinuté regióny alebo viac rozvinutý región. Žiadateľ zvolí ako oprávnenú kategóriu regiónov/oprávnené územie </a:t>
            </a:r>
            <a:r>
              <a:rPr b="1" lang="sk-SK" sz="2000" spc="-1" strike="noStrike">
                <a:solidFill>
                  <a:srgbClr val="e46c0a"/>
                </a:solidFill>
                <a:latin typeface="Calibri"/>
              </a:rPr>
              <a:t>podľa sídla žiadateľa (rektorát)</a:t>
            </a:r>
            <a:r>
              <a:rPr b="0" lang="sk-SK" sz="2000" spc="-1" strike="noStrike">
                <a:solidFill>
                  <a:srgbClr val="e46c0a"/>
                </a:solidFill>
                <a:latin typeface="Calibri"/>
              </a:rPr>
              <a:t>, bez ohľadu na to, že má niektoré z pracovísk / fakulta sídlo v inej kategórii regió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5 a 6), podmienka nie je preukazovaná zo strany žiadateľa samostatnou príloh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4. Podmienka splnenia kritérií pre výber projekt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samostatná ppt k podmienke (kritériá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5. Podmienka neporušenia zákazu nelegálneho zamestnávania štátneho príslušníka tretej krajiny žiadateľom za obdobie 5 rokov predchádzajúcich podaniu ŽoNF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 nesmie porušiť zákaz nelegálnej práce a nelegálneho zamestnávania podľa osobitného predpisu za obdobie 5 rokov predchádzajúcich predloženiu Žo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15 – čestné vyhláse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Podpora vnútorných systémov zabezpečovania kvality vysokoškolského vzdelávania v súlade so zákonom č. 269/2018 Z. z. o zabezpečovaní kvality vysokoškolského vzdelávan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e46c0a"/>
                </a:solidFill>
                <a:latin typeface="Calibri"/>
              </a:rPr>
              <a:t>Zaradenie v rámci OP Ľudské zdro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oritná os 1 Vzdelávan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Špecifický cieľ 1.3.1 </a:t>
            </a:r>
            <a:r>
              <a:rPr b="0" i="1" lang="sk-SK" sz="2200" spc="-1" strike="noStrike">
                <a:solidFill>
                  <a:srgbClr val="000000"/>
                </a:solidFill>
                <a:latin typeface="Calibri"/>
              </a:rPr>
              <a:t>Zvýšiť kvalitu VŠ vzdelávania a rozvoj ľudských zdrojov v oblasti výskumu a vývoja s cieľom dosiahnuť prepojenie VŠ vzdelávania s potrebami trhu prá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Cieľ výz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344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6. Podmienky týkajúce sa štátnej pomoci a vyplývajúce zo schém štátnej pomoci/pomoci de minim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Calibri"/>
              </a:rPr>
              <a:t>Pre žiadateľov, ktorými sú súkromné vysoké ško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ýzva je podmienená Schémou DM – 5/2021 v aktuálnom znení – príloha č. 9 výz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15 – čestné vyhlásenie); Vyhlásenie žiadateľa o poskytnutej pomoci de minimis – doklad preukazujúci nepresiahnutie maximálnej výšky pomoci de minimis (príloha č. 10 výzvy); ITMS2014+ / účtovná závierka (príloha č. 1b ŽoNFP); IS pre evidenciu a monitorovanie pomoci (IS SEMP); Splnenie podmienok Schémy DM – 5/2021 v aktuálnom znení (príloha č. 9 výzv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344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6. Podmienky týkajúce sa štátnej pomoci a vyplývajúce zo schém štátnej pomoci/pomoci de minim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Calibri"/>
              </a:rPr>
              <a:t>Pre žiadateľov, ktorými sú verejné a štátne vysoké ško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Oprávnené aktivity tak, ako sú stanovené touto výzvou, nie sú poskytovaním štátnej pomoci a teda vo vzťahu k oprávneným aktivitám sa neuplatňujú pravidlá štátnej pomoci. Žiadateľ / prijímateľ si je vedomý, že štátnou pomocou sa v tejto súvislosti rozumie každá pomoc v akejkoľvek forme, ktorú poskytuje na podnikanie alebo v súvislosti s ním poskytovateľ priamo alebo nepriamo z prostriedkov štátneho rozpočtu, zo svojho rozpočtu alebo z vlastných zdrojov podniku, pričom však nezáleží na právnej forme žiadateľa / prijímateľa a spôsobe jeho financova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nie je predmetom preukazovania zo strany žiadateľ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7. Podmienka, že výdavky projektu sú oprávnené a nárokovaná výška výdavkov je oprávnená na financovanie z OP Ľ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samostatná ppt k podmienke (výdavk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8. Minimálna a maximálna výška príspev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výška príspevku na projekt je 100 001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  <a:ea typeface="Calibri"/>
              </a:rPr>
              <a:t>€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výška príspevku na proje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e žiadateľov, ktorými sú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súkromné vysoké školy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, je 200 000 €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e žiadateľov, ktorými sú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verejné a štátne vysoké školy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,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200 000 € pre žiadateľov, ktorých počet fakúlt je 0-5 fakú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300 000 € pre žiadateľov, ktorých počet fakúlt je 6 a viac fakú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7.1 – uvedenie počtu fakúlt žiadateľa; časť 11); Príloha č. 1a ŽoNF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9. Oprávnenosť z hľadiska súladu s H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edložená ŽoNFP  musí byť v súlade s horizontálnymi princípmi rovnosť mužov a žien a nediskriminácia a udržateľný rozvoj na roky 2014-2020 a v čl. 7 a 8 všeobecného nariad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5, 7.2 a 15 – čestné vyhlásenie), podmienka nie je preukazovaná zo strany žiadateľa samostatnou príloh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e46c0a"/>
                </a:solidFill>
                <a:latin typeface="Calibri"/>
              </a:rPr>
              <a:t>20. Časová oprávnenosť realizácie projek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46c0a"/>
                </a:solidFill>
                <a:latin typeface="Calibri"/>
              </a:rPr>
              <a:t>Maximálna dĺžka realizácie projektu: do 30.06.202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46c0a"/>
                </a:solidFill>
                <a:latin typeface="Calibri"/>
              </a:rPr>
              <a:t>Pozn.: za oprávnené výdavky sa považujú výdavky, ktoré vznikli od 01.01.202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46c0a"/>
                </a:solidFill>
                <a:latin typeface="Calibri"/>
              </a:rPr>
              <a:t>Forma preukázania: Formulár ŽoNFP (časť 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21. Podmienky poskytnutia príspevku z hľadiska definovania merateľných ukazovateľov projek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erateľné ukazovatele projektu („MU“) pre túto výzvu sú definované v prílohe č. 3 výzvy. V prípade MU previazaných s cieľovou skupinou v súlade s určením uvedeným v prílohe č. 3 výzvy je žiadateľ povinný v ŽoNFP zvoliť všetky MU priradené k zvoleným oprávneným cieľovým skupinám. V prípade, ak má MU definovaný súvisiaci MU, žiadateľ je povinný zvoliť si oba súvisiace 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časť 10.1 a 10.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ulár ŽoNFP s príloham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Rozpočet projekt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Doplňujúce informácie k časti 7.4 Administratívna a prevádzková kapacita žiadateľ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Cenový prieskum trh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Plnomocenstvo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Životopi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Čestné prehlásenie žiadateľa o NFP o nepredložení príloh(y) žiadosti o NF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íručka pre žiadateľa pre prioritnú os 1 Vzdelávanie, verzia 7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Zoznam merateľných ukazovateľov, vrátane ukazovateľov relevantných k HP a iných údaj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Zoznam oprávnených a neoprávnených výdavk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Koordinačné činnosti – vytypované pozície – náplň činnosti a kvalifikačné predpoklad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Kritériá pre výber projektov OP ĽZ a metodika ich uplatňovan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Informácia pre žiadateľov o nenávratný finančný príspevok, resp. o príspevok, ktorá je zverejnená na webovom sídle http://www.olaf.vlada.gov.sk/system-vcasneho-odhalovania-rizika-a-vylucenia-edes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Ďalšie podporné dokumenty a informácie (zoznam odkazov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chéma DM – 5/2021 (v aktuálnom znen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Vyhlásenie žiadateľa o poskytnutej pomoci de minim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e46c0a"/>
                </a:solidFill>
                <a:latin typeface="Calibri"/>
              </a:rPr>
              <a:t>Oprávnené oblasti (štandard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Údaje nevyhnutné k overeniu výpisu z registra trest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Vyhlásenie výzvy dňa 31.05.202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30.06.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uzávierka 2. hodnotiaceho kola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30.07.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Celé územie Slovenska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(menej rozvinuté regióny, viac rozvinutý regió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Alokácia na výzvu: </a:t>
            </a: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7 mil. EUR 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(z toho 1,5 mil. EUR pre BS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výška príspevku na projekt 100 0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výška príspevku na projekt 200 000 EUR / 3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Dĺžka trvania realizácie aktivít do 30.06.2023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(oprávnenosť výdavkov od 01.01.202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edkladanie projektov – MŠVVaŠ SR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(nie Výskumná agentúr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ojekty sa predkladajú cez ITMS2014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elektronická verzia v ITMS2014+ vrátane prílo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elektronická verzia – ŽoNFP bez príloh do elektronickej schrán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46c0a"/>
                </a:solidFill>
                <a:latin typeface="Calibri"/>
              </a:rPr>
              <a:t>listinná verzia (ŽoNFP bez príloh) sa nepredkladá – výnimka v prípade objektívnej nemožnosti konverzie príloh ŽoNF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žiadateľov (potvrdeni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 predložení projektu administratívne overenie (možnosť zaslať Výzvu na doplnenie ŽoNFP), odborné hodnotenie, vydanie Rozhodnutí o schválení / neschválení ŽoNFP, v Rozhodnutí môžu byť podmienky, uzavretie Zmluvy o poskytnutí NF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Verejné, štátne 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súkromné vysoké školy 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v zmysle § 2 ods. 2 písm. a), b) a c) zákona č. 131/2002 Z. z. o vysokých školách a o zmene a doplnení niektorých zákonov v znení neskorších predpis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Žiadateľ môže mať v rámci výzvy schválenú iba jednu ŽoNF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Súkromné vysoké školy sú pre účely výzvy oprávnenou právnou formou žiadateľa v zmysle Schémy pomoci de minimis na podporu vzdelávania v aktuálnom znení (Schéma DM – 5/202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časť 1), prípadne Plnomocenstvo (príloha č. 1d ŽoNF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Oprávnené cieľové skup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manažment vysokých škôl </a:t>
            </a:r>
            <a:r>
              <a:rPr b="0" i="1" lang="sk-SK" sz="2200" spc="-1" strike="noStrike">
                <a:solidFill>
                  <a:srgbClr val="000000"/>
                </a:solidFill>
                <a:latin typeface="Calibri"/>
              </a:rPr>
              <a:t>(riadiaci zamestnanci na rôznych úrovniach, vedúci zamestnanci, ostatní zamestnanc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študenti vysokých škôl (študenti prvého, druhého a tretieho stupňa vrátane študentov so špecifickými potrebami a študentov zo sociálne znevýhodneného prostredia a marginalizovaných komunít ako sú napr. Rómovia) </a:t>
            </a:r>
            <a:r>
              <a:rPr b="0" i="1" lang="sk-SK" sz="2200" spc="-1" strike="noStrike">
                <a:solidFill>
                  <a:srgbClr val="000000"/>
                </a:solidFill>
                <a:latin typeface="Calibri"/>
              </a:rPr>
              <a:t>– študenti dennej formy štú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vysokoškolskí učitel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zamestnanci v oblasti výskumu a vývoja </a:t>
            </a:r>
            <a:r>
              <a:rPr b="0" i="1" lang="sk-SK" sz="2200" spc="-1" strike="noStrike">
                <a:solidFill>
                  <a:srgbClr val="000000"/>
                </a:solidFill>
                <a:latin typeface="Calibri"/>
              </a:rPr>
              <a:t>(zamestnanci vysokých škôl – výskumní a umeleckí pracovníc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časť 7.2 a 8), podmienka nie je preukazovaná zo strany žiadateľa samostatnou príloh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Znenie aktivity v ITMS2014+ (názov typu aktivity z OP ĽZ)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Calibri"/>
              </a:rPr>
              <a:t>podpora zlepšovania vnútorných systémov zabezpečovania kvality vysokoškolského vzdelávania zohľadňujúcich prepájanie s prax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Vo formulári ŽoNFP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v časti 9 žiadateľ zadefinuje jednu hlavnú aktivitu priradenú k typu aktivity </a:t>
            </a:r>
            <a:r>
              <a:rPr b="0" i="1" lang="sk-SK" sz="2200" spc="-1" strike="noStrike">
                <a:solidFill>
                  <a:srgbClr val="000000"/>
                </a:solidFill>
                <a:latin typeface="Calibri"/>
              </a:rPr>
              <a:t>„podpora zlepšovania vnútorných systémov zabezpečovania kvality vysokoškolského vzdelávania zohľadňujúcich prepájanie s praxou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v časti 7.2 žiadateľ popíše podaktivity, ktoré plánuje realizovať v rámci hlavnej ak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Inštrukcie k popisu podaktiví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2356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rozsah – minimálne 3000 znakov bez medzier </a:t>
            </a: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pre každú 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daktivitu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obsahové náležitost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ázov pod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zdôvodnenie potreby / nevyhnutnosti pod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cieľ podaktivity a previazanie na cieľ projek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relevancia podaktivity k oblastiam (štandardom) v súlade s prílohou č. 11 výz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opis podaktivity – popis jednotlivých činností v rámci podaktivity, vrátane organizačného zabezpečenia (personálne pokrytie podaktivity podľa pozícií, počet osô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v prípade realizácie činností vzdelávacieho charakteru (napr. školenie, tréning, workshop) v rámci podaktivity žiadateľ uvedie cieľovú skupinu, vrátane kvantifikácie a benefitov pre cieľovú skupi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pôsob zabezpečenia realizácie pod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výstupy pod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e46c0a"/>
                </a:solidFill>
                <a:latin typeface="Calibri"/>
              </a:rPr>
              <a:t>Súčasťou projektu musí byť činnosť vzdelávacieho charakteru prepojená na cieľ projektu</a:t>
            </a:r>
            <a:r>
              <a:rPr b="0" lang="sk-SK" sz="2200" spc="-1" strike="noStrike">
                <a:solidFill>
                  <a:srgbClr val="e46c0a"/>
                </a:solidFill>
                <a:latin typeface="Calibri"/>
              </a:rPr>
              <a:t>, do ktorej bude zapojená žiadateľom vybraná oprávne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V rámci hlavnej aktivity žiadateľ povinne zadefinuje samostatnú podaktivitu </a:t>
            </a: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„Koordinácia projektu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dateľ nesmie ukončiť fyzickú realizáciu projektu, t. j. plne zrealizovať všetky podaktivity pred predložením ŽoNFP v rámci tejto výzv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časť 7.2 a 9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Rosinčinová Petra</cp:lastModifiedBy>
  <dcterms:modified xsi:type="dcterms:W3CDTF">2021-06-07T10:33:41Z</dcterms:modified>
  <cp:revision>272</cp:revision>
  <dc:subject/>
  <dc:title>Snímka 1</dc:title>
</cp:coreProperties>
</file>