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7858-6A66-404E-9F31-2D903646D1D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ástupný objekt pre číslo snímky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BBC8-C2B4-48B7-AAF9-DE636BB0721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28D-1DC9-4E5B-9B51-92AFDBF9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A26-31D8-4AB2-AE4B-961F8481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84C-2C41-4149-B977-A8B8E7BD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434-9C59-4D0D-8A2B-F2C102F0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D92-EA62-4DAB-9824-73204E02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FBB-CE41-4BE6-8FEE-40BFA69A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1DF-03C4-4EBA-B518-AF3FD0A9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F13-C5F6-4A00-A3C2-DF1915B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236-7ADA-4AD4-B802-335665B8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544-FA0E-460F-9E75-3685A04B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A0E-839E-4E08-B98E-2D888CC2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4DE-05E8-4208-BD46-8692C2F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279-7C06-47B7-BE7F-80EE5E3A029A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osť výdavk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BlokTextu 5"/>
          <p:cNvSpPr/>
          <p:nvPr/>
        </p:nvSpPr>
        <p:spPr>
          <a:xfrm>
            <a:off x="250920" y="5769000"/>
            <a:ext cx="34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Podpora vnútorných systémov zabezpečovania kvality vysokoškolského vzdelávania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Oprávnené výdav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864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  <a:ea typeface="Calibri"/>
              </a:rPr>
              <a:t>Personálne výdavky interné - koordinačné činnosti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  <a:ea typeface="Calibri"/>
              </a:rPr>
              <a:t>výdavky vzniknuté na základe pracovnoprávnych vzťahov alebo obdobných vzťahov (napr. zákonník práce, zákon o štátnej službe,.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  <a:ea typeface="Calibri"/>
              </a:rPr>
              <a:t>Personálne výdavky interné – odborné činnosti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  <a:ea typeface="Calibri"/>
              </a:rPr>
              <a:t>výdavky vzniknuté na základe pracovnoprávnych vzťahov alebo obdobných vzťahov (napr. zákonník práce, zákon o štátnej službe,.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aušálna sadzba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 pokrytie zostávajúcich oprávnených nákladov na operáciu/projekt 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nariadenie 1303/2013, čl. 68b)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zostávajúce oprávnené náklady na operáciu/projekt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o výške 40 % oprávnených priamych nákladov na zamestnancov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Časová oprávnenosť výdavkov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rávnené výdavky sa považujú výdavky, ktoré vznikli od 1. januára 2021 a sú v súlade s výzvou, so Zmluvou o  NFP a riadiacou dokumentáciou (Príručka pre žiadateľa, Príručka pre Prijímateľ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Žiadateľ berie na vedomie, že vzhľadom na to, že ŽoNFP bude predmetom schvaľovacieho procesu, v prípade výdavkov, ktoré vznikli pred nadobudnutím účinnosti Zmluvy o NFP, budú tieto výdavky posudzované v súlade so Zmluvou o 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Paušálna sadzba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– prijímateľ si v každej žiadosti o platbu nárokuje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40%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z predložených priamych personálnych výdavk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aušálnu sadzbu prijímateľ nedokladuje žiadnymi dokladmi. Výdavky, realizované z paušálnej sadzby musia byť v súlade s aktivitami projektu, ale nepodliehajú kontrole zo stany SO/O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 prípade krátenia predložených výdavkov v rámci administratívnej kontroly žiadosti o platbu  je nadväzne na výsledky krátenia znížená aj nárokovaná výška paušálnej sadzb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c00000"/>
                </a:solidFill>
                <a:latin typeface="Calibri"/>
              </a:rPr>
              <a:t>Preukazovanie oprávnenosti výdavkov – paušálna sadzb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Rosinčinová Petra</cp:lastModifiedBy>
  <cp:lastPrinted>2019-03-05T11:31:17Z</cp:lastPrinted>
  <dcterms:modified xsi:type="dcterms:W3CDTF">2021-06-07T08:57:53Z</dcterms:modified>
  <cp:revision>210</cp:revision>
  <dc:subject/>
  <dc:title>Snímka 1</dc:title>
</cp:coreProperties>
</file>