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8.wmf" ContentType="image/x-wmf"/>
  <Override PartName="/ppt/media/image11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14"/>
          </p:nvPr>
        </p:nvSpPr>
        <p:spPr>
          <a:xfrm>
            <a:off x="3851280" y="-36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15"/>
          </p:nvPr>
        </p:nvSpPr>
        <p:spPr>
          <a:xfrm>
            <a:off x="0" y="942624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16"/>
          </p:nvPr>
        </p:nvSpPr>
        <p:spPr>
          <a:xfrm>
            <a:off x="3851280" y="942624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950A-7B83-412B-A77A-1744B48E8450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51280" y="942660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C4C9-365A-45CC-8D2B-F25EF7B0C1DB}" type="slidenum">
              <a:rPr b="0" lang="sk-SK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5C87C-B908-4E74-ACFB-3C872B0A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19FE3-1AE9-4821-AC33-FD55CB22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30471-36BC-4DE2-BE89-48BA7FCE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9E5F8-01C1-4BF2-965C-710D8D0B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A5222-7A08-4D5A-8BFC-03D07557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53FCB-1C6B-474A-90E4-914DB817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07214-E1AC-49DB-BEBE-75FDC0F7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4AA51-7D89-4470-B4C4-BDD77A77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C7D35-4026-4D9B-B3E0-643C3723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1E248-A76C-4168-8788-91E33B19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41959-D847-4EE1-BCCD-50248BAE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B86D3-F2DE-495B-9CEC-6146AACA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rebuchet MS"/>
              </a:rPr>
              <a:t>16. apríl 2013 - Neformálne zasadnutie MV pre OPV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7"/>
          <p:cNvSpPr/>
          <p:nvPr/>
        </p:nvSpPr>
        <p:spPr>
          <a:xfrm>
            <a:off x="684360" y="630864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21" name="Zástupný symbol obsahu 7" descr=""/>
          <p:cNvPicPr/>
          <p:nvPr/>
        </p:nvPicPr>
        <p:blipFill>
          <a:blip r:embed="rId2"/>
          <a:stretch/>
        </p:blipFill>
        <p:spPr>
          <a:xfrm>
            <a:off x="2714760" y="214200"/>
            <a:ext cx="971280" cy="868320"/>
          </a:xfrm>
          <a:prstGeom prst="rect">
            <a:avLst/>
          </a:prstGeom>
          <a:ln w="0">
            <a:noFill/>
          </a:ln>
        </p:spPr>
      </p:pic>
      <p:pic>
        <p:nvPicPr>
          <p:cNvPr id="122" name="Obrázok 8" descr=""/>
          <p:cNvPicPr/>
          <p:nvPr/>
        </p:nvPicPr>
        <p:blipFill>
          <a:blip r:embed="rId3"/>
          <a:stretch/>
        </p:blipFill>
        <p:spPr>
          <a:xfrm>
            <a:off x="3979800" y="212760"/>
            <a:ext cx="669960" cy="858960"/>
          </a:xfrm>
          <a:prstGeom prst="rect">
            <a:avLst/>
          </a:prstGeom>
          <a:ln w="0">
            <a:noFill/>
          </a:ln>
        </p:spPr>
      </p:pic>
      <p:pic>
        <p:nvPicPr>
          <p:cNvPr id="123" name="Obrázok 9" descr=""/>
          <p:cNvPicPr/>
          <p:nvPr/>
        </p:nvPicPr>
        <p:blipFill>
          <a:blip r:embed="rId4"/>
          <a:stretch/>
        </p:blipFill>
        <p:spPr>
          <a:xfrm>
            <a:off x="4863960" y="212760"/>
            <a:ext cx="933480" cy="858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16. apríl 2013 - Neformálne zasadnutie MV pre OPV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DCE2-210C-4C75-BC7A-EFDB83D3BEBD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6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3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Line 47"/>
          <p:cNvSpPr/>
          <p:nvPr/>
        </p:nvSpPr>
        <p:spPr>
          <a:xfrm>
            <a:off x="684360" y="630864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Zástupný symbol obsahu 7" descr=""/>
          <p:cNvPicPr/>
          <p:nvPr/>
        </p:nvPicPr>
        <p:blipFill>
          <a:blip r:embed="rId2"/>
          <a:stretch/>
        </p:blipFill>
        <p:spPr>
          <a:xfrm>
            <a:off x="2714760" y="214200"/>
            <a:ext cx="971280" cy="8683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ok 8" descr=""/>
          <p:cNvPicPr/>
          <p:nvPr/>
        </p:nvPicPr>
        <p:blipFill>
          <a:blip r:embed="rId3"/>
          <a:stretch/>
        </p:blipFill>
        <p:spPr>
          <a:xfrm>
            <a:off x="3979800" y="212760"/>
            <a:ext cx="669960" cy="858960"/>
          </a:xfrm>
          <a:prstGeom prst="rect">
            <a:avLst/>
          </a:prstGeom>
          <a:ln w="0">
            <a:noFill/>
          </a:ln>
        </p:spPr>
      </p:pic>
      <p:pic>
        <p:nvPicPr>
          <p:cNvPr id="208" name="Obrázok 9" descr=""/>
          <p:cNvPicPr/>
          <p:nvPr/>
        </p:nvPicPr>
        <p:blipFill>
          <a:blip r:embed="rId4"/>
          <a:stretch/>
        </p:blipFill>
        <p:spPr>
          <a:xfrm>
            <a:off x="4863960" y="212760"/>
            <a:ext cx="933480" cy="8589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7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rebuchet MS"/>
              </a:rPr>
              <a:t>16. apríl 2013 - Neformálne zasadnutie MV pre OPV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50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6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87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Line 47"/>
          <p:cNvSpPr/>
          <p:nvPr/>
        </p:nvSpPr>
        <p:spPr>
          <a:xfrm>
            <a:off x="684360" y="630864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Zástupný symbol obsahu 7" descr=""/>
          <p:cNvPicPr/>
          <p:nvPr/>
        </p:nvPicPr>
        <p:blipFill>
          <a:blip r:embed="rId2"/>
          <a:stretch/>
        </p:blipFill>
        <p:spPr>
          <a:xfrm>
            <a:off x="2714760" y="214200"/>
            <a:ext cx="971280" cy="868320"/>
          </a:xfrm>
          <a:prstGeom prst="rect">
            <a:avLst/>
          </a:prstGeom>
          <a:ln w="0">
            <a:noFill/>
          </a:ln>
        </p:spPr>
      </p:pic>
      <p:pic>
        <p:nvPicPr>
          <p:cNvPr id="291" name="Obrázok 8" descr=""/>
          <p:cNvPicPr/>
          <p:nvPr/>
        </p:nvPicPr>
        <p:blipFill>
          <a:blip r:embed="rId3"/>
          <a:stretch/>
        </p:blipFill>
        <p:spPr>
          <a:xfrm>
            <a:off x="3979800" y="212760"/>
            <a:ext cx="669960" cy="858960"/>
          </a:xfrm>
          <a:prstGeom prst="rect">
            <a:avLst/>
          </a:prstGeom>
          <a:ln w="0">
            <a:noFill/>
          </a:ln>
        </p:spPr>
      </p:pic>
      <p:pic>
        <p:nvPicPr>
          <p:cNvPr id="292" name="Obrázok 9" descr=""/>
          <p:cNvPicPr/>
          <p:nvPr/>
        </p:nvPicPr>
        <p:blipFill>
          <a:blip r:embed="rId4"/>
          <a:stretch/>
        </p:blipFill>
        <p:spPr>
          <a:xfrm>
            <a:off x="4863960" y="212760"/>
            <a:ext cx="933480" cy="85896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9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rebuchet MS"/>
              </a:rPr>
              <a:t>16. apríl 2013 - Neformálne zasadnutie MV pre OPV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3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7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3" name="Line 47"/>
          <p:cNvSpPr/>
          <p:nvPr/>
        </p:nvSpPr>
        <p:spPr>
          <a:xfrm>
            <a:off x="684360" y="630864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Zástupný symbol obsahu 7" descr=""/>
          <p:cNvPicPr/>
          <p:nvPr/>
        </p:nvPicPr>
        <p:blipFill>
          <a:blip r:embed="rId2"/>
          <a:stretch/>
        </p:blipFill>
        <p:spPr>
          <a:xfrm>
            <a:off x="2714760" y="214200"/>
            <a:ext cx="971280" cy="868320"/>
          </a:xfrm>
          <a:prstGeom prst="rect">
            <a:avLst/>
          </a:prstGeom>
          <a:ln w="0">
            <a:noFill/>
          </a:ln>
        </p:spPr>
      </p:pic>
      <p:pic>
        <p:nvPicPr>
          <p:cNvPr id="375" name="Obrázok 8" descr=""/>
          <p:cNvPicPr/>
          <p:nvPr/>
        </p:nvPicPr>
        <p:blipFill>
          <a:blip r:embed="rId3"/>
          <a:stretch/>
        </p:blipFill>
        <p:spPr>
          <a:xfrm>
            <a:off x="3979800" y="212760"/>
            <a:ext cx="669960" cy="858960"/>
          </a:xfrm>
          <a:prstGeom prst="rect">
            <a:avLst/>
          </a:prstGeom>
          <a:ln w="0">
            <a:noFill/>
          </a:ln>
        </p:spPr>
      </p:pic>
      <p:pic>
        <p:nvPicPr>
          <p:cNvPr id="376" name="Obrázok 9" descr=""/>
          <p:cNvPicPr/>
          <p:nvPr/>
        </p:nvPicPr>
        <p:blipFill>
          <a:blip r:embed="rId4"/>
          <a:stretch/>
        </p:blipFill>
        <p:spPr>
          <a:xfrm>
            <a:off x="4863960" y="212760"/>
            <a:ext cx="933480" cy="85896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11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rebuchet MS"/>
              </a:rPr>
              <a:t>16. apríl 2013 - Neformálne zasadnutie MV pre OPV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18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4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55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7" name="Line 47"/>
          <p:cNvSpPr/>
          <p:nvPr/>
        </p:nvSpPr>
        <p:spPr>
          <a:xfrm>
            <a:off x="684360" y="630864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Zástupný symbol obsahu 7" descr=""/>
          <p:cNvPicPr/>
          <p:nvPr/>
        </p:nvPicPr>
        <p:blipFill>
          <a:blip r:embed="rId2"/>
          <a:stretch/>
        </p:blipFill>
        <p:spPr>
          <a:xfrm>
            <a:off x="2714760" y="214200"/>
            <a:ext cx="971280" cy="868320"/>
          </a:xfrm>
          <a:prstGeom prst="rect">
            <a:avLst/>
          </a:prstGeom>
          <a:ln w="0">
            <a:noFill/>
          </a:ln>
        </p:spPr>
      </p:pic>
      <p:pic>
        <p:nvPicPr>
          <p:cNvPr id="459" name="Obrázok 8" descr=""/>
          <p:cNvPicPr/>
          <p:nvPr/>
        </p:nvPicPr>
        <p:blipFill>
          <a:blip r:embed="rId3"/>
          <a:stretch/>
        </p:blipFill>
        <p:spPr>
          <a:xfrm>
            <a:off x="3979800" y="212760"/>
            <a:ext cx="669960" cy="858960"/>
          </a:xfrm>
          <a:prstGeom prst="rect">
            <a:avLst/>
          </a:prstGeom>
          <a:ln w="0">
            <a:noFill/>
          </a:ln>
        </p:spPr>
      </p:pic>
      <p:pic>
        <p:nvPicPr>
          <p:cNvPr id="460" name="Obrázok 9" descr=""/>
          <p:cNvPicPr/>
          <p:nvPr/>
        </p:nvPicPr>
        <p:blipFill>
          <a:blip r:embed="rId4"/>
          <a:stretch/>
        </p:blipFill>
        <p:spPr>
          <a:xfrm>
            <a:off x="4863960" y="212760"/>
            <a:ext cx="933480" cy="85896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1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1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Trebuchet MS"/>
              </a:rPr>
              <a:t>16. apríl 2013 - Neformálne zasadnutie MV pre OPV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pv.health-sf.sk/" TargetMode="External"/><Relationship Id="rId2" Type="http://schemas.openxmlformats.org/officeDocument/2006/relationships/hyperlink" Target="mailto:info.opv@health.gov.sk" TargetMode="External"/><Relationship Id="rId3" Type="http://schemas.openxmlformats.org/officeDocument/2006/relationships/hyperlink" Target="mailto:info.opv@health.gov.sk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722160" y="2297160"/>
            <a:ext cx="7772400" cy="33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Informácia o opatrení 2.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Operačného programu Vzdelávan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k 31.3.20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Ministerstvo zdravotníctva S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Footer Placeholder 3"/>
          <p:cNvSpPr/>
          <p:nvPr/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ffffff"/>
                </a:solidFill>
                <a:latin typeface="Trebuchet MS"/>
              </a:rPr>
              <a:t>16. apríl 2013 - Neformálne zasadnutie MV OPV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1"/>
          <a:stretch/>
        </p:blipFill>
        <p:spPr>
          <a:xfrm>
            <a:off x="2771640" y="404640"/>
            <a:ext cx="3600720" cy="14400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" descr=""/>
          <p:cNvPicPr/>
          <p:nvPr/>
        </p:nvPicPr>
        <p:blipFill>
          <a:blip r:embed="rId2"/>
          <a:stretch/>
        </p:blipFill>
        <p:spPr>
          <a:xfrm>
            <a:off x="6659640" y="415800"/>
            <a:ext cx="1447560" cy="142884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7" descr="ESF_logo_SK_male"/>
          <p:cNvPicPr/>
          <p:nvPr/>
        </p:nvPicPr>
        <p:blipFill>
          <a:blip r:embed="rId3"/>
          <a:stretch/>
        </p:blipFill>
        <p:spPr>
          <a:xfrm>
            <a:off x="1042920" y="404640"/>
            <a:ext cx="15130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2400"/>
            </a:br>
            <a:br>
              <a:rPr sz="2400"/>
            </a:b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Vyhlásené výzv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Zástupný symbol obsahu 7" descr=""/>
          <p:cNvPicPr/>
          <p:nvPr/>
        </p:nvPicPr>
        <p:blipFill>
          <a:blip r:embed="rId1"/>
          <a:stretch/>
        </p:blipFill>
        <p:spPr>
          <a:xfrm>
            <a:off x="2714760" y="214200"/>
            <a:ext cx="971280" cy="868320"/>
          </a:xfrm>
          <a:prstGeom prst="rect">
            <a:avLst/>
          </a:prstGeom>
          <a:ln w="0">
            <a:noFill/>
          </a:ln>
        </p:spPr>
      </p:pic>
      <p:sp>
        <p:nvSpPr>
          <p:cNvPr id="515" name="Zástupný symbol päty 3"/>
          <p:cNvSpPr/>
          <p:nvPr/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ffffff"/>
                </a:solidFill>
                <a:latin typeface="Trebuchet MS"/>
              </a:rPr>
              <a:t>16. apríl 2013 - Neformálne zasadnutie MV OPV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Obrázok 8" descr=""/>
          <p:cNvPicPr/>
          <p:nvPr/>
        </p:nvPicPr>
        <p:blipFill>
          <a:blip r:embed="rId2"/>
          <a:stretch/>
        </p:blipFill>
        <p:spPr>
          <a:xfrm>
            <a:off x="3979800" y="212760"/>
            <a:ext cx="669960" cy="858960"/>
          </a:xfrm>
          <a:prstGeom prst="rect">
            <a:avLst/>
          </a:prstGeom>
          <a:ln w="0">
            <a:noFill/>
          </a:ln>
        </p:spPr>
      </p:pic>
      <p:pic>
        <p:nvPicPr>
          <p:cNvPr id="517" name="Obrázok 9" descr=""/>
          <p:cNvPicPr/>
          <p:nvPr/>
        </p:nvPicPr>
        <p:blipFill>
          <a:blip r:embed="rId3"/>
          <a:stretch/>
        </p:blipFill>
        <p:spPr>
          <a:xfrm>
            <a:off x="4863960" y="212760"/>
            <a:ext cx="933480" cy="85896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2"/>
          <p:cNvSpPr/>
          <p:nvPr/>
        </p:nvSpPr>
        <p:spPr>
          <a:xfrm>
            <a:off x="223920" y="1744560"/>
            <a:ext cx="8731080" cy="40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Ukončené výzvy z roku 2008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OPV 2008/2.2/01 „Doplnenie  systému zdravotníctva o kvalifikovaných odborníkov“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OPV 2008/2.2/02 „Rozvoj nových foriem ďalšieho vzdelávania v zdravotníctve“ 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OPV 2008/2.2/03 „Doplnenie  systému zdravotníctva o kvalifikovaných odborníkov“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Ukončené výzvy z roku 2009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OPV 2009/2.2/01 „Podpora hodnotenia sústavného vzdelávania zdravotníckych pracovníkov“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OPV 2009/2.2/02 „Zvýšenie ďalších zručností pracovníkov v zdravotníctve“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Ukončené výzvy z roku 2010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OPV 2010/2.2/01 „Zvýšenie ďalších zručností pracovníkov v zdravotníctve“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OPV 2010/2.2/02 „Zvýšenie ďalších zručností pracovníkov v zdravotníctve“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Ukončené výzvy z roku 2011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OPV 2011/2.2/01 „Zvýšenie ďalších zručností pracovníkov v zdravotníctve“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2400"/>
            </a:br>
            <a:br>
              <a:rPr sz="2400"/>
            </a:b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ehľad realizácie opatr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Zástupný symbol obsahu 7" descr=""/>
          <p:cNvPicPr/>
          <p:nvPr/>
        </p:nvPicPr>
        <p:blipFill>
          <a:blip r:embed="rId1"/>
          <a:stretch/>
        </p:blipFill>
        <p:spPr>
          <a:xfrm>
            <a:off x="2714760" y="214200"/>
            <a:ext cx="971280" cy="868320"/>
          </a:xfrm>
          <a:prstGeom prst="rect">
            <a:avLst/>
          </a:prstGeom>
          <a:ln w="0">
            <a:noFill/>
          </a:ln>
        </p:spPr>
      </p:pic>
      <p:sp>
        <p:nvSpPr>
          <p:cNvPr id="521" name="Zástupný symbol päty 3"/>
          <p:cNvSpPr/>
          <p:nvPr/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ffffff"/>
                </a:solidFill>
                <a:latin typeface="Trebuchet MS"/>
              </a:rPr>
              <a:t>16. apríl 2013 - Neformálne zasadnutie MV OPV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Obrázok 8" descr=""/>
          <p:cNvPicPr/>
          <p:nvPr/>
        </p:nvPicPr>
        <p:blipFill>
          <a:blip r:embed="rId2"/>
          <a:stretch/>
        </p:blipFill>
        <p:spPr>
          <a:xfrm>
            <a:off x="3979800" y="212760"/>
            <a:ext cx="669960" cy="858960"/>
          </a:xfrm>
          <a:prstGeom prst="rect">
            <a:avLst/>
          </a:prstGeom>
          <a:ln w="0">
            <a:noFill/>
          </a:ln>
        </p:spPr>
      </p:pic>
      <p:pic>
        <p:nvPicPr>
          <p:cNvPr id="523" name="Obrázok 9" descr=""/>
          <p:cNvPicPr/>
          <p:nvPr/>
        </p:nvPicPr>
        <p:blipFill>
          <a:blip r:embed="rId3"/>
          <a:stretch/>
        </p:blipFill>
        <p:spPr>
          <a:xfrm>
            <a:off x="4863960" y="212760"/>
            <a:ext cx="933480" cy="85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4" name=""/>
          <p:cNvGraphicFramePr/>
          <p:nvPr/>
        </p:nvGraphicFramePr>
        <p:xfrm>
          <a:off x="304920" y="1928880"/>
          <a:ext cx="8437320" cy="4037040"/>
        </p:xfrm>
        <a:graphic>
          <a:graphicData uri="http://schemas.openxmlformats.org/drawingml/2006/table">
            <a:tbl>
              <a:tblPr/>
              <a:tblGrid>
                <a:gridCol w="1576440"/>
                <a:gridCol w="2116080"/>
                <a:gridCol w="4744800"/>
              </a:tblGrid>
              <a:tr h="57636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Ďalšie vzdelávanie pracovníkov v zdravotníctve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0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kter vzdelávania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málne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formálne a informálne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 vzdelávania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pecializačné štúdium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ústavné vzdelávanie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zvy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V 2008/2.2/01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V 2008/2.2/03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V 2008/2.2/02, OPV 2009/2.2/01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V 2009/2.2/02, OPV 2010/2.2/01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V 2010/2.2/02, OPV 2011/2.2/01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ímatelia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mosprávne kraje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mory, profesijné organizácie, vzdelávacie inštitúcie, univerzity, zdravotnícke zariadenia, priamo riadené organizácie MZ SR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2400"/>
            </a:br>
            <a:br>
              <a:rPr sz="2400"/>
            </a:b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ktuálny stav zazmluvnenie a realizácie opatren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Zástupný symbol obsahu 7" descr=""/>
          <p:cNvPicPr/>
          <p:nvPr/>
        </p:nvPicPr>
        <p:blipFill>
          <a:blip r:embed="rId1"/>
          <a:stretch/>
        </p:blipFill>
        <p:spPr>
          <a:xfrm>
            <a:off x="2714760" y="214200"/>
            <a:ext cx="971280" cy="868320"/>
          </a:xfrm>
          <a:prstGeom prst="rect">
            <a:avLst/>
          </a:prstGeom>
          <a:ln w="0">
            <a:noFill/>
          </a:ln>
        </p:spPr>
      </p:pic>
      <p:sp>
        <p:nvSpPr>
          <p:cNvPr id="527" name="Zástupný symbol päty 3"/>
          <p:cNvSpPr/>
          <p:nvPr/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ffffff"/>
                </a:solidFill>
                <a:latin typeface="Trebuchet MS"/>
              </a:rPr>
              <a:t>16. apríl 2013 - Neformálne zasadnutie MV OPV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Obrázok 8" descr=""/>
          <p:cNvPicPr/>
          <p:nvPr/>
        </p:nvPicPr>
        <p:blipFill>
          <a:blip r:embed="rId2"/>
          <a:stretch/>
        </p:blipFill>
        <p:spPr>
          <a:xfrm>
            <a:off x="3979800" y="212760"/>
            <a:ext cx="669960" cy="858960"/>
          </a:xfrm>
          <a:prstGeom prst="rect">
            <a:avLst/>
          </a:prstGeom>
          <a:ln w="0">
            <a:noFill/>
          </a:ln>
        </p:spPr>
      </p:pic>
      <p:pic>
        <p:nvPicPr>
          <p:cNvPr id="529" name="Obrázok 9" descr=""/>
          <p:cNvPicPr/>
          <p:nvPr/>
        </p:nvPicPr>
        <p:blipFill>
          <a:blip r:embed="rId3"/>
          <a:stretch/>
        </p:blipFill>
        <p:spPr>
          <a:xfrm>
            <a:off x="4863960" y="212760"/>
            <a:ext cx="933480" cy="85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0" name=""/>
          <p:cNvGraphicFramePr/>
          <p:nvPr/>
        </p:nvGraphicFramePr>
        <p:xfrm>
          <a:off x="534960" y="1917720"/>
          <a:ext cx="8074080" cy="3970440"/>
        </p:xfrm>
        <a:graphic>
          <a:graphicData uri="http://schemas.openxmlformats.org/drawingml/2006/table">
            <a:tbl>
              <a:tblPr/>
              <a:tblGrid>
                <a:gridCol w="1614600"/>
                <a:gridCol w="1614240"/>
                <a:gridCol w="1630440"/>
                <a:gridCol w="1600200"/>
                <a:gridCol w="1614600"/>
              </a:tblGrid>
              <a:tr h="1138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zva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čet zazmluvnených projektov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čet projektov v realizácií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čet ukončených projektov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čet mimoriadne  ukončených projektov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08/2.2/0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08/2.2/0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16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08/2.2/03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09/2.2/0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09/2.2/0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10/2.2/0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15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10/2.2/0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14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11/2.2/0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017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azmluvnenie a čerpanie opatr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Zástupný symbol päty 3"/>
          <p:cNvSpPr/>
          <p:nvPr/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ffffff"/>
                </a:solidFill>
                <a:latin typeface="Trebuchet MS"/>
              </a:rPr>
              <a:t>16. apríl 2013 - Neformálne zasadnutie MV OPV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479520" y="1884240"/>
          <a:ext cx="8163000" cy="4211640"/>
        </p:xfrm>
        <a:graphic>
          <a:graphicData uri="http://schemas.openxmlformats.org/drawingml/2006/table">
            <a:tbl>
              <a:tblPr/>
              <a:tblGrid>
                <a:gridCol w="1631880"/>
                <a:gridCol w="1633680"/>
                <a:gridCol w="1631880"/>
                <a:gridCol w="1633320"/>
                <a:gridCol w="163224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ód výzvy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zmluvnené NFP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z alokácie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erpané NFP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z alokácie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423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08/2.2/0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602,91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8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 398,41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0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24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08/2.2/0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58 317,30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6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3 986,94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1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23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08/2.2/03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259 325,81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56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119 300,58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25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23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09/2.2/0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64 938,47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5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 623,87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5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24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09/2.2/0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28 770,32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8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8 329,67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2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22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10/2.2/0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0 761,64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 205,15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3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23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10/2.2/0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20 903,64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02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2 331,97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1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24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11/2.2/0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519 932,47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51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 804,40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2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 463 552,56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,27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40 980,99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38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017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Zástupný symbol päty 3"/>
          <p:cNvSpPr/>
          <p:nvPr/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ffffff"/>
                </a:solidFill>
                <a:latin typeface="Trebuchet MS"/>
              </a:rPr>
              <a:t>16. apríl 2013 - Neformálne zasadnutie MV OPV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Zazmluvnenie opatrenia 2.2 a 5.2 Operačného programu Vzdelávanie" descr=""/>
          <p:cNvPicPr/>
          <p:nvPr/>
        </p:nvPicPr>
        <p:blipFill>
          <a:blip r:embed="rId1"/>
          <a:stretch/>
        </p:blipFill>
        <p:spPr>
          <a:xfrm>
            <a:off x="560520" y="1189080"/>
            <a:ext cx="804708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017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Zástupný symbol päty 3"/>
          <p:cNvSpPr/>
          <p:nvPr/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ffffff"/>
                </a:solidFill>
                <a:latin typeface="Trebuchet MS"/>
              </a:rPr>
              <a:t>16. apríl 2013 - Neformálne zasadnutie MV OPV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Čerpanie opatrenia 2.2 a 5.2 Operačného programu Vzdelávanie" descr=""/>
          <p:cNvPicPr/>
          <p:nvPr/>
        </p:nvPicPr>
        <p:blipFill>
          <a:blip r:embed="rId1"/>
          <a:stretch/>
        </p:blipFill>
        <p:spPr>
          <a:xfrm>
            <a:off x="573120" y="1219320"/>
            <a:ext cx="798048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Zástupný symbol päty 3"/>
          <p:cNvSpPr/>
          <p:nvPr/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ffffff"/>
                </a:solidFill>
                <a:latin typeface="Trebuchet MS"/>
              </a:rPr>
              <a:t>16. apríl 2013 - Neformálne zasadnutie MV OPV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577800" y="1833480"/>
          <a:ext cx="7763040" cy="2819520"/>
        </p:xfrm>
        <a:graphic>
          <a:graphicData uri="http://schemas.openxmlformats.org/drawingml/2006/table">
            <a:tbl>
              <a:tblPr/>
              <a:tblGrid>
                <a:gridCol w="3983040"/>
                <a:gridCol w="1136520"/>
                <a:gridCol w="1382760"/>
                <a:gridCol w="1260720"/>
              </a:tblGrid>
              <a:tr h="6541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Názov indikátora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Aktuálny stav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lánovaný stav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Cieľová hodnota na úrovni OP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461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Počet zamestnancov zapojených do vzdelávacích aktivít projektu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7 647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22 029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921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Počet zamestnancov úspešne absolvujúcich vzdelávací program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89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20 034</a:t>
                      </a:r>
                      <a:r>
                        <a:rPr b="1" lang="sk-SK" sz="1400" spc="-1" strike="noStrike" baseline="30000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7%</a:t>
                      </a:r>
                      <a:r>
                        <a:rPr b="1" lang="sk-SK" sz="1400" spc="-1" strike="noStrike" baseline="30000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6793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Počet zamestnancov, ktorí využívajú výsledky projektu po ukončení jeho realizácie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89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20 034</a:t>
                      </a:r>
                      <a:r>
                        <a:rPr b="1" lang="sk-SK" sz="1400" spc="-1" strike="noStrike" baseline="30000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80%</a:t>
                      </a:r>
                      <a:r>
                        <a:rPr b="1" lang="sk-SK" sz="1400" spc="-1" strike="noStrike" baseline="30000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478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Počet novovytvorených vzdelávacích programov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7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15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542" name="Obdĺžnik 3"/>
          <p:cNvSpPr/>
          <p:nvPr/>
        </p:nvSpPr>
        <p:spPr>
          <a:xfrm>
            <a:off x="534960" y="4862520"/>
            <a:ext cx="8096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000" spc="-1" strike="noStrike" baseline="30000">
                <a:solidFill>
                  <a:srgbClr val="ffffff"/>
                </a:solidFill>
                <a:latin typeface="Arial"/>
              </a:rPr>
              <a:t>1 </a:t>
            </a:r>
            <a:r>
              <a:rPr b="0" i="1" lang="sk-SK" sz="1000" spc="-1" strike="noStrike">
                <a:solidFill>
                  <a:srgbClr val="ffffff"/>
                </a:solidFill>
                <a:latin typeface="Arial"/>
              </a:rPr>
              <a:t>Cieľovú percentuálnu hodnotu 7% predstavuje 5 143 zdravotníckych pracovníkov z celkového počtu 73 472 pracovníkov so zdravotníckym vzdelaním. Zámerom je, aby aspoň 7 % z týchto zdravotníckych pracovníkov v rokoch 2008 až 2013 úspešne absolvovalo ďalšie vzdelávanie.</a:t>
            </a:r>
            <a:br>
              <a:rPr sz="1000"/>
            </a:br>
            <a:r>
              <a:rPr b="1" i="1" lang="sk-SK" sz="10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i="1" lang="sk-SK" sz="1000" spc="-1" strike="noStrike">
                <a:solidFill>
                  <a:srgbClr val="ffffff"/>
                </a:solidFill>
                <a:latin typeface="Arial"/>
              </a:rPr>
              <a:t>Hodnota 20 034 zdravotníckych pracovníkov predstavuje 27% z celkového počtu 73 472 pracovníkov so zdravotníckym vzdelaním.</a:t>
            </a:r>
            <a:br>
              <a:rPr sz="1000"/>
            </a:br>
            <a:r>
              <a:rPr b="1" i="1" lang="sk-SK" sz="1000" spc="-1" strike="noStrike" baseline="30000">
                <a:solidFill>
                  <a:srgbClr val="ffffff"/>
                </a:solidFill>
                <a:latin typeface="Arial"/>
              </a:rPr>
              <a:t>3 </a:t>
            </a:r>
            <a:r>
              <a:rPr b="0" i="1" lang="sk-SK" sz="1000" spc="-1" strike="noStrike">
                <a:solidFill>
                  <a:srgbClr val="ffffff"/>
                </a:solidFill>
                <a:latin typeface="Arial"/>
              </a:rPr>
              <a:t>Plánovanú cieľovú percentuálnu hodnotu 80% predstavuje podiel počtu zdravotníckych pracovníkov, ktorí využívajú výsledky projektu po ukončení jeho realizácie z celkového počtu zdravotníckych pracovníkov zapojených do vzdelávacích aktivít projektu. Cieľom je aby 80% zdravotníckych pracovníkov zotrvalo po ukončení ďalšieho vzdelávania v systéme zdravotníctva SR. </a:t>
            </a:r>
            <a:br>
              <a:rPr sz="1000"/>
            </a:br>
            <a:r>
              <a:rPr b="1" i="1" lang="sk-SK" sz="1000" spc="-1" strike="noStrike" baseline="30000">
                <a:solidFill>
                  <a:srgbClr val="ffffff"/>
                </a:solidFill>
                <a:latin typeface="Arial"/>
              </a:rPr>
              <a:t>4 </a:t>
            </a:r>
            <a:r>
              <a:rPr b="0" i="1" lang="sk-SK" sz="1000" spc="-1" strike="noStrike">
                <a:solidFill>
                  <a:srgbClr val="ffffff"/>
                </a:solidFill>
                <a:latin typeface="Arial"/>
              </a:rPr>
              <a:t>Hodnota 21 254 zdravotníckych pracovníkov predstavuje 96% z počtu zdravotníckych pracovníkov zapojených do vzdelávacích aktivít projektu.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2400"/>
            </a:br>
            <a:br>
              <a:rPr sz="2400"/>
            </a:b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ndiká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501480" y="26384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www.opv.health-sf.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info.opv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@health.gov.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Picture 9" descr="ministerstvo-zdravotnictva-mzsr-mz"/>
          <p:cNvPicPr/>
          <p:nvPr/>
        </p:nvPicPr>
        <p:blipFill>
          <a:blip r:embed="rId4"/>
          <a:stretch/>
        </p:blipFill>
        <p:spPr>
          <a:xfrm>
            <a:off x="317520" y="1386000"/>
            <a:ext cx="3097080" cy="293040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10"/>
          <p:cNvSpPr/>
          <p:nvPr/>
        </p:nvSpPr>
        <p:spPr>
          <a:xfrm>
            <a:off x="3492360" y="1916280"/>
            <a:ext cx="540072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Ministerstvo zdravotníctva SR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Sprostredkovateľský orgán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pod riadiacim orgánom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pre opatrenie 2.2 OPV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Zástupný symbol päty 1"/>
          <p:cNvSpPr/>
          <p:nvPr/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ffffff"/>
                </a:solidFill>
                <a:latin typeface="Trebuchet MS"/>
              </a:rPr>
              <a:t>16. apríl 2013 - Neformálne zasadnutie MV OPV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06:37:42Z</dcterms:created>
  <dc:creator>Gabriela Gergelová</dc:creator>
  <dc:description/>
  <dc:language>en-US</dc:language>
  <cp:lastModifiedBy>Škorvaga Edmund</cp:lastModifiedBy>
  <cp:lastPrinted>2011-11-14T12:53:23Z</cp:lastPrinted>
  <dcterms:modified xsi:type="dcterms:W3CDTF">2013-04-15T13:59:21Z</dcterms:modified>
  <cp:revision>410</cp:revision>
  <dc:subject/>
  <dc:title>Najväčším bohatstvom, najvyššou hodnotou každého človeka, každého jedinca je  ZDRAVIE</dc:title>
</cp:coreProperties>
</file>