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F5E7-EE07-4E44-B056-AD26BCCC5949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0CB9-B132-4545-9CC6-9520915B5038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9ED8-3C52-4644-8AFA-7231A6B0B9BD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FD994-737F-4F25-BED9-CD160648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79063-71AC-42C7-9B48-5B2E11E0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7B4A6-1386-477F-AB52-6879CACE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9BB1F-9ACC-4BF7-A162-D184271E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EC66-BAE4-446F-BBD5-EBA7FC0F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059F-EBA1-4293-9BCF-CB0A569C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9435-CAA7-4021-A7FD-4A218925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3820-0B54-4345-AEE9-87C158DB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2A4F-C4B7-42F9-9563-950D1B32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8BBF-2CDB-464F-A217-04DCC412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BED2-C91D-4CEB-B360-F792E33C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0E4A1-B8B4-42CA-A49B-4F8CA3F7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4983-AE6A-4A41-AAE2-C784157A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BAE0-0EE5-4F50-ACCF-12022495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E584-6A6E-4B62-9D5D-BDDA0B31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A8B3-05D7-4924-B05D-7225BADE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0CB7-6F1B-46B5-BA15-5CD623F2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D198-9290-4AE7-A15E-0C0608FB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383E2-49D2-4D53-BE61-5E0BADDD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A09B-3F8A-4CF3-AEC0-E027C015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75B1-57E5-4EF6-B249-193905D9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01670-94D9-4280-A95A-EF5BB3B3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B6E3-C1A9-47FE-ABA3-CDA317A2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1DDC5-17AD-4DCD-9874-6810B8E8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3A6F-0B99-4D88-BD71-C73DB97AD39C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FCDB-A2F5-45C1-A1BA-4D324D3C662D}" type="datetime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F14D-3FEE-48A8-BA71-480D03B1D878}" type="datetime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94D3-07B9-4ECB-ACFB-7A7657606993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inedu.sk/" TargetMode="External"/><Relationship Id="rId2" Type="http://schemas.openxmlformats.org/officeDocument/2006/relationships/hyperlink" Target="mailto:opvzdelavanie@minedu.sk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Programové obdobie </a:t>
            </a:r>
            <a:br>
              <a:rPr sz="3600"/>
            </a:b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2014-2020 </a:t>
            </a:r>
            <a:br>
              <a:rPr sz="3600"/>
            </a:b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oblasť vzdeláv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17800" y="4365720"/>
            <a:ext cx="60199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Bratislava, 16. apríl 2013, zasadnut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Monitorovacieho výboru pre OP Vzdelá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Mgr. Veronika Paľk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aditeľ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dbor pre OP Vzdelávan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ekcia štrukturálnych fondov E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Ministerstvo školstva, vedy, výskumu a športu 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Arial"/>
              </a:rPr>
              <a:t>Moderné vzdelávanie pre vedomostnú spoločnosť/Projekt je spolufinancovaný zo zdrojov E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3187800" y="404640"/>
            <a:ext cx="60195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rázok 1" descr=""/>
          <p:cNvPicPr/>
          <p:nvPr/>
        </p:nvPicPr>
        <p:blipFill>
          <a:blip r:embed="rId1"/>
          <a:stretch/>
        </p:blipFill>
        <p:spPr>
          <a:xfrm>
            <a:off x="7236000" y="85680"/>
            <a:ext cx="1701720" cy="1575000"/>
          </a:xfrm>
          <a:prstGeom prst="rect">
            <a:avLst/>
          </a:prstGeom>
          <a:ln w="0">
            <a:noFill/>
          </a:ln>
        </p:spPr>
      </p:pic>
      <p:pic>
        <p:nvPicPr>
          <p:cNvPr id="117" name="Obrázok 2" descr=""/>
          <p:cNvPicPr/>
          <p:nvPr/>
        </p:nvPicPr>
        <p:blipFill>
          <a:blip r:embed="rId2"/>
          <a:stretch/>
        </p:blipFill>
        <p:spPr>
          <a:xfrm>
            <a:off x="2268360" y="247680"/>
            <a:ext cx="2327400" cy="781200"/>
          </a:xfrm>
          <a:prstGeom prst="rect">
            <a:avLst/>
          </a:prstGeom>
          <a:ln w="0">
            <a:noFill/>
          </a:ln>
        </p:spPr>
      </p:pic>
      <p:pic>
        <p:nvPicPr>
          <p:cNvPr id="118" name="Obrázok 3" descr=""/>
          <p:cNvPicPr/>
          <p:nvPr/>
        </p:nvPicPr>
        <p:blipFill>
          <a:blip r:embed="rId3"/>
          <a:stretch/>
        </p:blipFill>
        <p:spPr>
          <a:xfrm>
            <a:off x="5791320" y="247680"/>
            <a:ext cx="1093680" cy="10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eny oproti súčasnému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ŠIF – európske investičné štrukturálne fon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ší počet 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fondov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ôraz na výsledkovo – orientovaný mechaniz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jednodušenie procesov na úrovni RO/SORO ako aj smerom k žiadateľovi/prijímateľovi vrátane využívania zjednodušených foriem vykazovania výdavk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ôznorodosť finančných nástro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lasovanie priebežných výzi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9E16-1DE9-459F-825A-3AF90D863E00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3CDE-AC8A-4B75-B981-9D343B8E8ADE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72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3BF3-2422-48F9-A2A5-4D5A9968577B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15.4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Ďakujem za pozornosť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inisterstvo školstva, vedy, výskumu a športu SR</a:t>
            </a:r>
            <a:br>
              <a:rPr sz="1600"/>
            </a:b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ekcia štrukturálnych fondov E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minedu.s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sk-SK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opvzdelavanie@minedu.s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ĺžnik 1"/>
          <p:cNvSpPr/>
          <p:nvPr/>
        </p:nvSpPr>
        <p:spPr>
          <a:xfrm>
            <a:off x="539640" y="5661000"/>
            <a:ext cx="770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cc"/>
                </a:solidFill>
                <a:latin typeface="Arial"/>
              </a:rPr>
              <a:t>Moderné vzdelávanie pre vedomostnú spoločnosť/Projekt je spolufinancovaný zo zdrojov E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3"/>
          <a:stretch/>
        </p:blipFill>
        <p:spPr>
          <a:xfrm>
            <a:off x="6443640" y="476280"/>
            <a:ext cx="23414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chodisková situ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égia EÚ 2020, Pozičný dokument a kompromisné návrhy nariadení E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ôraz na hospodársky rast a rast zamestna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centrácia zdrojov do 5 prioritných tematických oblastí - Podnikateľské prostredie podporujúce inovácie, Infraštruktúra pre hospodársky rast a tvorbu pracovných miest,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st ľudského kapitálu a lepšia účasť na pracovnom trhu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držateľné a efektívne využívanie prírodných zdrojov, Moderná a odborná verejná sprá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pojenie územnej a miestnej správy prostredníctvom nástrojov integrovaných stratég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íp partnerst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1473-DBE5-48BB-A8FC-425E03018288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8B81-1BE9-4E6D-8C57-0D7C1EB6D36E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24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uálny stav prípravy OP Ľ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nesením vlády SR č. 139/2013 bol schválený materiál „Návrh štruktúry operačných programov financovaných z Európskych štrukturálnych a investičných fondov na programové obdobie 2014 – 2020“ – určené OP a RO ako ges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vrhy operačných programov predložiť do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apríla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ledný návrh operačných programov predložiť do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 júna 2013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ľudských zdrojov – zamestnanosť, vzdelávanie, sociálna inklúzia a MRK, gestor MPSVR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atické ciele Podpora zamestnanosti a mobility pracovnej sily, Podpora sociálneho začleňovania a boja proti chudobe a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ície do vzdelávania, rozvoja schopností a celoživotného vzdeláv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zdelávanie ako budúca ponuková stránka trhu práce – prioritná os (SO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financovania vychádzajú z Pozičného dokumentu a priorít identifikovaných na národnej úrovni (NP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6F32-C8ED-4BB1-B3D6-34C20FDCD194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17CA-070F-49DE-8D1D-EAB2C12909D9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30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uálny stav prípravy OP ĽZ (oblasť vzdeláva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lepšovanie kvality vzdelávania na všetkých úrovniach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osúladenie s potrebami trhu práce → rozvoj výskumno-inovačného potenciálu krajiny a hospodársky r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primárne vzdelávanie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kvalita a dostupn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základného a stredného školstva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repojenie vzdelávania s potrebami trhu práce (predovšetkým odborné vzdelávanie napr. podpora praxe v podnikoch), podpora pedagó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soké školstvo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ojenie vzdelávania s potrebami trhu práce, výsledkovo –orientované vzdelávania, profesijne orientované študijné programy, podpora 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oživotné vzdelávanie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vyšovanie a obnova kompetencií potrebných pre trh práce, dôraz na zamestnanú populáciu, zvýšenie účasti na CŽV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í ľudia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rierezová skupina v rámci všetkých stupňov vzdeláv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ičné opatrenia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školská infraštruktúra – materské školy, dielne/laboratóriá, odborné vzdelávanie, základné školy – otázka kapacít a priestorového vybav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9199-5F44-4B5E-80A0-85CDF0318131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5147-0DD4-436F-B374-D4FD3C6C6F01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36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uálny stav prípravy OP ĽZ (oblasť vzdeláva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zdelávanie MRK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rioritná os v gescii MV SR (ÚSVRK) – mäkké aj tvrdé opatren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oblasť vzdelávania – inkluzívne vzdelávanie už od materskej školy, podpora celodenného výchovného systému, nulté ročníky, pedagogickí asistenti, programy druhej šance, finančnej gramot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ráca s ÚSV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AC78-3684-4AC7-8E44-7F27B6764895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8E1D-C1EC-4226-9818-F00FF5B404DA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42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uálny stav prípravy OP ĽZ (oblasť vzdeláva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zívna spolupráca s MPSVR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ovná skupina pre prípravu OP (z úrovne gestora MPSVR SR) – zapojenie partnerov za oblasť vzdeláv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íp partnerst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vrhy od členov MV pre OPV ohľadom definovania priorít financov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slanie 1. návrhu analytickej a strategickej časti OP na MPSVR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íprava strategickej časti na úrovni prioritnej osi a príklady oprávnených aktiví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9E7A-BE30-4EC4-B9D0-5593F9FE2E36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ECBA-1998-478D-BDA0-9AA038F57877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48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 ante kondicionality (oblasť vzdeláva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dicionality - podmienenosti - nový nástroj, ktorým sa má dosiahnuť výsledkovo orientovaný prístup s cieľom zlepšiť implementáciu fondov EÚ v PO 2014-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 ante kondicionalit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súbor legislatívnych, strategických a koncepčných podmieneností /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kritérií, ktoré majú priamu a bezprostrednú súvislosť ako aj dopad na efektívne a účinné dosiahnutie konkrétneho cieľa v rámci investičnej priority/priority E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rebné naplniť pred začiatkom implementácie fondov EÚ na programové obdobie 2014 – 2020, alebo najneskôr v termíne do konca roku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základe uznesenia vlády SR č. 120/2013 splnenie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30.apríla 2013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tom nasleduje akčný plá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plnenie EAK – pozastavenie platieb v procese schvaľovania OP resp. v roku 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BC7A-9D62-4107-84D5-C025F0DAFF37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495D-3155-4DEF-A393-33CC937A6BD7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54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 ante kondicionality (oblasť vzdeláva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ovná skupina na zabezpečenie plnenia 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1. Existencia národného, alebo regionálneho strategického rámca na zníženie predčasného ukončovania školskej dochádzky v rámci v rámci obmedzení článku 165 ZE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2. Existencia národného, alebo regionálneho strategického rámca na zvýšenie dosahovania kvality a účinnosti vzdelávania tretieho stupňa v rámci obmedzení článku 165 ZE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3 Existencia národného a/alebo regionálneho strategického rámca celoživotného vzdelávania v rámci obmedzení článku 165 ZE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astavenie plati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mernenie zo strany 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FAE8-6625-4D23-8729-7B8DAC786955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AEA6-00F6-4727-AED3-129C885C1A1C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60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ká doh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tická časť Partnerskej dohody – pripomienkovanie (do konca apríla 2013 bude predložená analytická časť PD SR na neoficiálne posúdenie 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ká časť PD – apríl 20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 predloží EK prvý návrh PD SR spolu s ex ante hodnotením do konca júna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ovisko zo strany EK k 1. návrhu PD SR na roky 2014 – 2020 sa očakáva v mesiacoch júl - august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d2e2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jeseň 2013 bude predložená EK konečná verzia PD SR spolu s hodnotením vplyvov tohto strategického dokumentu na životné prostredie - schválenie konečnej verzie PD SR sa očakáva v druhej polovici roka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2977-1619-4FE9-AD23-8DECD2D4066B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2F03-6366-4B6A-B923-9A17DB2793CC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7:05:52Z</dcterms:created>
  <dc:creator>henrieta holubekova</dc:creator>
  <dc:description/>
  <dc:language>en-US</dc:language>
  <cp:lastModifiedBy>Veronika Paľková</cp:lastModifiedBy>
  <cp:lastPrinted>2013-04-15T14:43:15Z</cp:lastPrinted>
  <dcterms:modified xsi:type="dcterms:W3CDTF">2013-04-16T06:24:04Z</dcterms:modified>
  <cp:revision>287</cp:revision>
  <dc:subject/>
  <dc:title>operačný program Vzdelávanie</dc:title>
</cp:coreProperties>
</file>