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752013" cy="6854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752400" cy="68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242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5522400" y="-360"/>
            <a:ext cx="4226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3164040" y="514080"/>
            <a:ext cx="3425760" cy="257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74520" y="3255840"/>
            <a:ext cx="78008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6509880"/>
            <a:ext cx="42242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5522400" y="6509880"/>
            <a:ext cx="4226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D758-D996-402E-A7DB-9F3F3ADDBC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522760" y="6510240"/>
            <a:ext cx="4226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D830-84ED-430A-8DF3-D8A7C03825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164040" y="514440"/>
            <a:ext cx="3425760" cy="2570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74520" y="3255840"/>
            <a:ext cx="7800840" cy="30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522760" y="6510240"/>
            <a:ext cx="4226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92D0-CDEF-44A9-952E-E792D768B3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164040" y="514440"/>
            <a:ext cx="3425760" cy="25700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74520" y="3255840"/>
            <a:ext cx="7800840" cy="30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108648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0560" y="4142520"/>
            <a:ext cx="87138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560" y="108648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42523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6000" y="1773360"/>
            <a:ext cx="42523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560" y="4142520"/>
            <a:ext cx="42523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6000" y="4142520"/>
            <a:ext cx="42523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560" y="108648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28054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6800" y="1773360"/>
            <a:ext cx="28054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2680" y="1773360"/>
            <a:ext cx="28054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0560" y="4142520"/>
            <a:ext cx="28054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6800" y="4142520"/>
            <a:ext cx="28054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2680" y="4142520"/>
            <a:ext cx="28054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108648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560" y="1773360"/>
            <a:ext cx="871380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108648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108648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42523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6000" y="1773360"/>
            <a:ext cx="42523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108648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0560" y="1125360"/>
            <a:ext cx="8713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108648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42523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6000" y="1773360"/>
            <a:ext cx="42523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0560" y="4142520"/>
            <a:ext cx="42523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560" y="108648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0560" y="1773360"/>
            <a:ext cx="871380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108648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42523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6000" y="1773360"/>
            <a:ext cx="42523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6000" y="4142520"/>
            <a:ext cx="42523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108648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42523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6000" y="1773360"/>
            <a:ext cx="42523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560" y="4142520"/>
            <a:ext cx="87138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108648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0560" y="4142520"/>
            <a:ext cx="87138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108648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42523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6000" y="1773360"/>
            <a:ext cx="42523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560" y="4142520"/>
            <a:ext cx="42523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6000" y="4142520"/>
            <a:ext cx="42523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108648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28054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6800" y="1773360"/>
            <a:ext cx="28054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2680" y="1773360"/>
            <a:ext cx="28054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0560" y="4142520"/>
            <a:ext cx="28054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6800" y="4142520"/>
            <a:ext cx="28054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2680" y="4142520"/>
            <a:ext cx="28054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560" y="108648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108648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42523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6000" y="1773360"/>
            <a:ext cx="42523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108648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0560" y="1125360"/>
            <a:ext cx="8713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560" y="108648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42523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6000" y="1773360"/>
            <a:ext cx="42523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0560" y="4142520"/>
            <a:ext cx="42523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108648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42523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6000" y="1773360"/>
            <a:ext cx="42523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6000" y="4142520"/>
            <a:ext cx="42523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108648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42523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6000" y="1773360"/>
            <a:ext cx="42523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560" y="4142520"/>
            <a:ext cx="87138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1041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2" descr="TSK_zdravotnictvo"/>
          <p:cNvPicPr/>
          <p:nvPr/>
        </p:nvPicPr>
        <p:blipFill>
          <a:blip r:embed="rId2"/>
          <a:srcRect l="0" t="0" r="0" b="21810"/>
          <a:stretch/>
        </p:blipFill>
        <p:spPr>
          <a:xfrm>
            <a:off x="0" y="0"/>
            <a:ext cx="914400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713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0560" y="1773360"/>
            <a:ext cx="87138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  <a:p>
            <a:pPr lvl="1" marL="668520" indent="-25704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Clr>
                <a:srgbClr val="0a2a5a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  <a:p>
            <a:pPr lvl="2" marL="1028520" indent="-20556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  <a:p>
            <a:pPr lvl="3" marL="1440000" indent="-20556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  <a:p>
            <a:pPr lvl="4" marL="1851480" indent="-20556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  <a:p>
            <a:pPr lvl="5" marL="1851480" indent="-20556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  <a:p>
            <a:pPr lvl="6" marL="1851480" indent="-20556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3708360" y="189000"/>
            <a:ext cx="1003320" cy="9302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4" descr=""/>
          <p:cNvPicPr/>
          <p:nvPr/>
        </p:nvPicPr>
        <p:blipFill>
          <a:blip r:embed="rId4"/>
          <a:stretch/>
        </p:blipFill>
        <p:spPr>
          <a:xfrm>
            <a:off x="7869240" y="189000"/>
            <a:ext cx="127476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TSK_zdravotnictvo"/>
          <p:cNvPicPr/>
          <p:nvPr/>
        </p:nvPicPr>
        <p:blipFill>
          <a:blip r:embed="rId2"/>
          <a:stretch/>
        </p:blipFill>
        <p:spPr>
          <a:xfrm>
            <a:off x="0" y="0"/>
            <a:ext cx="9144000" cy="1300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713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560" y="1773360"/>
            <a:ext cx="87138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  <a:p>
            <a:pPr lvl="1" marL="668520" indent="-25704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Clr>
                <a:srgbClr val="0a2a5a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  <a:p>
            <a:pPr lvl="2" marL="1028520" indent="-20556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  <a:p>
            <a:pPr lvl="3" marL="1440000" indent="-20556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  <a:p>
            <a:pPr lvl="4" marL="1851480" indent="-20556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  <a:p>
            <a:pPr lvl="5" marL="1851480" indent="-20556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  <a:p>
            <a:pPr lvl="6" marL="1851480" indent="-20556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elena.stefikova@tsk.sk" TargetMode="External"/><Relationship Id="rId2" Type="http://schemas.openxmlformats.org/officeDocument/2006/relationships/hyperlink" Target="mailto:elena.stefikova@tsk.sk" TargetMode="External"/><Relationship Id="rId3" Type="http://schemas.openxmlformats.org/officeDocument/2006/relationships/hyperlink" Target="mailto:elena.stefikova@tsk.sk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9185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</a:rPr>
              <a:t>Doplnenie systému zdravotníctva </a:t>
            </a:r>
            <a:br>
              <a:rPr sz="3200"/>
            </a:br>
            <a:r>
              <a:rPr b="1" lang="sk-SK" sz="3200" spc="-1" strike="noStrike">
                <a:solidFill>
                  <a:srgbClr val="ff0000"/>
                </a:solidFill>
                <a:latin typeface="Arial"/>
              </a:rPr>
              <a:t>o kvalifikovaných zdravotníckych </a:t>
            </a:r>
            <a:br>
              <a:rPr sz="3200"/>
            </a:br>
            <a:r>
              <a:rPr b="1" lang="sk-SK" sz="3200" spc="-1" strike="noStrike">
                <a:solidFill>
                  <a:srgbClr val="ff0000"/>
                </a:solidFill>
                <a:latin typeface="Arial"/>
              </a:rPr>
              <a:t>pracovníkov v Trenčianskom samosprávnom kraj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</a:rPr>
              <a:t>“</a:t>
            </a:r>
            <a:br>
              <a:rPr sz="3200"/>
            </a:b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58920" y="4076280"/>
            <a:ext cx="6400800" cy="15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a2a5a"/>
                </a:solidFill>
                <a:latin typeface="Arial"/>
              </a:rPr>
              <a:t>Mgr. Elena Štefíková, MPH</a:t>
            </a: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  <a:p>
            <a:pPr indent="0" algn="ctr">
              <a:lnSpc>
                <a:spcPct val="125000"/>
              </a:lnSpc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66cc"/>
                </a:solidFill>
                <a:latin typeface="Arial"/>
              </a:rPr>
              <a:t>Bratislava, 16. 4. 2013</a:t>
            </a:r>
            <a:endParaRPr b="1" lang="en-US" sz="2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7236000" y="5300640"/>
            <a:ext cx="1274760" cy="1081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324000" y="5589720"/>
            <a:ext cx="107604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250920" y="1341360"/>
          <a:ext cx="8496360" cy="5016600"/>
        </p:xfrm>
        <a:graphic>
          <a:graphicData uri="http://schemas.openxmlformats.org/drawingml/2006/table">
            <a:tbl>
              <a:tblPr/>
              <a:tblGrid>
                <a:gridCol w="7056360"/>
                <a:gridCol w="1440000"/>
              </a:tblGrid>
              <a:tr h="707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Počet podporovaných zdravotníckych pracovník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 dňu ukončenia implementácie 31.8.20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ový počet podporovaných lekár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toho lekári, ktorí dodržali zmluvné podmien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toho lekári, ktorí predčasne ukončili FPOŠŠ (rozviazanie prac. pomeru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toho lekári, ktorí predčasne ukončili FPOŠŠ z iného dôvodu (mat. dovolenka,.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981000"/>
            <a:ext cx="8713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Podporované špecializačné odbory podľa počtu lekárov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66760" indent="-266760">
              <a:lnSpc>
                <a:spcPct val="120000"/>
              </a:lnSpc>
              <a:buClr>
                <a:srgbClr val="0a2a5a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Anestéziológia a intenzívna medicína: 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             (18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66760" indent="-266760">
              <a:lnSpc>
                <a:spcPct val="120000"/>
              </a:lnSpc>
              <a:spcAft>
                <a:spcPts val="51"/>
              </a:spcAft>
              <a:buClr>
                <a:srgbClr val="0a2a5a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Pediatria :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             (10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66760" indent="-266760">
              <a:lnSpc>
                <a:spcPct val="120000"/>
              </a:lnSpc>
              <a:spcAft>
                <a:spcPts val="51"/>
              </a:spcAft>
              <a:buClr>
                <a:srgbClr val="0a2a5a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Chirurgia :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               (8)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66760" indent="-266760">
              <a:lnSpc>
                <a:spcPct val="120000"/>
              </a:lnSpc>
              <a:spcAft>
                <a:spcPts val="51"/>
              </a:spcAft>
              <a:buClr>
                <a:srgbClr val="0a2a5a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Vnútorné lekárstvo, Rádiológia, Úrazová chirurgia :      (7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66760" indent="-266760">
              <a:lnSpc>
                <a:spcPct val="120000"/>
              </a:lnSpc>
              <a:spcAft>
                <a:spcPts val="51"/>
              </a:spcAft>
              <a:buClr>
                <a:srgbClr val="0a2a5a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Stomatológia :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               (6)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66760" indent="-266760">
              <a:lnSpc>
                <a:spcPct val="120000"/>
              </a:lnSpc>
              <a:spcAft>
                <a:spcPts val="51"/>
              </a:spcAft>
              <a:buClr>
                <a:srgbClr val="0a2a5a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Gynekológia a pôrodníctvo, Otorinolaryngológia :         (4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66760" indent="-266760">
              <a:lnSpc>
                <a:spcPct val="120000"/>
              </a:lnSpc>
              <a:spcAft>
                <a:spcPts val="51"/>
              </a:spcAft>
              <a:buClr>
                <a:srgbClr val="0a2a5a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Všeobecné lekárstvo :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               (3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66760" indent="-266760">
              <a:lnSpc>
                <a:spcPct val="120000"/>
              </a:lnSpc>
              <a:spcAft>
                <a:spcPts val="51"/>
              </a:spcAft>
              <a:buClr>
                <a:srgbClr val="0a2a5a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Neurológia, Psychiatria : 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               (2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66760" indent="-266760">
              <a:lnSpc>
                <a:spcPct val="120000"/>
              </a:lnSpc>
              <a:spcAft>
                <a:spcPts val="51"/>
              </a:spcAft>
              <a:buClr>
                <a:srgbClr val="0a2a5a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Urgentná medicína, Čeľustná ortopédia, Geriatria,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66760" indent="0">
              <a:lnSpc>
                <a:spcPct val="120000"/>
              </a:lnSpc>
              <a:spcAft>
                <a:spcPts val="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    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Radiačná onkológia, Kardiológia, Gastroenterológia, Patologická anatómia :         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3366cc"/>
                </a:solidFill>
                <a:latin typeface="Arial"/>
              </a:rPr>
              <a:t>               (1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66760" indent="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713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Arial"/>
              </a:rPr>
              <a:t>Zhodnotenie a úspechy projektu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451"/>
              </a:spcBef>
              <a:spcAft>
                <a:spcPts val="561"/>
              </a:spcAft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366cc"/>
                </a:solidFill>
                <a:latin typeface="Arial"/>
              </a:rPr>
              <a:t>Projektu sa zúčastnilo celkove 98 lekárov.</a:t>
            </a:r>
            <a:endParaRPr b="1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spcAft>
                <a:spcPts val="561"/>
              </a:spcAft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366cc"/>
                </a:solidFill>
                <a:latin typeface="Arial"/>
              </a:rPr>
              <a:t>100% zamestnanosť všetkých lekárov podporovaných v rámci projektu.</a:t>
            </a:r>
            <a:endParaRPr b="1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spcAft>
                <a:spcPts val="561"/>
              </a:spcAft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366cc"/>
                </a:solidFill>
                <a:latin typeface="Arial"/>
              </a:rPr>
              <a:t>Doplnenie stavu lekárov v špecializačných odboroch, ktoré boli dlhodobo poddimenzované.</a:t>
            </a:r>
            <a:endParaRPr b="1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spcAft>
                <a:spcPts val="561"/>
              </a:spcAft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366cc"/>
                </a:solidFill>
                <a:latin typeface="Arial"/>
              </a:rPr>
              <a:t>Stabilizácia lekárov v zdravotníckych zariadeniach v regióne – Trenčianskom samosprávnom kraji.</a:t>
            </a:r>
            <a:endParaRPr b="1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spcAft>
                <a:spcPts val="561"/>
              </a:spcAft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3366cc"/>
                </a:solidFill>
                <a:latin typeface="Arial"/>
              </a:rPr>
              <a:t>Adresná a konkrétna podpora zdravotníckych pracovníkov zaradených do implementácie projektu zdravotníckymi zariadeniami. </a:t>
            </a:r>
            <a:endParaRPr b="1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spcAft>
                <a:spcPts val="561"/>
              </a:spcAft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366cc"/>
                </a:solidFill>
                <a:latin typeface="Arial"/>
              </a:rPr>
              <a:t>Obsadenie zdravotného obvodu, ktorý bol 7 mesiacov neobsadený lekárkou z projektu, ktorá ukončila špecializačnú prípravu v odbore stomatológia.</a:t>
            </a:r>
            <a:endParaRPr b="1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spcAft>
                <a:spcPts val="561"/>
              </a:spcAft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366cc"/>
                </a:solidFill>
                <a:latin typeface="Arial"/>
              </a:rPr>
              <a:t>V príprave – obsadenie zdravotného obvodu lekárom z projektu, ktorý ukončil  špecializačnú prípravu v odbore stomatológia po lekárovi, ktorý tragicky zomrel. </a:t>
            </a:r>
            <a:endParaRPr b="1" lang="en-US" sz="18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713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Arial"/>
              </a:rPr>
              <a:t>Kontak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3366cc"/>
                </a:solidFill>
                <a:latin typeface="Arial"/>
              </a:rPr>
              <a:t>Trenčiansky samosprávny kraj</a:t>
            </a: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3366cc"/>
                </a:solidFill>
                <a:latin typeface="Arial"/>
              </a:rPr>
              <a:t>Odbor zdravotníctva a humánnej farmácie </a:t>
            </a: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3366cc"/>
                </a:solidFill>
                <a:latin typeface="Arial"/>
              </a:rPr>
              <a:t>K dolnej stanici 7282/20A</a:t>
            </a: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3366cc"/>
                </a:solidFill>
                <a:latin typeface="Arial"/>
              </a:rPr>
              <a:t>Trenčín</a:t>
            </a:r>
            <a:endParaRPr b="1" lang="en-US" sz="28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spcAft>
                <a:spcPts val="624"/>
              </a:spcAft>
              <a:buClr>
                <a:srgbClr val="0a2a5a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lena.stefikova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sk.sk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spcAft>
                <a:spcPts val="624"/>
              </a:spcAft>
              <a:buClr>
                <a:srgbClr val="0a2a5a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http://www.tsk.sk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spcAft>
                <a:spcPts val="624"/>
              </a:spcAft>
              <a:buClr>
                <a:srgbClr val="0a2a5a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+421 32</a:t>
            </a:r>
            <a:r>
              <a:rPr b="1" lang="sk-SK" sz="2000" spc="-1" strike="noStrike">
                <a:solidFill>
                  <a:srgbClr val="3366cc"/>
                </a:solidFill>
                <a:latin typeface="Arial"/>
              </a:rPr>
              <a:t> 65 55 152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 algn="ctr">
              <a:lnSpc>
                <a:spcPct val="125000"/>
              </a:lnSpc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-612720" y="0"/>
            <a:ext cx="1170792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13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Arial"/>
              </a:rPr>
              <a:t>Ďakujem za pozornosť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713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1" lang="sk-SK" sz="2800" spc="-1" strike="noStrike">
                <a:solidFill>
                  <a:srgbClr val="ff0000"/>
                </a:solidFill>
                <a:latin typeface="Arial"/>
              </a:rPr>
              <a:t>Výzva“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1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3366cc"/>
                </a:solidFill>
                <a:latin typeface="Arial"/>
              </a:rPr>
              <a:t>Ministerstvo zdravotníctva SR</a:t>
            </a:r>
            <a:br>
              <a:rPr sz="2100"/>
            </a:br>
            <a:r>
              <a:rPr b="1" lang="sk-SK" sz="2100" spc="-1" strike="noStrike">
                <a:solidFill>
                  <a:srgbClr val="3366cc"/>
                </a:solidFill>
                <a:latin typeface="Arial"/>
              </a:rPr>
              <a:t>SO/RO pre Operačný program Vzdelávanie</a:t>
            </a:r>
            <a:endParaRPr b="1" lang="en-US" sz="2100" spc="-1" strike="noStrike">
              <a:solidFill>
                <a:srgbClr val="3366cc"/>
              </a:solidFill>
              <a:latin typeface="Arial"/>
            </a:endParaRPr>
          </a:p>
          <a:p>
            <a:pPr marL="308520" indent="0" algn="ctr">
              <a:lnSpc>
                <a:spcPct val="11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3366cc"/>
                </a:solidFill>
                <a:latin typeface="Arial"/>
              </a:rPr>
              <a:t>Vyhlásilo VÝZVU</a:t>
            </a:r>
            <a:endParaRPr b="1" lang="en-US" sz="2100" spc="-1" strike="noStrike">
              <a:solidFill>
                <a:srgbClr val="3366cc"/>
              </a:solidFill>
              <a:latin typeface="Arial"/>
            </a:endParaRPr>
          </a:p>
          <a:p>
            <a:pPr marL="308520" indent="0" algn="ctr">
              <a:lnSpc>
                <a:spcPct val="11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3366cc"/>
                </a:solidFill>
                <a:latin typeface="Arial"/>
              </a:rPr>
              <a:t>na predkladanie žiadostí o nenávratný finančný príspevok </a:t>
            </a:r>
            <a:br>
              <a:rPr sz="2100"/>
            </a:br>
            <a:r>
              <a:rPr b="1" lang="sk-SK" sz="2100" spc="-1" strike="noStrike">
                <a:solidFill>
                  <a:srgbClr val="ff0000"/>
                </a:solidFill>
                <a:latin typeface="Arial"/>
              </a:rPr>
              <a:t>„Doplnenie systému zdravotníctva o kvalifikovaných odborníkov“</a:t>
            </a:r>
            <a:br>
              <a:rPr sz="2100"/>
            </a:br>
            <a:r>
              <a:rPr b="1" lang="sk-SK" sz="2100" spc="-1" strike="noStrike">
                <a:solidFill>
                  <a:srgbClr val="3366cc"/>
                </a:solidFill>
                <a:latin typeface="Arial"/>
              </a:rPr>
              <a:t>Prioritná os 2 Ďalšie vzdelávanie ako nástroj rozvoja ľudských zdrojov</a:t>
            </a:r>
            <a:endParaRPr b="1" lang="en-US" sz="2100" spc="-1" strike="noStrike">
              <a:solidFill>
                <a:srgbClr val="3366cc"/>
              </a:solidFill>
              <a:latin typeface="Arial"/>
            </a:endParaRPr>
          </a:p>
          <a:p>
            <a:pPr marL="308520" indent="0" algn="ctr">
              <a:lnSpc>
                <a:spcPct val="11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3366cc"/>
                </a:solidFill>
                <a:latin typeface="Arial"/>
              </a:rPr>
              <a:t>Opatrenie 2.2 Podpora ďalšieho vzdelávania v zdravotníctve</a:t>
            </a:r>
            <a:endParaRPr b="1" lang="en-US" sz="2100" spc="-1" strike="noStrike">
              <a:solidFill>
                <a:srgbClr val="3366cc"/>
              </a:solidFill>
              <a:latin typeface="Arial"/>
            </a:endParaRPr>
          </a:p>
          <a:p>
            <a:pPr marL="308520" indent="0" algn="ctr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3366cc"/>
                </a:solidFill>
                <a:latin typeface="Arial"/>
              </a:rPr>
              <a:t>Kód výzvy: OPV 2008/2.2/03</a:t>
            </a:r>
            <a:br>
              <a:rPr sz="2100"/>
            </a:br>
            <a:r>
              <a:rPr b="1" lang="sk-SK" sz="2100" spc="-1" strike="noStrike">
                <a:solidFill>
                  <a:srgbClr val="3366cc"/>
                </a:solidFill>
                <a:latin typeface="Arial"/>
              </a:rPr>
              <a:t>Dátum vyhlásenia výzvy: </a:t>
            </a:r>
            <a:r>
              <a:rPr b="1" lang="sk-SK" sz="2100" spc="-1" strike="noStrike">
                <a:solidFill>
                  <a:srgbClr val="ff0000"/>
                </a:solidFill>
                <a:latin typeface="Arial"/>
              </a:rPr>
              <a:t>19.novembra</a:t>
            </a:r>
            <a:r>
              <a:rPr b="1" lang="sk-SK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k-SK" sz="2100" spc="-1" strike="noStrike">
                <a:solidFill>
                  <a:srgbClr val="ff0000"/>
                </a:solidFill>
                <a:latin typeface="Arial"/>
              </a:rPr>
              <a:t>2008</a:t>
            </a:r>
            <a:br>
              <a:rPr sz="2100"/>
            </a:br>
            <a:r>
              <a:rPr b="1" lang="sk-SK" sz="2100" spc="-1" strike="noStrike">
                <a:solidFill>
                  <a:srgbClr val="3366cc"/>
                </a:solidFill>
                <a:latin typeface="Arial"/>
              </a:rPr>
              <a:t>Dátum uzávierky prijímania žiadostí o NFP: </a:t>
            </a:r>
            <a:r>
              <a:rPr b="1" lang="sk-SK" sz="2100" spc="-1" strike="noStrike">
                <a:solidFill>
                  <a:srgbClr val="ff0000"/>
                </a:solidFill>
                <a:latin typeface="Arial"/>
              </a:rPr>
              <a:t>13. február 2009</a:t>
            </a:r>
            <a:br>
              <a:rPr sz="2100"/>
            </a:br>
            <a:br>
              <a:rPr sz="2000"/>
            </a:br>
            <a:endParaRPr b="1" lang="en-US" sz="2100" spc="-1" strike="noStrike">
              <a:solidFill>
                <a:srgbClr val="3366cc"/>
              </a:solidFill>
              <a:latin typeface="Arial"/>
            </a:endParaRPr>
          </a:p>
          <a:p>
            <a:pPr marL="308520" indent="-308520" algn="ctr">
              <a:lnSpc>
                <a:spcPct val="105000"/>
              </a:lnSpc>
              <a:spcBef>
                <a:spcPts val="400"/>
              </a:spcBef>
              <a:spcAft>
                <a:spcPts val="499"/>
              </a:spcAft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sk-SK" sz="1600" spc="-1" strike="noStrike" u="sng">
                <a:solidFill>
                  <a:srgbClr val="3366cc"/>
                </a:solidFill>
                <a:uFillTx/>
                <a:latin typeface="Arial"/>
              </a:rPr>
              <a:t> </a:t>
            </a:r>
            <a:endParaRPr b="1" lang="en-US" sz="16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713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Arial"/>
              </a:rPr>
              <a:t>Podpora ďalšieho vzdelávania v zdravotníctv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751"/>
              </a:spcAft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3366cc"/>
                </a:solidFill>
                <a:latin typeface="Arial"/>
              </a:rPr>
              <a:t>Cieľ opatrenia:</a:t>
            </a:r>
            <a:r>
              <a:rPr b="1" lang="sk-SK" sz="2400" spc="-1" strike="noStrike">
                <a:solidFill>
                  <a:srgbClr val="3366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spcAft>
                <a:spcPts val="624"/>
              </a:spcAft>
              <a:buClr>
                <a:srgbClr val="0a2a5a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333399"/>
                </a:solidFill>
                <a:latin typeface="Arial"/>
              </a:rPr>
              <a:t>Podpora vzdelávania zdravotníckych pracovníkov s ohľadom na legislatívne zmeny a reštrukturalizáciu zdravotníctva</a:t>
            </a:r>
            <a:r>
              <a:rPr b="1" lang="sk-SK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spcAft>
                <a:spcPts val="814"/>
              </a:spcAft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3366cc"/>
                </a:solidFill>
                <a:latin typeface="Arial"/>
              </a:rPr>
              <a:t>Oprávnené aktivity  </a:t>
            </a:r>
            <a:endParaRPr b="1" lang="en-US" sz="26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50"/>
              </a:spcBef>
              <a:spcAft>
                <a:spcPts val="689"/>
              </a:spcAft>
              <a:buClr>
                <a:srgbClr val="0a2a5a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333399"/>
                </a:solidFill>
                <a:latin typeface="Arial"/>
              </a:rPr>
              <a:t>Podpora špecializačného štúdia zdravotníckych pracovníkov na doplnenie a stabilizáciu stavov kvalifikovaných zdravotníckych pracovníkov v samosprávnych krajoch.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713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Arial"/>
              </a:rPr>
              <a:t>Financovanie projektu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3366cc"/>
                </a:solidFill>
                <a:latin typeface="Arial"/>
              </a:rPr>
              <a:t>Celkový rozpočet projektu: </a:t>
            </a:r>
            <a:r>
              <a:rPr b="0" lang="sk-SK" sz="2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200" spc="-1" strike="noStrike">
                <a:solidFill>
                  <a:srgbClr val="3366cc"/>
                </a:solidFill>
                <a:latin typeface="Arial"/>
              </a:rPr>
              <a:t>  1 493 719,46 Eur</a:t>
            </a:r>
            <a:r>
              <a:rPr b="0" lang="sk-SK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3366cc"/>
                </a:solidFill>
                <a:latin typeface="Arial"/>
              </a:rPr>
              <a:t>Vyčerpané finančné prostriedky:</a:t>
            </a:r>
            <a:r>
              <a:rPr b="0" lang="sk-SK" sz="2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200" spc="-1" strike="noStrike">
                <a:solidFill>
                  <a:srgbClr val="3366cc"/>
                </a:solidFill>
                <a:latin typeface="Arial"/>
              </a:rPr>
              <a:t>              1 491 027,84 Eur</a:t>
            </a:r>
            <a:endParaRPr b="1" lang="en-US" sz="22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3366cc"/>
                </a:solidFill>
                <a:latin typeface="Arial"/>
              </a:rPr>
              <a:t>Finančné prostriedky uhradené                                  zdravotníckym zariadeniam:</a:t>
            </a:r>
            <a:r>
              <a:rPr b="0" lang="sk-SK" sz="2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200" spc="-1" strike="noStrike">
                <a:solidFill>
                  <a:srgbClr val="3366cc"/>
                </a:solidFill>
                <a:latin typeface="Arial"/>
              </a:rPr>
              <a:t>  1 300 088,59 Eur </a:t>
            </a:r>
            <a:endParaRPr b="1" lang="en-US" sz="22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3366cc"/>
                </a:solidFill>
                <a:latin typeface="Arial"/>
              </a:rPr>
              <a:t>Zrefundované žiadosti o platbu (15) :</a:t>
            </a:r>
            <a:r>
              <a:rPr b="0" lang="sk-SK" sz="2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2200" spc="-1" strike="noStrike">
                <a:solidFill>
                  <a:srgbClr val="3366cc"/>
                </a:solidFill>
                <a:latin typeface="Arial"/>
              </a:rPr>
              <a:t>  1 505 508,49 Eur</a:t>
            </a:r>
            <a:endParaRPr b="1" lang="en-US" sz="2200" spc="-1" strike="noStrike">
              <a:solidFill>
                <a:srgbClr val="3366cc"/>
              </a:solidFill>
              <a:latin typeface="Arial"/>
            </a:endParaRPr>
          </a:p>
          <a:p>
            <a:pPr lvl="1" marL="1440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33399"/>
                </a:solidFill>
                <a:latin typeface="Arial"/>
              </a:rPr>
              <a:t>Z toho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1440000" indent="-285840">
              <a:lnSpc>
                <a:spcPct val="100000"/>
              </a:lnSpc>
              <a:spcBef>
                <a:spcPts val="451"/>
              </a:spcBef>
              <a:spcAft>
                <a:spcPts val="561"/>
              </a:spcAft>
              <a:buClr>
                <a:srgbClr val="0a2a5a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33399"/>
                </a:solidFill>
                <a:latin typeface="Arial"/>
              </a:rPr>
              <a:t>prostriedky EÚ 85%:</a:t>
            </a:r>
            <a:r>
              <a:rPr b="0" lang="sk-SK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333399"/>
                </a:solidFill>
                <a:latin typeface="Arial"/>
              </a:rPr>
              <a:t>                  1 279 679,30 Eur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1440000" indent="-285840">
              <a:lnSpc>
                <a:spcPct val="100000"/>
              </a:lnSpc>
              <a:spcBef>
                <a:spcPts val="451"/>
              </a:spcBef>
              <a:spcAft>
                <a:spcPts val="561"/>
              </a:spcAft>
              <a:buClr>
                <a:srgbClr val="0a2a5a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33399"/>
                </a:solidFill>
                <a:latin typeface="Arial"/>
              </a:rPr>
              <a:t>prostriedky ŠR 10%:</a:t>
            </a:r>
            <a:r>
              <a:rPr b="0" lang="sk-SK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333399"/>
                </a:solidFill>
                <a:latin typeface="Arial"/>
              </a:rPr>
              <a:t>                     150 552,62 Eur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1440000" indent="-285840">
              <a:lnSpc>
                <a:spcPct val="100000"/>
              </a:lnSpc>
              <a:spcBef>
                <a:spcPts val="451"/>
              </a:spcBef>
              <a:spcAft>
                <a:spcPts val="561"/>
              </a:spcAft>
              <a:buClr>
                <a:srgbClr val="0a2a5a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33399"/>
                </a:solidFill>
                <a:latin typeface="Arial"/>
              </a:rPr>
              <a:t>prostriedky z rozpočtu VÚC: </a:t>
            </a:r>
            <a:r>
              <a:rPr b="0" lang="sk-SK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333399"/>
                </a:solidFill>
                <a:latin typeface="Arial"/>
              </a:rPr>
              <a:t>         75 276,57 Eur </a:t>
            </a:r>
            <a:r>
              <a:rPr b="0" lang="sk-SK" sz="1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1440000" indent="-285840">
              <a:lnSpc>
                <a:spcPct val="100000"/>
              </a:lnSpc>
              <a:spcBef>
                <a:spcPts val="451"/>
              </a:spcBef>
              <a:spcAft>
                <a:spcPts val="561"/>
              </a:spcAft>
              <a:buClr>
                <a:srgbClr val="3366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366cc"/>
                </a:solidFill>
                <a:latin typeface="Arial"/>
              </a:rPr>
              <a:t>Neoprávnené výdavky: </a:t>
            </a:r>
            <a:r>
              <a:rPr b="0" lang="sk-SK" sz="1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3366cc"/>
                </a:solidFill>
                <a:latin typeface="Arial"/>
              </a:rPr>
              <a:t>       3 885,61 Eur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1440000" indent="0">
              <a:lnSpc>
                <a:spcPct val="125000"/>
              </a:lnSpc>
              <a:spcBef>
                <a:spcPts val="499"/>
              </a:spcBef>
              <a:spcAft>
                <a:spcPts val="62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713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Arial"/>
              </a:rPr>
              <a:t>Časová postupnosť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751"/>
              </a:spcAft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66cc"/>
                </a:solidFill>
                <a:latin typeface="Arial"/>
              </a:rPr>
              <a:t>Rozhodnutie o schválení žiadosti o NFP : 19. júna 2009</a:t>
            </a:r>
            <a:endParaRPr b="1" lang="en-US" sz="24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751"/>
              </a:spcAft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66cc"/>
                </a:solidFill>
                <a:latin typeface="Arial"/>
              </a:rPr>
              <a:t>Zmluva o poskytnutí NFP: 10. augusta 2009</a:t>
            </a:r>
            <a:endParaRPr b="1" lang="en-US" sz="24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751"/>
              </a:spcAft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66cc"/>
                </a:solidFill>
                <a:latin typeface="Arial"/>
              </a:rPr>
              <a:t>Realizácia projektu: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1. septembra 2009 – 31. augusta 2012</a:t>
            </a:r>
            <a:endParaRPr b="1" lang="en-US" sz="24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spcAft>
                <a:spcPts val="624"/>
              </a:spcAft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66cc"/>
                </a:solidFill>
                <a:latin typeface="Arial"/>
              </a:rPr>
              <a:t>Dodatok č. 1 k Zmluve o poskytnutí NFP: 6. novembra 2009             </a:t>
            </a:r>
            <a:r>
              <a:rPr b="1" lang="sk-SK" sz="2000" spc="-1" strike="noStrike">
                <a:solidFill>
                  <a:srgbClr val="3366cc"/>
                </a:solidFill>
                <a:latin typeface="Arial"/>
              </a:rPr>
              <a:t>(zmena sídla prijímateľa, prerozdelenie počtu frekventantov v špecializačných odboroch)</a:t>
            </a:r>
            <a:endParaRPr b="1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spcAft>
                <a:spcPts val="624"/>
              </a:spcAft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66cc"/>
                </a:solidFill>
                <a:latin typeface="Arial"/>
              </a:rPr>
              <a:t>Dodatok č. 2 k Zmluve o poskytnutí NFP: 30. decembra 2009</a:t>
            </a:r>
            <a:r>
              <a:rPr b="1" lang="sk-SK" sz="2000" spc="-1" strike="noStrike">
                <a:solidFill>
                  <a:srgbClr val="3366cc"/>
                </a:solidFill>
                <a:latin typeface="Arial"/>
              </a:rPr>
              <a:t> (zmena sídla a právnej formy zdrav. zariadenia, doplnenie špecializačných odborov, vyradenie zdrav. zariadenia)</a:t>
            </a:r>
            <a:endParaRPr b="1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713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Arial"/>
              </a:rPr>
              <a:t>Časová postupnosť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spcAft>
                <a:spcPts val="624"/>
              </a:spcAft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66cc"/>
                </a:solidFill>
                <a:latin typeface="Arial"/>
              </a:rPr>
              <a:t>Dodatok č. 3 k Zmluve o poskytnutí NFP: 25. septembra 2010 </a:t>
            </a:r>
            <a:r>
              <a:rPr b="1" lang="sk-SK" sz="2000" spc="-1" strike="noStrike">
                <a:solidFill>
                  <a:srgbClr val="3366cc"/>
                </a:solidFill>
                <a:latin typeface="Arial"/>
              </a:rPr>
              <a:t>(zvýšenie počtu frekventantov)</a:t>
            </a:r>
            <a:endParaRPr b="1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spcAft>
                <a:spcPts val="624"/>
              </a:spcAft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66cc"/>
                </a:solidFill>
                <a:latin typeface="Arial"/>
              </a:rPr>
              <a:t>Dodatok č. 4 k Zmluve o poskytnutí NFP: 2. marca 2011 </a:t>
            </a:r>
            <a:r>
              <a:rPr b="1" lang="sk-SK" sz="2000" spc="-1" strike="noStrike">
                <a:solidFill>
                  <a:srgbClr val="3366cc"/>
                </a:solidFill>
                <a:latin typeface="Arial"/>
              </a:rPr>
              <a:t>(zmena názvu, právnej formy zdrav. zariadenia, zmena miesta realizácie, zvýšenie počtu frekventantov, presun nevyčerpaných finančných prostriedkov, zjednotenie podpoložiek v rámci rozpočtu)</a:t>
            </a:r>
            <a:endParaRPr b="1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spcAft>
                <a:spcPts val="624"/>
              </a:spcAft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66cc"/>
                </a:solidFill>
                <a:latin typeface="Arial"/>
              </a:rPr>
              <a:t>Dodatok č. 5 k Zmluve o  poskytnutí NFP: 26. októbra 2011 (</a:t>
            </a:r>
            <a:r>
              <a:rPr b="1" lang="sk-SK" sz="2000" spc="-1" strike="noStrike">
                <a:solidFill>
                  <a:srgbClr val="3366cc"/>
                </a:solidFill>
                <a:latin typeface="Arial"/>
              </a:rPr>
              <a:t>zvýšenie počtu frekventantov, presun nevyčerpaných finančných prostriedkov, doplnenie špecializačných odborov)</a:t>
            </a:r>
            <a:endParaRPr b="1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66cc"/>
                </a:solidFill>
                <a:latin typeface="Arial"/>
              </a:rPr>
              <a:t>Dodatok č. 6 k Zmluve o poskytnutí NFP: 27. júla 2012 </a:t>
            </a:r>
            <a:r>
              <a:rPr b="1" lang="sk-SK" sz="1800" spc="-1" strike="noStrike">
                <a:solidFill>
                  <a:srgbClr val="3366cc"/>
                </a:solidFill>
                <a:latin typeface="Arial"/>
              </a:rPr>
              <a:t>(predĺženie časového rámca implementovania projektu)</a:t>
            </a:r>
            <a:endParaRPr b="1" lang="en-US" sz="18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9647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Spolupracujúce subjekty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425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lnSpc>
                <a:spcPct val="125000"/>
              </a:lnSpc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3366cc"/>
                </a:solidFill>
                <a:latin typeface="Arial"/>
              </a:rPr>
              <a:t>Fakultná nemocnica Trenčín (21)</a:t>
            </a:r>
            <a:endParaRPr b="1" lang="en-US" sz="2200" spc="-1" strike="noStrike">
              <a:solidFill>
                <a:srgbClr val="3366cc"/>
              </a:solidFill>
              <a:latin typeface="Arial"/>
            </a:endParaRPr>
          </a:p>
          <a:p>
            <a:pPr marL="126720" indent="-126720">
              <a:lnSpc>
                <a:spcPct val="125000"/>
              </a:lnSpc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3366cc"/>
                </a:solidFill>
                <a:latin typeface="Arial"/>
              </a:rPr>
              <a:t>NsP Prievidza so sídlom v Bojniciach (43)</a:t>
            </a:r>
            <a:endParaRPr b="1" lang="en-US" sz="2200" spc="-1" strike="noStrike">
              <a:solidFill>
                <a:srgbClr val="3366cc"/>
              </a:solidFill>
              <a:latin typeface="Arial"/>
            </a:endParaRPr>
          </a:p>
          <a:p>
            <a:pPr marL="126720" indent="-126720">
              <a:lnSpc>
                <a:spcPct val="125000"/>
              </a:lnSpc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3366cc"/>
                </a:solidFill>
                <a:latin typeface="Arial"/>
              </a:rPr>
              <a:t>NsP Považská Bystrica (12)</a:t>
            </a:r>
            <a:endParaRPr b="1" lang="en-US" sz="2200" spc="-1" strike="noStrike">
              <a:solidFill>
                <a:srgbClr val="3366cc"/>
              </a:solidFill>
              <a:latin typeface="Arial"/>
            </a:endParaRPr>
          </a:p>
          <a:p>
            <a:pPr marL="126720" indent="-126720">
              <a:lnSpc>
                <a:spcPct val="125000"/>
              </a:lnSpc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3366cc"/>
                </a:solidFill>
                <a:latin typeface="Arial"/>
              </a:rPr>
              <a:t>NsP Myjava (15)</a:t>
            </a:r>
            <a:endParaRPr b="1" lang="en-US" sz="2200" spc="-1" strike="noStrike">
              <a:solidFill>
                <a:srgbClr val="3366cc"/>
              </a:solidFill>
              <a:latin typeface="Arial"/>
            </a:endParaRPr>
          </a:p>
          <a:p>
            <a:pPr marL="126720" indent="-126720">
              <a:lnSpc>
                <a:spcPct val="125000"/>
              </a:lnSpc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3366cc"/>
                </a:solidFill>
                <a:latin typeface="Arial"/>
              </a:rPr>
              <a:t>AP ORTHO, s.r.o., Stará Turá </a:t>
            </a:r>
            <a:r>
              <a:rPr b="1" lang="sk-SK" sz="2000" spc="-1" strike="noStrike">
                <a:solidFill>
                  <a:srgbClr val="3366cc"/>
                </a:solidFill>
                <a:latin typeface="Arial"/>
              </a:rPr>
              <a:t>(ukončenie FPOŠŠ 2.12.2011) </a:t>
            </a:r>
            <a:endParaRPr b="1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126720" indent="-126720">
              <a:lnSpc>
                <a:spcPct val="125000"/>
              </a:lnSpc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3366cc"/>
                </a:solidFill>
                <a:latin typeface="Arial"/>
              </a:rPr>
              <a:t>MUDr. Milan Halinár, Stará Turá </a:t>
            </a:r>
            <a:r>
              <a:rPr b="1" lang="sk-SK" sz="2000" spc="-1" strike="noStrike">
                <a:solidFill>
                  <a:srgbClr val="3366cc"/>
                </a:solidFill>
                <a:latin typeface="Arial"/>
              </a:rPr>
              <a:t>(ukončenie FPOŠŠ 9.1.2012) </a:t>
            </a:r>
            <a:endParaRPr b="1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126720" indent="-126720">
              <a:lnSpc>
                <a:spcPct val="125000"/>
              </a:lnSpc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3366cc"/>
                </a:solidFill>
                <a:latin typeface="Arial"/>
              </a:rPr>
              <a:t>DENTAL ŠTÚDIO, s.r.o., Trenčín (2) </a:t>
            </a:r>
            <a:r>
              <a:rPr b="1" lang="sk-SK" sz="2000" spc="-1" strike="noStrike">
                <a:solidFill>
                  <a:srgbClr val="3366cc"/>
                </a:solidFill>
                <a:latin typeface="Arial"/>
              </a:rPr>
              <a:t>ukončenie FPOŠŠ 16.10.2010)</a:t>
            </a:r>
            <a:endParaRPr b="1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126720" indent="-126720">
              <a:lnSpc>
                <a:spcPct val="125000"/>
              </a:lnSpc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3366cc"/>
                </a:solidFill>
                <a:latin typeface="Arial"/>
              </a:rPr>
              <a:t>ÚSMEV, s.r.o., Považská Bystrica </a:t>
            </a:r>
            <a:r>
              <a:rPr b="1" lang="sk-SK" sz="2000" spc="-1" strike="noStrike">
                <a:solidFill>
                  <a:srgbClr val="3366cc"/>
                </a:solidFill>
                <a:latin typeface="Arial"/>
              </a:rPr>
              <a:t>(ukončenie FPOŠŠ 11.10.2011) </a:t>
            </a:r>
            <a:endParaRPr b="1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126720" indent="-126720">
              <a:lnSpc>
                <a:spcPct val="125000"/>
              </a:lnSpc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3366cc"/>
                </a:solidFill>
                <a:latin typeface="Arial"/>
              </a:rPr>
              <a:t>BARTADENT, s.r.o., Trenčín </a:t>
            </a:r>
            <a:r>
              <a:rPr b="1" lang="sk-SK" sz="2000" spc="-1" strike="noStrike">
                <a:solidFill>
                  <a:srgbClr val="3366cc"/>
                </a:solidFill>
                <a:latin typeface="Arial"/>
              </a:rPr>
              <a:t>(ukončenie FPOŠŠ 26.10.2011) </a:t>
            </a:r>
            <a:endParaRPr b="1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126720" indent="-126720">
              <a:lnSpc>
                <a:spcPct val="125000"/>
              </a:lnSpc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3366cc"/>
                </a:solidFill>
                <a:latin typeface="Arial"/>
              </a:rPr>
              <a:t>SUN DENTAL, s.r.o., Púchov </a:t>
            </a:r>
            <a:r>
              <a:rPr b="1" lang="sk-SK" sz="2000" spc="-1" strike="noStrike">
                <a:solidFill>
                  <a:srgbClr val="3366cc"/>
                </a:solidFill>
                <a:latin typeface="Arial"/>
              </a:rPr>
              <a:t>(ukončenie FPOŠŠ 31.10.2011)  </a:t>
            </a:r>
            <a:endParaRPr b="1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1267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74560" y="3429000"/>
            <a:ext cx="8569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Clr>
                <a:srgbClr val="ffff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Arial"/>
              </a:rPr>
              <a:t>Oprávnené cieľové skupiny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507240" indent="-268200">
              <a:lnSpc>
                <a:spcPct val="105000"/>
              </a:lnSpc>
              <a:spcBef>
                <a:spcPts val="601"/>
              </a:spcBef>
              <a:buClr>
                <a:srgbClr val="0a2a5a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66cc"/>
                </a:solidFill>
                <a:latin typeface="Arial"/>
              </a:rPr>
              <a:t>Lekári študujúci v špecializačných odboroch: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072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3366cc"/>
                </a:solidFill>
                <a:latin typeface="Arial"/>
              </a:rPr>
              <a:t>od 1.9.2009</a:t>
            </a:r>
            <a:r>
              <a:rPr b="1" lang="sk-SK" sz="2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sk-SK" sz="2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sk-SK" sz="2200" spc="-1" strike="noStrike">
                <a:solidFill>
                  <a:srgbClr val="3366cc"/>
                </a:solidFill>
                <a:latin typeface="Arial"/>
              </a:rPr>
              <a:t>      od 29.12.2009 </a:t>
            </a:r>
            <a:r>
              <a:rPr b="1" lang="sk-SK" sz="2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sk-SK" sz="2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sk-SK" sz="2200" spc="-1" strike="noStrike">
                <a:solidFill>
                  <a:srgbClr val="3366cc"/>
                </a:solidFill>
                <a:latin typeface="Arial"/>
              </a:rPr>
              <a:t>od 26.10.2011 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lvl="4" marL="213480" indent="-213480">
              <a:lnSpc>
                <a:spcPct val="105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tomatológi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 Čeľustná ortopédi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ia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3480" indent="-213480">
              <a:lnSpc>
                <a:spcPct val="105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AI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 Vnútorné lekárstvo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ndokrinoló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3480" indent="-213480">
              <a:lnSpc>
                <a:spcPct val="105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ádiológi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 Pediatri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rdioló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3480" indent="-213480">
              <a:lnSpc>
                <a:spcPct val="105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adiačná onkológi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 Gyn. a pôrodníctvo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ngioló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3480" indent="-213480">
              <a:lnSpc>
                <a:spcPct val="105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rgentná medicín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 Neurológi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Geria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3480" indent="-213480">
              <a:lnSpc>
                <a:spcPct val="105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atologická anatómi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 Ortopédi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Gastroenteroló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3480" indent="-213480">
              <a:lnSpc>
                <a:spcPct val="105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šeobecné lekárstvo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 Otorinolaryngoló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3480" indent="-213480">
              <a:lnSpc>
                <a:spcPct val="105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hirurgi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3480" indent="-213480">
              <a:lnSpc>
                <a:spcPct val="105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Úrazová chiru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3480" indent="0">
              <a:lnSpc>
                <a:spcPct val="105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3480" indent="0">
              <a:lnSpc>
                <a:spcPct val="105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3480" indent="0">
              <a:lnSpc>
                <a:spcPct val="105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3480" indent="0">
              <a:lnSpc>
                <a:spcPct val="105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3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cc"/>
              </a:solidFill>
              <a:latin typeface="Arial"/>
            </a:endParaRPr>
          </a:p>
          <a:p>
            <a:pPr lvl="2" marL="1074240" indent="0">
              <a:lnSpc>
                <a:spcPct val="105000"/>
              </a:lnSpc>
              <a:spcBef>
                <a:spcPts val="300"/>
              </a:spcBef>
              <a:spcAft>
                <a:spcPts val="37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713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Arial"/>
              </a:rPr>
              <a:t>Cieľové skupiny projektu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k-SK" sz="2800" spc="-1" strike="noStrike">
              <a:solidFill>
                <a:srgbClr val="3366cc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95280" y="1628640"/>
          <a:ext cx="8496360" cy="4032360"/>
        </p:xfrm>
        <a:graphic>
          <a:graphicData uri="http://schemas.openxmlformats.org/drawingml/2006/table">
            <a:tbl>
              <a:tblPr/>
              <a:tblGrid>
                <a:gridCol w="4248000"/>
                <a:gridCol w="4248360"/>
              </a:tblGrid>
              <a:tr h="773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Počet zdravotníckych pracovníkov v kategórii lekár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 1.9.200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 1.1.20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 1.1.2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 1.1.20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 31.8.20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20:27:22Z</dcterms:created>
  <dc:creator>Tibor Badura</dc:creator>
  <dc:description/>
  <dc:language>en-US</dc:language>
  <cp:lastModifiedBy>stefikova</cp:lastModifiedBy>
  <cp:lastPrinted>2002-03-18T08:54:03Z</cp:lastPrinted>
  <dcterms:modified xsi:type="dcterms:W3CDTF">2013-04-03T16:21:22Z</dcterms:modified>
  <cp:revision>368</cp:revision>
  <dc:subject/>
  <dc:title>Technologie pre bezpecnost</dc:title>
</cp:coreProperties>
</file>