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591-A7BA-4DAD-B16E-DD6B1CEB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964-5EB6-41DE-831D-20DC748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44088-856D-4B35-977F-1C9EBB3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096B-1CF3-4698-B7CC-D236AEB6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07F3B-FC19-45F6-BA7B-4551B13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0505-75B1-4B40-B392-A8EEF458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1E8D-1CF8-4FEE-BD7E-C43E0D5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9FE3A-6DF7-4BBC-B401-4F7A471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49F0C-78F6-4A24-8416-25C1BA3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0735-DCAC-4874-9779-68CF468D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F5C06-EB58-49C1-8BEA-4E653407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DC6EE-5E9A-4B6F-A256-086743B2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08F-D10A-40C2-BB86-7C415271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99C65-F20D-4A39-BAEA-855769C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C2758-2752-46EB-848C-503B353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71D08-303C-433E-8EF4-EB8D7559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1733E-1F9A-49C1-B9D8-DE9131FA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93C7E-0892-44DA-BABC-884B63F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46985-53E1-4457-85B8-1998666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0E2E2-1072-4CB5-86B6-A765B5E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BA00B-5525-4F3B-A132-B3BC9CC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7AD7-A0F5-439A-834D-99486CA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75834-B06F-43E6-9CDC-742E17D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84E-ACBE-4CB6-93CF-EA0D5E58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928A2-388B-44AD-94F4-AB18B51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4C00E-0D44-4F20-90D7-448F36E6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0284C-3399-42D7-B567-794A3F86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33B15-320C-4D93-9814-228727F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9C1F-7E14-421B-80E7-8340EE66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A154-D2C3-4477-BC14-1BF1CD1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02239-8886-422A-876A-F09D784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A015-F085-4169-B0E9-5E2ECDA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7B6D-6746-4BB7-9627-4E738EB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A209-9300-4785-B344-0D1687A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935E-0CBD-4D8D-87F2-08D0EE75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88151-7D2D-4BCC-9E8C-02DCDF8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49E6-D0BE-4049-BF8B-902B44BB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F434-D804-4EC3-B921-318DBFDD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E7909-A18B-47D3-AB0E-013633D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FD3C8-9A07-4655-B051-2C46E71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6BDB8-840C-47DA-B3C0-B2B4BFE3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A4177-31C4-4738-BCDB-09AAC6E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D6A7C-6507-4018-8045-39B30C43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AEA12-F3BF-4579-BBB6-2B28C6D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7B02A-A114-42FA-A024-EBD2AC4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F09-CD66-4CC8-8414-8D5562A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0562-309F-44ED-AABB-128F555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8EE71-23F7-458C-AC37-C429F0F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F466-A3AD-4798-A7F5-700025B2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51B15-9F35-4CC0-9B61-2D8F4DD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3080A-28D1-4962-8413-FC27534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59389-D049-4E33-B452-1EA1B366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56C6F-3738-49FD-B7F2-062FDEC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6701C-93DB-422F-89FE-66A136C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80BC4-1397-4079-972A-47CB6440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7715A-C4AA-4792-A1F1-FB96FC9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FB59-7AA2-4559-9193-069143B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75C23-40BE-4C53-9379-0316BE2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453A6-27C2-4351-AEF7-8C203D9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802B3-70F9-4D76-8674-54B783B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F214D-CA4B-4856-BFA0-25E92E5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A78F2-FEB8-46E8-A8FA-E5A7870E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9B34B-4C97-4764-9F88-1876B22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D4D34-00F3-4F42-9519-7193B58A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EC93C-765D-47F3-AEAD-846E6F40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51118-96F0-4B3E-9F7D-0791626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8AAEC-821F-4C89-8E0E-C90C066E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A9F-14EE-414C-A42B-CE5A6F18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7557A-685F-41AE-9E8F-E618B0A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8D264-4E65-403D-B425-EF7F65F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CC840-630B-4E2F-A021-C3096DE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99835-C19F-4ED9-B230-FB8884F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EDCB6-DC67-47E5-A09C-A2C4126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59210-CCEA-43D5-850A-D860F15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BCAA5-FFDA-47CC-8509-3A54A21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A5763-A2BB-4D8C-AC14-1F758C8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B668C-0202-4558-A5D1-E29B001E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9F66C-A2D3-4DDF-BA92-95CE36AF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39B2-AAA8-41F7-9C1F-99371F2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7F32F-7AF2-4A41-8C27-47392B34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49E61-B83F-4F3E-ACBA-3F7EE754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EF0E0-AAF4-48AE-947C-96A5CE06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55D55-C241-4186-AC1C-02CB002B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E79AE-38F8-47C7-A2E7-3B0A931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6916A-72A7-4738-938E-101C0EE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47CEC-BDF8-4254-A66A-6F22A2E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14412-6698-4EB0-976A-034B4DD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5471F-A7BD-46AC-88CD-7986322D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32066-DCD6-469D-9635-5BC38D00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F83B-8119-4BBC-A20D-D3FE4BC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826FD-FEB7-420C-B45E-1219E78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F11AC-1D1F-455A-A9BF-ADFA2FE7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DB47C-05EE-4D08-B9BA-2F453418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8DD62-7D00-413B-8DA3-A95B8B4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432F3-FB0C-4439-A9CB-1007B97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431B5-C64C-4088-9214-C1B0F56F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B711E-C32C-4F61-AE08-3BCC231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DF229-9F7D-43A8-9350-4894ABD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DF6B0-29AF-4968-8FAC-2BF48DE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B61D7-EC11-48DD-9575-B6F1F18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9BEF-C2D0-4855-BB37-6ADDB9A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8F86A-F62D-4812-9738-967CA05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F7997-74B5-4060-A3F4-9E474332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8CA95-EAF5-47AB-B0C0-35497CE0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2F856-EB47-4DA0-A65C-776EBE95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5A979-3C9D-40FB-9C61-339860A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B1F38-D502-4723-B7B6-3E1C60E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E23DE-6CF0-4FF6-944D-91E98460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F96AD-541A-4A16-B30E-88E02313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22A70-4D91-49E4-84A7-D126CA5E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87C02-0669-4F05-9C7E-9EEE87C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EA1-979C-4308-B86B-8DD980E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0A1-684F-48E2-8775-9E4367B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BB350-23F6-4C79-94B1-DD4ABE93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A07A6-8317-4115-8AE4-3773949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0F32A-371B-4BF2-94F2-B0EB540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B5361-97A0-45C0-BBDA-BA0861D0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5666F-C141-4FBE-94C4-0B5E5B9F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144A4-9119-4F3A-9293-1E014DDC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D20B4-6A6D-416E-AB95-3B01B5A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ED4E5-7D87-414A-8A80-B31B252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C0D2B-8C12-4CCF-BB62-199C7454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2CFAE-573D-4410-B720-C45A68A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514-7563-4388-AE82-6E77B51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86249-92E7-4B1B-ABEB-528FBE5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ED46D-0946-4A90-9943-AECAD99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8CD46-D33E-4128-B726-F8B7D8C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826BA-3DF7-4598-B103-6ECE183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5420B-B555-4C27-A83F-27062F89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72A3A-A8CD-4CA5-A0C0-D0249D80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859B8-E3DC-4FEE-B084-1B72CC49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E2040-8439-43C0-A45A-232DD91D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C4AE8-7CB6-4E34-8FAA-831256A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31C57-C4E8-44D4-89DD-FEA5D3B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F547-0B40-4768-BD89-01BED31F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C380D-1A91-40F1-94FE-6E2F429D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B7597-2323-4257-9C50-801D8A1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7A95B-3F02-48C9-851C-D68D69C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A8286-4730-4036-A12C-4C65C6C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D2C88-5B18-464B-8803-13ECF95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0AA3A-06A9-4162-ADA1-F1B66A6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15A85-1A73-412B-8FBD-3AD695A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C3D23-9D21-4B78-A9B6-EDDDE3D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3C46F-79A5-4C0E-AA01-B861E5EA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64BEF-3D09-4D44-BE61-596DD6CB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27B-DE69-40B4-BCE0-E622B785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86729-FD0D-4363-8CA2-D7B7A2A9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6FE3A-C4DA-4AC7-A22F-314D9FAC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FF1A2-831D-4754-9365-40FFB590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34662-EF2D-4961-84EB-4CEDAD9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8D598-7C38-42EF-B4F2-0A219302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4F0C3-F17C-4DFA-81A7-EA72F20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193B6-B997-4252-8322-52B8E32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DBD2E-3BE2-40EC-91E3-5E99B61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469B3-501C-4DA8-8105-24AB398C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889E5-1D49-4134-A2C2-F58F1D44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ADD4-13B8-43D3-A3D4-7D19349D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54E46-3B18-4FF7-AF32-810AC9F8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C493B-46CA-498E-A35A-681F1A93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03BD8-063E-4E6A-9E68-7FC69F4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4207D-8DC9-4408-8D34-447D3BD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4B60B-A78B-4A1F-B568-135A628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6E98C-9572-4D0C-9645-4FB76F0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6A232-7864-4377-96B9-AD4804F8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CBE74-8CAF-4842-8C74-57A92BC1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8AD7F-7F25-471C-AAED-EFC325E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26C2B-82D8-43E2-B784-59002F0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F9B9-E545-488B-BBCE-29BBC8C0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1945F-951E-4E21-9290-73507B15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BC9F5-D13D-4801-BCEC-4EDCE49D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40E103-0844-4F7E-82F3-31037A70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1AEC1-F809-442C-9134-C47D1FB5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DCA95-AAC0-46CF-99EC-B19FC4F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C102A6-37D1-4511-8CE0-AD396C8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9D926-0878-4786-AE17-DBFDD6A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30328-1E78-4376-8035-8879F53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919B3-CFF2-4966-81E4-7305CB5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403A8-D3C7-482B-BE88-B849CCA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0D95-B225-491C-8FAA-A3D21AC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70E9B0-3EAE-47CF-AAFB-A65C9AB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12DEE0-181D-4A1C-A388-F6DCE5C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21E43A-EC14-4B24-9130-37CA9411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A4F68-0B87-4C79-9AC9-E88722C7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1A838-F567-4486-B8CE-A52E94AF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237F4-CF5D-40C9-A040-8EF0E927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9D9460-9C78-4D49-B6D0-4F325942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9218D-F7C2-489D-81C4-1D500FF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B30E7-1174-483F-8AF4-D91D9F9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A6907-3D15-4517-ACE8-ACF9013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BA89-D5C9-4FF1-89C9-CC53729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47A8C-E9FC-48BF-90EC-8181B91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23D28-1D58-49CE-8F5B-995CD7C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4F7401-97B4-405A-9A4D-79C79EE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3CB2E-C7CD-42DE-9EDA-C6B4FAF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48D8C-D85A-46AC-893A-E512187F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04178-3B5F-4348-B0AC-BB0891BC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66A16D-153F-4E5D-9B89-0405B95B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D324A-D633-49A2-B178-6914AA8D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79905F-676F-4DC3-B1A0-470577E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345CD-2E76-4311-8A69-2287FB5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683D-B69D-4909-92F9-94113C5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D7D8F-8CD6-4F1E-83C8-F523FE4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A5EB2-CF97-47B6-8673-754F420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08303-1CAB-4CD2-8A64-EAF5EDE2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7ED53-D400-4089-833D-6257565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629E8-47BF-4CFD-B0AB-EB3D360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5395A-F6C7-4FB7-B2B6-5E845DB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EF1E6C-25CE-468E-98CD-7CE3A12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A94495-E220-473E-9497-306093DA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670F3-995C-4970-9949-4644BEAE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FD0E34-0CF2-4193-B025-90177553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6F24-E95D-4275-B531-B65934B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9F9C9-9091-44FD-9DF1-96B4B254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98BD93-51BA-4FEE-8B2F-343A914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1225A-BB28-4510-A3DB-27BD8DE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6A7B08-86A6-4035-AFE6-A13D4D2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3A464C-E2A4-4600-AEFA-CC14C7A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DE6453-8431-463B-A41A-E1E0D38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275523-F98B-4CBB-AB9A-1048D80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0FEBEE-91CA-40D2-A218-5D0C764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2B1EF-C0D1-4AD4-B78C-B9DFF45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628B6-8D1C-4202-9AD7-899F0540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212-D123-4B64-B578-51C79708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5021-531A-4EC8-B470-63B38D50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D0A270-324C-4FF4-A0A6-CA372B0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47790A-A838-43A6-83D8-07FFAD58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038C1C-C588-4E0E-8622-42689273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9EF2E4-6F47-4995-879B-8CCB8D8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84D247-952F-48AB-9649-1A9DF4A5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E0E3C4-F369-4F97-B7BA-36999D6F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AD24D-68F3-44D1-A384-F61EB45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0C5B14-FA95-4D05-AF74-1444377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8D8B00-7E36-42A1-8404-DC2B427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2FF4FC-39FD-4F67-8CAC-A14561E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5A75-7EE5-4B8A-9CB7-113C286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19897F-52D4-4656-A675-BBE814D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13E51E-2981-433B-BAA0-895ACC18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40A135-5228-429F-BE12-9047F2DA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6B5B-8297-4BBF-AB25-5C5EDC5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B2E8-0C95-4224-82EA-6A7E071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E6E7-1390-4D14-BE01-689AC97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7D2F-023B-4603-81E3-DC9DB3C4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7AA0-36D6-4701-A326-8D621F2D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78E7-3BF3-42E1-92B6-35DFD474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317C-0004-4BC1-86EF-F4CB116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93C8-5E79-441D-A4C8-B6B7F4E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E5A-0B18-46C3-B69F-7343A1D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665B-2447-4394-B8B5-31F14F1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D131-DDC7-4265-8DD5-AB6E54E4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8DFFB-002D-4CD8-90E3-BC7BB51A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0D4B-11CC-4BBB-AACE-4BB17E2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7DC0-6693-42FA-9DD9-4941114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5163-1EEF-4AD4-A369-D767E23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AB1A-F76D-4347-9CE9-B621AEA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75E4-63C0-434B-9A66-83118F8C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399E-CE41-4F1B-806E-21931496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A127-7127-4F9A-859C-BB866AF9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736-A6B7-45A8-AF6A-BBD4FDFC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FA37C-992A-4165-8515-A470753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083C-9121-497F-9B02-3F882C2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3FC3-846A-4034-AE9F-73D43AD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9779-1DB3-4467-8FE3-3CAAD48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CDA2-68E3-4648-8E81-FC8A989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8021-B367-4200-85AD-ECAB5E0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D129-5908-42DA-B6D1-37F5E27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1460-C569-4ECB-80FB-88FD8D4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16E8-1FD4-4D9D-BBEA-CC2D2F99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AAED-566D-4A49-B259-36F546AE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AA0-F4EC-4CB7-BAD0-F6B81CCA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6562-1079-43EB-9898-78079359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00D7-FF4A-4F38-8CD5-FD32A3E1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2CDE-286E-4F5C-AB75-FB6AB24C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8D42-49E6-4112-81E7-31063542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F98E8-F228-4ADD-9472-32CBA51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FCB20-9060-4E48-891A-47D1F55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EDCB-5B33-46A9-99F7-56965863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64CA-842F-4F2F-8433-E6B811E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879C-EF86-46DC-AB01-4E186FB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DBCA-0C4C-4632-AEE9-FDA72B4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216-7DFB-4912-8DC3-39273BD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00BD-800B-419F-89C4-56B3504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5EA4-9E9C-4823-80B5-EFF83AE9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FD09B-DA8F-46D6-847B-12F98AD0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75FB-F8D4-494F-8528-A8C9865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F36A-EDEE-418C-85E8-56FDFE70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DAC9-FB12-4B67-B86F-838FB53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AA02-428D-4324-86B2-AFA4BB09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F138-66C4-40CA-A5B7-2E8EB52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4C5E-6773-422F-B3D3-9261B2C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26E8-31BB-44B2-BE05-3214BAD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D8E-E418-4D0E-AE3D-E54CA29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6852-533B-44B1-AF78-04E9B77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B096-63B7-4960-84C8-44C6E23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9999-35E9-44DD-8AF6-BE6FADC8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AACF-AD79-4F6B-8424-228B65D6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F036-62F1-4E74-AEFA-136AE0CC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C097D-8725-4903-90E9-12C4CBFF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D1D4-871B-47EE-9E0F-94F4F042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AF4E9-90E4-4B37-A7A6-051C3167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00FAE-A589-4B5D-94F3-FE03EC0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3B04-6AB8-4C25-9038-68E9B8F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3BA-05A5-46BE-AD0F-59B09E3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81FE-9029-461D-8871-4D5B510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B2F1-DB20-40A6-A274-20ECF3F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6253B-2838-4FCC-AF8F-CB3D8A8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D550-D38C-42F5-B169-CB8070A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CB40-4AF2-4AC7-BD51-7AB93BD9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16F3-36F8-42BA-8C7E-D92D4DCD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96D1-A5D0-4981-AAA7-CFE7243A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E5BC-5A7B-401D-A442-423D26EA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B4C6-EEF2-43B7-88B5-9F36828A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78F0-7409-4910-8C0C-D6B5FFF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3BD-B682-4E08-ACA8-A4ECE13302AB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C49-096A-47A7-8A95-370764858A5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55E-89BF-46AD-A065-3EB5A8FB6B9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70E-F133-4473-9F8A-FCEF9BEA582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30F-E0E8-46CC-8BD6-F7E0B9FF13E6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EE1D-CE33-4BD4-8422-A9EE2776DB4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2F8-1ED4-43F5-B31C-4EF21CAE418C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855-D271-4B1F-9DC5-66E59FFEA4B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B56-9D7E-4A6D-8A0D-1916A3CE44C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A1D-07B9-4403-8CE9-616D709DC46C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C833-5787-4854-839A-7C18A334CA51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305C-92F7-4DB0-99A5-78E9EF35F51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547B-1075-4130-B23D-A244435B85E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CE1-E40B-405E-B6DC-2F50875348A3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BA45-71B4-4287-8822-A408683E0CB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5A0-A621-4FE5-BDA1-548B3BCA58D1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EBE-BCB5-4271-97AE-5F9F07D337EB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E3F7-B3FB-40B9-81E6-F18404C25AC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44E-5197-4257-B7C7-935A08608A9A}" type="slidenum"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E4A-9C80-4E50-BAE5-9DC71AEF0E2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1A96-BF40-4456-9BC1-410117CF8B36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5AD-9D41-4EC1-8BF7-BC49EF90EA2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9E92-9663-474A-A665-6739B041E625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7901-7B89-4053-A19D-5BA225F9B5D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FE9-3D11-4335-B273-1D62FE0EFF27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0F3-8FB7-4ABA-8925-88A7DBC577F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514368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Implementácia OPV v rámci dopytovo- orientovaných projektov SORO ASFEU</a:t>
            </a:r>
            <a:br>
              <a:rPr sz="1600"/>
            </a:b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23" name="Skupina 6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224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25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356760" y="5124600"/>
            <a:ext cx="5286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F EÚ </a:t>
            </a:r>
            <a:br>
              <a:rPr sz="1000"/>
            </a:b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16. 04. 201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0" name="TextovéPole 6"/>
          <p:cNvSpPr/>
          <p:nvPr/>
        </p:nvSpPr>
        <p:spPr>
          <a:xfrm>
            <a:off x="714240" y="2133720"/>
            <a:ext cx="7715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Sumár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1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2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03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05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6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07" name=""/>
          <p:cNvGraphicFramePr/>
          <p:nvPr/>
        </p:nvGraphicFramePr>
        <p:xfrm>
          <a:off x="900000" y="3213000"/>
          <a:ext cx="7704360" cy="2808360"/>
        </p:xfrm>
        <a:graphic>
          <a:graphicData uri="http://schemas.openxmlformats.org/drawingml/2006/table">
            <a:tbl>
              <a:tblPr/>
              <a:tblGrid>
                <a:gridCol w="2006640"/>
                <a:gridCol w="1362240"/>
                <a:gridCol w="1611360"/>
                <a:gridCol w="1361880"/>
                <a:gridCol w="1362240"/>
              </a:tblGrid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809 875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330 033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5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95 910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648 193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TextovéPole 6"/>
          <p:cNvSpPr/>
          <p:nvPr/>
        </p:nvSpPr>
        <p:spPr>
          <a:xfrm>
            <a:off x="735120" y="2060640"/>
            <a:ext cx="82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OK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0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11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3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14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5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16" name=""/>
          <p:cNvGraphicFramePr/>
          <p:nvPr/>
        </p:nvGraphicFramePr>
        <p:xfrm>
          <a:off x="735120" y="2460600"/>
          <a:ext cx="7581960" cy="3355920"/>
        </p:xfrm>
        <a:graphic>
          <a:graphicData uri="http://schemas.openxmlformats.org/drawingml/2006/table">
            <a:tbl>
              <a:tblPr/>
              <a:tblGrid>
                <a:gridCol w="1895400"/>
                <a:gridCol w="1895400"/>
                <a:gridCol w="1895400"/>
                <a:gridCol w="1895760"/>
              </a:tblGrid>
              <a:tr h="231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OK 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za zdroj EÚ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od 01.01.2013 do 03.04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od 01.01.2013 do 03.04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109 082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488 380,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37 014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 767 449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786 780,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090 205,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00 196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1 971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13 567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31 531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3 874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2 751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49 933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3 328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6 229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6 849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83 735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 267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 267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 288 778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381 985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077 417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TextovéPole 6"/>
          <p:cNvSpPr/>
          <p:nvPr/>
        </p:nvSpPr>
        <p:spPr>
          <a:xfrm>
            <a:off x="735120" y="2060640"/>
            <a:ext cx="82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Január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9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20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2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2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3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4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25" name=""/>
          <p:cNvGraphicFramePr/>
          <p:nvPr/>
        </p:nvGraphicFramePr>
        <p:xfrm>
          <a:off x="746280" y="2708280"/>
          <a:ext cx="7570800" cy="279252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2160"/>
                <a:gridCol w="1892520"/>
              </a:tblGrid>
              <a:tr h="177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anuár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 (EÚ) od 01.01.2013 do 31.01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(EÚ) od 01.01.2013 do 31.01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5 897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97 158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17 438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9 79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7 061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279,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 558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 591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7 077,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 934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94 280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72 894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7" name="TextovéPole 6"/>
          <p:cNvSpPr/>
          <p:nvPr/>
        </p:nvSpPr>
        <p:spPr>
          <a:xfrm>
            <a:off x="735120" y="2060640"/>
            <a:ext cx="82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Február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8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29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3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1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32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3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34" name=""/>
          <p:cNvGraphicFramePr/>
          <p:nvPr/>
        </p:nvGraphicFramePr>
        <p:xfrm>
          <a:off x="853920" y="2637000"/>
          <a:ext cx="7318440" cy="2952720"/>
        </p:xfrm>
        <a:graphic>
          <a:graphicData uri="http://schemas.openxmlformats.org/drawingml/2006/table">
            <a:tbl>
              <a:tblPr/>
              <a:tblGrid>
                <a:gridCol w="1783080"/>
                <a:gridCol w="1879560"/>
                <a:gridCol w="1873080"/>
                <a:gridCol w="1782720"/>
              </a:tblGrid>
              <a:tr h="2044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Február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za zdroj EÚ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 (EÚ) od 01.02.2013 do 28.02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(EÚ) od 01.02.2013 do 28.02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25 871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99 190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50 665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2 587,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14 092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9 772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 123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8 196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72 558,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28 176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 300,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 183,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 240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9,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 155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868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38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50 348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470 036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30 588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6" name="TextovéPole 6"/>
          <p:cNvSpPr/>
          <p:nvPr/>
        </p:nvSpPr>
        <p:spPr>
          <a:xfrm>
            <a:off x="735120" y="2060640"/>
            <a:ext cx="82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Marec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7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38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39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0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41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2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43" name=""/>
          <p:cNvGraphicFramePr/>
          <p:nvPr/>
        </p:nvGraphicFramePr>
        <p:xfrm>
          <a:off x="768240" y="2446200"/>
          <a:ext cx="7548840" cy="3359160"/>
        </p:xfrm>
        <a:graphic>
          <a:graphicData uri="http://schemas.openxmlformats.org/drawingml/2006/table">
            <a:tbl>
              <a:tblPr/>
              <a:tblGrid>
                <a:gridCol w="1887480"/>
                <a:gridCol w="1887840"/>
                <a:gridCol w="1885680"/>
                <a:gridCol w="1887840"/>
              </a:tblGrid>
              <a:tr h="233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arec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 (EÚ) od 01.03.2013 do 31.03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(EÚ) od 01.03.2013 do 31.03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14 85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88 306,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61 238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98 456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33 831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65 567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8 015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3 774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8 815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2 589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17 081,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41 983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8 358,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 088,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0 264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 250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4 091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129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38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36 620,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73 211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41 007,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5" name="TextovéPole 6"/>
          <p:cNvSpPr/>
          <p:nvPr/>
        </p:nvSpPr>
        <p:spPr>
          <a:xfrm>
            <a:off x="735120" y="2060640"/>
            <a:ext cx="82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Apríl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6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47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4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9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50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1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52" name=""/>
          <p:cNvGraphicFramePr/>
          <p:nvPr/>
        </p:nvGraphicFramePr>
        <p:xfrm>
          <a:off x="735120" y="2460600"/>
          <a:ext cx="7581960" cy="3344760"/>
        </p:xfrm>
        <a:graphic>
          <a:graphicData uri="http://schemas.openxmlformats.org/drawingml/2006/table">
            <a:tbl>
              <a:tblPr/>
              <a:tblGrid>
                <a:gridCol w="1895400"/>
                <a:gridCol w="1895400"/>
                <a:gridCol w="1895400"/>
                <a:gridCol w="1895760"/>
              </a:tblGrid>
              <a:tr h="231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prí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 od 01.04.2013 do 03.04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54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4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5 110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08 68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9 060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24 865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0 238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4 751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15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 05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1 467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2 984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496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1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 365,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9 258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129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437 509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5 843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05 822,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án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TextovéPole 6"/>
          <p:cNvSpPr/>
          <p:nvPr/>
        </p:nvSpPr>
        <p:spPr>
          <a:xfrm>
            <a:off x="735120" y="2060640"/>
            <a:ext cx="8215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lnenie plánu 1. kvartál 2013 a Apríl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55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56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5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59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0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361" name="Graf 10" descr=""/>
          <p:cNvPicPr/>
          <p:nvPr/>
        </p:nvPicPr>
        <p:blipFill>
          <a:blip r:embed="rId2"/>
          <a:stretch/>
        </p:blipFill>
        <p:spPr>
          <a:xfrm>
            <a:off x="360360" y="2438280"/>
            <a:ext cx="84596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Riziká plnenia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3" name="TextovéPole 6"/>
          <p:cNvSpPr/>
          <p:nvPr/>
        </p:nvSpPr>
        <p:spPr>
          <a:xfrm>
            <a:off x="714240" y="2071800"/>
            <a:ext cx="80726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ako rizikové pri plnení plánu čerpania na rok 2013 vidí ASFEU mesiace máj, jún a november 2013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dôvodom identifikácie rizikovosti uvedených mesiacov je vysoký podiel odhadu čerpania v daných mesiacoch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6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6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6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70" name=""/>
          <p:cNvGraphicFramePr/>
          <p:nvPr/>
        </p:nvGraphicFramePr>
        <p:xfrm>
          <a:off x="554040" y="3397320"/>
          <a:ext cx="8232840" cy="2836800"/>
        </p:xfrm>
        <a:graphic>
          <a:graphicData uri="http://schemas.openxmlformats.org/drawingml/2006/table">
            <a:tbl>
              <a:tblPr/>
              <a:tblGrid>
                <a:gridCol w="2058840"/>
                <a:gridCol w="2057400"/>
                <a:gridCol w="2059200"/>
                <a:gridCol w="2057400"/>
              </a:tblGrid>
              <a:tr h="7650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(zúčtovania zálohovej platby, priebežné a záverečné platby uhradené PJ) a v jednotlivých mesiacoch 2013 (EÚ zdroje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áj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ú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ov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7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dhad čerpan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58 974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8 76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685 748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01 58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5 87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98 745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332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9 990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3 957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22 587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05 857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1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7 354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6 258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62 8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5 041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9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188 691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491 788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243 922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Riziká plnenia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TextovéPole 6"/>
          <p:cNvSpPr/>
          <p:nvPr/>
        </p:nvSpPr>
        <p:spPr>
          <a:xfrm>
            <a:off x="714240" y="2071800"/>
            <a:ext cx="807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priemerne ASFEU disponuje žiadosťami o platbu mesačne vo výške 3 mil. EUR – 4 mil. EU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rizikom je že ASFEU nebude mať z akých finančných prostriedkov žiadostí o platbu naplniť plánované čerpania a to najmä v mesiacoch  máj, jún a november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Tabuľka: prehlaď počtu nespracovaných ŽoP a výšky finančných prostriedkov v 1 kvartály 2013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73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74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7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6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77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8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379" name=""/>
          <p:cNvGraphicFramePr/>
          <p:nvPr/>
        </p:nvGraphicFramePr>
        <p:xfrm>
          <a:off x="681120" y="3789360"/>
          <a:ext cx="7889760" cy="2303640"/>
        </p:xfrm>
        <a:graphic>
          <a:graphicData uri="http://schemas.openxmlformats.org/drawingml/2006/table">
            <a:tbl>
              <a:tblPr/>
              <a:tblGrid>
                <a:gridCol w="938160"/>
                <a:gridCol w="1297080"/>
                <a:gridCol w="1150920"/>
                <a:gridCol w="1081080"/>
                <a:gridCol w="1152360"/>
                <a:gridCol w="1079640"/>
                <a:gridCol w="1190520"/>
              </a:tblGrid>
              <a:tr h="738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nespracovaných ŽoP k 01. 02.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uma EÚ k 01.02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nespracovaných ŽoP k 01. 03.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uma EÚ k 01.03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nespracovaných ŽoP k 04. 04.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uma EÚ k 04.04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16 352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63 550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88 669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06 789,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50 334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40 846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7 372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83 436,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0 334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19 389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43 498,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19 194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9 056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6 029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7 823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9 032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9 032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9 032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 466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 311,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1 493,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38 459,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73 193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117 395,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TextovéPole 6"/>
          <p:cNvSpPr/>
          <p:nvPr/>
        </p:nvSpPr>
        <p:spPr>
          <a:xfrm>
            <a:off x="714240" y="2071800"/>
            <a:ext cx="807264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S cieľom zabezpečiť naplnenie plánovaného čerpania na rok 2013 ASFEU prijala viacero opatrení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v roku 2012 spolu vyhlásila 7 výziev, z ktorých predpokladá, že projekty zazmluvnené v rámci výzvy </a:t>
            </a:r>
            <a:r>
              <a:rPr b="0" lang="sk-SK" sz="1400" spc="-1" strike="noStrike">
                <a:solidFill>
                  <a:srgbClr val="000000"/>
                </a:solidFill>
                <a:latin typeface="Verdana"/>
              </a:rPr>
              <a:t>OPV-2012/1.2/04-SORO a OPV-2012/2.1/03-SORO </a:t>
            </a: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budú predkladať prvé žiadosti o platbu ešte v roku 2013 a to v IV. kvartály 2013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k 01. 01. 2013 zaviedlo SORO ASFEU nový systém odmeňovania zamestnancov, založený na štvrťročnej báze a naviazaný na plnenie plánu čerpania SORO ASFEU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zintenzívnenie školení pre projektových manažérov pričom, dňa 21. 03. 2013 uskutočnilo školenie pre projektových manažérov k aktualizácií Príručky pre prijímateľa NFP, OPV, verzia 7.0, v dňoch 15.03. – 16. 03. 2013 prebiehalo dvojdňové školenie k Zákonníku práce, k zmenám v odvodoch do zdravotných poisťovní a do Sociálnej poisťovne a k Zákonu o verejnom obstarávaní a dňa 04.04.2013 uskutočnilo školenie k nezrovnalostiach a kontrole na mieste vedené odborom metodiky OPV pre projektových manažérov OPV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aktívne sa podieľalo na aktualizácií Príručky pre prijímateľa NFP, OPV verzia 7.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2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83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8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5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86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7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TextovéPole 6"/>
          <p:cNvSpPr/>
          <p:nvPr/>
        </p:nvSpPr>
        <p:spPr>
          <a:xfrm>
            <a:off x="714240" y="2133720"/>
            <a:ext cx="771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kontrahovania a čerpania k 31. 03. 2013 za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9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0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3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2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33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35" name=""/>
          <p:cNvGraphicFramePr/>
          <p:nvPr/>
        </p:nvGraphicFramePr>
        <p:xfrm>
          <a:off x="971640" y="2637000"/>
          <a:ext cx="7561080" cy="2974680"/>
        </p:xfrm>
        <a:graphic>
          <a:graphicData uri="http://schemas.openxmlformats.org/drawingml/2006/table">
            <a:tbl>
              <a:tblPr/>
              <a:tblGrid>
                <a:gridCol w="1962000"/>
                <a:gridCol w="1768680"/>
                <a:gridCol w="1438200"/>
                <a:gridCol w="2392200"/>
              </a:tblGrid>
              <a:tr h="63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ntrahovanie (EÚ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Čerpanie (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% Čerpanie / Kontrahova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 946 374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809 875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306 125,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,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12 036,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330 033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686 844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,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21 681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50 83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95 910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11 097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648 193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 234 993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0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TextovéPole 6"/>
          <p:cNvSpPr/>
          <p:nvPr/>
        </p:nvSpPr>
        <p:spPr>
          <a:xfrm>
            <a:off x="714240" y="2071800"/>
            <a:ext cx="807264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S cieľom zabezpečiť naplnenie plánovaného čerpania na rok 2013 ASFEU prijala viacero opatrení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od 17. 09. 2012 začalo SORO ASFEU poskytovať osobné konzultácie vedené projektovými manažérmi a manažérmi administrácie s cieľom znížiť administratívnu chybovať predkladaných ŽoNFP, ich následné vyradenie v procese formálnej kontroly a tým zjednodušiť výkon kontroly formálnej správnosti a predbežnej finančnej kontroly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pripravilo dokument s najčastejšie sa opakujúcimi chybami pri predkladaní výdavkov v žiadostiach o platbu, ktorý je distribuovaný jednotlivým prijímateľom prostredníctvom e-mailu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uskutočňuje školenia v rôznych fázach výziev napr. informačné semináre, pracovné stretnutia s úspešnými žiadateľmi, pracovné stretnutia s prijímateľmi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intenzívne komunikuje s každým prijímateľom najmä na elektronickej báze – prijímateľom sú zasielané rôzne upozorňujúce maily ale aj listy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Verdana"/>
              </a:rPr>
              <a:t>vydalo aktualizáciu Usmernenia k predkladaniu žiadostí o platbu č. 03/2010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0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91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9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3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94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5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6880" y="3714840"/>
            <a:ext cx="488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          </a:t>
            </a: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Ďakujem za pozornosť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356760" y="5143680"/>
            <a:ext cx="5357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trukturálne fondy EÚ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8" name="Skupina 4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399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400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ovéPole 6"/>
          <p:cNvSpPr/>
          <p:nvPr/>
        </p:nvSpPr>
        <p:spPr>
          <a:xfrm>
            <a:off x="714240" y="2133720"/>
            <a:ext cx="7715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1.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8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9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1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42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3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44" name=""/>
          <p:cNvGraphicFramePr/>
          <p:nvPr/>
        </p:nvGraphicFramePr>
        <p:xfrm>
          <a:off x="714240" y="3117960"/>
          <a:ext cx="7890120" cy="3097080"/>
        </p:xfrm>
        <a:graphic>
          <a:graphicData uri="http://schemas.openxmlformats.org/drawingml/2006/table">
            <a:tbl>
              <a:tblPr/>
              <a:tblGrid>
                <a:gridCol w="2054520"/>
                <a:gridCol w="1395360"/>
                <a:gridCol w="1650960"/>
                <a:gridCol w="1393920"/>
                <a:gridCol w="1395360"/>
              </a:tblGrid>
              <a:tr h="62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1.1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02 986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1.1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007 942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1.1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262 901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1.1/04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 614 422,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1.1/05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 266 157,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1.1/06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1 331 968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1.1/07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 375 158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1.1/08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TextovéPole 6"/>
          <p:cNvSpPr/>
          <p:nvPr/>
        </p:nvSpPr>
        <p:spPr>
          <a:xfrm>
            <a:off x="714240" y="2133720"/>
            <a:ext cx="771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1.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7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48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9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1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2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53" name=""/>
          <p:cNvGraphicFramePr/>
          <p:nvPr/>
        </p:nvGraphicFramePr>
        <p:xfrm>
          <a:off x="743040" y="3068640"/>
          <a:ext cx="7932600" cy="3146400"/>
        </p:xfrm>
        <a:graphic>
          <a:graphicData uri="http://schemas.openxmlformats.org/drawingml/2006/table">
            <a:tbl>
              <a:tblPr/>
              <a:tblGrid>
                <a:gridCol w="2065320"/>
                <a:gridCol w="1403280"/>
                <a:gridCol w="1658880"/>
                <a:gridCol w="1403280"/>
                <a:gridCol w="1401840"/>
              </a:tblGrid>
              <a:tr h="70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1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1.2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 391 715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19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0/1.2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 891 109,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1.2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 644 493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1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1.2/04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82 556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1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1.2/05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1.2/06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1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3/1.2/07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809 875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TextovéPole 6"/>
          <p:cNvSpPr/>
          <p:nvPr/>
        </p:nvSpPr>
        <p:spPr>
          <a:xfrm>
            <a:off x="714240" y="2133720"/>
            <a:ext cx="771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2.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6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57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5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9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60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1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62" name=""/>
          <p:cNvGraphicFramePr/>
          <p:nvPr/>
        </p:nvGraphicFramePr>
        <p:xfrm>
          <a:off x="826920" y="3213000"/>
          <a:ext cx="7777440" cy="2808360"/>
        </p:xfrm>
        <a:graphic>
          <a:graphicData uri="http://schemas.openxmlformats.org/drawingml/2006/table">
            <a:tbl>
              <a:tblPr/>
              <a:tblGrid>
                <a:gridCol w="2025720"/>
                <a:gridCol w="1374840"/>
                <a:gridCol w="1627200"/>
                <a:gridCol w="1374840"/>
                <a:gridCol w="1374840"/>
              </a:tblGrid>
              <a:tr h="106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2.1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45 718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0/2.1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696 707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81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2.1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9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4" name="TextovéPole 6"/>
          <p:cNvSpPr/>
          <p:nvPr/>
        </p:nvSpPr>
        <p:spPr>
          <a:xfrm>
            <a:off x="714240" y="2133720"/>
            <a:ext cx="771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3.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5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66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6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8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69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0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71" name=""/>
          <p:cNvGraphicFramePr/>
          <p:nvPr/>
        </p:nvGraphicFramePr>
        <p:xfrm>
          <a:off x="826920" y="3213000"/>
          <a:ext cx="7848720" cy="2880000"/>
        </p:xfrm>
        <a:graphic>
          <a:graphicData uri="http://schemas.openxmlformats.org/drawingml/2006/table">
            <a:tbl>
              <a:tblPr/>
              <a:tblGrid>
                <a:gridCol w="2043360"/>
                <a:gridCol w="1387440"/>
                <a:gridCol w="1643040"/>
                <a:gridCol w="1387440"/>
                <a:gridCol w="1387440"/>
              </a:tblGrid>
              <a:tr h="93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3.1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331 621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3.1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1 750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1/3.1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55 404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3.1/04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330 033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3" name="TextovéPole 6"/>
          <p:cNvSpPr/>
          <p:nvPr/>
        </p:nvSpPr>
        <p:spPr>
          <a:xfrm>
            <a:off x="714240" y="2133720"/>
            <a:ext cx="771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3.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4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75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7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7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78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9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80" name=""/>
          <p:cNvGraphicFramePr/>
          <p:nvPr/>
        </p:nvGraphicFramePr>
        <p:xfrm>
          <a:off x="826920" y="3284640"/>
          <a:ext cx="7602840" cy="2448000"/>
        </p:xfrm>
        <a:graphic>
          <a:graphicData uri="http://schemas.openxmlformats.org/drawingml/2006/table">
            <a:tbl>
              <a:tblPr/>
              <a:tblGrid>
                <a:gridCol w="1979640"/>
                <a:gridCol w="1344600"/>
                <a:gridCol w="1590840"/>
                <a:gridCol w="1343160"/>
                <a:gridCol w="1344600"/>
              </a:tblGrid>
              <a:tr h="141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63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3.2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TextovéPole 6"/>
          <p:cNvSpPr/>
          <p:nvPr/>
        </p:nvSpPr>
        <p:spPr>
          <a:xfrm>
            <a:off x="714240" y="2133720"/>
            <a:ext cx="771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4.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3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84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8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6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87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8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89" name=""/>
          <p:cNvGraphicFramePr/>
          <p:nvPr/>
        </p:nvGraphicFramePr>
        <p:xfrm>
          <a:off x="714240" y="3213000"/>
          <a:ext cx="8109000" cy="3002040"/>
        </p:xfrm>
        <a:graphic>
          <a:graphicData uri="http://schemas.openxmlformats.org/drawingml/2006/table">
            <a:tbl>
              <a:tblPr/>
              <a:tblGrid>
                <a:gridCol w="2111400"/>
                <a:gridCol w="1433520"/>
                <a:gridCol w="1697040"/>
                <a:gridCol w="1433520"/>
                <a:gridCol w="1433520"/>
              </a:tblGrid>
              <a:tr h="84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4.1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16 654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4.1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43 351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4.1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9 843,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8/4.1/04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4 092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3/4.1/05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/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TextovéPole 6"/>
          <p:cNvSpPr/>
          <p:nvPr/>
        </p:nvSpPr>
        <p:spPr>
          <a:xfrm>
            <a:off x="714240" y="2133720"/>
            <a:ext cx="7715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Opatrenie 4.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2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93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9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96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7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98" name=""/>
          <p:cNvGraphicFramePr/>
          <p:nvPr/>
        </p:nvGraphicFramePr>
        <p:xfrm>
          <a:off x="826920" y="3213000"/>
          <a:ext cx="7777440" cy="2737080"/>
        </p:xfrm>
        <a:graphic>
          <a:graphicData uri="http://schemas.openxmlformats.org/drawingml/2006/table">
            <a:tbl>
              <a:tblPr/>
              <a:tblGrid>
                <a:gridCol w="2025720"/>
                <a:gridCol w="1374840"/>
                <a:gridCol w="1627200"/>
                <a:gridCol w="1374840"/>
                <a:gridCol w="1374840"/>
              </a:tblGrid>
              <a:tr h="88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ód výzvy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4.2/01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8 646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09/4.2/02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69 849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0/4.2/03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24 351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V-2012/4.2/04-SO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23 062,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95 910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4:46:45Z</dcterms:created>
  <dc:creator>Kiko</dc:creator>
  <dc:description/>
  <dc:language>en-US</dc:language>
  <cp:lastModifiedBy>Andrea Šujanová</cp:lastModifiedBy>
  <dcterms:modified xsi:type="dcterms:W3CDTF">2013-04-04T11:57:16Z</dcterms:modified>
  <cp:revision>307</cp:revision>
  <dc:subject/>
  <dc:title>Snímka 1</dc:title>
</cp:coreProperties>
</file>