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65FF-55CE-46D0-B07C-476C2E295E88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53D5-91DA-49DE-8EA1-305701CCF97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CC94-4BB7-4B8F-A722-0E4560C23938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D403-3C11-4BB2-9B7C-59C47A7B79CA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70C1-4D15-4064-B25E-B2EB1C3429FD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72A6-0B20-46A8-B6ED-E1F100305E29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Na projekte bolo nakúpených a rozvezených do škôl 1 500 notebookov, 1 500 USB kľúčov, 1 500 dataprojektorov a  1 500 ks aplikačného kancelárskeho softvé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4509-CB9B-42FF-A782-AFE0CE669133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B4EA-E744-44AC-BAE5-5CF4FA7AB37F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44F3-9FFD-4A54-9FDE-137C1D0B0BD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4B6D-B334-4B8E-9305-1BF0E43B34C8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7F4A-31EA-4460-A01E-614669B0298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ABE4-8266-4362-A666-6D5C36FCBC32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D8D4-F297-4026-AADB-5AAE423F8F6A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Zástupný symbol čísla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E132-633C-400B-8470-AEDC28B162CB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Zástupný symbol čísla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96F3-DC44-4EC1-B9F8-94F3E759914D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B2AA5-C60B-475A-BDAC-2B7AA919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F94FB-7AC4-4EA1-AAC2-D3A6BECD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E6EF-F987-47F3-AEC3-3FF73E31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25EC2-D7E6-4F0E-A7CF-F6DD0AF3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F58A-4E94-4A34-9195-E15D1AC6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2593-65A8-4546-A155-7DC99E2C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75F4-99D8-4D81-A765-A8534E2A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6610-F0FE-4BC3-A490-2FE0276A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F7B6-5DE0-4165-AB8C-2E56D384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4F0D-53CC-4F32-A5CF-16BD6AEF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8091-C59F-4645-8864-506D3987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DCE39-9F4B-4ECA-9E06-79B0096A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EE8B-D31C-4CD1-B571-E143F389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BCFC-E079-464A-AAF9-B80033F8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45BB-B88F-487E-96A8-EF8B02F2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F617-A8C8-4D13-855C-C3587C1D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C8B8-D478-4FF3-B565-2575B997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0A975-252B-42F9-9BD6-18530827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BCE1B-A8D3-4160-AD85-17A2D13A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BFAE3-C091-4B07-909B-DFC40E81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BFCFC-3D80-4D5E-A45B-D8F3D0DE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6DF9E-23AA-4CFE-8C04-F2C9C471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16FD-2463-4B66-83B7-D425F7B3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EA21-3365-4166-BEDE-F3831A31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3BF0-87A4-4FD8-92AC-FF1F46E104CD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DA6A-D573-4D7B-9279-03E8D4FA236B}" type="datetime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17EF-B5D3-4185-85B3-915A1FAFFBB3}" type="datetime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D5C3-62A2-41B1-8A49-DF99D2CE4832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inedu.sk/" TargetMode="External"/><Relationship Id="rId2" Type="http://schemas.openxmlformats.org/officeDocument/2006/relationships/hyperlink" Target="mailto:opvzdelavanie@minedu.sk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Pokrok v implementácii národných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17800" y="4365720"/>
            <a:ext cx="60199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Bratislava, 16. apríl 2013, zasadnut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Monitorovacieho výboru pre OP Vzdelá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hDr. Miriam Kováčikov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iaditeľ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dbor realizácie OP Vzdelávan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ekcia štrukturálnych fondov E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Ministerstvo školstva, vedy, výskumu a športu 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Arial"/>
              </a:rPr>
              <a:t>Moderné vzdelávanie pre vedomostnú spoločnosť/Projekt je spolufinancovaný zo zdrojov E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3187800" y="404640"/>
            <a:ext cx="60195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rázok 1" descr=""/>
          <p:cNvPicPr/>
          <p:nvPr/>
        </p:nvPicPr>
        <p:blipFill>
          <a:blip r:embed="rId1"/>
          <a:stretch/>
        </p:blipFill>
        <p:spPr>
          <a:xfrm>
            <a:off x="7236000" y="85680"/>
            <a:ext cx="1701720" cy="1575000"/>
          </a:xfrm>
          <a:prstGeom prst="rect">
            <a:avLst/>
          </a:prstGeom>
          <a:ln w="0">
            <a:noFill/>
          </a:ln>
        </p:spPr>
      </p:pic>
      <p:pic>
        <p:nvPicPr>
          <p:cNvPr id="117" name="Obrázok 2" descr=""/>
          <p:cNvPicPr/>
          <p:nvPr/>
        </p:nvPicPr>
        <p:blipFill>
          <a:blip r:embed="rId2"/>
          <a:stretch/>
        </p:blipFill>
        <p:spPr>
          <a:xfrm>
            <a:off x="2268360" y="247680"/>
            <a:ext cx="2327400" cy="781200"/>
          </a:xfrm>
          <a:prstGeom prst="rect">
            <a:avLst/>
          </a:prstGeom>
          <a:ln w="0">
            <a:noFill/>
          </a:ln>
        </p:spPr>
      </p:pic>
      <p:pic>
        <p:nvPicPr>
          <p:cNvPr id="118" name="Obrázok 3" descr=""/>
          <p:cNvPicPr/>
          <p:nvPr/>
        </p:nvPicPr>
        <p:blipFill>
          <a:blip r:embed="rId3"/>
          <a:stretch/>
        </p:blipFill>
        <p:spPr>
          <a:xfrm>
            <a:off x="5791320" y="247680"/>
            <a:ext cx="1093680" cy="10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7D43-0BC6-429B-B894-BCCD0C2017B8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524F-5C41-4102-A29B-54563772F93A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69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11360" y="1981080"/>
          <a:ext cx="7748280" cy="4256280"/>
        </p:xfrm>
        <a:graphic>
          <a:graphicData uri="http://schemas.openxmlformats.org/drawingml/2006/table">
            <a:tbl>
              <a:tblPr/>
              <a:tblGrid>
                <a:gridCol w="1060200"/>
                <a:gridCol w="760680"/>
                <a:gridCol w="1834920"/>
                <a:gridCol w="1836720"/>
                <a:gridCol w="1127160"/>
                <a:gridCol w="1128600"/>
              </a:tblGrid>
              <a:tr h="9129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634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učiteľov základných škôl v oblasti cudzích jazykov v súvislosti s Koncepciou vyučovania cudzích jazykov na základných a stre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pedagogický úst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773 065,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496 508,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80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Ďalšie vzdelávanie učiteľov základných škôl a stredných škôl v  predmete informatik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pedagogický úst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74 655,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20 831,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38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učiteľov základných škôl v oblasti cudzích jazykov v súvislosti s Koncepciou vyučovania cudzích jazykov na základných a stre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pedagogický úst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85 022,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6 495,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80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23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Ďalšie vzdelávanie učiteľov základných škôl a stredných škôl v  predmete informatik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pedagogický úst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5 196,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 563,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5345-A7CD-45F5-884B-D48D88654F25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A1B5-5239-49B5-94B2-BBDB9E74E7DB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75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26920" y="1981080"/>
          <a:ext cx="7632720" cy="4327560"/>
        </p:xfrm>
        <a:graphic>
          <a:graphicData uri="http://schemas.openxmlformats.org/drawingml/2006/table">
            <a:tbl>
              <a:tblPr/>
              <a:tblGrid>
                <a:gridCol w="1044720"/>
                <a:gridCol w="749160"/>
                <a:gridCol w="1808280"/>
                <a:gridCol w="1808280"/>
                <a:gridCol w="1111320"/>
                <a:gridCol w="1110960"/>
              </a:tblGrid>
              <a:tr h="6559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094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5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é vzdelávanie – digitálne vzdelávanie pre všeobecno-vzdelávacie predme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933 200,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4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ácia vzdelávacieho procesu na stre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823 345,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29 579,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ácia vzdelávacieho procesu na stre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9 641,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 569,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ácia vzdelávacieho procesu na zákla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536 034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99 348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ácia vzdelávacieho procesu na zákla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9 659,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 394,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ísomné vyzvanie OPV/K/NP/2013 - 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školy ako motory rozvoja vedomostnej spoločnos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360 00 – alokácia z písomného vyz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2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302300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plexný poradenský systém prevencie a ovplyvňovania sociálnopatologických javov v školskom prostred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kumný ústav detskej psychológ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563 594,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BBB3-C392-4B68-B0D5-668A74DF5A1B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25FD-CD48-42B8-B6FE-4F0552950983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81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BlokTextu 11"/>
          <p:cNvSpPr/>
          <p:nvPr/>
        </p:nvSpPr>
        <p:spPr>
          <a:xfrm>
            <a:off x="1332000" y="206064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erpanie NP za zdroj ESF očistené od nezrovnalostí a vrátených fin. prostriedkov v členení podľa opatrení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stav aktualizácie k 4.4.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00000" y="3213000"/>
          <a:ext cx="7488360" cy="1733760"/>
        </p:xfrm>
        <a:graphic>
          <a:graphicData uri="http://schemas.openxmlformats.org/drawingml/2006/table">
            <a:tbl>
              <a:tblPr/>
              <a:tblGrid>
                <a:gridCol w="3743280"/>
                <a:gridCol w="3745080"/>
              </a:tblGrid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atre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erpanie (v €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88 689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505 781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87 319,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1 257,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66 889,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po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829 936,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41A8-CDE0-44A7-B902-03C78BAE8C80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C129-EC84-4325-8B38-6605E09168B8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17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čný plán OP Vzdelávanie na zlepšenie stavu jeho implementá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Akčného plánu OPV:</a:t>
            </a:r>
            <a:r>
              <a:rPr b="0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zrýchliť kontrahovanie, čerpanie a celkovú implementáciu OP Vzdelá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Identifikované </a:t>
            </a: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hlavné riziká</a:t>
            </a:r>
            <a:r>
              <a:rPr b="0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ziká spojené s plánovanými verejnými obstarávaniami v rámci nových národných projektov (časový sklz/prieťahy/opakovanie verejného obstarávan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pory finančných prostriedkov pri verejných obstarávaniach  (napr. v dôsledku elektronickej aukcie pri tovaro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ybovosť v žiadostiach predkladaných na RO a SO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né korekcie z prebiehajúcich vládnych auditov a z auditov Európskej komis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Opatrenia na zlepšenie stavu boli prijaté v 2 hlavných oblastiach</a:t>
            </a:r>
            <a:r>
              <a:rPr b="0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ť kontrahov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ť čerp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rázok 1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016360" cy="677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0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F86C-6106-48FF-B8DA-68E637179930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5.6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 algn="r">
              <a:lnSpc>
                <a:spcPct val="10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6203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čný plán OPV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ť kontrahovania – prijaté opatr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výšenie počtu vyhlasovania výziev pre dopytovo – orientované projekty a písomných vyzvaní pre národné projek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rátenie procesu konania žiadosti o NF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tenzívnenie osobných a písomných konzultácií poskytovaných prijímateľom pred predložením ŽoP a v procese jej spracov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výsledok: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kontrahovanie OPV na úrovni 96,73% -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januára 2013 do polovice apríla 2013 bolo zazmluvnených 10 nových národných projektov; v prípade národných projektov, ktoré sa implementujú od r. 2008 došlo k redukcii rozpočtov (znižovanie NFP) – tieto zdroje boli presunuté do výziev ASFEU (SORO) na dopytovo-orientované projek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8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1760" cy="647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0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A998-F031-4D4D-8FC1-07A3CF94F7D1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5.6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čný plán OPV  -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ť čerpania – prijaté opatr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Oblasť žiadostí o platb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jednodušenie procesov a zníženie administratívnej záťaže pre prijímateľov (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tualizácia Príručky pre prijímateľa NFP OPV, verzia 7.0, účinná od 12/02/2013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tenzívnenie  komunikácie s prijímateľmi o chybách a nedostatkoch v predkladaných žiadostiach o platb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rátenie lehôt kontroly žiadostí o platbu zo strany RO a SO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álny a flexibilný príst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Oblasť verejného obstaráv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vedenie systému ex-ante kontroly –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ola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braných aspektov verejných obstarávaní (nadlimitné a podlimitné zákazky) pred ich vyhlásením zo strany prijímateľov národných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tenzívnenie  komunikácie s prijímateľmi o chybách a nedostatkoch v predkladaných verejných obstarávani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zívna komunikácia s ÚVO 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výsledok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zintenzívnenie čerpania ku koncu r. 2012;  výrazný nárast čerpania sa očakáva od mája – júna 2013, kedy sa v čerpaní začne prejavovať realizácia nových národných projektov, ktoré boli zazmluvnené v 1.Q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2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0593-9880-4C6F-8B77-4786DBAACDD2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8DC1-6050-4CF3-950E-E417E190F7EB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95280" y="1980720"/>
            <a:ext cx="82915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jednodušenie procesov a zníženie administratívnej záťaže pre prijímateľ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aktualizácia Príručky pre prijímateľa NFP OPV, verzia 7.0, účinná od 12/02/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Zjednodušenia vyplývajúce z aktualizácia PpP O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ímateľ pre vybrané skupiny zamestnancov môže predkladať zjednodušené pracovné výk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základe súhlasu RO/SORO možnosť používať novovytvorený sumárny prehľad bez podpornej dokumentácie, ktorá bude predmetom kontroly na mies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kladanie personálnej matice a oznámenia o konaní vzdelávacích aktivít iba v elektronickej podo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stránenie duplicity v predkladaní príloh a podpornej dokumentácie k ŽoP a k monitorovacím správ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nosť predkladania preberacích protokolov (namiesto pracovných výkazov) k expertízam, posudkom, štúdiám a iným odborným die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ňa 26/02/2013 sa uskutočnilo školenie pre prijímateľov národných projektov, na ktorom boli oboznámení so zmenami vyplývajúcimi z PpP O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936E-0A64-4DB2-83CA-DEF2B6C8D899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15.4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 algn="r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tenzívnenie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unikácie s prijímateľ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avidelné dvojtýždenné porady na úrovni ministra školstva, vedy, výskumu a športu SR s prijímateľmi národných projektov OPV (stretnutia prebiehajú od októbra 20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tanovenie osobnej zodpovednosti štatutárov prijímateľov národných projektov OPV  za čerpanie, vrátane disciplinovanosti pri predkladaní žiadostí o platbu  ako zodpovednosť za bezproblémovú realizáciu verejných obstaráva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špeciálny režim pre prijímateľov národných projektov OPV  - krízový manažment riadenia implementácie národných projektov OP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avidelné stretnutia s prijímateľmi národných projektov – upozorňovanie na potenciálne chyby pri žiadostiach o platbu a pri monitorovacích sprá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dennodenná operatívna komunikácia RO OPV (finančných manažérov) s prijímateľmi národných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peratívne riešenie vzniknutých problém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BlokTextu 2"/>
          <p:cNvSpPr/>
          <p:nvPr/>
        </p:nvSpPr>
        <p:spPr>
          <a:xfrm>
            <a:off x="1403280" y="6093000"/>
            <a:ext cx="51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9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1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514B-8D2E-42F3-AB99-247D559AD396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15.4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FINANČNÁ ALOKÁCIA OP VZDELÁVANIE (po revízii zo dňa 19. 09. 2012) </a:t>
            </a:r>
            <a:r>
              <a:rPr b="0" lang="sk-SK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sky sociálny fond (ESF) - cieľ Konvergencia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540 500 000 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F- cieľ Regionálna konkurencieschopnosť a zam.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7 801 578 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átny rozpočet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98 523 811 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656 825 389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2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4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488E-2210-405F-A7D4-6BD19DC760B8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dátumu 5"/>
          <p:cNvSpPr/>
          <p:nvPr/>
        </p:nvSpPr>
        <p:spPr>
          <a:xfrm>
            <a:off x="4032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15.4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 algn="r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18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Informácia o tzv. dekomit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väzok 2007 -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F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 126 094 €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K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 394 239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RKaZ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5 731 855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nenie záväzku 2007 – 2009  k 31.12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F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 207 342,51 €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K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 530 521,95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RKaZ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5 731 855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ký decommitment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čl.93 nariadenia 1083/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K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 863 717,05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prava finančného plánu OP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k-SK" sz="2400" spc="-1" strike="noStrike">
                <a:solidFill>
                  <a:srgbClr val="ff3300"/>
                </a:solidFill>
                <a:latin typeface="Arial"/>
              </a:rPr>
              <a:t>Operačný program Vzdelávanie </a:t>
            </a:r>
            <a:br>
              <a:rPr sz="2400"/>
            </a:b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Kontrahovanie a čerpan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KONTRAHOVANIE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tav k 31. 3.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podiel na alokácii 2007-2013: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,73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ČERPANIE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tav k 2.4.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podiel na alokácii 2007-2013 :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41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Vo vzťahu k plneniu pravidla N+2/N+3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K (ostatné prioritné osi okrem 4) - aktuálne je čerpaný záväzok 2010-2011 na úrovni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62 %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čo znamená, že je potrebné pre splnenie pravidla N+2/N+3 do 31.12.2013 schváliť výdavky približne vo výške ESF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4,984 mil. EUR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RKaZ (prioritná os 4) - aktuálne je čerpaný záväzok 2010-2011 na úrovni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65 %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čo znamená že je potrebné pre splnenie pravidla N+2/N+3 do 31.12.2013 schváliť výdavky približne vo výške ESF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706 mil. EUR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BA93-5D31-4B23-9BBF-EC126DD92531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E235-208E-4257-8BA8-9DB0D83B84F1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24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8CE8-ABB7-439D-AF7D-DF44A48796DB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15.4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 algn="r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Návrh úpravy finančného plánu O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vrhovaná úprava záväzku 2009 vo FP OPV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celková výška decommitmentu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863 717,05 €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ravená o 4 % (finančné prostriedky na Technickú pomoc v rámci cieľa Konvergencia na opatreniach 5.1 a 5.2) bola následne rozdelená pomerom 60/40 medzi opatrenia 2.1 a 1.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lokTextu 2"/>
          <p:cNvSpPr/>
          <p:nvPr/>
        </p:nvSpPr>
        <p:spPr>
          <a:xfrm>
            <a:off x="1116000" y="5877000"/>
            <a:ext cx="6912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5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7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kt 2"/>
          <p:cNvGraphicFramePr/>
          <p:nvPr/>
        </p:nvGraphicFramePr>
        <p:xfrm>
          <a:off x="1258920" y="3357720"/>
          <a:ext cx="4532400" cy="20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k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3357720"/>
                    <a:ext cx="45324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D053-5790-4273-ACAB-46AA9B7A1820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15.4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 algn="r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Ďakujem za pozornosť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inisterstvo školstva, vedy, výskumu a športu SR</a:t>
            </a:r>
            <a:br>
              <a:rPr sz="1600"/>
            </a:b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ekcia štrukturálnych fondov E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minedu.s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sk-SK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opvzdelavanie@minedu.s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bdĺžnik 1"/>
          <p:cNvSpPr/>
          <p:nvPr/>
        </p:nvSpPr>
        <p:spPr>
          <a:xfrm>
            <a:off x="539640" y="5661000"/>
            <a:ext cx="770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cc"/>
                </a:solidFill>
                <a:latin typeface="Arial"/>
              </a:rPr>
              <a:t>Moderné vzdelávanie pre vedomostnú spoločnosť/Projekt je spolufinancovaný zo zdrojov E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3"/>
          <a:stretch/>
        </p:blipFill>
        <p:spPr>
          <a:xfrm>
            <a:off x="6443640" y="476280"/>
            <a:ext cx="23414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9570-1972-4336-98B3-48856499B858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517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28" name="Obrázok 1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016360" cy="677880"/>
          </a:xfrm>
          <a:prstGeom prst="rect">
            <a:avLst/>
          </a:prstGeom>
          <a:ln w="0">
            <a:noFill/>
          </a:ln>
        </p:spPr>
      </p:pic>
      <p:pic>
        <p:nvPicPr>
          <p:cNvPr id="129" name="Graf 6" descr=""/>
          <p:cNvPicPr/>
          <p:nvPr/>
        </p:nvPicPr>
        <p:blipFill>
          <a:blip r:embed="rId2"/>
          <a:stretch/>
        </p:blipFill>
        <p:spPr>
          <a:xfrm>
            <a:off x="384120" y="1689120"/>
            <a:ext cx="82296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6F3E-48CD-4D0F-864D-D6D0835C4E2D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517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33" name="Obrázok 1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016360" cy="677880"/>
          </a:xfrm>
          <a:prstGeom prst="rect">
            <a:avLst/>
          </a:prstGeom>
          <a:ln w="0">
            <a:noFill/>
          </a:ln>
        </p:spPr>
      </p:pic>
      <p:pic>
        <p:nvPicPr>
          <p:cNvPr id="134" name="Graf 6" descr=""/>
          <p:cNvPicPr/>
          <p:nvPr/>
        </p:nvPicPr>
        <p:blipFill>
          <a:blip r:embed="rId2"/>
          <a:stretch/>
        </p:blipFill>
        <p:spPr>
          <a:xfrm>
            <a:off x="384120" y="1689120"/>
            <a:ext cx="82296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779480"/>
            <a:ext cx="8218440" cy="48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B5A1-7EA1-4E12-82E5-DF08E8AC11E2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BlokTextu 8"/>
          <p:cNvSpPr/>
          <p:nvPr/>
        </p:nvSpPr>
        <p:spPr>
          <a:xfrm>
            <a:off x="1403280" y="2039760"/>
            <a:ext cx="68407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55640" y="1341360"/>
          <a:ext cx="7835760" cy="5176800"/>
        </p:xfrm>
        <a:graphic>
          <a:graphicData uri="http://schemas.openxmlformats.org/drawingml/2006/table">
            <a:tbl>
              <a:tblPr/>
              <a:tblGrid>
                <a:gridCol w="2435400"/>
                <a:gridCol w="2303280"/>
                <a:gridCol w="3097080"/>
              </a:tblGrid>
              <a:tr h="2196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Vzdeláv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 31/03/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 10/04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327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I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 celkovej alokác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8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7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645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 celkovej alokác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5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900240">
                <a:tc gridSpan="3"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a prijaté na akceleráciu implementácie OP Vzdelávani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ízový manažment riadenia národných projektov zo strany vedenia MŠVVaŠ SR (pravidelné dvojtýždenné porady minist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eovanie profesionálnych projektových tímov na priamo riadených organizáciách MŠVVaŠ SR ako prijímateľoch národných projekt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edenie osobnej zodpovednosti a motivačného mechanizmu štatutárov priamo riadených organizáciách MŠVVaŠ SR ako prijímateľoch národných projektov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ízia väčšiny  národných projektov, ktoré sú v realizácii od r. 2008 (nutnosť  znižovania rozpočtov, úprava  časových harmonogramov, predlžovanie dĺžky realizáci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kčný plán OP Vzdelávanie na zlepšenie stavu jeho implementácie – odblokovanie  pozastavených platieb zo strany 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SLEDOK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ONTRAHOVANIE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sk-SK" sz="16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sk-SK" sz="16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zvýšenie o 40%; za 1 rok sa nakontrahovalo toľko ako predtým za 4 ro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ERPANIE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sk-SK" sz="16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sk-SK" sz="16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zvýšenie o 11,88 %; za 1 rok sa vyčerpalo takmer toľko ako predtým za 4 ro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K 31. 03. 2013 bolo kumulatívne vyhlásenýc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: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ísomných vyzvaní pre národné proje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K 31. 03. 2013 je stav nasledovný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: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árodných projektov (z toho 10 multi-cieľových) v realizáci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19BA-64A8-4DEC-A969-67FB78D082CE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B8B4-3866-44D6-89B0-58316D60830E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45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981080"/>
            <a:ext cx="82184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BBB4-CFC7-4A66-A1CD-AC161D556FD6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15.4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Obrázok 2" descr=""/>
          <p:cNvPicPr/>
          <p:nvPr/>
        </p:nvPicPr>
        <p:blipFill>
          <a:blip r:embed="rId1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pic>
        <p:nvPicPr>
          <p:cNvPr id="151" name="Obrázok 4" descr=""/>
          <p:cNvPicPr/>
          <p:nvPr/>
        </p:nvPicPr>
        <p:blipFill>
          <a:blip r:embed="rId2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sp>
        <p:nvSpPr>
          <p:cNvPr id="152" name="BlokTextu 8"/>
          <p:cNvSpPr/>
          <p:nvPr/>
        </p:nvSpPr>
        <p:spPr>
          <a:xfrm>
            <a:off x="1403280" y="1989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árodné projekty, kontrahovanie, čerp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2421000"/>
          <a:ext cx="7777080" cy="3855960"/>
        </p:xfrm>
        <a:graphic>
          <a:graphicData uri="http://schemas.openxmlformats.org/drawingml/2006/table">
            <a:tbl>
              <a:tblPr/>
              <a:tblGrid>
                <a:gridCol w="1063800"/>
                <a:gridCol w="765000"/>
                <a:gridCol w="1841400"/>
                <a:gridCol w="1841760"/>
                <a:gridCol w="1133280"/>
                <a:gridCol w="1131840"/>
              </a:tblGrid>
              <a:tr h="5032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700"/>
                      </a:b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700"/>
                      </a:b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935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301300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kluzívny model vzdelávania na predprimárnom stupni školskej sústav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66 224,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jný a kariérny rast pedagogických zamestnanc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83 076,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038 773,7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230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jný a kariérny rast pedagogických zamestnanc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447 906,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32 326,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pedagogických zamestnancov materských škôl ako súčasť reformy vzdelávan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160 921,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729 600,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pedagogických zamestnancov materských škôl ako súčasť reformy vzdelávan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3 255,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 412,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45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301300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ím pedagogických zamestnancov k inklúzii marginalizovaných rómskych komuní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240 651,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87 319,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ovaný projek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izujúce metódy vo výchov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MEUR – plánovaná alokác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C374-37D4-4F91-9614-621AF1AD80A9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DA89-86EC-4ADE-89D2-1D874093874A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57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11360" y="1981080"/>
          <a:ext cx="7677000" cy="3886200"/>
        </p:xfrm>
        <a:graphic>
          <a:graphicData uri="http://schemas.openxmlformats.org/drawingml/2006/table">
            <a:tbl>
              <a:tblPr/>
              <a:tblGrid>
                <a:gridCol w="1050840"/>
                <a:gridCol w="753840"/>
                <a:gridCol w="1818000"/>
                <a:gridCol w="1819080"/>
                <a:gridCol w="1117800"/>
                <a:gridCol w="1117440"/>
              </a:tblGrid>
              <a:tr h="6667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600"/>
                      </a:b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600"/>
                      </a:b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224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Prax -Kompetencie pre prax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UVENT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860 956,2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46 176,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KTIK – Praktické zručnosti cez neformálne vzdelávanie v práci s mládežo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UVENT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450 609,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výšenie kvalifikácie učiteľov telesnej a športovej výchov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é športové centru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305 514,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8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Ďalšie vzdelávanie a poradenstvo pre dospelých ako nástroj lepšej uplatniteľnosti na trhu prác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ý ústav celoživotného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794 566,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4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3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dnotenie kvality vzdelávania na ZŠ a SŠ v SR v kontexte prebiehajúcej obsahovej reformy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ý ústav certifikovaných meraní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05 931,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47 278,7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5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vyšovanie kvality vzdelávania na základných a stredných školách s využitím  elektronického testovania 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ý ústav certifikovaných meraní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806 571,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4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vyšovanie kvality vzdelávania na základných a stredných školách s využitím elektronického testovania RK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ý ústav certifikovaných meraní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80 635,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C1A8-8723-4324-A0F7-B58F78704295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ACBC-89F2-4D74-9965-7A91E9C8ECF4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63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11280" y="1981080"/>
          <a:ext cx="7921440" cy="4184640"/>
        </p:xfrm>
        <a:graphic>
          <a:graphicData uri="http://schemas.openxmlformats.org/drawingml/2006/table">
            <a:tbl>
              <a:tblPr/>
              <a:tblGrid>
                <a:gridCol w="1084320"/>
                <a:gridCol w="777600"/>
                <a:gridCol w="1876680"/>
                <a:gridCol w="1876320"/>
                <a:gridCol w="1152360"/>
                <a:gridCol w="1154160"/>
              </a:tblGrid>
              <a:tr h="8971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9688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rné hodnotenie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vality školy podporujúce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bahodnotiace procesy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rozvoj ško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a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ská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špek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8 970,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 269,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3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rné hodnotenie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vality školy podporujúce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bahodnotiace procesy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rozvoj ško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a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ská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špek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120,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708,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5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oj stredného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399 162,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orba Národnej sústavy kvalifikáci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226 462,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230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orba Národnej sústavy kvalifikáci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41 901,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88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učiteľov v súvislosti s tvorbou školských vzdelávacích program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333 939,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60 103,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3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učiteľov v súvislosti s tvorbou školských vzdelávacích program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 598,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675,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7:05:52Z</dcterms:created>
  <dc:creator>henrieta holubekova</dc:creator>
  <dc:description/>
  <dc:language>en-US</dc:language>
  <cp:lastModifiedBy>Veronika Paľková</cp:lastModifiedBy>
  <cp:lastPrinted>2013-04-15T14:43:15Z</cp:lastPrinted>
  <dcterms:modified xsi:type="dcterms:W3CDTF">2013-04-15T14:49:48Z</dcterms:modified>
  <cp:revision>271</cp:revision>
  <dc:subject/>
  <dc:title>operačný program Vzdelávanie</dc:title>
</cp:coreProperties>
</file>