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554-7EB9-4495-84CA-B0B0DE45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9E5-A044-4AAE-B68D-FF26C894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8DA6B-8066-46EC-A256-23C38796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9C431-3FEC-42A3-8DB9-873B62B0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FCCC0-B65E-48D9-8268-D7EDFEF9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F9B67-2BE7-48AE-BB99-EB8DC94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3D61D-6E18-466D-8A6E-D6A3B91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47D12-3FFD-4B64-8162-7081DE7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85297-48FA-4C93-8CF0-FBEE93B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11002-A000-4624-81AD-CA124058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951DB-D48D-4CA4-920F-1E0D8143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33F60-2AA0-4B08-B0DE-4E8E1C13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034-B237-4987-931C-8950EEC4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9B5A0-90F5-4244-B112-3ADA6A02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AD266-0500-4B0E-955C-B857802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1C780-4A7B-428E-98DE-BB2454C0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37FAB-0521-4EF1-891F-651F143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CB614-6DA5-4DBA-B581-6AC7BDB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9673E-E703-4818-8CFA-D2F5065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D21FB-783E-465E-9491-5FC28C9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A41B4-7428-4E14-AC61-EFA5BCB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C27B5-8296-428C-9670-34A93A57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E6CDB-9D5A-4BDE-AE13-3AE01752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1EC-0624-4AA3-ACBF-521FF31B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4FD93-251A-4672-812F-39717625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3D19D-2240-4F64-BCC9-F4202320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EDBB7-4154-4061-8F2B-FE8A4489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279A0-51F4-44AF-A832-B3296C4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B99FC-2536-4887-9C92-39337F53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98DB8-88D2-432F-A0D3-35F9522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68553-B03A-46D7-B5B2-99CE461A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AD34D-C82C-468D-9DEF-D8B1E3A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956F-958B-44D7-B12C-8FA17C9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2BEB1-F24D-4B71-8430-BA2C584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22FB-6A88-438C-A90C-7E324728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B9701-48F0-4A44-A70A-6D624AC0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DD0C5-5B28-4172-9705-31E48F18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524D6-1B5E-445D-A6C2-E267A5C2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4E0DF-6B3B-42FA-AA81-5C793142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B1C06-917B-4F3D-B3CF-67C3418B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2C5A6-C6FB-407C-8BF9-38925FA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696FA-F12F-4FB6-95FC-1CC76E6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C05B3-0B39-491F-B880-96E137B9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A38BC-55F6-44C7-9777-F3747A8D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01F49-BA7B-47F5-9D5A-83EF6930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B67-B101-4A6F-9AFA-39FDC5E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257B5-46BB-4683-8AC4-B5AAEA7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7BF4B-B716-4AF0-B218-A06FFF2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A5BB2-81B6-4360-B2AA-66272BA1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122E9-580E-4BD1-A879-38ADCEF4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6D409-BE48-43D0-9C84-0C794786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A101-88C3-4EAF-964D-80A18C6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FF3E-FE3B-4927-BF06-263F0A4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A902-63C0-42C5-B8E9-DD0F3D7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2C44-CF1A-4CDF-976E-5C9AE04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2D51-C510-4703-9421-AF61FEA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9A4-E6D9-45F7-9D13-B744C83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1433-9261-4E05-BD48-25D880E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F21A-91D8-4F54-96A8-C0D48DD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A3CB-AD65-42B1-AF5A-9B543C70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183-DAED-4A81-9CEE-7FCDD2A2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31FA-14EF-42AA-8175-D26DD4B8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0DDC-938C-4B5F-B7C6-46811CD8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A0C9-2FB6-4D03-8284-EE3BF3F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DFE0-13D0-4826-9D36-9A8DA13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6DB7-4696-48A7-B417-730B0D34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AB61-07C3-457E-A656-3D55534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E0D-D471-42F7-81B4-DFF296A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F309-24FD-4297-BD1D-0AEF4F7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5419-5F60-4EBC-A6D1-70BB2A8A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5161-4958-492C-B24D-1465B02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4905-B665-4A7B-A376-D99698F9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12B7-5EDF-4E3D-B2D0-61A31E3B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F40A-734E-4BE3-BED2-18EB1316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97ED-55AD-4FA8-AD33-8A6AA38D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B0FC-F2DE-4748-9D1F-B9C65FEF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6176-D382-449A-8BAD-70FE2216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B6F8-C25A-4BDE-9CE2-391E1EDA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F8D-D67F-445D-9E33-9540BEB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810C-783E-4D0A-BD92-5F216F2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9243-4C3B-4B7D-813C-3E7F4EDC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823D-BC3B-40F3-8D1B-A4DDB33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5898-FC88-4625-AA73-B10B80AF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B3FC-FAD5-421E-9D7C-35BEC72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5102-E4F0-4300-A40F-2EDFE15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3AEE-9FDA-4054-9272-5C0FEAFF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DBAA-384E-44B8-B9EC-C97711E7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5447-A38B-486D-84BF-F52D7718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09F9-5A23-4404-A99B-76573B0B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523-AA06-410C-B4CD-F2813683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B49B-AB7F-474A-93B1-28689FE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1A45-986D-46BD-B52F-4DB29335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5700-7484-44AA-B98C-51281A5D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422E3-16F1-417C-9D08-FEF885E4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7920-BF66-4E29-8C1C-C878E54A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27E23-1B76-4F01-BD72-48C71B92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BDC8-94B8-42BD-BBC0-BFCAB78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7EA0-0680-4D51-87B0-87BF39C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5651-CC77-4BAF-BC69-5A4C0CD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458D-AC62-4BA0-83F0-500BA77D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AD0-048B-4083-9BF0-638924E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020C-F038-48D7-A05C-3692825B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641F-BCC0-4E86-91B8-7CE94928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C870-9E76-4504-BBDE-12AEDEA1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EBEF3-C5BE-49BA-AFEA-B0793969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EEAEE-C1C6-49BF-8B41-85D52A4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B899E-1284-410E-994B-05F8AAF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2F99-C0DB-4F77-B572-84BE16E6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A635C-D332-48D2-BCF8-A0F04B4F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CD39-F1D4-4449-8257-F1509B9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C747-6B30-49D4-9AA9-9BD49CE3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2B4-2747-4FDA-A25A-9843763D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4B534-3805-47E9-87B6-81BBC81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3D371-8008-4B4E-AC5C-CF564AFC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F0DBE-1907-4318-B2EA-8871563E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41D5E-EDF8-42E8-AA78-E563FAE0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D3A3-60A2-49F9-8F84-E5DD6FAD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0FFD-C608-48BB-B9DE-128AA2A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15CB8-071B-4299-A18A-791B6E6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DDFBE-B95F-4D8B-8C16-E9205524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B84D-69C6-4CDA-8CB2-A2CEC0B0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1133-1AEB-42D1-BF66-46B669FD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9BA-964A-4831-AC07-25DA6138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0C838-AA93-40D8-9D0F-F9CD2A3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46B5-909B-4055-9E49-0716C7B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50602-E256-4B28-BA07-EAE64A7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9AD81-6232-4D78-B90F-AAEDB880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D8F5F-BC67-44F6-B593-CECE6A17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B189C-9BD0-4C9B-B038-146F96C6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D336-7D6B-4329-88E3-47FE78E8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D9007-093D-4C1A-A888-FB9828D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062A-0301-4D34-BC0C-6FA7EA5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7D507-3DB5-4CEF-A8D2-3F1F706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88D-9B1A-4C3C-B9E6-3300288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2F725-4A82-43A5-B496-7334F5D1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79029-1196-4CD7-952B-3892A5A7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ABCFF-5295-4290-B1CA-A9299FB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D6799-C827-45F8-8313-49E31EC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6021C-B6B9-4404-A029-3B6D5C2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0D7AF-2BE2-4908-9008-343B6A73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A57C2-EA94-4375-9B17-30AD709B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7892C-AF04-443B-A993-B65C5000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E8D9F-12CF-4B4A-9D53-79668A3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879F1-C101-411A-83FA-7050C562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A8D9-F8D5-4D2E-AB8F-8A7CBC6E2ED9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200E-DE6B-47FE-BAB2-F471E56B91E3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ovná spojnica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bdĺžni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bdĺžnik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bdĺžnik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dĺžnik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bdĺžnik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d2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bdĺžnik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á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á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bdĺžnik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DECC-C2B5-43B2-8347-6E6468C8FE6B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8312-AFA5-481C-9D08-7CAB04EC9CD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6681-996B-4190-8D0D-7C1180BA3645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C83F-859D-4425-A567-CA9918CE68EF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ĺžni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dĺžnik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dĺžnik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dĺžnik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dĺžnik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dĺžnik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ovná spojnica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á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á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12C-00CF-42C2-AC3A-6A4CDC147316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4A7-7D2B-4234-AEBF-0D221E575CE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ĺžni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dĺžnik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ĺžnik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ĺžnik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vná spojnica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ĺžnik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ál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9BB9-A78E-4C2F-AA15-ABE37E2622F8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1B01-135F-4212-9D7B-E377E5882619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3EB4-C4F3-455A-8F07-183BC83D0C7E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42EF-8AAD-4278-BA91-52E68625EEE1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ĺžni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ĺžni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ĺžnik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ad2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ĺžnik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ĺžnik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vná spojnica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á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á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29C1-A8DA-4E19-B04C-87BE0EF52ED9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C26-0FF7-42F4-8E0D-8D9EC6D0DCB7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vná spojnica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79533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683A-90A2-4926-ADC1-69A41FA9830E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AB42-FE44-411E-A1AA-865B15917ADE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ovná spojnica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79533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dĺžnik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dĺžni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ĺžnik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ĺžni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ĺžnik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ad2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ĺžnik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vná spojnica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ĺžnik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á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á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FD6B-41A2-4A92-88C9-42EE8620F845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F59-C53F-418B-839C-C2AD68A82EC8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70E3-2775-479C-B192-429D56F8E68E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2A5-F18F-4124-A1A7-E136B6C30D86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ĺžni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ĺžnik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dĺžnik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dĺžnik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dĺžnik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dĺžnik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495-24BE-4B12-AADF-C99ABBB8898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3F8-ED8B-4A2D-9D5D-E36401E4E93A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ĺžnik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bdĺžni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bdĺžnik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ĺžnik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bdĺžni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dĺžnik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ad2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ĺžnik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ovná spojnica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346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á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á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34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bdĺžnik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7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346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3f3d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751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77e4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f8b1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346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22DA-5D81-4ED9-BD93-B6A570BF0CE1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642F-0E21-4121-B62A-DBEE8936AD4E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Zástupný symbol dátumu 27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Zástupný symbol čísla snímky 28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2D19-BB5C-41D0-A6A8-72776807F473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633240" y="2997000"/>
            <a:ext cx="7848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ímateľ: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átny inštitú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orného vzdelávan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ŠIOV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zov projektu: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voj strednéh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orného vzdelávani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kácia: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998 769,00 EU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24000" y="-52920"/>
            <a:ext cx="836424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13466b"/>
              </a:solidFill>
              <a:latin typeface="Georgia"/>
            </a:endParaRPr>
          </a:p>
        </p:txBody>
      </p:sp>
      <p:pic>
        <p:nvPicPr>
          <p:cNvPr id="610" name="Picture 8" descr="\\Aha\zdielany_opvav\01 Loga\08 Loga MSVVaS SR\logo_jpg\logo MSVVAS SR.jpg"/>
          <p:cNvPicPr/>
          <p:nvPr/>
        </p:nvPicPr>
        <p:blipFill>
          <a:blip r:embed="rId1"/>
          <a:stretch/>
        </p:blipFill>
        <p:spPr>
          <a:xfrm>
            <a:off x="684360" y="635040"/>
            <a:ext cx="2760480" cy="927000"/>
          </a:xfrm>
          <a:prstGeom prst="rect">
            <a:avLst/>
          </a:prstGeom>
          <a:ln w="0">
            <a:noFill/>
          </a:ln>
        </p:spPr>
      </p:pic>
      <p:pic>
        <p:nvPicPr>
          <p:cNvPr id="611" name="Obrázok 4" descr=""/>
          <p:cNvPicPr/>
          <p:nvPr/>
        </p:nvPicPr>
        <p:blipFill>
          <a:blip r:embed="rId2"/>
          <a:stretch/>
        </p:blipFill>
        <p:spPr>
          <a:xfrm>
            <a:off x="5580000" y="612720"/>
            <a:ext cx="1033560" cy="1035000"/>
          </a:xfrm>
          <a:prstGeom prst="rect">
            <a:avLst/>
          </a:prstGeom>
          <a:ln w="0">
            <a:noFill/>
          </a:ln>
        </p:spPr>
      </p:pic>
      <p:pic>
        <p:nvPicPr>
          <p:cNvPr id="612" name="Obrázok 2" descr=""/>
          <p:cNvPicPr/>
          <p:nvPr/>
        </p:nvPicPr>
        <p:blipFill>
          <a:blip r:embed="rId3"/>
          <a:stretch/>
        </p:blipFill>
        <p:spPr>
          <a:xfrm>
            <a:off x="7020000" y="598320"/>
            <a:ext cx="125892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466b"/>
                </a:solidFill>
                <a:latin typeface="Georgia"/>
              </a:rPr>
              <a:t>Uviesť názov projektu</a:t>
            </a:r>
            <a:endParaRPr b="0" lang="en-US" sz="24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14" name="Zástupný symbol dátumu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čísla snímky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215-2424-42ED-B2C0-4B305C2D18DD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projektu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Georgia"/>
              </a:rPr>
              <a:t>   „</a:t>
            </a:r>
            <a:r>
              <a:rPr b="1" i="1" lang="sk-SK" sz="2000" spc="-1" strike="noStrike">
                <a:solidFill>
                  <a:srgbClr val="000000"/>
                </a:solidFill>
                <a:latin typeface="Georgia"/>
              </a:rPr>
              <a:t>Strategickým cieľom národného projektu je zvýšenie kvality OVP na SOŠ vo vybraných skupinách odborov OVP na SOŠ a celkové zvýšenie kvality OVP na SOŠ vo všetkých skupinách odborov, ktoré sú v kompetencii ŠIOV-u</a:t>
            </a:r>
            <a:r>
              <a:rPr b="1" lang="sk-SK" sz="2000" spc="-1" strike="noStrike">
                <a:solidFill>
                  <a:srgbClr val="000000"/>
                </a:solidFill>
                <a:latin typeface="Georgia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spcBef>
                <a:spcPts val="451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Georgia"/>
              </a:rPr>
              <a:t>Realizáciou projektu sa rieši problematika prepojenia OVP na SOŠ s potrebami zamestnávateľov, zvýšenia kvality a pripravenosti budúcich absolventov SOŠ vo vzťahu k ich schopnosti zamestnať sa po ukončení OVP na SOŠ, spolupráca stredných odborných škôl s profesijnými a stavovskými organizáciami, nastavenia modelu viaczdrojového financovania a normatívov financovania stredných odborných škôl, kariérového  poradenstva a profesijnej orientácie žiakov na SOŠ v zmysle potreby pripraviť sa čo najflexibilnejšie na možné zmeny na trhu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vanie projektu: 3/2013 – 10/201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466b"/>
                </a:solidFill>
                <a:latin typeface="Georgia"/>
              </a:rPr>
              <a:t>Rozvoj stredného odborného vzdelávania</a:t>
            </a:r>
            <a:endParaRPr b="0" lang="en-US" sz="24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18" name="Zástupný symbol dátumu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3.12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Zástupný symbol čísla snímky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C709-305D-47CB-9DEC-45B62490C055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Georgia"/>
              </a:rPr>
              <a:t>Aktivita projektu 1.1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sk-SK" sz="2000" spc="-1" strike="noStrike">
                <a:solidFill>
                  <a:srgbClr val="000000"/>
                </a:solidFill>
                <a:latin typeface="Georgia"/>
              </a:rPr>
              <a:t>1. Uskutočniť obsahovú prestavbu vzdelávania na SOŠ s využitím inovovaných foriem a metód výučby</a:t>
            </a:r>
            <a:r>
              <a:rPr b="0" lang="sk-SK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Georgia"/>
              </a:rPr>
              <a:t>Predmetom aktivity j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Georgia"/>
              </a:rPr>
              <a:t>realizovanie a dokončenie procesu tvorby normatívov priestorového, prístrojového a materiálového vybavenia v rámci jednotlivých učebných a študijných odborov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Georgia"/>
              </a:rPr>
              <a:t>posilnenie spolupráce zapojených SOŠ vo vybraných skupinách odborov organizovaním ich pravidelných pracovných stretnutí zameraných na zdieľanie skúseností a riešenie spoločných problémov, investovaním do špecifického ďalšieho vzdelávania PZ prostredníctvom mobilít (zahraničných pracovných ciest, ktorých cieľom je ďalšie vzdelávanie PZ a transfer know how na Slovensko s cieľom podporiť reformu a rozvoj odborného vzdelávania na SOŠ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Georgia"/>
              </a:rPr>
              <a:t>spracovanie a aktualizácia podkladových informácií o stave v sektoroch hospodárstva pre vybrané skupiny odborov a ich odborná prezentácia v SR a zahraničí, udržiavanie aktuálnych a prehľadných informácií potrebných pre systémové aktivity pre rozvoj OVP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Georgia"/>
              </a:rPr>
              <a:t>dodanie didaktických pomôcok hmotného a nehmotného charakteru a didaktických pomôcok zameraných na modernizáciu vzdelávacieho obsahu pre žiakov, ktoré podporia zvýšenia kvality OVP na zapojených SOŠ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466b"/>
                </a:solidFill>
                <a:latin typeface="Georgia"/>
              </a:rPr>
              <a:t>Rozvoj stredného odborného vzdelávania</a:t>
            </a:r>
            <a:endParaRPr b="0" lang="en-US" sz="24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22" name="Zástupný symbol dátumu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3.12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Zástupný symbol čísla snímky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B6E-FB89-4EB9-BD54-C66F9A5D69A1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ktivita projektu 2.1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epojenie vzdelávania na SOŠ s potrebami praxe za účasti zástupcov profesijných a stavovských organizácií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edmetom aktivity j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zapojenie zástupcov profesijných a stavovských organizácií do realizácie národného projektu a tým získanie spätnej väzby od zamestnávateľov na orientáciu vzdelávania v jednotlivých odboroch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získanie spätnej väzby na proces vzdelávania vrátane zamerania obsahu vzdelávania, didaktických pomôcok, vrátane recenzovania a pripomienkovania existujúcich a nových didaktických pomôco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ravidelným systémom zberu dát od zamestnávateľov a sledovaním uplatniteľnosti absolventov vytvoriť nástroj pre budúcu orientáciu jednotlivých odborov a overiť duálny systém vzdelávania v podmienkach slovenského OVP na SOŠ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466b"/>
                </a:solidFill>
                <a:latin typeface="Georgia"/>
              </a:rPr>
              <a:t>Rozvoj stredného odborného vzdelávania</a:t>
            </a:r>
            <a:endParaRPr b="0" lang="en-US" sz="24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26" name="Zástupný symbol dátumu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3.12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Zástupný symbol čísla snímky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C0EA-4B8E-4C8C-8490-062D642AC0F6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Georgia"/>
              </a:rPr>
              <a:t>Aktivita projektu 3.1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Georgia"/>
              </a:rPr>
              <a:t>Podpora kariérového poradenstva na SOŠ za účelom orientácie žiaka na potreby praxe</a:t>
            </a:r>
            <a:r>
              <a:rPr b="0" lang="sk-SK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Georgia"/>
              </a:rPr>
              <a:t>Predmetom aktivity j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Georgia"/>
              </a:rPr>
              <a:t>Realizáciou kariérového poradenstva a ďalšieho vzdelávania kariérových poradcov a PZ venujúcich sa tejto problematike na SOŠ, získať pre žiakov SOŠ možnosť lepšej kariérovej orientácie a zvýšiť  ich uplatniteľnosť na trhu práce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466b"/>
                </a:solidFill>
                <a:latin typeface="Georgia"/>
              </a:rPr>
              <a:t>Uviesť názov projektu</a:t>
            </a:r>
            <a:endParaRPr b="0" lang="en-US" sz="24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30" name="Zástupný symbol dátumu 3"/>
          <p:cNvSpPr/>
          <p:nvPr/>
        </p:nvSpPr>
        <p:spPr>
          <a:xfrm>
            <a:off x="5724360" y="638172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Zástupný symbol čísla snímky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3BC0-ACB6-4344-BD72-15299D02690D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akávané čerpanie po rokoc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826920" y="2205000"/>
          <a:ext cx="6480360" cy="3322800"/>
        </p:xfrm>
        <a:graphic>
          <a:graphicData uri="http://schemas.openxmlformats.org/drawingml/2006/table">
            <a:tbl>
              <a:tblPr/>
              <a:tblGrid>
                <a:gridCol w="846360"/>
                <a:gridCol w="1224000"/>
                <a:gridCol w="1479600"/>
                <a:gridCol w="1525320"/>
                <a:gridCol w="14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227 059,00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571 836,00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99 874,00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998 769,00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námky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uľka má informatívny charakt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466b"/>
                </a:solidFill>
                <a:latin typeface="Georgia"/>
              </a:rPr>
              <a:t>Uviesť názov projektu</a:t>
            </a:r>
            <a:endParaRPr b="0" lang="en-US" sz="24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35" name="Zástupný symbol dátumu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čísla snímky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7A2-ED10-4A87-ABC1-04D316243749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ad projektu/prínos projektu a výstupy projektu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Georgia"/>
              </a:rPr>
              <a:t>Realizáciou projektu sa rieši problematika prepojenia odborného vzdelávania a prípravy s potrebami zamestnávateľov, zvýšenia kvality a pripravenosti budúcich absolventov SOŠ vo vzťahu k ich schopnosti zamestnať sa po ukončení stredného odborného vzdelávania, spolupráca stredných odborných škôl s profesijnými a stavovskými organizáciami, nastavenia modelu viaczdrojového financovania a normatívov financovania stredných odborných škôl, kariérového  poradenstva a profesijnej orientácie žiakov na SOŠ v zmysle potreby pripraviť sa čo najflexibilnejšie na možné zmeny na trhu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ú vytvorené predpoklady, ktoré umožnia previazanie obsahu OVP na SOŠ v súlade so zistenými potrebami trhu práce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ah vzdelávania v rámci OVP na SOŠ bude upravený podľa potrieb zamestnávateľov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é trendy v rámci OVP na SOŠ zo zahraničia budú implementované do slovenskej praxe na základe rozšírenia medzinárodnej spolupráce v oblasti OVP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e vytvorená sieť najaktívnejších pedagogických zamestnancov v oblasti OVP na SOŠ, ktorí sa budú pravidelne stretávať a podieľať na riešení aktuálnych problémov v OVP na SOŠ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466b"/>
                </a:solidFill>
                <a:latin typeface="Georgia"/>
              </a:rPr>
              <a:t>Rozvoj stredného odborného vzdelávania</a:t>
            </a:r>
            <a:endParaRPr b="0" lang="en-US" sz="2400" spc="-1" strike="noStrike">
              <a:solidFill>
                <a:srgbClr val="13466b"/>
              </a:solidFill>
              <a:latin typeface="Georgia"/>
            </a:endParaRPr>
          </a:p>
        </p:txBody>
      </p:sp>
      <p:sp>
        <p:nvSpPr>
          <p:cNvPr id="639" name="Zástupný symbol dátumu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3.12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čísla snímky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DF3-3DE0-48E7-B54F-337693756E84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aci v rámci OVP na SOŠ sa budú pripravovať na zamestnanie v odboroch, v ktorých nájdu uplatnenie na základe systému kvalifikovaného odhadu potrieb trhu práce a nastaveniu modelu, ktorý prispeje k stanoveniu kvantitatívnej potreby zamestnávateľov na jednotlivé povolania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ty študijných miest v rámci OVP na SOŠ budú naviazané na kvantifikované potreby zamestnávateľov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e pilotne overený duálny systém vzdelávania na vybraných  SOŠ pripraví sa jeho ďalšie rozširovanie na základe nového modelu SOŠ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stupcovia zamestnávateľov zvýšia svoju participáciu na OVP ako aj na záverečných skúškach a maturitných skúškach, čo zvýši ich praktickú hodnotu pre trh práce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aci končiaci OVP na SOŠ budú zorientovaní v ponuke práce v rámci hospodárstva a v rámci svojho regiónu a budú poznať svoje možnosti uplatnenia v odbore po ukončení OVP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aci budú chápať potrebu ďalej na sebe pracovať aj po ukončení OVP nakoľko podmienky na trhu sa každých pár rokov menia a pracovná sila sa dnes musí celoživotne vzdelávať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aci budú chápať postupnú dráhu kariérového rozvoja a rastu na jednotlivých pracovných pozíciách, ktoré sa ich v budúcnosti môžu týkať vo vzťahu k potrebe celoživotného vzdelávania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2e2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Zástupný symbol dátumu 27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Zástupný symbol čísla snímky 28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7DB-B090-4870-A94E-D3F55F9CBDBA}" type="slidenum">
              <a:rPr b="0" lang="en-US" sz="1600" spc="-1" strike="noStrike">
                <a:solidFill>
                  <a:srgbClr val="1346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293760" y="2637000"/>
            <a:ext cx="85089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517a"/>
                </a:solidFill>
                <a:latin typeface="Georgia"/>
              </a:rPr>
              <a:t>ĎAKUJEM ZA POZORNOSŤ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8" descr="\\Aha\zdielany_opvav\01 Loga\08 Loga MSVVaS SR\logo_jpg\logo MSVVAS SR.jpg"/>
          <p:cNvPicPr/>
          <p:nvPr/>
        </p:nvPicPr>
        <p:blipFill>
          <a:blip r:embed="rId1"/>
          <a:stretch/>
        </p:blipFill>
        <p:spPr>
          <a:xfrm>
            <a:off x="468360" y="635040"/>
            <a:ext cx="2760480" cy="927000"/>
          </a:xfrm>
          <a:prstGeom prst="rect">
            <a:avLst/>
          </a:prstGeom>
          <a:ln w="0">
            <a:noFill/>
          </a:ln>
        </p:spPr>
      </p:pic>
      <p:pic>
        <p:nvPicPr>
          <p:cNvPr id="646" name="Obrázok 4" descr=""/>
          <p:cNvPicPr/>
          <p:nvPr/>
        </p:nvPicPr>
        <p:blipFill>
          <a:blip r:embed="rId2"/>
          <a:stretch/>
        </p:blipFill>
        <p:spPr>
          <a:xfrm>
            <a:off x="5580000" y="612720"/>
            <a:ext cx="1033560" cy="1035000"/>
          </a:xfrm>
          <a:prstGeom prst="rect">
            <a:avLst/>
          </a:prstGeom>
          <a:ln w="0">
            <a:noFill/>
          </a:ln>
        </p:spPr>
      </p:pic>
      <p:pic>
        <p:nvPicPr>
          <p:cNvPr id="647" name="Obrázok 2" descr=""/>
          <p:cNvPicPr/>
          <p:nvPr/>
        </p:nvPicPr>
        <p:blipFill>
          <a:blip r:embed="rId3"/>
          <a:stretch/>
        </p:blipFill>
        <p:spPr>
          <a:xfrm>
            <a:off x="7020000" y="598320"/>
            <a:ext cx="125892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8:15:07Z</dcterms:created>
  <dc:creator>andrea.uhrinova</dc:creator>
  <dc:description/>
  <dc:language>en-US</dc:language>
  <cp:lastModifiedBy>Marcela</cp:lastModifiedBy>
  <dcterms:modified xsi:type="dcterms:W3CDTF">2013-04-04T10:35:32Z</dcterms:modified>
  <cp:revision>194</cp:revision>
  <dc:subject/>
  <dc:title>Prezentácia programu PowerPoint</dc:title>
</cp:coreProperties>
</file>