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A4180-DD94-4519-A3B3-38B2B341C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1C879-3C40-48E6-9A6C-A3421F40E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1C4DC-D2CC-437C-9CA3-6EC531683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1CDAB-FC7C-4ECA-BA40-D0FAB1BA3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B8D2E-022F-4119-982E-780B0ECBB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E3FD3-D76F-4AE3-B684-58E8CAE89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2928C-CEEB-49EC-B31B-1A3ADDC0D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1C83E-D1AB-431D-A5C0-04B272B7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F57BE-D6C5-49E3-87A1-74AE6BA31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AA823-A773-4316-806A-FA868CE5A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32208-4B7E-448A-A8BC-35201E71A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00FCC-6AC8-45E1-B07E-2A224B1D5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5543-AC45-4D2B-979D-C06E1A270834}"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s://www.minedu.sk/usmernenie-k-ssjn-pedagogicke-praxe-zoznam-studentov/" TargetMode="External"/><Relationship Id="rId3" Type="http://schemas.openxmlformats.org/officeDocument/2006/relationships/hyperlink" Target="https://www.minedu.sk/usmernenie-k-ssjn-pedagogicke-praxe-zoznam-studentov/"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partnerskadohoda.gov.sk/metodicke-pokyny-cko/"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tvorba rozpočtu</a:t>
            </a:r>
            <a:endParaRPr b="0" lang="en-US" sz="1500" spc="-1" strike="noStrike">
              <a:solidFill>
                <a:srgbClr val="000000"/>
              </a:solidFill>
              <a:latin typeface="Calibri"/>
            </a:endParaRPr>
          </a:p>
        </p:txBody>
      </p:sp>
      <p:sp>
        <p:nvSpPr>
          <p:cNvPr id="43" name="BlokTextu 5"/>
          <p:cNvSpPr/>
          <p:nvPr/>
        </p:nvSpPr>
        <p:spPr>
          <a:xfrm>
            <a:off x="250920" y="5769000"/>
            <a:ext cx="3240000" cy="10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Arial"/>
              </a:rPr>
              <a:t> </a:t>
            </a:r>
            <a:r>
              <a:rPr b="1" lang="sk-SK" sz="1200" spc="-1" strike="noStrike">
                <a:solidFill>
                  <a:srgbClr val="a6a6a6"/>
                </a:solidFill>
                <a:latin typeface="Arial"/>
              </a:rPr>
              <a:t>Informačný seminá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a6a6a6"/>
                </a:solidFill>
                <a:latin typeface="Arial"/>
              </a:rPr>
              <a:t>výzva č. OPLZ-PO1/2019/DOP/1.3.1-01 „Skvalitnenie prípravy budúcich pedagogických a odborných zamestnanco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 - ŠSJN</a:t>
            </a:r>
            <a:endParaRPr b="0" lang="en-US" sz="4400" spc="-1" strike="noStrike">
              <a:solidFill>
                <a:srgbClr val="000000"/>
              </a:solidFill>
              <a:latin typeface="Calibri"/>
            </a:endParaRPr>
          </a:p>
        </p:txBody>
      </p:sp>
      <p:sp>
        <p:nvSpPr>
          <p:cNvPr id="61" name=""/>
          <p:cNvSpPr txBox="1"/>
          <p:nvPr/>
        </p:nvSpPr>
        <p:spPr>
          <a:xfrm>
            <a:off x="499680" y="1267920"/>
            <a:ext cx="8186760" cy="4969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SCO sa budú financovať rozbory nasledovných </a:t>
            </a:r>
            <a:r>
              <a:rPr b="1" lang="sk-SK" sz="2000" spc="-1" strike="noStrike">
                <a:solidFill>
                  <a:srgbClr val="000000"/>
                </a:solidFill>
                <a:latin typeface="Calibri"/>
              </a:rPr>
              <a:t>3 druhy praxí</a:t>
            </a:r>
            <a:r>
              <a:rPr b="0" lang="sk-SK" sz="2000" spc="-1" strike="noStrike">
                <a:solidFill>
                  <a:srgbClr val="000000"/>
                </a:solidFill>
                <a:latin typeface="Calibri"/>
              </a:rPr>
              <a:t>:</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a) hospitačná - úvodná, náčuvová, klinická, pedagogické praktikum,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b) výstupová/výučbová - priebežná, bloková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       </a:t>
            </a:r>
            <a:r>
              <a:rPr b="0" lang="sk-SK" sz="2000" spc="-1" strike="noStrike">
                <a:solidFill>
                  <a:srgbClr val="000000"/>
                </a:solidFill>
                <a:latin typeface="Calibri"/>
              </a:rPr>
              <a:t>c) výstupová/výučbová – súvislá</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Rozbor sa robí na každú vyučovaciu/výchovnú jednotku odučenú študentom počas praxe. V prípade hospitačných praxí robí rozbor vlastnej odučenej vyučovacej/výchovnej jednotky cvičný učiteľ.</a:t>
            </a:r>
            <a:r>
              <a:rPr b="0" lang="sk-SK" sz="2000" spc="-1" strike="noStrike">
                <a:solidFill>
                  <a:srgbClr val="000000"/>
                </a:solidFill>
                <a:latin typeface="Calibri"/>
              </a:rPr>
              <a:t>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Na jeden rozbor jednej vyučovacej/výchovnej jednotky je stanovená jedna 60 minútová hodina </a:t>
            </a:r>
            <a:r>
              <a:rPr b="0" lang="sk-SK" sz="2000" spc="-1" strike="noStrike">
                <a:solidFill>
                  <a:srgbClr val="000000"/>
                </a:solidFill>
                <a:latin typeface="Calibri"/>
              </a:rPr>
              <a:t>(v zmysle SR pravidiel).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Rozbor vypracuje cvičný učiteľ </a:t>
            </a:r>
            <a:r>
              <a:rPr b="1" lang="sk-SK" sz="2000" spc="-1" strike="noStrike">
                <a:solidFill>
                  <a:srgbClr val="000000"/>
                </a:solidFill>
                <a:latin typeface="Calibri"/>
              </a:rPr>
              <a:t>v písomnej forme </a:t>
            </a:r>
            <a:r>
              <a:rPr b="0" lang="sk-SK" sz="2000" spc="-1" strike="noStrike">
                <a:solidFill>
                  <a:srgbClr val="000000"/>
                </a:solidFill>
                <a:latin typeface="Calibri"/>
              </a:rPr>
              <a:t>(písomný záznam), t.j. záznam dokumentujúci uvedené činnosti (obsah spätnej väzby), vrátane odporúčaní cvičného učiteľa pre študenta a záverečných stanovísk cvičného učiteľa a študent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 - ŠSJN</a:t>
            </a:r>
            <a:endParaRPr b="0" lang="en-US" sz="4400" spc="-1" strike="noStrike">
              <a:solidFill>
                <a:srgbClr val="000000"/>
              </a:solidFill>
              <a:latin typeface="Calibri"/>
            </a:endParaRPr>
          </a:p>
        </p:txBody>
      </p:sp>
      <p:sp>
        <p:nvSpPr>
          <p:cNvPr id="63" name=""/>
          <p:cNvSpPr txBox="1"/>
          <p:nvPr/>
        </p:nvSpPr>
        <p:spPr>
          <a:xfrm>
            <a:off x="499680" y="1125000"/>
            <a:ext cx="8186760" cy="5256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innosti cvičného učiteľa, ktoré budú financované v rámci štandardnej stupnice jednotkových nákladov</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ebareflexia (rozbor) vyučovacej/výchovnej jednotky, ktorú odučí cvičný učiteľ (supervízor) pre študentov, pri tých typoch praxí, v ktorých študenti pozorujú výchovno-vzdelávací proces. (t.j. len pozorujú, ale sami ešte nevyučujú – lebo nemajú dostatok teoretických vedomostí/praktických skúseností), t.j. spätná väzba na samostatnú prípravu študenta na priamu vyučovaciu alebo výchovnú činnosť, </a:t>
            </a:r>
            <a:r>
              <a:rPr b="0" lang="sk-SK" sz="1600" spc="-1" strike="noStrike">
                <a:solidFill>
                  <a:srgbClr val="000000"/>
                </a:solidFill>
                <a:latin typeface="Symbol"/>
                <a:ea typeface="Symbol"/>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ätná väzba na sebareflexiu študenta na vlastnú vyučovaciu alebo výchovnú činnosť,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ätná väzba samostatnú priamu vyučovaciu alebo výchovnú činnosť študenta</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 rámci spätnej väzby na samostatnú prípravu študenta </a:t>
            </a:r>
            <a:r>
              <a:rPr b="0" lang="sk-SK" sz="1600" spc="-1" strike="noStrike">
                <a:solidFill>
                  <a:srgbClr val="000000"/>
                </a:solidFill>
                <a:latin typeface="Calibri"/>
              </a:rPr>
              <a:t>na priamu vyučovaciu alebo výchovnú činnosť a na sebareflexiu študenta sa v rozbore cvičný učiteľ zameria na: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ie informácií o preberanom učiv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ie informácií o špecifikách triedy vo vzťahu k preberanému učivu (stav porozumenia učiva, porozumenie žiakov s individuálnymi vzdelávacími potrebami a podobne),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hodnotenie študentovho projektu/prípravy z pohľadu školského vzdelávacieho programu resp. školského výchovného programu, didaktického a výchovného aspektu, štruktúry, cieľov, motivácie a aktivizácie detí a žiakov a pod.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racovanie pripomienok a prezentácia odporúčaní a usmernení k projektu (príprave študenta). </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I. - ŠSJN</a:t>
            </a:r>
            <a:endParaRPr b="0" lang="en-US" sz="4400" spc="-1" strike="noStrike">
              <a:solidFill>
                <a:srgbClr val="000000"/>
              </a:solidFill>
              <a:latin typeface="Calibri"/>
            </a:endParaRPr>
          </a:p>
        </p:txBody>
      </p:sp>
      <p:sp>
        <p:nvSpPr>
          <p:cNvPr id="65" name=""/>
          <p:cNvSpPr txBox="1"/>
          <p:nvPr/>
        </p:nvSpPr>
        <p:spPr>
          <a:xfrm>
            <a:off x="499680" y="1267920"/>
            <a:ext cx="8186760" cy="496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V rámci spätnej väzby na študentovu priamu vyučovaciu alebo výchovnú č</a:t>
            </a:r>
            <a:r>
              <a:rPr b="0" lang="sk-SK" sz="1800" spc="-1" strike="noStrike">
                <a:solidFill>
                  <a:srgbClr val="000000"/>
                </a:solidFill>
                <a:latin typeface="Calibri"/>
              </a:rPr>
              <a:t>innosť sa v rozbore cvičný učiteľ zameria na: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hodnotenie študentovho výkonu z pohľadu cieľov, plnenia školského vzdelávacieho programu resp. školského výchovného programu , štruktúry vyučovacej alebo výchovnej jednotky, motivácie a aktivizácie detí a žiakov, hodnotenia detí a žiakov a pod.,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reakcie na pripomienky, spoločne a odlišne vnímané prvk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formulovanie odporúčaní pre ďalšiu činnosť a rozvoj študenta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e46c0a"/>
                </a:solidFill>
                <a:latin typeface="Calibri"/>
              </a:rPr>
              <a:t>Rozsah resp. strop praxí</a:t>
            </a:r>
            <a:r>
              <a:rPr b="1" lang="sk-SK" sz="1800" spc="-1" strike="noStrike">
                <a:solidFill>
                  <a:srgbClr val="000000"/>
                </a:solidFill>
                <a:latin typeface="Calibri"/>
              </a:rPr>
              <a:t> </a:t>
            </a:r>
            <a:r>
              <a:rPr b="0" lang="sk-SK" sz="1800" spc="-1" strike="noStrike">
                <a:solidFill>
                  <a:srgbClr val="000000"/>
                </a:solidFill>
                <a:latin typeface="Calibri"/>
              </a:rPr>
              <a:t>financovaných v rámci tejto jednotkovej ceny bude stanovený vo výzve/vyzvaní - Rozsah resp. strop pedagogických praxí financovaných v rámci štandardnej stupnice jednotkových nákladov je pre túto výzvu stanovený nasledovne – </a:t>
            </a:r>
            <a:r>
              <a:rPr b="1" lang="sk-SK" sz="1800" spc="-1" strike="noStrike">
                <a:solidFill>
                  <a:srgbClr val="e46c0a"/>
                </a:solidFill>
                <a:latin typeface="Calibri"/>
              </a:rPr>
              <a:t>max. 140 043 rozborov/projekt. </a:t>
            </a:r>
            <a:r>
              <a:rPr b="1" lang="sk-SK" sz="1800" spc="-1" strike="noStrike">
                <a:solidFill>
                  <a:srgbClr val="e46c0a"/>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verovanie výdavkov – ŠSJN bude prebiehať v 2 etapách:</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rámci kontroly žiadosti o platbu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očas kontroly na mies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VIII. - ŠSJN</a:t>
            </a:r>
            <a:endParaRPr b="0" lang="en-US" sz="4400" spc="-1" strike="noStrike">
              <a:solidFill>
                <a:srgbClr val="000000"/>
              </a:solidFill>
              <a:latin typeface="Calibri"/>
            </a:endParaRPr>
          </a:p>
        </p:txBody>
      </p:sp>
      <p:sp>
        <p:nvSpPr>
          <p:cNvPr id="67" name=""/>
          <p:cNvSpPr txBox="1"/>
          <p:nvPr/>
        </p:nvSpPr>
        <p:spPr>
          <a:xfrm>
            <a:off x="499680" y="980640"/>
            <a:ext cx="8186760" cy="5256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budú uhrádzané prijímateľovi </a:t>
            </a:r>
            <a:r>
              <a:rPr b="1" lang="sk-SK" sz="1400" spc="-1" strike="noStrike">
                <a:solidFill>
                  <a:srgbClr val="000000"/>
                </a:solidFill>
                <a:latin typeface="Calibri"/>
              </a:rPr>
              <a:t>po ukončení semestra na základe zdokladovania skutočne realizovaných priamych rozborov inovovaných praxí, praxí podľa novej metodiky a zvýšeného rozsahu praxí</a:t>
            </a:r>
            <a:r>
              <a:rPr b="0" lang="sk-SK" sz="1400" spc="-1" strike="noStrike">
                <a:solidFill>
                  <a:srgbClr val="000000"/>
                </a:solidFill>
                <a:latin typeface="Calibri"/>
              </a:rPr>
              <a:t>. Podmienky preplatenia JC - JC bude preplácaný na základe nasledovných dokladov, ktoré predloží prijímateľ:</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odmienky preplatenia  ŠSJN </a:t>
            </a:r>
            <a:r>
              <a:rPr b="0" lang="sk-SK" sz="1400" spc="-1" strike="noStrike">
                <a:solidFill>
                  <a:srgbClr val="000000"/>
                </a:solidFill>
                <a:latin typeface="Calibri"/>
              </a:rPr>
              <a:t>– doklady potrebne pre preplatenie jednotkovej ceny po absolvovaní vzdelávania:</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oznam študentov učiteľských fakúlt, ktorí absolvovali pedagogickú prax v danom semestri financovanú v rámci JC – ku každému študentovi priradený počet rozborov a počet realizovaných hodín rozborov, ktoré boli pre neho realizované a meno cvičného učiteľa, ktorý rozbor vykonal; zoznam bude poskytnutý učiteľskou fakultou; </a:t>
            </a:r>
            <a:r>
              <a:rPr b="0" lang="sk-SK" sz="1400" spc="-1" strike="noStrike" u="sng">
                <a:solidFill>
                  <a:srgbClr val="0000ff"/>
                </a:solidFill>
                <a:uFillTx/>
                <a:latin typeface="Calibri"/>
                <a:hlinkClick r:id="rId2"/>
              </a:rPr>
              <a:t>https://www.minedu.sk/usmernenie-k-ssjn-pedagogicke-praxe-zoznam-studentov/</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oznam študentov učiteľských fakúlt, ktorí absolvovali pedagogickú prax v danom semestri financovanú z dotácie štátneho rozpočtu resp. z iných zdrojov (napr. dopytovo-orientované projekty); zoznam bude poskytnutý učiteľskou fakultou; </a:t>
            </a:r>
            <a:r>
              <a:rPr b="0" lang="sk-SK" sz="1400" spc="-1" strike="noStrike" u="sng">
                <a:solidFill>
                  <a:srgbClr val="0000ff"/>
                </a:solidFill>
                <a:uFillTx/>
                <a:latin typeface="Calibri"/>
                <a:hlinkClick r:id="rId3"/>
              </a:rPr>
              <a:t>https://www.minedu.sk/usmernenie-k-ssjn-pedagogicke-praxe-zoznam-studentov/</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é rozbory v písomnej forme podpísané cvičnými učiteľmi.</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účasťou overovania žiadosti o platbu budú aj nasledovné skutočnosti</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ovania potenciálneho dvojitého financovania – zoznamy poskytnuté prijímateľom budú overované vo vzťahu s údajmi MŠVVaŠ SR týkajúcich sa financovania pedagogických praxí zo štátneho rozpočtu - údaj o objeme finančných prostriedkov poskytnutých VŠ na základe dotačnej zmluvy (vyúčtovanie dotácie VŠ v súlade s platnou legislatívou – k 30.6.) ako aj o počte realizovaných rozborov.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ovania potenciálneho duplicitného financovania rozborov v rámci národných a dopytovoorientovaných projektoch - zoznamy poskytnuté prijímateľom budú overované vo vzťahu k zoznamom poskytnutých inými prijímateľmi/projekty, v ktorých sú financované pedagogické prax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X. - ŠSJN</a:t>
            </a:r>
            <a:endParaRPr b="0" lang="en-US" sz="4400" spc="-1" strike="noStrike">
              <a:solidFill>
                <a:srgbClr val="000000"/>
              </a:solidFill>
              <a:latin typeface="Calibri"/>
            </a:endParaRPr>
          </a:p>
        </p:txBody>
      </p:sp>
      <p:sp>
        <p:nvSpPr>
          <p:cNvPr id="69" name=""/>
          <p:cNvSpPr txBox="1"/>
          <p:nvPr/>
        </p:nvSpPr>
        <p:spPr>
          <a:xfrm>
            <a:off x="499680" y="105264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verovanie počas kontroly na mieste</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y na mieste sa budú vykonávať za účelom uistenia sa, že sa rozbory reálne vykonávajú v deklarovanom rozsahu v projekt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a na mieste sa bude vykonávať primárne ako neohlásená kontrola na mieste. Predmetom kontroly bude overenie konania aktivity, overenie počtu osôb, prípadne rozhovor s účastníkmi za účelom overenia si konania aktivity, prípadne spokojnosti s realizovaným aktivity.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Na každom dopytovo-orientovanom projekte musí byť vykonaná min. 1 kontrola na mieste počas jeho realizáci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yšší počet kontrol na mieste sa uskutoční v prípade vyhodnotenia projektu ako rizikový (napr. na základe medializovaných káuz, podaných podnetov na SO).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Kontroly na mieste budú vykonávané v súlade s harmonogramom kontrol na mieste na príslušný kalendárny rok, ktorý bude vychádzať z analýzy rizík. Predmetom kontroly na mieste bude overenie počtu a rozsahu pedagogických praxí. Predmetom kontroly bude overenie, či realizácia praxí prebehla v súlade s projekt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X.</a:t>
            </a:r>
            <a:endParaRPr b="0" lang="en-US" sz="4400" spc="-1" strike="noStrike">
              <a:solidFill>
                <a:srgbClr val="000000"/>
              </a:solidFill>
              <a:latin typeface="Calibri"/>
            </a:endParaRPr>
          </a:p>
        </p:txBody>
      </p:sp>
      <p:sp>
        <p:nvSpPr>
          <p:cNvPr id="71" name=""/>
          <p:cNvSpPr txBox="1"/>
          <p:nvPr/>
        </p:nvSpPr>
        <p:spPr>
          <a:xfrm>
            <a:off x="499680" y="1052640"/>
            <a:ext cx="8186760" cy="5184720"/>
          </a:xfrm>
          <a:prstGeom prst="rect">
            <a:avLst/>
          </a:prstGeom>
          <a:noFill/>
          <a:ln w="0">
            <a:noFill/>
          </a:ln>
        </p:spPr>
        <p:txBody>
          <a:bodyPr anchor="t">
            <a:normAutofit/>
          </a:bodyPr>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obné výdavky prijímateľa, resp. partnera, ktoré súvisia s výkonom týchto činností:</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ípravná fáza realizácie projektu (napr. príprava žiadosti o NFP);</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ávne poradenstvo (napr. spisovanie listín o právnych úkonoch, spracúvanie právnych rozb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ublicita a informovanosť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účtovníctva;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agendy personalistiky a miez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rejné obstarávanie (vrátane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bslužné činnosti (upratovanie, čistenie, rozmnožovanie materiálov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pravy a údržbu majetku využívaného pre účely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edenie vozidla využívaného personálom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kontrola a odborný dohľad (vrátane riadenia organizácie),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výdavky na obstaranie služieb nevyhnutných pre vyššie uvedené činnosti:</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služby súvisiace s publicitou a informovanosťou spojenou s realizáciou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účtovníctva;</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vedenie agendy personalistiky a miez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verejného obstarávania, prieskumu trh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hygieny (upratovanie, čistenie a pod.);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XI.</a:t>
            </a:r>
            <a:endParaRPr b="0" lang="en-US" sz="4400" spc="-1" strike="noStrike">
              <a:solidFill>
                <a:srgbClr val="000000"/>
              </a:solidFill>
              <a:latin typeface="Calibri"/>
            </a:endParaRPr>
          </a:p>
        </p:txBody>
      </p:sp>
      <p:sp>
        <p:nvSpPr>
          <p:cNvPr id="73" name=""/>
          <p:cNvSpPr txBox="1"/>
          <p:nvPr/>
        </p:nvSpPr>
        <p:spPr>
          <a:xfrm>
            <a:off x="499680" y="1052640"/>
            <a:ext cx="8186760" cy="5184720"/>
          </a:xfrm>
          <a:prstGeom prst="rect">
            <a:avLst/>
          </a:prstGeom>
          <a:noFill/>
          <a:ln w="0">
            <a:noFill/>
          </a:ln>
        </p:spPr>
        <p:txBody>
          <a:bodyPr anchor="t">
            <a:normAutofit/>
          </a:bodyPr>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opráv a údržby majetku využívaného pre účely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epravy tovaru a osôb, okrem osôb cieľovej skupiny a odborného personálu (napr. lektor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kontroly a odborného dohľad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externé zabezpečenie právneho poradenstva.</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bežné výdavky na obstaranie majetku; okrem majetku, ktorý výlučne používa odborný personál a osoby cieľovej skupiny, </a:t>
            </a:r>
            <a:endParaRPr b="0" lang="en-US" sz="1100" spc="-1" strike="noStrike">
              <a:solidFill>
                <a:srgbClr val="000000"/>
              </a:solidFill>
              <a:latin typeface="Calibri"/>
            </a:endParaRPr>
          </a:p>
          <a:p>
            <a:pPr marL="343080" indent="-34308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100" spc="-1" strike="noStrike">
                <a:solidFill>
                  <a:srgbClr val="000000"/>
                </a:solidFill>
                <a:latin typeface="Calibri"/>
              </a:rPr>
              <a:t>ostatné výdavky</a:t>
            </a:r>
            <a:r>
              <a:rPr b="0" lang="sk-SK" sz="1100" spc="-1" strike="noStrike">
                <a:solidFill>
                  <a:srgbClr val="000000"/>
                </a:solidFill>
                <a:latin typeface="Calibri"/>
              </a:rPr>
              <a: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štovné;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telekomunikačné poplatky;</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niny (poštové známky a kolky, stravné poukážk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cestovné náhrady pre zamestnancov vykonávajúcich činnost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revádzku vozidla využívaného pri vykonávaní činnosti pre projekt;</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energie ako sú voda, plyn, elektrická energia a pod., ktoré vznikli v súvislosti s vykonávanými činnosťami pre projekt;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odpisy majetku využívaného pri činnostiach projektu;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obstaranie spotrebného tovaru a prevádzkového materiálu (papier, písacie potreby, čistiace prostriedky a pod.); </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úhradu poplatkov, napr. notárskych, správnych, bankových poplatkov;</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výdavky na poradenstvo (právne, daňové, účtovné a pod.);</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poistenie majetku;</a:t>
            </a:r>
            <a:endParaRPr b="0" lang="en-US" sz="11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100" spc="-1" strike="noStrike">
                <a:solidFill>
                  <a:srgbClr val="000000"/>
                </a:solidFill>
                <a:latin typeface="Calibri"/>
              </a:rPr>
              <a:t>správa informačných systémov.</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Neoprávnené výdavky</a:t>
            </a:r>
            <a:endParaRPr b="0" lang="en-US" sz="4000" spc="-1" strike="noStrike">
              <a:solidFill>
                <a:srgbClr val="000000"/>
              </a:solidFill>
              <a:latin typeface="Calibri"/>
            </a:endParaRPr>
          </a:p>
        </p:txBody>
      </p:sp>
      <p:sp>
        <p:nvSpPr>
          <p:cNvPr id="75" name=""/>
          <p:cNvSpPr txBox="1"/>
          <p:nvPr/>
        </p:nvSpPr>
        <p:spPr>
          <a:xfrm>
            <a:off x="468000" y="1268280"/>
            <a:ext cx="8186760" cy="4897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Calibri"/>
              </a:rPr>
              <a:t>všetky výdavky, ktoré nie sú uvedené v zozname oprávnených výdavko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400" spc="-1" strike="noStrike">
                <a:solidFill>
                  <a:srgbClr val="e46c0a"/>
                </a:solidFill>
                <a:latin typeface="Calibri"/>
              </a:rPr>
              <a:t>Oprávnenosť výdavkov – základné pravidlá</a:t>
            </a:r>
            <a:endParaRPr b="0" lang="en-US" sz="3400" spc="-1" strike="noStrike">
              <a:solidFill>
                <a:srgbClr val="000000"/>
              </a:solidFill>
              <a:latin typeface="Calibri"/>
            </a:endParaRPr>
          </a:p>
        </p:txBody>
      </p:sp>
      <p:sp>
        <p:nvSpPr>
          <p:cNvPr id="77" name=""/>
          <p:cNvSpPr txBox="1"/>
          <p:nvPr/>
        </p:nvSpPr>
        <p:spPr>
          <a:xfrm>
            <a:off x="499680" y="1196640"/>
            <a:ext cx="8186760" cy="5040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0" lang="sk-SK" sz="1600" spc="-1" strike="noStrike">
                <a:solidFill>
                  <a:srgbClr val="00000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u="sng">
                <a:solidFill>
                  <a:srgbClr val="000000"/>
                </a:solidFill>
                <a:uFillTx/>
                <a:latin typeface="Calibri"/>
              </a:rPr>
              <a:t>je povinný </a:t>
            </a:r>
            <a:r>
              <a:rPr b="1" lang="sk-SK" sz="1600" spc="-1" strike="noStrike">
                <a:solidFill>
                  <a:srgbClr val="000000"/>
                </a:solidFill>
                <a:latin typeface="Calibri"/>
              </a:rPr>
              <a:t>aplikovať v rozpočte nasledovné zjednodušené vykazovanie výdavkov</a:t>
            </a:r>
            <a:r>
              <a:rPr b="0" lang="sk-SK" sz="1600" spc="-1" strike="noStrike">
                <a:solidFill>
                  <a:srgbClr val="00000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aušálna sadzba </a:t>
            </a:r>
            <a:r>
              <a:rPr b="0" lang="sk-SK" sz="1600" spc="-1" strike="noStrike">
                <a:solidFill>
                  <a:srgbClr val="000000"/>
                </a:solidFill>
                <a:latin typeface="Calibri"/>
              </a:rPr>
              <a:t>na </a:t>
            </a:r>
            <a:r>
              <a:rPr b="1" lang="sk-SK" sz="1600" spc="-1" strike="noStrike">
                <a:solidFill>
                  <a:srgbClr val="000000"/>
                </a:solidFill>
                <a:latin typeface="Calibri"/>
              </a:rPr>
              <a:t>nepriame výdavky vo výške 15 % oprávnených priamych nákladov na zamestnancov </a:t>
            </a:r>
            <a:r>
              <a:rPr b="0" lang="sk-SK" sz="1600" spc="-1" strike="noStrike">
                <a:solidFill>
                  <a:srgbClr val="000000"/>
                </a:solidFill>
                <a:latin typeface="Calibri"/>
              </a:rPr>
              <a:t>(všeobecné nariadenie, čl. 68  písm. b)</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tandardná stupnica jednotkových nákladov - prax študentov učiteľských fakúlt – prax budúcich učiteľov</a:t>
            </a:r>
            <a:r>
              <a:rPr b="0" lang="sk-SK" sz="1600" spc="-1" strike="noStrike">
                <a:solidFill>
                  <a:srgbClr val="000000"/>
                </a:solidFill>
                <a:latin typeface="Calibri"/>
              </a:rPr>
              <a:t> - hodina priameho rozboru  jednotky priamej vyučovacej činnosti (vyučovacia hodina v škole) alebo priamej výchovnej činnosti (školské zariadenie) študenta cvičným učiteľom</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a:t>
            </a:r>
            <a:r>
              <a:rPr b="0" lang="sk-SK" sz="1600" spc="-1" strike="noStrike">
                <a:solidFill>
                  <a:srgbClr val="000000"/>
                </a:solidFill>
                <a:latin typeface="Calibri"/>
              </a:rPr>
              <a:t> (napr. zákon o verejnom obstarávaní, zákon o účtovníctve, zákonník prá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Tvorba rozpočtu</a:t>
            </a:r>
            <a:endParaRPr b="0" lang="en-US" sz="4400" spc="-1" strike="noStrike">
              <a:solidFill>
                <a:srgbClr val="000000"/>
              </a:solidFill>
              <a:latin typeface="Calibri"/>
            </a:endParaRPr>
          </a:p>
        </p:txBody>
      </p:sp>
      <p:sp>
        <p:nvSpPr>
          <p:cNvPr id="79" name=""/>
          <p:cNvSpPr txBox="1"/>
          <p:nvPr/>
        </p:nvSpPr>
        <p:spPr>
          <a:xfrm>
            <a:off x="499680" y="1125000"/>
            <a:ext cx="8186760" cy="54723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ložený na </a:t>
            </a:r>
            <a:r>
              <a:rPr b="1" lang="sk-SK" sz="1400" spc="-1" strike="noStrike">
                <a:solidFill>
                  <a:srgbClr val="000000"/>
                </a:solidFill>
                <a:latin typeface="Calibri"/>
              </a:rPr>
              <a:t>platnom formulári rozpočtu </a:t>
            </a:r>
            <a:r>
              <a:rPr b="0" lang="sk-SK" sz="1400" spc="-1" strike="noStrike">
                <a:solidFill>
                  <a:srgbClr val="000000"/>
                </a:solidFill>
                <a:latin typeface="Calibri"/>
              </a:rPr>
              <a:t>(príloha 1a Príručky pre žiadateľa), vyplniť aj zdroje financovani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každej položke/podpoložke rozpočtu je uvedená maximálna jednotková cena, presný počet jednotiek korešpondujúci s uvedenou jednotkou, výdavky spolu vyjadrujúce súčin počtu jednotiek a jednotkovej cen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ozpočtové položky sú jasne priradené k aktivite / aktivitám</a:t>
            </a:r>
            <a:r>
              <a:rPr b="0" lang="sk-SK" sz="1400" spc="-1" strike="noStrike">
                <a:solidFill>
                  <a:srgbClr val="000000"/>
                </a:solidFill>
                <a:latin typeface="Calibri"/>
              </a:rPr>
              <a:t> </a:t>
            </a:r>
            <a:r>
              <a:rPr b="1" lang="sk-SK" sz="1400" spc="-1" strike="noStrike">
                <a:solidFill>
                  <a:srgbClr val="000000"/>
                </a:solidFill>
                <a:latin typeface="Calibri"/>
              </a:rPr>
              <a:t>v prípade podporných aktivít, v prípade hlavných aktivít sú rozpočtové položky priradené len k jednej aktivit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rozpočtu je </a:t>
            </a:r>
            <a:r>
              <a:rPr b="1" lang="sk-SK" sz="1400" spc="-1" strike="noStrike">
                <a:solidFill>
                  <a:srgbClr val="000000"/>
                </a:solidFill>
                <a:latin typeface="Calibri"/>
              </a:rPr>
              <a:t>v komentári k rozpočtu podrobne opísaná z hľadiska obsahu</a:t>
            </a:r>
            <a:r>
              <a:rPr b="0" lang="sk-SK" sz="1400" spc="-1" strike="noStrike">
                <a:solidFill>
                  <a:srgbClr val="000000"/>
                </a:solidFill>
                <a:latin typeface="Calibri"/>
              </a:rPr>
              <a:t> (rozpísané jej súčasti), počtu a z hľadiska spôsobu využitia vo väzbe na aktivitu projektu a zároveň je k nej priradený kód z číselníka oprávnených výdavkov; súlad údajov v rozpočtovej položke a komentári k nej</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ozpočtové položky/podpoložky personálnych výdavkov musia byť </a:t>
            </a:r>
            <a:r>
              <a:rPr b="1" lang="sk-SK" sz="1400" spc="-1" strike="noStrike">
                <a:solidFill>
                  <a:srgbClr val="000000"/>
                </a:solidFill>
                <a:latin typeface="Calibri"/>
              </a:rPr>
              <a:t>v súlade s personálnou maticou</a:t>
            </a:r>
            <a:r>
              <a:rPr b="0" lang="sk-SK" sz="1400" spc="-1" strike="noStrike">
                <a:solidFill>
                  <a:srgbClr val="000000"/>
                </a:solidFill>
                <a:latin typeface="Calibri"/>
              </a:rPr>
              <a:t> (časť Administratívna a prevádzková kapacita žiadateľa zo žiadosti o NFP ) ako aj </a:t>
            </a:r>
            <a:r>
              <a:rPr b="1" lang="sk-SK" sz="1400" spc="-1" strike="noStrike">
                <a:solidFill>
                  <a:srgbClr val="000000"/>
                </a:solidFill>
                <a:latin typeface="Calibri"/>
              </a:rPr>
              <a:t>s pozíciami uvedenými v popise projektu</a:t>
            </a:r>
            <a:r>
              <a:rPr b="0" lang="sk-SK" sz="1400" spc="-1" strike="noStrike">
                <a:solidFill>
                  <a:srgbClr val="000000"/>
                </a:solidFill>
                <a:latin typeface="Calibri"/>
              </a:rPr>
              <a:t> v časti ŽoNFP Spôsob realizácie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názvu aktivít v časti ŽoNFP - Spôsob realizácie aktivít projektu, v časti  ŽoNFP – rozpočet  a v rozpočte; správne priradenie rozpočtových položiek k aktivitám (stĺpec I)</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úlad ŽoNFP – časti 7.2, 7.4, 11 a rozpočtu ako prílohy o ŽoNFP</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každá položka/podpoložka musí obsahovať </a:t>
            </a:r>
            <a:r>
              <a:rPr b="1" lang="sk-SK" sz="1400" spc="-1" strike="noStrike">
                <a:solidFill>
                  <a:srgbClr val="000000"/>
                </a:solidFill>
                <a:latin typeface="Calibri"/>
              </a:rPr>
              <a:t>kód z číselníka oprávnených výdavkov</a:t>
            </a:r>
            <a:r>
              <a:rPr b="0" lang="sk-SK" sz="1400" spc="-1" strike="noStrike">
                <a:solidFill>
                  <a:srgbClr val="000000"/>
                </a:solidFill>
                <a:latin typeface="Calibri"/>
              </a:rPr>
              <a:t> (bližšie upravené v metodickom pokyne vydanom CKO č. 6, aktuálnej verzie, zverejnenom na webovom sídle </a:t>
            </a:r>
            <a:r>
              <a:rPr b="0" lang="sk-SK" sz="1400" spc="-1" strike="noStrike" u="sng">
                <a:solidFill>
                  <a:srgbClr val="0000ff"/>
                </a:solidFill>
                <a:uFillTx/>
                <a:latin typeface="Calibri"/>
                <a:hlinkClick r:id="rId2"/>
              </a:rPr>
              <a:t>http://www.partnerskadohoda.gov.sk/metodicke-pokyny-cko/</a:t>
            </a:r>
            <a:r>
              <a:rPr b="0" lang="sk-SK" sz="1400" spc="-1" strike="noStrike">
                <a:solidFill>
                  <a:srgbClr val="000000"/>
                </a:solidFill>
                <a:latin typeface="Calibri"/>
              </a:rPr>
              <a:t> - v stĺpci B1 a B2 formuláru rozpočtu sa nachádza číselník oprávnených výdavkov (podľa číselníka + ekon.klasifikácie); priradiť k RP iba 1 ekon. klasifikáciu – vo formulári uvedené príklad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fontScale="98000"/>
          </a:bodyPr>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ynaložený výdavok je v </a:t>
            </a:r>
            <a:r>
              <a:rPr b="1" lang="sk-SK" sz="1400" spc="-1" strike="noStrike">
                <a:solidFill>
                  <a:srgbClr val="000000"/>
                </a:solidFill>
                <a:latin typeface="Calibri"/>
              </a:rPr>
              <a:t>súlade s platnými všeobecne záväznými právnymi predpismi </a:t>
            </a:r>
            <a:r>
              <a:rPr b="0" lang="sk-SK" sz="1400" spc="-1" strike="noStrike">
                <a:solidFill>
                  <a:srgbClr val="000000"/>
                </a:solidFill>
                <a:latin typeface="Calibri"/>
              </a:rPr>
              <a:t>(napr. zákon  č. 18/1996 Z. z. o cenách v znení neskorších predpisov, Zákonník práce, Občiansky zákonník);</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ky sú vynaložené v</a:t>
            </a:r>
            <a:r>
              <a:rPr b="1" lang="sk-SK" sz="14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skutočne vynaložený medzi 1. januárom 2014 a dňom ukončenia realizácie aktivít projektu nie však neskôr ako 31. decembra 2023</a:t>
            </a:r>
            <a:r>
              <a:rPr b="0" lang="sk-SK" sz="1400" spc="-1" strike="noStrike">
                <a:solidFill>
                  <a:srgbClr val="000000"/>
                </a:solidFill>
                <a:latin typeface="Calibri"/>
              </a:rPr>
              <a:t>. SO môže stanoviť užšie kritériá pre počiatočný a koncový dátum oprávnenosti výdavkov  vo výzve (</a:t>
            </a:r>
            <a:r>
              <a:rPr b="1" lang="sk-SK" sz="1400" spc="-1" strike="noStrike">
                <a:solidFill>
                  <a:srgbClr val="000000"/>
                </a:solidFill>
                <a:latin typeface="Calibri"/>
              </a:rPr>
              <a:t>oprávnenosť výdavkov začína plynúť dňom účinnosti zmluvy o poskytnutí NFP resp. dátumom uvedeným v zmluve o NFP ako začiatok realizácie projektu</a:t>
            </a:r>
            <a:r>
              <a:rPr b="0" lang="sk-SK" sz="1400" spc="-1" strike="noStrike">
                <a:solidFill>
                  <a:srgbClr val="000000"/>
                </a:solidFill>
                <a:latin typeface="Calibri"/>
              </a:rPr>
              <a:t>);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je realizovaný na oprávnenom území;</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výdavok je primeraný, t.j. zodpovedá obvyklým cenám v danom mieste a čase a zodpovedá potrebám projektu</a:t>
            </a:r>
            <a:r>
              <a:rPr b="0" lang="sk-SK"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spĺňa podmienky hospodárnosti, efektívnosti</a:t>
            </a:r>
            <a:r>
              <a:rPr b="0" lang="sk-SK" sz="1400" spc="-1" strike="noStrike">
                <a:solidFill>
                  <a:srgbClr val="000000"/>
                </a:solidFill>
                <a:latin typeface="Calibri"/>
              </a:rPr>
              <a:t> </a:t>
            </a:r>
            <a:r>
              <a:rPr b="1" lang="sk-SK" sz="1400" spc="-1" strike="noStrike">
                <a:solidFill>
                  <a:srgbClr val="000000"/>
                </a:solidFill>
                <a:latin typeface="Calibri"/>
              </a:rPr>
              <a:t>a účelnosti </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je preukázaný faktúrami alebo účtovnými dokladmi rovnocennej dôkaznej hodnoty, ktoré sú riadne evidované v účtovníctve prijímateľa</a:t>
            </a:r>
            <a:r>
              <a:rPr b="0" lang="sk-SK" sz="1400" spc="-1" strike="noStrike">
                <a:solidFill>
                  <a:srgbClr val="000000"/>
                </a:solidFill>
                <a:latin typeface="Calibri"/>
              </a:rPr>
              <a:t> v súlade s platnými všeobecne záväznými právnymi predpismi a podmienkami definovanými Systémom riadenia EIŠF a zmluvou o poskytnutí NFP;</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ersonálne výdavky</a:t>
            </a:r>
            <a:endParaRPr b="0" lang="en-US" sz="4400" spc="-1" strike="noStrike">
              <a:solidFill>
                <a:srgbClr val="000000"/>
              </a:solidFill>
              <a:latin typeface="Calibri"/>
            </a:endParaRPr>
          </a:p>
        </p:txBody>
      </p:sp>
      <p:sp>
        <p:nvSpPr>
          <p:cNvPr id="81" name=""/>
          <p:cNvSpPr txBox="1"/>
          <p:nvPr/>
        </p:nvSpPr>
        <p:spPr>
          <a:xfrm>
            <a:off x="539640" y="1125360"/>
            <a:ext cx="8229600" cy="5112000"/>
          </a:xfrm>
          <a:prstGeom prst="rect">
            <a:avLst/>
          </a:prstGeom>
          <a:noFill/>
          <a:ln w="0">
            <a:noFill/>
          </a:ln>
        </p:spPr>
        <p:txBody>
          <a:bodyPr anchor="t">
            <a:normAutofit fontScale="99000"/>
          </a:bodyPr>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ame</a:t>
            </a:r>
            <a:r>
              <a:rPr b="0" lang="sk-SK" sz="1400" spc="-1" strike="noStrike">
                <a:solidFill>
                  <a:srgbClr val="000000"/>
                </a:solidFill>
                <a:latin typeface="Calibri"/>
              </a:rPr>
              <a:t> </a:t>
            </a:r>
            <a:r>
              <a:rPr b="1" lang="sk-SK" sz="1400" spc="-1" strike="noStrike">
                <a:solidFill>
                  <a:srgbClr val="000000"/>
                </a:solidFill>
                <a:latin typeface="Calibri"/>
              </a:rPr>
              <a:t>personálne výdavky na riadenie projektu – </a:t>
            </a:r>
            <a:r>
              <a:rPr b="0" lang="sk-SK" sz="1400" spc="-1" strike="noStrike">
                <a:solidFill>
                  <a:srgbClr val="000000"/>
                </a:solidFill>
                <a:latin typeface="Calibri"/>
              </a:rPr>
              <a:t>projektový manažér, finančný manažér/hlavný manažér, administratívny personál, manažér monitorovania – zaradené  v rozpočte v časti 3 Koordinácia projektu; kvalifikačné predpoklady – príloha č. 5 výzvy; </a:t>
            </a:r>
            <a:r>
              <a:rPr b="0" lang="sk-SK" sz="1400" spc="-1" strike="noStrike">
                <a:solidFill>
                  <a:srgbClr val="ff0000"/>
                </a:solidFill>
                <a:latin typeface="Calibri"/>
              </a:rPr>
              <a:t>nemôžu tvoriť podstatnú/významnú časť rozpočtu </a:t>
            </a:r>
            <a:r>
              <a:rPr b="0" lang="sk-SK" sz="1400" spc="-1" strike="noStrike">
                <a:solidFill>
                  <a:srgbClr val="000000"/>
                </a:solidFill>
                <a:latin typeface="Calibri"/>
              </a:rPr>
              <a:t>-  ak vyplnená časť 3 rozpočtu, musí byť </a:t>
            </a:r>
            <a:r>
              <a:rPr b="0" lang="sk-SK" sz="1400" spc="-1" strike="noStrike">
                <a:solidFill>
                  <a:srgbClr val="ff0000"/>
                </a:solidFill>
                <a:latin typeface="Calibri"/>
              </a:rPr>
              <a:t>koordinácia samostatnou podaktivitou v rámci hlavnej aktivity v časti Spôsob realizácie aktivít projektu ŽoNFP</a:t>
            </a:r>
            <a:r>
              <a:rPr b="0" lang="sk-SK" sz="1400" spc="-1" strike="noStrike">
                <a:solidFill>
                  <a:srgbClr val="000000"/>
                </a:solidFill>
                <a:latin typeface="Calibri"/>
              </a:rPr>
              <a:t>; ide o pracovné činnosti uvedené v prílohe č.1a rozpočet v časti 3 „Koordinácia projektu“, 3.1 „Personálne výdavky interné - koordinačné činnosti; priradiť všetky merateľné ukazovatel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a:t>
            </a:r>
            <a:r>
              <a:rPr b="0" lang="sk-SK" sz="1400" spc="-1" strike="noStrike">
                <a:solidFill>
                  <a:srgbClr val="000000"/>
                </a:solidFill>
                <a:latin typeface="Calibri"/>
              </a:rPr>
              <a:t> zahŕňa výdavky vzniknuté na základe pracovnoprávnych vzťahov alebo obdobných vzťahov (napr. zákonník práce, zákon o štátnej službe,...)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osobohodiny</a:t>
            </a:r>
            <a:r>
              <a:rPr b="0" lang="sk-SK" sz="1400" spc="-1" strike="noStrike">
                <a:solidFill>
                  <a:srgbClr val="000000"/>
                </a:solidFill>
                <a:latin typeface="Calibri"/>
              </a:rPr>
              <a:t> ako jednotka</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imeranosť ceny práce</a:t>
            </a:r>
            <a:r>
              <a:rPr b="0" lang="sk-SK" sz="1400" spc="-1" strike="noStrike">
                <a:solidFill>
                  <a:srgbClr val="000000"/>
                </a:solidFill>
                <a:latin typeface="Calibri"/>
              </a:rPr>
              <a:t> – zodpovedať cene práce v organizácii resp. primeraná/obvyklá cene práce  na trhu pre danú pozíciu v danom čase a mieste</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realizácia činnosti </a:t>
            </a:r>
            <a:r>
              <a:rPr b="1" lang="sk-SK" sz="14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400" spc="-1" strike="noStrike">
                <a:solidFill>
                  <a:srgbClr val="000000"/>
                </a:solidFill>
                <a:latin typeface="Calibri"/>
              </a:rPr>
              <a:t> vykonávať osoby, ktoré sú v pracovnoprávnom vzťahu k žiadateľovi a to ani prostredníctvom  iných právnických, resp. fyzických osôb </a:t>
            </a:r>
            <a:endParaRPr b="0" lang="en-US" sz="1400" spc="-1" strike="noStrike">
              <a:solidFill>
                <a:srgbClr val="000000"/>
              </a:solidFill>
              <a:latin typeface="Calibri"/>
            </a:endParaRPr>
          </a:p>
          <a:p>
            <a:pPr marL="339480" indent="-3394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hody o prácach vykonávaných mimo pracovného pomeru</a:t>
            </a:r>
            <a:r>
              <a:rPr b="0" lang="sk-SK" sz="1400" spc="-1" strike="noStrike">
                <a:solidFill>
                  <a:srgbClr val="000000"/>
                </a:solidFill>
                <a:latin typeface="Calibri"/>
              </a:rPr>
              <a:t> - špecifickosť v dohôd – 2 rozpočtové položky – jedna odmena za prácu -  637027 (jednotka osobohodiny); druhá odvody – 610620 (jednotka projek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Hospodárnosť a efektívnosť</a:t>
            </a:r>
            <a:endParaRPr b="0" lang="en-US" sz="4400" spc="-1" strike="noStrike">
              <a:solidFill>
                <a:srgbClr val="000000"/>
              </a:solidFill>
              <a:latin typeface="Calibri"/>
            </a:endParaRPr>
          </a:p>
        </p:txBody>
      </p:sp>
      <p:sp>
        <p:nvSpPr>
          <p:cNvPr id="83"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sa j</a:t>
            </a:r>
            <a:r>
              <a:rPr b="1" lang="sk-SK" sz="1400" spc="-1" strike="noStrike">
                <a:solidFill>
                  <a:srgbClr val="000000"/>
                </a:solidFill>
                <a:latin typeface="Calibri"/>
              </a:rPr>
              <a:t>ednoznačne týka oprávnenej aktivity projektu a musí byť vynaložený v období realizácie projektu, nie pred alebo po schválenom období trvania projektu </a:t>
            </a:r>
            <a:r>
              <a:rPr b="0" lang="sk-SK" sz="1400" spc="-1" strike="noStrike">
                <a:solidFill>
                  <a:srgbClr val="000000"/>
                </a:solidFill>
                <a:latin typeface="Calibri"/>
              </a:rPr>
              <a:t>(dátum realizácie výdavku = dátum úhrady zo strany žiadateľa predstavuje počiatočný bod pre posúdenie oprávnenosti výdavkov);</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vynaložený na aktivitu</a:t>
            </a:r>
            <a:r>
              <a:rPr b="0" lang="sk-SK" sz="1400" spc="-1" strike="noStrike">
                <a:solidFill>
                  <a:srgbClr val="000000"/>
                </a:solidFill>
                <a:latin typeface="Calibri"/>
              </a:rPr>
              <a:t> v súlade </a:t>
            </a:r>
            <a:r>
              <a:rPr b="1" lang="sk-SK" sz="1400" spc="-1" strike="noStrike">
                <a:solidFill>
                  <a:srgbClr val="000000"/>
                </a:solidFill>
                <a:latin typeface="Calibri"/>
              </a:rPr>
              <a:t>s obsahovou stránkou projektu</a:t>
            </a:r>
            <a:r>
              <a:rPr b="0" lang="sk-SK" sz="1400" spc="-1" strike="noStrike">
                <a:solidFill>
                  <a:srgbClr val="000000"/>
                </a:solidFill>
                <a:latin typeface="Calibri"/>
              </a:rPr>
              <a:t> a je plne </a:t>
            </a:r>
            <a:r>
              <a:rPr b="1" lang="sk-SK" sz="1400" spc="-1" strike="noStrike">
                <a:solidFill>
                  <a:srgbClr val="000000"/>
                </a:solidFill>
                <a:latin typeface="Calibri"/>
              </a:rPr>
              <a:t>v súlade s cieľmi projektu</a:t>
            </a:r>
            <a:r>
              <a:rPr b="0" lang="sk-SK" sz="1400" spc="-1" strike="noStrike">
                <a:solidFill>
                  <a:srgbClr val="000000"/>
                </a:solidFill>
                <a:latin typeface="Calibri"/>
              </a:rPr>
              <a:t> (z hľadiska trvania, typu a miesta realizáci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400" spc="-1" strike="noStrike">
                <a:solidFill>
                  <a:srgbClr val="000000"/>
                </a:solidFill>
                <a:latin typeface="Calibri"/>
              </a:rPr>
              <a:t>je opodstatnený </a:t>
            </a:r>
            <a:r>
              <a:rPr b="0" lang="sk-SK" sz="1400" spc="-1" strike="noStrike">
                <a:solidFill>
                  <a:srgbClr val="000000"/>
                </a:solidFill>
                <a:latin typeface="Calibri"/>
              </a:rPr>
              <a:t>(je nevyhnutný k dosiahnutiu plánovaných aktivít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ýdavok uvedený v každej položke/podpoložke </a:t>
            </a:r>
            <a:r>
              <a:rPr b="1" lang="sk-SK" sz="1600" spc="-1" strike="noStrike" u="sng">
                <a:solidFill>
                  <a:srgbClr val="ff0000"/>
                </a:solidFill>
                <a:uFillTx/>
                <a:latin typeface="Calibri"/>
              </a:rPr>
              <a:t>spĺňa zásady zdravého a efektívneho finančného riadenia</a:t>
            </a:r>
            <a:r>
              <a:rPr b="1" lang="sk-SK" sz="1600" spc="-1" strike="noStrike" u="sng">
                <a:solidFill>
                  <a:srgbClr val="000000"/>
                </a:solidFill>
                <a:uFillTx/>
                <a:latin typeface="Calibri"/>
              </a:rPr>
              <a:t> </a:t>
            </a:r>
            <a:r>
              <a:rPr b="0" lang="sk-SK" sz="1400" spc="-1" strike="noStrike">
                <a:solidFill>
                  <a:srgbClr val="000000"/>
                </a:solidFill>
                <a:latin typeface="Calibri"/>
              </a:rPr>
              <a:t>a pri preukazovaní oprávnenosti výdavku je potrebné, aby žiadateľ vedel preukázať hospodárnosť, efektívnosť a účelnosť daného výdavku:</a:t>
            </a:r>
            <a:endParaRPr b="0" lang="en-US" sz="14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hospodárnosťou</a:t>
            </a:r>
            <a:r>
              <a:rPr b="0" lang="sk-SK" sz="1400" spc="-1" strike="noStrike">
                <a:solidFill>
                  <a:srgbClr val="000000"/>
                </a:solidFill>
                <a:latin typeface="Calibri"/>
              </a:rPr>
              <a:t> sa rozumie preukázanie, že </a:t>
            </a:r>
            <a:r>
              <a:rPr b="1" lang="sk-SK" sz="1400" spc="-1" strike="noStrike">
                <a:solidFill>
                  <a:srgbClr val="000000"/>
                </a:solidFill>
                <a:latin typeface="Calibri"/>
              </a:rPr>
              <a:t>vynaložená cena bola obvyklá na trhu v danom mieste a čase</a:t>
            </a:r>
            <a:r>
              <a:rPr b="0" lang="sk-SK" sz="1400" spc="-1" strike="noStrike">
                <a:solidFill>
                  <a:srgbClr val="000000"/>
                </a:solidFill>
                <a:latin typeface="Calibri"/>
              </a:rPr>
              <a:t>, t.j. minimalizovanie nákladov, resp. výdavkov na vykonanie činnosti alebo obstaranie tovarov, prác a služieb pri zachovaní ich primeranej úrovne a kvalit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efektívnosť</a:t>
            </a:r>
            <a:r>
              <a:rPr b="0" lang="sk-SK" sz="1400" spc="-1" strike="noStrike">
                <a:solidFill>
                  <a:srgbClr val="000000"/>
                </a:solidFill>
                <a:latin typeface="Calibri"/>
              </a:rPr>
              <a:t> sa rozumie maximalizovanie výsledkov činnosti vo vzťahu k disponibilným verejným prostriedkom,</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d </a:t>
            </a:r>
            <a:r>
              <a:rPr b="1" lang="sk-SK" sz="1400" spc="-1" strike="noStrike" u="sng">
                <a:solidFill>
                  <a:srgbClr val="ff0000"/>
                </a:solidFill>
                <a:uFillTx/>
                <a:latin typeface="Calibri"/>
              </a:rPr>
              <a:t>účelnosťou</a:t>
            </a:r>
            <a:r>
              <a:rPr b="0" lang="sk-SK" sz="1400" spc="-1" strike="noStrike">
                <a:solidFill>
                  <a:srgbClr val="000000"/>
                </a:solidFill>
                <a:latin typeface="Calibri"/>
              </a:rPr>
              <a:t>  sa rozumie, že výdavok je </a:t>
            </a:r>
            <a:r>
              <a:rPr b="1" lang="sk-SK" sz="1400" spc="-1" strike="noStrike">
                <a:solidFill>
                  <a:srgbClr val="000000"/>
                </a:solidFill>
                <a:latin typeface="Calibri"/>
              </a:rPr>
              <a:t>nevyhnutný pre realizáciu aktivít projektu a má priamu väzbu na dané aktivity</a:t>
            </a:r>
            <a:r>
              <a:rPr b="0" lang="sk-SK"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000" spc="-1" strike="noStrike">
                <a:solidFill>
                  <a:srgbClr val="e46c0a"/>
                </a:solidFill>
                <a:latin typeface="Calibri"/>
              </a:rPr>
              <a:t>Hospodárnosť a efektívnosť – preukazovanie v ŽoNFP </a:t>
            </a:r>
            <a:endParaRPr b="0" lang="en-US" sz="4000" spc="-1" strike="noStrike">
              <a:solidFill>
                <a:srgbClr val="000000"/>
              </a:solidFill>
              <a:latin typeface="Calibri"/>
            </a:endParaRPr>
          </a:p>
        </p:txBody>
      </p:sp>
      <p:sp>
        <p:nvSpPr>
          <p:cNvPr id="8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a:t>
            </a:r>
            <a:r>
              <a:rPr b="0" lang="sk-SK"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reukazovanie splnenia min. kvalifikačných a odborných požiadaviek </a:t>
            </a:r>
            <a:r>
              <a:rPr b="0" lang="sk-SK" sz="1400" spc="-1" strike="noStrike">
                <a:solidFill>
                  <a:srgbClr val="000000"/>
                </a:solidFill>
                <a:latin typeface="Calibri"/>
              </a:rPr>
              <a:t>sa pri podaní žiadosti o NFP neuplatňuje v prípade, ak žiadateľ ešte nemá vybrané osoby na navrhované pozície v projekte, t. j v prílohe č. 1b neuvádza konkrétne mená. V tomto prípade žiadateľ predkladá Čestné vyhlásenie a preukázanie splnenia podmienok sa vykoná v tom prípade až počas realizácie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 pracovných pozícií na riadenie a koordináciu  - minimálne kvalifikačné predpoklady stanovilo MŠVVaŠ SR ako vyhlasovateľ výzvy v prílohe č. 5 výzvy</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borný personál, t.j. pracovné pozície, ktoré budú realizovať jednotlivé činnosti/aktivity v projekte -  minimálne kvalifikačné a odborné požiadavky si môže stanoviť v projekte žiadateľ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ealizáciu aktivít projektu v rámci žiadosti o NFP nie je možné súbežne financovať z iných zdrojov </a:t>
            </a:r>
            <a:r>
              <a:rPr b="0" lang="sk-SK" sz="1400" spc="-1" strike="noStrike">
                <a:solidFill>
                  <a:srgbClr val="000000"/>
                </a:solidFill>
                <a:latin typeface="Calibri"/>
              </a:rPr>
              <a:t>(iných rozpočtových kapitol štátneho rozpočtu SR, štátnych fondov, z iných verejných zdrojov alebo zdrojov EÚ), než zo zdrojov uvedených v tejto výzv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musí preukázať, že cena práce je primeraná cene práce v organizácii resp. na trhu prác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Čo sa týka preukazovania oprávnenosti personálnych výdavkov (ekon. klasifikácie 610620, 637027), </a:t>
            </a:r>
            <a:r>
              <a:rPr b="0" lang="sk-SK" sz="1400" spc="-1" strike="noStrike">
                <a:solidFill>
                  <a:srgbClr val="000000"/>
                </a:solidFill>
                <a:latin typeface="Calibri"/>
              </a:rPr>
              <a:t>tieto musia </a:t>
            </a:r>
            <a:r>
              <a:rPr b="1" lang="sk-SK" sz="1400" spc="-1" strike="noStrike">
                <a:solidFill>
                  <a:srgbClr val="000000"/>
                </a:solidFill>
                <a:latin typeface="Calibri"/>
              </a:rPr>
              <a:t>zodpovedať cenám práce primeraným v organizácii</a:t>
            </a:r>
            <a:r>
              <a:rPr b="0" lang="sk-SK" sz="1400" spc="-1" strike="noStrike">
                <a:solidFill>
                  <a:srgbClr val="000000"/>
                </a:solidFill>
                <a:latin typeface="Calibri"/>
              </a:rPr>
              <a:t>. Žiadateľ dokladuje hospodárnosť a efektívnosť predložením aktuálnych pracovných zmlúv resp. dohôd mimo pracovného pomeru. V prípade, ak sa v rámci projektu vytvárajú nové pracovné pozície, ktoré doteraz v organizácii neexistovali, predloží žiadateľ cenový prieskum (výnimkou je, ak žiadateľ postupuje podľa tarifných mzdových tabuliek stanovených organizáciou). </a:t>
            </a:r>
            <a:r>
              <a:rPr b="0" lang="sk-SK" sz="1400" spc="-1" strike="noStrike">
                <a:solidFill>
                  <a:srgbClr val="000000"/>
                </a:solidFill>
                <a:latin typeface="Calibri"/>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a:t>
            </a:r>
            <a:r>
              <a:rPr b="1" lang="sk-SK" sz="1600" spc="-1" strike="noStrike">
                <a:solidFill>
                  <a:srgbClr val="000000"/>
                </a:solidFill>
                <a:latin typeface="Calibri"/>
              </a:rPr>
              <a:t>musí byť finančne spôsobilý na spolufinancovanie projektu</a:t>
            </a:r>
            <a:r>
              <a:rPr b="0" lang="sk-SK" sz="16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ška spolufinancovania žiadateľa</a:t>
            </a:r>
            <a:r>
              <a:rPr b="0" lang="sk-SK" sz="1600" spc="-1" strike="noStrike">
                <a:solidFill>
                  <a:srgbClr val="000000"/>
                </a:solidFill>
                <a:latin typeface="Calibri"/>
              </a:rPr>
              <a:t> - </a:t>
            </a:r>
            <a:r>
              <a:rPr b="1" lang="sk-SK" sz="1600" spc="-1" strike="noStrike">
                <a:solidFill>
                  <a:srgbClr val="000000"/>
                </a:solidFill>
                <a:latin typeface="Calibri"/>
              </a:rPr>
              <a:t>verejný sektor</a:t>
            </a:r>
            <a:r>
              <a:rPr b="0" lang="sk-SK" sz="1600" spc="-1" strike="noStrike">
                <a:solidFill>
                  <a:srgbClr val="000000"/>
                </a:solidFill>
                <a:latin typeface="Calibri"/>
              </a:rPr>
              <a:t> - </a:t>
            </a:r>
            <a:r>
              <a:rPr b="1" lang="sk-SK" sz="1600" spc="-1" strike="noStrike">
                <a:solidFill>
                  <a:srgbClr val="000000"/>
                </a:solidFill>
                <a:latin typeface="Calibri"/>
              </a:rPr>
              <a:t>5%</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spôsob financovania prostredníctvom: </a:t>
            </a:r>
            <a:r>
              <a:rPr b="1" lang="sk-SK" sz="1600" spc="-1" strike="noStrike">
                <a:solidFill>
                  <a:srgbClr val="000000"/>
                </a:solidFill>
                <a:latin typeface="Calibri"/>
              </a:rPr>
              <a:t>refundácie, formou zálohových platieb, a/alebo formou kombinácie zálohových platieb a refundácie</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forma poskytovaného príspevku: </a:t>
            </a:r>
            <a:r>
              <a:rPr b="1" lang="sk-SK" sz="1600" spc="-1" strike="noStrike">
                <a:solidFill>
                  <a:srgbClr val="000000"/>
                </a:solidFill>
                <a:latin typeface="Calibri"/>
              </a:rPr>
              <a:t>nenávratný finančný príspevok</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Min. výška NFP</a:t>
            </a:r>
            <a:r>
              <a:rPr b="0" lang="sk-SK" sz="1600" spc="-1" strike="noStrike">
                <a:solidFill>
                  <a:srgbClr val="000000"/>
                </a:solidFill>
                <a:latin typeface="Calibri"/>
              </a:rPr>
              <a:t>: 100 001 EUR               </a:t>
            </a:r>
            <a:r>
              <a:rPr b="1" lang="sk-SK" sz="1600" spc="-1" strike="noStrike">
                <a:solidFill>
                  <a:srgbClr val="000000"/>
                </a:solidFill>
                <a:latin typeface="Calibri"/>
              </a:rPr>
              <a:t>Max. výška NFP</a:t>
            </a:r>
            <a:r>
              <a:rPr b="0" lang="sk-SK" sz="1600" spc="-1" strike="noStrike">
                <a:solidFill>
                  <a:srgbClr val="000000"/>
                </a:solidFill>
                <a:latin typeface="Calibri"/>
              </a:rPr>
              <a:t>: 500 000 EUR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Žiadateľ je povinný plniť podmienku minimálnej výšky príspevku do momentu poskytnutia súčinnosti podľa § 25 ods. 4 zákona o príspevku z EŠIF v prípade vydania rozhodnutia o schválení ŽoNFP</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Zmeny oproti PO 2007-2013</a:t>
            </a:r>
            <a:endParaRPr b="0" lang="en-US" sz="4400" spc="-1" strike="noStrike">
              <a:solidFill>
                <a:srgbClr val="000000"/>
              </a:solidFill>
              <a:latin typeface="Calibri"/>
            </a:endParaRPr>
          </a:p>
        </p:txBody>
      </p:sp>
      <p:sp>
        <p:nvSpPr>
          <p:cNvPr id="49" name="PlaceHolder 2"/>
          <p:cNvSpPr>
            <a:spLocks noGrp="1"/>
          </p:cNvSpPr>
          <p:nvPr>
            <p:ph/>
          </p:nvPr>
        </p:nvSpPr>
        <p:spPr>
          <a:xfrm>
            <a:off x="395280" y="1197000"/>
            <a:ext cx="8229600" cy="4968720"/>
          </a:xfrm>
          <a:prstGeom prst="rect">
            <a:avLst/>
          </a:prstGeom>
          <a:noFill/>
          <a:ln w="0">
            <a:noFill/>
          </a:ln>
        </p:spPr>
        <p:txBody>
          <a:bodyPr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yužívanie </a:t>
            </a:r>
            <a:r>
              <a:rPr b="1" lang="sk-SK" sz="1600" spc="-1" strike="noStrike">
                <a:solidFill>
                  <a:srgbClr val="000000"/>
                </a:solidFill>
                <a:latin typeface="Calibri"/>
              </a:rPr>
              <a:t>zjednodušeného vykazovania výdavkov - </a:t>
            </a:r>
            <a:r>
              <a:rPr b="0" lang="sk-SK" sz="1600" spc="-1" strike="noStrike">
                <a:solidFill>
                  <a:srgbClr val="000000"/>
                </a:solidFill>
                <a:latin typeface="Calibri"/>
              </a:rPr>
              <a:t>výdavky formou paušálnej sadzby na pokrytie zostávajúcich oprávnených nákladov na operáciu/projek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časť nepriamych personálnych výdavkov presunutá do priamych výdavkov – časť 3 rozpočtu (projektový manažér, manažér monitorovania, finančný manažér, administratívni zamestnanci) – výdavky spojené s tými prac. pozíciami ostávajú v paušálnej sadzbe (napr. stravné, cestovné náhrady, nájom priestorov)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iadenie viazané na časť 3 rozpočtu – samostatná aktivita + k nej priradené všetky MÚ</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kvalifikačné predpoklady pre riadenie projektu projektový manažér, manažér monitorovania, finančný manažér, administratívni zamestnanci (vplyv na oprávnenosť výdavkov) – príloha č. 5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definované podmienky na preukázanie hospodárnosti a efektívnost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mena číselníka výdavkov - podľa číselníka v metodickom pokyne vydanom CKO č. 6 do žiadosti o NFP,   ekonomické klasifikácie sa uvádzajú iba rozpočet- exceli ako samostatnej prílohe (kvôli ŽoP)</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kladený dôraz na preukazovanie hodnoty za peniaze – hospodárnosť, efektívnosť</a:t>
            </a:r>
            <a:endParaRPr b="0" lang="en-US" sz="1600" spc="-1" strike="noStrike">
              <a:solidFill>
                <a:srgbClr val="000000"/>
              </a:solidFill>
              <a:latin typeface="Calibri"/>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 </a:t>
            </a:r>
            <a:endParaRPr b="0" lang="en-US" sz="4400" spc="-1" strike="noStrike">
              <a:solidFill>
                <a:srgbClr val="000000"/>
              </a:solidFill>
              <a:latin typeface="Calibri"/>
            </a:endParaRPr>
          </a:p>
        </p:txBody>
      </p:sp>
      <p:sp>
        <p:nvSpPr>
          <p:cNvPr id="51" name=""/>
          <p:cNvSpPr txBox="1"/>
          <p:nvPr/>
        </p:nvSpPr>
        <p:spPr>
          <a:xfrm>
            <a:off x="499680" y="1197000"/>
            <a:ext cx="8186760" cy="496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0000"/>
                </a:solidFill>
                <a:latin typeface="Calibri"/>
              </a:rPr>
              <a:t>52 - Osobné výdavk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521 - Mzdové výdavky (vrátane odmien za prácu vykonávanú mimo pracovného pomeru, platov, povinných odvodov za zamestnávateľa a iných zákonných náhrad)</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352 - Poskytnutie dotácií, príspevkov voči tretím osobám </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910 - Jednotkové výdavky</a:t>
            </a:r>
            <a:endParaRPr b="0" lang="en-US" sz="2800" spc="-1" strike="noStrike">
              <a:solidFill>
                <a:srgbClr val="000000"/>
              </a:solidFill>
              <a:latin typeface="Calibri"/>
            </a:endParaRPr>
          </a:p>
          <a:p>
            <a:pPr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903 - Paušálna sadzba na nepriame výdavky projektu ( nariadenie 1303/2013, čl. 68 písm.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a:t>
            </a:r>
            <a:endParaRPr b="0" lang="en-US" sz="4400" spc="-1" strike="noStrike">
              <a:solidFill>
                <a:srgbClr val="000000"/>
              </a:solidFill>
              <a:latin typeface="Calibri"/>
            </a:endParaRPr>
          </a:p>
        </p:txBody>
      </p:sp>
      <p:sp>
        <p:nvSpPr>
          <p:cNvPr id="53" name=""/>
          <p:cNvSpPr txBox="1"/>
          <p:nvPr/>
        </p:nvSpPr>
        <p:spPr>
          <a:xfrm>
            <a:off x="499680" y="1052640"/>
            <a:ext cx="8186760" cy="518472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koordinačné činnosti - </a:t>
            </a:r>
            <a:r>
              <a:rPr b="0" lang="sk-SK" sz="1400" spc="-1" strike="noStrike">
                <a:solidFill>
                  <a:srgbClr val="000000"/>
                </a:solidFill>
                <a:latin typeface="Calibri"/>
              </a:rPr>
              <a:t>výdavky vzniknuté na základe pracovnoprávnych vzťahov alebo obdobných vzťahov (napr. zákonník práce, zákon o štátnej službe,...) - ide o pracovné činnosti uvedené v prílohe č.1a rozpočet v časti 3 „Koordinácia projektu“, 3.1 „Personálne výdavky interné - koordinačné činnosti; tieto výdavky </a:t>
            </a:r>
            <a:r>
              <a:rPr b="1" lang="sk-SK" sz="1400" spc="-1" strike="noStrike">
                <a:solidFill>
                  <a:srgbClr val="000000"/>
                </a:solidFill>
                <a:latin typeface="Calibri"/>
              </a:rPr>
              <a:t>nesmú tvoriť podstatnú časť rozpočtu</a:t>
            </a:r>
            <a:r>
              <a:rPr b="0" lang="sk-SK" sz="1400" spc="-1" strike="noStrike">
                <a:solidFill>
                  <a:srgbClr val="000000"/>
                </a:solidFill>
                <a:latin typeface="Calibri"/>
              </a:rPr>
              <a:t>; musia byť primerané rozsahu, obsahu a náročnosti projektu</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ersonálne výdavky interné – odborné činnosti - </a:t>
            </a:r>
            <a:r>
              <a:rPr b="0" lang="sk-SK" sz="1400" spc="-1" strike="noStrike">
                <a:solidFill>
                  <a:srgbClr val="000000"/>
                </a:solidFill>
                <a:latin typeface="Calibri"/>
              </a:rPr>
              <a:t>výdavky vzniknuté na základe pracovnoprávnych vzťahov alebo obdobných vzťahov (napr. zákonník práce, zákon o štátnej službe,...) v prípade stáži pôjde o refundáciu mzdy pedagogického a odborného zamestnanca školy alebo školského zariadenia, v ktorom študent prax vykonáva;  v prípade tvorby metodických materiálov budú ich tvorcovia zamestnaní u prijímateľa na pracovnú zmluvu (napr. čiastočný úväzok)</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Paušálna sadzba </a:t>
            </a:r>
            <a:r>
              <a:rPr b="0" lang="sk-SK" sz="1400" spc="-1" strike="noStrike">
                <a:solidFill>
                  <a:srgbClr val="000000"/>
                </a:solidFill>
                <a:latin typeface="Calibri"/>
              </a:rPr>
              <a:t>na </a:t>
            </a:r>
            <a:r>
              <a:rPr b="1" lang="sk-SK" sz="1400" spc="-1" strike="noStrike">
                <a:solidFill>
                  <a:srgbClr val="000000"/>
                </a:solidFill>
                <a:latin typeface="Calibri"/>
              </a:rPr>
              <a:t>nepriame výdavky vo výške 15 % oprávnených priamych nákladov na zamestnancov </a:t>
            </a:r>
            <a:r>
              <a:rPr b="0" lang="sk-SK" sz="1400" spc="-1" strike="noStrike">
                <a:solidFill>
                  <a:srgbClr val="000000"/>
                </a:solidFill>
                <a:latin typeface="Calibri"/>
              </a:rPr>
              <a:t>(všeobecné nariadenie, čl. 68  písm. b)</a:t>
            </a:r>
            <a:r>
              <a:rPr b="1" lang="sk-SK" sz="1400" spc="-1" strike="noStrike">
                <a:solidFill>
                  <a:srgbClr val="000000"/>
                </a:solidFill>
                <a:latin typeface="Calibri"/>
              </a:rPr>
              <a:t>. </a:t>
            </a:r>
            <a:r>
              <a:rPr b="0" lang="sk-SK" sz="1400" spc="-1" strike="noStrike">
                <a:solidFill>
                  <a:srgbClr val="000000"/>
                </a:solidFill>
                <a:latin typeface="Calibri"/>
              </a:rPr>
              <a:t>Priamymi personálnymi výdavkami sú interné personálne výdavky (t. j. ekon. klasifikácia 610620 – pracovný pomer; ekon. klasifikácia 637027 – dohody zamestnancov mimo pracovného pomeru a    k nim súvisiace/prislúchajúce odvody – ekon. klasifikácia 610620 resp. zo skupiny výdavkov 521 a zo skupiny výdavkov 352). Podľa dokumentu „Usmernenia týkajúce sa zjednodušených možností vykazovania nákladov: EŠIF“ dávky alebo výplaty vyplatené v prospech účastníkov projektu(ov) v rámci ESF sa nepovažujú za priame náklady(výdavky) na zamestnancov; </a:t>
            </a:r>
            <a:r>
              <a:rPr b="1" lang="sk-SK" sz="1400" spc="-1" strike="noStrike">
                <a:solidFill>
                  <a:srgbClr val="000000"/>
                </a:solidFill>
                <a:latin typeface="Calibri"/>
              </a:rPr>
              <a:t>do  základne pre výpočet paušálnej sadzby nie je možné zahrnúť štandardnú stupnicu jednotkových nákladov uvedenú nižšie v bode č. 4.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štandardná stupnica jednotkových nákladov - prax študentov učiteľských fakúlt – prax budúcich učiteľov</a:t>
            </a:r>
            <a:r>
              <a:rPr b="0" lang="sk-SK" sz="1400" spc="-1" strike="noStrike">
                <a:solidFill>
                  <a:srgbClr val="000000"/>
                </a:solidFill>
                <a:latin typeface="Calibri"/>
              </a:rPr>
              <a:t> - hodina priameho rozboru  jednotky priamej vyučovacej činnosti (vyučovacia hodina v škole) alebo priamej výchovnej činnosti (školské zariadenie) študenta cvičným učiteľom – týka sa projektov obsahujúcich pedagogické praxe – bližšie informácie sú uvedené v prílohe č. 6 výzv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I. - ŠSJN</a:t>
            </a:r>
            <a:endParaRPr b="0" lang="en-US" sz="4400" spc="-1" strike="noStrike">
              <a:solidFill>
                <a:srgbClr val="000000"/>
              </a:solidFill>
              <a:latin typeface="Calibri"/>
            </a:endParaRPr>
          </a:p>
        </p:txBody>
      </p:sp>
      <p:sp>
        <p:nvSpPr>
          <p:cNvPr id="55" name=""/>
          <p:cNvSpPr txBox="1"/>
          <p:nvPr/>
        </p:nvSpPr>
        <p:spPr>
          <a:xfrm>
            <a:off x="493200" y="1197000"/>
            <a:ext cx="8186760" cy="49687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e46c0a"/>
                </a:solidFill>
                <a:latin typeface="Calibri"/>
              </a:rPr>
              <a:t>štandardná stupnica jednotkových nákladov - prax študentov učiteľských fakúlt – prax budúcich učiteľov - hodina priameho rozboru jednotky priamej vyučovacej činnosti (vyučovacia hodina v škole) alebo priamej výchovnej činnosti (školské zariadenie) študenta cvičným učiteľom</a:t>
            </a:r>
            <a:endParaRPr b="0" lang="en-US" sz="18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avedenie </a:t>
            </a:r>
            <a:r>
              <a:rPr b="1" lang="sk-SK" sz="1600" spc="-1" strike="noStrike">
                <a:solidFill>
                  <a:srgbClr val="000000"/>
                </a:solidFill>
                <a:latin typeface="Calibri"/>
              </a:rPr>
              <a:t>jednotkových nákladov na realizáciu praxe budúcich učiteľov verejných vysokých škôl </a:t>
            </a:r>
            <a:r>
              <a:rPr b="0" lang="sk-SK" sz="1600" spc="-1" strike="noStrike">
                <a:solidFill>
                  <a:srgbClr val="000000"/>
                </a:solidFill>
                <a:latin typeface="Calibri"/>
              </a:rPr>
              <a:t>(t.j. študentov učiteľských fakúlt), v projektoch, ktoré sa zameriavajú na zvýšenie kvality vysokoškolského vzdelávania- oblasť vzdelávania a prípravy budúcich učiteľov regionálneho školstva (MŠ, ZŠ, SŠ).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Učiteľskými fakultami sú fakulty pripravujúce na učiteľské povolanie (najmä fakulty pedagogické, filozofické, prírodovedecké, športu, teologické a pod.)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edagogická prax sa týka </a:t>
            </a:r>
            <a:r>
              <a:rPr b="1" lang="sk-SK" sz="1600" spc="-1" strike="noStrike">
                <a:solidFill>
                  <a:srgbClr val="000000"/>
                </a:solidFill>
                <a:latin typeface="Calibri"/>
              </a:rPr>
              <a:t>študentov dennej formy štúdia v študijných odboroch učiteľstvo akademických predmetov, učiteľstvo profesijných predmetov a praktickej prípravy, učiteľstvo umelecko-výchovných a výchovných predmetov, pedagogika, predškolská a elementárna pedagogika a špeciálna pedagogika a liečebná pedagogika</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je tvorená dotáciou na hodinu rozboru na študenta v súlade s Metodikou rozpisu dotácií zo štátneho rozpočtu verejným vysokým školá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II. - ŠSJN</a:t>
            </a:r>
            <a:endParaRPr b="0" lang="en-US" sz="4400" spc="-1" strike="noStrike">
              <a:solidFill>
                <a:srgbClr val="000000"/>
              </a:solidFill>
              <a:latin typeface="Calibri"/>
            </a:endParaRPr>
          </a:p>
        </p:txBody>
      </p:sp>
      <p:sp>
        <p:nvSpPr>
          <p:cNvPr id="57" name=""/>
          <p:cNvSpPr txBox="1"/>
          <p:nvPr/>
        </p:nvSpPr>
        <p:spPr>
          <a:xfrm>
            <a:off x="499680" y="1267920"/>
            <a:ext cx="8186760" cy="4969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u="sng">
                <a:solidFill>
                  <a:srgbClr val="000000"/>
                </a:solidFill>
                <a:uFillTx/>
                <a:latin typeface="Calibri"/>
              </a:rPr>
              <a:t>štandardná stupnica jednotkových nákladov je 10,63 EUR na hodinu priameho rozboru na študenta</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ieľom pedagogickej praxe, ako súčasti pedagogicko-profesijnej zložky učiteľského vzdelávania, je rozvoj profesijných kompetencií študentov a konfrontácia ich teoretických vedomostí, predmetných schopností a skúseností so školskou praxou.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edagogická prax sa </a:t>
            </a:r>
            <a:r>
              <a:rPr b="1" lang="sk-SK" sz="1800" spc="-1" strike="noStrike">
                <a:solidFill>
                  <a:srgbClr val="000000"/>
                </a:solidFill>
                <a:latin typeface="Calibri"/>
              </a:rPr>
              <a:t>realizuje najmä v cvičných školách a cvičných školských zariadeniach </a:t>
            </a:r>
            <a:r>
              <a:rPr b="0" lang="sk-SK" sz="1800" spc="-1" strike="noStrike">
                <a:solidFill>
                  <a:srgbClr val="000000"/>
                </a:solidFill>
                <a:latin typeface="Calibri"/>
              </a:rPr>
              <a:t>uvedených v § 37 zákona č. 131/2002 Z. z. o vysokých školách a o zmene a doplnení niektorých zákonov v znení neskorších predpisov, ďalej len „cvičné školy“.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vičná škola alebo cvičné školské zariadenie je inštitúcia, s ktorou verejná vysoká škola uzatvára zmluvu o spolupráci (v zmysle § 37 ods. 2) zákona o vysokých školách.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ýber cvičných škôl a cvičných zariadení v projekte/projektoch musí byť transparentný.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Pedagogickú prax študentov verejnej vysokej školy v cvičnej škole vedie cvičný učiteľ cvičnej školy alebo cvičného zariadenia.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99680" y="274680"/>
            <a:ext cx="818676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IV. - ŠSJN</a:t>
            </a:r>
            <a:endParaRPr b="0" lang="en-US" sz="4400" spc="-1" strike="noStrike">
              <a:solidFill>
                <a:srgbClr val="000000"/>
              </a:solidFill>
              <a:latin typeface="Calibri"/>
            </a:endParaRPr>
          </a:p>
        </p:txBody>
      </p:sp>
      <p:sp>
        <p:nvSpPr>
          <p:cNvPr id="59" name=""/>
          <p:cNvSpPr txBox="1"/>
          <p:nvPr/>
        </p:nvSpPr>
        <p:spPr>
          <a:xfrm>
            <a:off x="499680" y="1267920"/>
            <a:ext cx="8186760" cy="496908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Jednotkové náklady sa týkajú </a:t>
            </a:r>
            <a:r>
              <a:rPr b="1" lang="sk-SK" sz="1800" spc="-1" strike="noStrike">
                <a:solidFill>
                  <a:srgbClr val="e46c0a"/>
                </a:solidFill>
                <a:latin typeface="Calibri"/>
              </a:rPr>
              <a:t>pedagogických praxí nad rámec ich financovania zo štátneho rozpočtu</a:t>
            </a:r>
            <a:r>
              <a:rPr b="0" lang="sk-SK" sz="1800" spc="-1" strike="noStrike">
                <a:solidFill>
                  <a:srgbClr val="000000"/>
                </a:solidFill>
                <a:latin typeface="Calibri"/>
              </a:rPr>
              <a:t>:</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inovované pedagogické praxe - inovácia a overenie existujúcich druhov pedagogických praxí v rámci študijných programov VŠ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nový model/typ pedagogických praxí - vytvorenie a overenie nového modelu pedagogických praxí,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zvýšený počet praxí nad rámec praxí definovaných v študijných programoch vysokých škôl - pedagogické praxe nad rámec súčasného rozsahu praxí realizovaných v študijných programoch VŠ</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V rámci štandardnej stupnice sa budú preplácať výdavky súvisiace s činnosťou cvičného učiteľa, ktorý vykonáva rozbor/analýzu každej priamej vyučovacej alebo priamej výchovnej činnosti študenta, ktorú priamo odučí počas prax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Cvičný učiteľ realizuje rozbory mimo svojej pracovnej náplne, t.j, nad rámec svojho pracovnoprávneho pomeru v škole. Cvičný učiteľ vykonáva rozbory na základe dohody mimo pracovného pomeru (dohody o vykonaní prác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ováčiková Miriam</cp:lastModifiedBy>
  <dcterms:modified xsi:type="dcterms:W3CDTF">2019-08-05T05:39:48Z</dcterms:modified>
  <cp:revision>149</cp:revision>
  <dc:subject/>
  <dc:title>Snímka 1</dc:title>
</cp:coreProperties>
</file>