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373D8-7595-4F72-AE3D-6C9B33BA6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207B9-BA75-4DC5-9DFD-DD366B4B4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0DE58-5228-4AF1-B232-21B0AF3A5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ABE48D-D68D-4ED5-A110-C336D4143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0B633-13E7-4807-AA55-628EF51FB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23A5F-EF4E-4CAF-A29A-9BB0A82572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53AAB-ABAD-4514-87C4-F8994583B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439DE-07BB-4BB8-A51F-F017976CE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9D93A-D706-4371-9E03-72F5B9889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85BB2-F774-47F4-A435-DE58D7A69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C883B-D78F-4D39-9909-DE99E45AE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0C775-00F5-4FEC-AED1-2125FA882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6A9A9-6B8C-41DF-9546-5B0918311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A2ED8-E68C-40B4-A885-0663AA486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44163-534E-497D-A459-F74DF6F72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81158-CFE3-4C61-9990-2DB09F65A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B69F6-1E1D-4F0C-821C-D265B39CF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40D78-A097-4758-8B18-1CCAC15FF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29711-B2F1-4504-B880-1A450C002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33BC6-2371-46E3-B11D-CB162E5B0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11779-7E0D-49BC-AAE8-8305B7C4D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F4BF1-3B50-4DC3-8355-D3C68745C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3EC6B-34F1-4B25-BF5B-AAF56C18B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65E0-520D-476D-AB36-8CCF1DAA9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B5CC8-C488-4BF3-BD32-5F5CE6E13AA8}"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728A-B0FB-4A0F-B525-5670070DC277}"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800" spc="-1" strike="noStrike">
                <a:solidFill>
                  <a:srgbClr val="000000"/>
                </a:solidFill>
                <a:latin typeface="Calibri"/>
              </a:rPr>
              <a:t>Výzva na predkladanie žiadostí o NFP „Skvalitnenie prípravy budúcich pedagogických a odborných zamestnancov“, kód OPLZ-PO1/2019/DOP/1.3.1-01</a:t>
            </a:r>
            <a:endParaRPr b="0" lang="en-US" sz="2800" spc="-1" strike="noStrike">
              <a:solidFill>
                <a:srgbClr val="000000"/>
              </a:solidFill>
              <a:latin typeface="Calibri"/>
            </a:endParaRPr>
          </a:p>
        </p:txBody>
      </p:sp>
      <p:sp>
        <p:nvSpPr>
          <p:cNvPr id="83" name="BlokTextu 5"/>
          <p:cNvSpPr/>
          <p:nvPr/>
        </p:nvSpPr>
        <p:spPr>
          <a:xfrm>
            <a:off x="0" y="5877000"/>
            <a:ext cx="32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05.08.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2" name=""/>
          <p:cNvSpPr txBox="1"/>
          <p:nvPr/>
        </p:nvSpPr>
        <p:spPr>
          <a:xfrm>
            <a:off x="324000" y="980640"/>
            <a:ext cx="8331120" cy="5543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ealizáciou stáže študentov nesmie dochádzať k duplicitnému financovaniu činností/výdavkov pedagogického a/alebo odborného zamestnanca súvisiacich s riadnou pracovnou náplňou pedagogického zamestnanca a/alebo odborného zamestnanca cvičnej školy alebo cvičného školského zariadenia, (t. j. činnosti vykonávaných ako súčasť výchovno-vzdelávacieho procesu).</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edmetom stáže nesmú byť činnosti realizované a financované výdavky súvisiace s činnosťou cvičného učiteľa, ktorý vykonáva rozbor/analýzu každej priamej vyučovacej alebo priamej výchovnej činnosti študenta, ktorú priamo odučí počas prax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4"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3) </a:t>
            </a:r>
            <a:r>
              <a:rPr b="1" lang="sk-SK" sz="2400" spc="-1" strike="noStrike">
                <a:solidFill>
                  <a:srgbClr val="000000"/>
                </a:solidFill>
                <a:latin typeface="Calibri"/>
              </a:rPr>
              <a:t>tvorba podporných vzdelávacích materiálov pre pedagogických zamestnancov cvičnej školy alebo cvičného školského zariadenia </a:t>
            </a:r>
            <a:r>
              <a:rPr b="0" lang="sk-SK" sz="2400" spc="-1" strike="noStrike">
                <a:solidFill>
                  <a:srgbClr val="000000"/>
                </a:solidFill>
                <a:latin typeface="Calibri"/>
              </a:rPr>
              <a:t>napr.: pracovné listy, pomôcky, hry, tvorivé materiály pre skupinovú prácu, a pod. a ich prezentácia a/alebo verejná oponentúra.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ijímateľ je povinný vytvorené podporné vzdelávacie materiály zverejniť na svojom webovom sídle s uvedením licencie CC BY (https://sk.creativecommons.org/?page_id=6 ) tak aby tieto vzdelávacie materiály boli dostupné pre kohokoľvek na ďalšie používani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6" name=""/>
          <p:cNvSpPr txBox="1"/>
          <p:nvPr/>
        </p:nvSpPr>
        <p:spPr>
          <a:xfrm>
            <a:off x="468000" y="1483920"/>
            <a:ext cx="8186760" cy="50403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4) </a:t>
            </a:r>
            <a:r>
              <a:rPr b="1" lang="sk-SK" sz="2400" spc="-1" strike="noStrike">
                <a:solidFill>
                  <a:srgbClr val="000000"/>
                </a:solidFill>
                <a:latin typeface="Calibri"/>
              </a:rPr>
              <a:t>Riadenie/koordinácia projektu </a:t>
            </a:r>
            <a:r>
              <a:rPr b="0" lang="sk-SK" sz="2400" spc="-1" strike="noStrike">
                <a:solidFill>
                  <a:srgbClr val="000000"/>
                </a:solidFill>
                <a:latin typeface="Calibri"/>
              </a:rPr>
              <a:t>– </a:t>
            </a:r>
            <a:r>
              <a:rPr b="0" lang="sk-SK" sz="2400" spc="-1" strike="noStrike">
                <a:solidFill>
                  <a:srgbClr val="ff0000"/>
                </a:solidFill>
                <a:latin typeface="Calibri"/>
              </a:rPr>
              <a:t>povinná ako samostatná podaktivita bez ohľadu na to, ktoré činnosti/podaktivity 1-3 bude žiadateľ realizovať</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8" name=""/>
          <p:cNvSpPr txBox="1"/>
          <p:nvPr/>
        </p:nvSpPr>
        <p:spPr>
          <a:xfrm>
            <a:off x="499680" y="1125360"/>
            <a:ext cx="8155080" cy="539928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u="sng">
                <a:solidFill>
                  <a:srgbClr val="000000"/>
                </a:solidFill>
                <a:uFillTx/>
                <a:latin typeface="Calibri"/>
              </a:rPr>
              <a:t>Všeobecn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Formulár ŽoNFP (bod 7.2 a 9)</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Výber škôl a školských zariadení musí byť transparentný</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Školy a školské zariadenia nesmú byť financované prevažne zo súkromných zdrojov (súkromné zdroje nepredstavujú 50% a viac)</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nemôže predložiť viacero žiadostí o NFP s rovnakými oprávnenými aktivitami a súčasne rovnakou cieľovou skupinou. V prípade, ak žiadateľ predloží viacero žiadostí o NFP, ktoré porušia čo i len jednu z uvedených podmienok, budú tieto žiadosti o NFP vylúčené zo schvaľovacieho procesu. </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nesmie ukončiť fyzickú realizáciu hlavných aktivít projektu, t. j. plne zrealizovať všetky aktivity projektu, pred predložením ŽoNFP v rámci tejto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odmienky poskytnutia príspevku</a:t>
            </a:r>
            <a:endParaRPr b="0" lang="en-US" sz="3600" spc="-1" strike="noStrike">
              <a:solidFill>
                <a:srgbClr val="000000"/>
              </a:solidFill>
              <a:latin typeface="Calibri"/>
            </a:endParaRPr>
          </a:p>
        </p:txBody>
      </p:sp>
      <p:sp>
        <p:nvSpPr>
          <p:cNvPr id="110" name=""/>
          <p:cNvSpPr txBox="1"/>
          <p:nvPr/>
        </p:nvSpPr>
        <p:spPr>
          <a:xfrm>
            <a:off x="499680" y="1196640"/>
            <a:ext cx="8155080" cy="5327640"/>
          </a:xfrm>
          <a:prstGeom prst="rect">
            <a:avLst/>
          </a:prstGeom>
          <a:noFill/>
          <a:ln w="0">
            <a:noFill/>
          </a:ln>
        </p:spPr>
        <p:txBody>
          <a:bodyPr anchor="t">
            <a:normAutofit fontScale="96000"/>
          </a:bodyPr>
          <a:p>
            <a:pPr marL="438840" indent="-4388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Podmienka oprávnenosti žiadateľa (právna forma)</a:t>
            </a:r>
            <a:endParaRPr b="0" lang="en-US" sz="2400" spc="-1" strike="noStrike">
              <a:solidFill>
                <a:srgbClr val="000000"/>
              </a:solidFill>
              <a:latin typeface="Calibri"/>
            </a:endParaRPr>
          </a:p>
          <a:p>
            <a:pPr marL="438840" indent="-4388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e č. 4</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 Podmienka nebyť dlžníkom na daniach</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daniach u miestne príslušného správcu dane.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3. Podmienka nebyť dlžníkom poistného na zdravotnom poistení</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poistného na zdravotnom poistení v žiadnej zdravotnej poisťovni poskytujúcej verejné zdravotné poistenie v SR. </a:t>
            </a:r>
            <a:endParaRPr b="0" lang="en-US" sz="2400" spc="-1" strike="noStrike">
              <a:solidFill>
                <a:srgbClr val="000000"/>
              </a:solidFill>
              <a:latin typeface="Calibri"/>
            </a:endParaRPr>
          </a:p>
          <a:p>
            <a:pPr marL="438840" indent="-438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marL="438840" indent="-438840" algn="just">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4. Podmienka ne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esmie byť dlžníkom na sociálnom poisten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5. Podmienka zákazu vedenia výkonu rozhodnutia voči žiadateľov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nesmie byť vedený výkon rozhodnutia ani vymáhacie konanie v súlade s článkom 71 všeobecného nariadeni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6. Podmienka, že voči žiadateľovi sa nenárokuje vrátenie pomoci na základe rozhodnutia EK, ktorým bola pomoc označená za neoprávnenú a nezlučiteľnú s vnútorným trh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nárokovať vrátenie pomoci na základe rozhodnutia Európskej komisie, ktorým bola pomoc označená za neoprávnenú a nezlučiteľnú so spoločným trhom.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Spôsob overenia: Čestné vyhlásenie žiadateľa v ŽoNFP (bod 1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7. Podmienka finančnej spôsobilosti spolufinancovania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musí byť finančne spôsobilý na spolufinancovanie projektu.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Sken dokumentu: napr. výpis z bankového účtu, resp. potvrdenie komerčnej banky, že žiadateľ disponuje požadovanou výškou finančných prostriedkov; úverová zmluva; Čestné vyhlásenie žiadateľa v ŽoNFP (bod 15)</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8. Podmienka, že žiadateľ ani jeho štatutárny orgán, ani žiadny člen štatutárneho orgánu, ani prokurista/i, ani osoba splnomocnená zastupovať žiadateľa v konaní o ŽoNFP neboli právoplatne odsúdení za trestný čin korupcie, za trestný čin poškodzovania finančných záujmov Európskej únie, za trestný čin legalizácie príjmu z trestnej činnosti, za trestný čin založenia, zosnovania a podporovania zločineckej skupiny, alebo za trestný čin machinácie pri verejnom obstarávaní a verejnej dražbe</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iadateľ, jeho štatutárny orgán, žiadny člen štatutárneho orgánu, prokurista/i ani osoba splnomocnená zastupovať žiadateľa v konaní o ŽoNFP neboli právoplatne odsúdení podľa Trestného zákona za trestný čin (ďalej len „TČ“) korupcie, TČ poškodzovania finančných záujmov Európskej únie, TČ legalizácie príjmu z trestnej činnosti, TČ založenia, zosnovania a podporovania zločineckej skupiny alebo TČ machinácie pri verejnom obstarávaní a verejnej dražbe.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Forma preukázania: Čestné vyhlásenie žiadateľa v ŽoNFP (bod 15)</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9. Podmienka, že voči žiadateľovi nie je vedené konkurzné konanie, reštrukturalizačné konanie, nie je v konkurze ani v reštrukturalizácii</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informácie</a:t>
            </a:r>
            <a:endParaRPr b="0" lang="en-US" sz="3600" spc="-1" strike="noStrike">
              <a:solidFill>
                <a:srgbClr val="000000"/>
              </a:solidFill>
              <a:latin typeface="Calibri"/>
            </a:endParaRPr>
          </a:p>
        </p:txBody>
      </p:sp>
      <p:sp>
        <p:nvSpPr>
          <p:cNvPr id="85" name=""/>
          <p:cNvSpPr txBox="1"/>
          <p:nvPr/>
        </p:nvSpPr>
        <p:spPr>
          <a:xfrm>
            <a:off x="352440" y="1458720"/>
            <a:ext cx="8331120" cy="5398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ýzva v rámci prioritnej osi č. 1 Vzdelávanie OP Ľudské zdroje, špecifický cieľ 1.3.1 </a:t>
            </a:r>
            <a:r>
              <a:rPr b="0" i="1" lang="sk-SK" sz="2400" spc="-1" strike="noStrike">
                <a:solidFill>
                  <a:srgbClr val="000000"/>
                </a:solidFill>
                <a:latin typeface="Calibri"/>
              </a:rPr>
              <a:t>Zvýšiť kvalitu VŠ vzdelávania a rozvoj ľudských zdrojov v oblasti výskumu a vývoja s cieľom dosiahnuť prepojenie VŠ vzdelávania s potrebami trhu prá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yhlásenie výzvy dňa 26.07.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tvorená výzva (systém hodnotiacich kô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Uzávierka 1. hodnotiaceho kola </a:t>
            </a:r>
            <a:r>
              <a:rPr b="1" lang="sk-SK" sz="2400" spc="-1" strike="noStrike">
                <a:solidFill>
                  <a:srgbClr val="000000"/>
                </a:solidFill>
                <a:latin typeface="Calibri"/>
              </a:rPr>
              <a:t>30.09.2019</a:t>
            </a:r>
            <a:r>
              <a:rPr b="0" lang="sk-SK" sz="2400" spc="-1" strike="noStrike">
                <a:solidFill>
                  <a:srgbClr val="000000"/>
                </a:solidFill>
                <a:latin typeface="Calibri"/>
              </a:rPr>
              <a:t>, 2. kolo </a:t>
            </a:r>
            <a:r>
              <a:rPr b="1" lang="sk-SK" sz="2400" spc="-1" strike="noStrike">
                <a:solidFill>
                  <a:srgbClr val="000000"/>
                </a:solidFill>
                <a:latin typeface="Calibri"/>
              </a:rPr>
              <a:t>15.11.2019</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Celé územie Slovensk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15 mil. EUR (z toho pre BSK 1,5 mil.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Alokácia na projekt 100 001 EUR- 500 000 EU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Dĺžka trvania realizácie aktivít od 18 do 36 mesiac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0. Podmienka, že voči žiadateľovi ktorým je právnická osoba, nemá právoplatným rozsudkom uložený trest zákazu prijímať dotácie alebo subvencie, trest zákazu prijímať pomoc a podporu poskytovanú z fondov EÚ alebo trest zákazu činnosti vo verejnom obstarávaní podľa osobitného predpis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oči žiadateľovi sa nesmie viesť konkurzné konanie, reštrukturalizačné konanie, nesmie byť v konkurze ani v reštrukturalizácii. Podmienka sa vzťahuje aj na konania začaté a neukončené podľa zákona č. 328/1991 Zb. o konkurze a vyrovnaní v znení neskorších predpisov. Podmienka zahŕňa aj prípady zastavenia konkurzného konania z dôvodu nedostatku majetku alebo zrušenia konkurzu z dôvodu nedostatku majetk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v ŽoNFP (bod 15)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250560" y="260280"/>
            <a:ext cx="8186760" cy="583272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1. </a:t>
            </a:r>
            <a:r>
              <a:rPr b="1" lang="pl-PL" sz="2400" spc="-1" strike="noStrike">
                <a:solidFill>
                  <a:srgbClr val="000000"/>
                </a:solidFill>
                <a:latin typeface="Calibri"/>
              </a:rPr>
              <a:t>Podmienka oprávnenosti cieľovej skupiny projek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e č. 5</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2. Podmienka, že hlavné aktivity projektu sú vo vecnom súlade s oprávnenými aktivitami OP ĽZ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Viď slidy 6-12 pp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3. Podmienka, že výdavky projektu sú oprávnené a nárokovaná výška výdavkov je oprávnená na financovanie z OP ĽZ</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 samostatná ppt k podmienke (výdavko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4. Podmienka, že projekt je realizovaný na oprávnenom územ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ým miestom realizácie aktivít projektu sú všetky kraje menej rozvinutého regiónu a viac rozvinutý región.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Geografická oprávnenosť žiadateľa (oprávnené miesto realizácie projektu) sa určuje prostredníctvom toho, z ktorého regiónu Slovenskej republiky pochádza cieľová skupina v projekte, pričom pri študentoch vysokej školy sa za rozhodujúce považuje sídlo vysokej školy/fakulty, ktorej sú študentami.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5 a 6)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250560" y="260280"/>
            <a:ext cx="8186760" cy="5832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200" spc="-1" strike="noStrike">
                <a:solidFill>
                  <a:srgbClr val="000000"/>
                </a:solidFill>
                <a:latin typeface="Calibri"/>
              </a:rPr>
              <a:t>15. Podmienka splnenia kritérií pre výber projektov</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ŽoNFP musí splniť kritériá pre výber projektov, ktoré boli schválené prostredníctvom monitorovacieho výboru pre OP ĽZ a sú prílohou č. 7 výzvy. </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000000"/>
                </a:solidFill>
                <a:latin typeface="Calibri"/>
              </a:rPr>
              <a:t>Pozn.: Podmienka nie je preukazovaná zo strany žiadateľa samostatnou prílohou. Informácie potrebné k vyhodnoteniu doplňujúceho kritéria uvedie žiadateľ vo formulári ŽoNFP (bod 7.2).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6. Podmienka relevantného spôsobu financova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V rámci tejto výzvy sa uplatňuje spôsob financovania prostredníctvom: refundácie, formou zálohových platieb, a/alebo formou kombinácie zálohových platieb a refundácie v súlade s platným Systémom finančného riadenia EŠIF.</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oskytovaného príspevku: nenávratný finančný príspevok.</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Táto podmienka nie je predmetom preukázania splnenia zo strany žiadateľa pri predložení žiadosti o NFP.</a:t>
            </a:r>
            <a:endParaRPr b="0" lang="en-US" sz="20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7. Podmienka neporušenia zákazu nelegálneho zamestnávania štátneho príslušníka tretej krajiny žiadateľom za obdobie 5 rokov predchádzajúcich podaniu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Žiadateľ nesmie porušiť zákaz nelegálnej práce a nelegálneho zamestnávania podľa osobitného predpisu za obdobie 5 rokov predchádzajúcich predloženiu žiadosti o 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Čestné vyhlásenie Formulár ŽoNFP časť 15</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18. Podmienky týkajúce sa štátnej pomoci a vyplývajúce zo schém štátnej pomoci/pomoci de minimis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Oprávnené aktivity tak, ako sú stanovené touto výzvou nie sú poskytovaním štátnej pomoci a teda vo vzťahu k oprávneným aktivitám sa neuplatňujú pravidlá štátnej pomoci. Žiadateľ/prijímateľ si je vedomý, že štátnou pomocou sa v tejto súvislosti rozumie každá pomoc v akejkoľvek forme, ktorú poskytuje na podnikanie alebo v súvislosti s ním poskytovateľ priamo alebo nepriamo z prostriedkov štátneho rozpočtu, zo svojho rozpočtu alebo z vlastných zdrojov podniku, pričom však nezáleží na právnej forme žiadateľa/prijímateľa a spôsobe jeho financovania.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Forma preukázania: Nie je predmetom preukazovania zo strany žiadateľ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250560" y="259920"/>
            <a:ext cx="8186760" cy="597708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19. Oprávnenosť z hľadiska súladu s H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redložená ŽoNFP, musí byť v súlade s horizontálnymi princípmi rovnosť mužov a žien a nediskriminácia a udržateľný rozvoj na roky 2014 – 2020 a v čl. 7 a 8 všeobecného nariadeni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5 a časť 7.2) a Čestné vyhlásenie žiadateľa v ŽoNFP (bod 15)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súladu s HP nie je preukazovaná zo strany žiadateľa samostatnou prílohou.</a:t>
            </a:r>
            <a:endParaRPr b="0" lang="en-US" sz="20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0. Minimálna a maximálna výška príspevku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výška príspevku na projekt je 100 001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výška príspevku na projekt je 500 000 €.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Žiadateľ je povinný plniť podmienku minimálnej výšky príspevku do momentu poskytnutia súčinnosti podľa § 25 ods. 4 zákona o príspevku z EŠIF v prípade vydania rozhodnutia o schválení ŽoNFP.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11) a Rozpočet projektu s podrobným komentárom (Príloha č. 1a ŽoNFP)</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txBox="1"/>
          <p:nvPr/>
        </p:nvSpPr>
        <p:spPr>
          <a:xfrm>
            <a:off x="250560" y="260280"/>
            <a:ext cx="8186760" cy="5832720"/>
          </a:xfrm>
          <a:prstGeom prst="rect">
            <a:avLst/>
          </a:prstGeom>
          <a:noFill/>
          <a:ln w="0">
            <a:noFill/>
          </a:ln>
        </p:spPr>
        <p:txBody>
          <a:bodyPr anchor="t">
            <a:normAutofit fontScale="9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1. Časová oprávnenosť realizácie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inimálna dĺžka na realizáciu aktivít projektu – 18 mesiacov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aximálna dĺžka na realizáciu aktivít projektu je 36 mesiacov</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orma preukázania: </a:t>
            </a:r>
            <a:r>
              <a:rPr b="0" lang="sk-SK" sz="2000" spc="-1" strike="noStrike">
                <a:solidFill>
                  <a:srgbClr val="000000"/>
                </a:solidFill>
                <a:latin typeface="Calibri"/>
              </a:rPr>
              <a:t>Formulár ŽoNFP (bod 9)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22. Podmienky poskytnutia príspevku z hľadiska definovania merateľných ukazovateľov projektu</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Merateľné ukazovatele projektu pre túto výzvu sú definované v prílohe č. 3 Zoznam povinných merateľných ukazovateľov projektu merateľných ukazovateľov (ďalej „MU“), vrátane ukazovateľov relevantných k HP a iných údajov tejto výzvy. Všetky MU vo výzve v prílohe č. 3 sú definované ako povinné.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Forma preukázania: Formulár ŽoNFP (body 9, 10.1 a 10.2)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Calibri"/>
              </a:rPr>
              <a:t>Pozn.: Podmienka nie je preukazovaná zo strany žiadateľa samostatnou príloho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250560" y="260280"/>
            <a:ext cx="8186760" cy="5832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23. Podmienka zákazu predloženia viacero ŽoNFP vo vzťahu k prebiehajúcemu alebo ukončenému schvaľovaciemu procesu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nie je oprávnený predložiť viacero ŽoNFP v rámci tejto výzvy resp. hodnotiaceho kola tejto výzvy pre rovnaké aktivity a zároveň rovnakú cieľovú skupinu ak konanie o predmetnej ŽoNFP stále trvá resp. bolo vydané Rozhodnutie o schválení Žo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Čestné vyhlásenie žiadateľa o NFP v časti 15 žiadosti o NFP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zn.: Podmienka nie je preukazovaná zo strany žiadateľa samostatnou príloho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59920"/>
            <a:ext cx="81867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126" name=""/>
          <p:cNvSpPr txBox="1"/>
          <p:nvPr/>
        </p:nvSpPr>
        <p:spPr>
          <a:xfrm>
            <a:off x="395280" y="1052640"/>
            <a:ext cx="8331120" cy="5256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ulár ŽoNFP s prílohami (ŽoNFP, rozpočet, doplňujúce informácie k administratívnej a prevádzkovej kapacite, prieskum trhu, plnomocenstvo, životopis, čestné vyhlásenie, formulár žiadosti o výpis z registra trest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ríručka pre žiadateľa pre prioritnú os 1 Vzdelávanie OP ĽZ, verzia 6.0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povinných merateľných ukazovateľov, vrátane ukazovateľov relevantných k HP a iných údaj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oznam oprávnených a neoprávnených výdavkov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iadenie projektu – vytypované pozície – náplň činnosti a kvalifikačné predpoklad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9680" y="274320"/>
            <a:ext cx="81867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edkladanie projektov</a:t>
            </a:r>
            <a:endParaRPr b="0" lang="en-US" sz="3600" spc="-1" strike="noStrike">
              <a:solidFill>
                <a:srgbClr val="000000"/>
              </a:solidFill>
              <a:latin typeface="Calibri"/>
            </a:endParaRPr>
          </a:p>
        </p:txBody>
      </p:sp>
      <p:sp>
        <p:nvSpPr>
          <p:cNvPr id="87" name=""/>
          <p:cNvSpPr txBox="1"/>
          <p:nvPr/>
        </p:nvSpPr>
        <p:spPr>
          <a:xfrm>
            <a:off x="355680" y="1052640"/>
            <a:ext cx="8331120" cy="489744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edkladanie projektov – MŠVVaŠ SR (nie Výskumná agentúra/ASFE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rojekty sa predkladajú cez ITMS2014+ (neplatia prístupy z minulosti)</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ísomná verzia osobne/poštou/kuriérom</a:t>
            </a:r>
            <a:endParaRPr b="0" lang="en-US" sz="2300" spc="-1" strike="noStrike">
              <a:solidFill>
                <a:srgbClr val="000000"/>
              </a:solidFill>
              <a:latin typeface="Calibri"/>
            </a:endParaRPr>
          </a:p>
          <a:p>
            <a:pPr marL="332640" indent="-33264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elektronická verzia – možnosť využiť elektronickú schránku</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Minimalizovanie počtu predkladaných dokumentov zo strany žiadateľov (potvrdeni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Calibri"/>
              </a:rPr>
              <a:t>Po predložení projektu administratívna kontrola (možnosť zaslať výzvu na doplnenie chýbajúcich náležitostí/klarifikáciu), odborné hodnotenie, vydanie Rozhodnutí o schválení/neschválení ŽoNFP, v Rozhodnutí môžu byť podmienky, uzavretie Zmluvy o poskytnutí NFP</a:t>
            </a:r>
            <a:endParaRPr b="0" lang="en-US" sz="23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Prílohy výzvy</a:t>
            </a:r>
            <a:endParaRPr b="0" lang="en-US" sz="3600" spc="-1" strike="noStrike">
              <a:solidFill>
                <a:srgbClr val="000000"/>
              </a:solidFill>
              <a:latin typeface="Calibri"/>
            </a:endParaRPr>
          </a:p>
        </p:txBody>
      </p:sp>
      <p:sp>
        <p:nvSpPr>
          <p:cNvPr id="128" name=""/>
          <p:cNvSpPr txBox="1"/>
          <p:nvPr/>
        </p:nvSpPr>
        <p:spPr>
          <a:xfrm>
            <a:off x="324000" y="1267920"/>
            <a:ext cx="8331120" cy="525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andardná stupnica jednotkových nákladov-prax študentov učiteľských fakúlt-prax budúcich učiteľov-hodina priameho rozboru jednotky vyučovacej činnosti (vyučovacia hodina v škole) alebo priamej výchovnej činnosti (školské zariadenie) študenta cvičným učiteľom)</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Kritériá pre výber projektov OP ĽZ a metodika ich uplatňovan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formácia pre žiadateľov o nenávratný finančný príspevok, resp. o príspevok, ktorá je zverejnená na webovom sídle http://www.olaf.vlada.gov.sk/system-vcasneho-odhalovania-rizika-a-vylucenia-e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Ďalšie podporné dokumenty a informácie (zoznam odkazo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í žiadatelia</a:t>
            </a:r>
            <a:endParaRPr b="0" lang="en-US" sz="3600" spc="-1" strike="noStrike">
              <a:solidFill>
                <a:srgbClr val="000000"/>
              </a:solidFill>
              <a:latin typeface="Calibri"/>
            </a:endParaRPr>
          </a:p>
        </p:txBody>
      </p:sp>
      <p:sp>
        <p:nvSpPr>
          <p:cNvPr id="89" name=""/>
          <p:cNvSpPr txBox="1"/>
          <p:nvPr/>
        </p:nvSpPr>
        <p:spPr>
          <a:xfrm>
            <a:off x="250560" y="836640"/>
            <a:ext cx="8404200" cy="1224000"/>
          </a:xfrm>
          <a:prstGeom prst="rect">
            <a:avLst/>
          </a:prstGeom>
          <a:noFill/>
          <a:ln w="0">
            <a:noFill/>
          </a:ln>
        </p:spPr>
        <p:txBody>
          <a:bodyPr anchor="t">
            <a:normAutofit fontScale="4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Verejné vysoké školy </a:t>
            </a:r>
            <a:r>
              <a:rPr b="0" lang="sk-SK" sz="2400" spc="-1" strike="noStrike">
                <a:solidFill>
                  <a:srgbClr val="000000"/>
                </a:solidFill>
                <a:latin typeface="Calibri"/>
              </a:rPr>
              <a:t>v zmysle § 2 ods. 2 písm. a) zákona č. 131/2002 Z. z. o vysokých školách a o zmene a doplnení niektorých zákonov v znení neskorších predpisov</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000000"/>
                </a:solidFill>
                <a:latin typeface="Calibri"/>
              </a:rPr>
              <a:t>Žiadosť o NFP nemôže predložiť fakulta</a:t>
            </a:r>
            <a:r>
              <a:rPr b="0" lang="sk-SK" sz="2400" spc="-1" strike="noStrike">
                <a:solidFill>
                  <a:srgbClr val="000000"/>
                </a:solidFill>
                <a:latin typeface="Calibri"/>
              </a:rPr>
              <a:t>, predkladá výhradne vysoká škola (možnosť predložiť jednu alebo viac žiadostí o NFP)</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Identifikácia žiadateľa vo formulári žiadosti o NFP, podmienka nie je preukazovaná zo strany žiadateľa samostatnou prílohou</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Nadpis 1"/>
          <p:cNvSpPr/>
          <p:nvPr/>
        </p:nvSpPr>
        <p:spPr>
          <a:xfrm>
            <a:off x="1042920" y="2421000"/>
            <a:ext cx="7859880" cy="515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2320" y="177480"/>
            <a:ext cx="800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cieľové skupiny</a:t>
            </a:r>
            <a:endParaRPr b="0" lang="en-US" sz="3600" spc="-1" strike="noStrike">
              <a:solidFill>
                <a:srgbClr val="000000"/>
              </a:solidFill>
              <a:latin typeface="Calibri"/>
            </a:endParaRPr>
          </a:p>
        </p:txBody>
      </p:sp>
      <p:sp>
        <p:nvSpPr>
          <p:cNvPr id="92" name=""/>
          <p:cNvSpPr txBox="1"/>
          <p:nvPr/>
        </p:nvSpPr>
        <p:spPr>
          <a:xfrm>
            <a:off x="250560" y="764640"/>
            <a:ext cx="8404200" cy="1295640"/>
          </a:xfrm>
          <a:prstGeom prst="rect">
            <a:avLst/>
          </a:prstGeom>
          <a:noFill/>
          <a:ln w="0">
            <a:noFill/>
          </a:ln>
        </p:spPr>
        <p:txBody>
          <a:bodyPr anchor="t">
            <a:normAutofit fontScale="60000"/>
          </a:bodyPr>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študenti dennej formy štúdia prvého a/alebo druhého stupňa VŠ v odboroch pripravujúcich budúcich pedagogických a/alebo odborných zamestnancov</a:t>
            </a: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Forma preukázania: Formulár ŽoNFP (bod 7.2 a 8), podmienka nie je preukazovaná zo strany žiadateľa samostatnou prílohou</a:t>
            </a: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05560" indent="-205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4" name=""/>
          <p:cNvSpPr txBox="1"/>
          <p:nvPr/>
        </p:nvSpPr>
        <p:spPr>
          <a:xfrm>
            <a:off x="499680" y="1052640"/>
            <a:ext cx="8155080" cy="54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Znenie aktivity v ITMS2014+ (názov typu aktivity z textu OPĽZ):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a:solidFill>
                  <a:srgbClr val="000000"/>
                </a:solidFill>
                <a:latin typeface="Calibri"/>
              </a:rPr>
              <a:t>podpora vytvárania cvičných škôl v rámci prípravy na povolanie učiteľa, prepojenie teoretického a praktického vzdelávania s dôrazom na prax študentov vrátane mentoringu a sieťovania informácií</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V žiadosti o NFP:</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zadefinuje v časti 9 jednu hlavnú aktivitu priradenú k typu aktivity </a:t>
            </a:r>
            <a:r>
              <a:rPr b="0" i="1" lang="sk-SK" sz="2400" spc="-1" strike="noStrike">
                <a:solidFill>
                  <a:srgbClr val="000000"/>
                </a:solidFill>
                <a:latin typeface="Calibri"/>
              </a:rPr>
              <a:t>„podpora vytvárania cvičných škôl v rámci prípravy na povolanie učiteľa, prepojenie teoretického a praktického vzdelávania s dôrazom na prax študentov vrátane mentoringu a sieťovania informácií“ </a:t>
            </a:r>
            <a:r>
              <a:rPr b="0" lang="sk-SK" sz="2400" spc="-1" strike="noStrike">
                <a:solidFill>
                  <a:srgbClr val="000000"/>
                </a:solidFill>
                <a:latin typeface="Calibri"/>
              </a:rPr>
              <a:t>a v časti 7.2 popíše činnosti/podaktivity v rámci hlavnej aktivity</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6" name=""/>
          <p:cNvSpPr txBox="1"/>
          <p:nvPr/>
        </p:nvSpPr>
        <p:spPr>
          <a:xfrm>
            <a:off x="499680" y="1125360"/>
            <a:ext cx="8155080" cy="5399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u="sng">
                <a:solidFill>
                  <a:srgbClr val="000000"/>
                </a:solidFill>
                <a:uFillTx/>
                <a:latin typeface="Calibri"/>
              </a:rPr>
              <a:t>Oprávnené činnosti/podaktivity hlavnej aktivity v rámci výzvy – časť 7.2:</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1) prax študentov učiteľských fakúlt –prax budúcich učiteľov - štandardná stupnica jednotkových nákladov </a:t>
            </a:r>
            <a:r>
              <a:rPr b="1" lang="sk-SK" sz="2400" spc="-1" strike="noStrike">
                <a:solidFill>
                  <a:srgbClr val="000000"/>
                </a:solidFill>
                <a:latin typeface="Calibri"/>
              </a:rPr>
              <a:t>hodina priameho rozboru jednotky priamej vyučovacej činnosti </a:t>
            </a:r>
            <a:r>
              <a:rPr b="0" lang="sk-SK" sz="2400" spc="-1" strike="noStrike">
                <a:solidFill>
                  <a:srgbClr val="000000"/>
                </a:solidFill>
                <a:latin typeface="Calibri"/>
              </a:rPr>
              <a:t>(vyučovacia hodina v škole) </a:t>
            </a:r>
            <a:r>
              <a:rPr b="1" lang="sk-SK" sz="2400" spc="-1" strike="noStrike">
                <a:solidFill>
                  <a:srgbClr val="000000"/>
                </a:solidFill>
                <a:latin typeface="Calibri"/>
              </a:rPr>
              <a:t>alebo priamej výchovnej činnosti </a:t>
            </a:r>
            <a:r>
              <a:rPr b="0" lang="sk-SK" sz="2400" spc="-1" strike="noStrike">
                <a:solidFill>
                  <a:srgbClr val="000000"/>
                </a:solidFill>
                <a:latin typeface="Calibri"/>
              </a:rPr>
              <a:t>(školské zariadenie) </a:t>
            </a:r>
            <a:r>
              <a:rPr b="1" lang="sk-SK" sz="2400" spc="-1" strike="noStrike">
                <a:solidFill>
                  <a:srgbClr val="000000"/>
                </a:solidFill>
                <a:latin typeface="Calibri"/>
              </a:rPr>
              <a:t>študenta cvičným učiteľom </a:t>
            </a:r>
            <a:r>
              <a:rPr b="0" lang="sk-SK" sz="2400" spc="-1" strike="noStrike">
                <a:solidFill>
                  <a:srgbClr val="000000"/>
                </a:solidFill>
                <a:latin typeface="Calibri"/>
              </a:rPr>
              <a:t>v súlade </a:t>
            </a:r>
            <a:r>
              <a:rPr b="0" lang="sk-SK" sz="2400" spc="-1" strike="noStrike" u="sng">
                <a:solidFill>
                  <a:srgbClr val="000000"/>
                </a:solidFill>
                <a:uFillTx/>
                <a:latin typeface="Calibri"/>
              </a:rPr>
              <a:t>s prílohou č. 6 tejto výzvy</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400" spc="-1" strike="noStrike" u="sng">
                <a:solidFill>
                  <a:srgbClr val="000000"/>
                </a:solidFill>
                <a:uFillTx/>
                <a:latin typeface="Calibri"/>
              </a:rPr>
              <a:t>Týka sa výhradne študijných odborov: </a:t>
            </a:r>
            <a:r>
              <a:rPr b="0" lang="sk-SK" sz="2400" spc="-1" strike="noStrike">
                <a:solidFill>
                  <a:srgbClr val="000000"/>
                </a:solidFill>
                <a:latin typeface="Calibri"/>
              </a:rPr>
              <a:t>učiteľstvo akademických predmetov, učiteľstvo profesijných predmetov a praktickej prípravy, učiteľstvo umelecko-výchovných a výchovných predmetov, pedagogika, predškolská a elementárna pedagogika, špeciálna pedagogika, liečebná pedagogika nad rámec ich financovania zo štátneho rozpoč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98" name=""/>
          <p:cNvSpPr txBox="1"/>
          <p:nvPr/>
        </p:nvSpPr>
        <p:spPr>
          <a:xfrm>
            <a:off x="395280" y="1052640"/>
            <a:ext cx="8259840" cy="54720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inovované pedagogické praxe - inovácia a overenie existujúcich druhov pedagogických praxí v rámci študijných programov VŠ</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nový model/typ pedagogických praxí - vytvorenie a overenie nového modelu pedagogických praxí,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zvýšený počet praxí nad rámec praxí definovaných v študijných programoch vysokých škôl- pedagogické praxe nad rámec súčasného rozsahu praxí realizovaných v študijných programoch VŠ </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v časti 7.2 ŽoNFP popíše, ktorú/ktoré z vyššie uvedených troch možností plánuje realizovať (môže aj všetky tri)</a:t>
            </a:r>
            <a:endParaRPr b="0" lang="en-US" sz="2400" spc="-1" strike="noStrike">
              <a:solidFill>
                <a:srgbClr val="000000"/>
              </a:solidFill>
              <a:latin typeface="Calibri"/>
            </a:endParaRPr>
          </a:p>
          <a:p>
            <a:pPr marL="339480" indent="-3394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Rozsah resp. strop pedagogických praxí financovaných v rámci štandardnej stupnice jednotkových nákladov je pre túto výzvu stanovený nasledovne – max. 140 043 rozborov/projek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Oprávnené aktivity</a:t>
            </a:r>
            <a:endParaRPr b="0" lang="en-US" sz="3600" spc="-1" strike="noStrike">
              <a:solidFill>
                <a:srgbClr val="000000"/>
              </a:solidFill>
              <a:latin typeface="Calibri"/>
            </a:endParaRPr>
          </a:p>
        </p:txBody>
      </p:sp>
      <p:sp>
        <p:nvSpPr>
          <p:cNvPr id="100" name=""/>
          <p:cNvSpPr txBox="1"/>
          <p:nvPr/>
        </p:nvSpPr>
        <p:spPr>
          <a:xfrm>
            <a:off x="324000" y="980640"/>
            <a:ext cx="8331120" cy="55436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2) </a:t>
            </a:r>
            <a:r>
              <a:rPr b="1" lang="sk-SK" sz="2400" spc="-1" strike="noStrike">
                <a:solidFill>
                  <a:srgbClr val="000000"/>
                </a:solidFill>
                <a:latin typeface="Calibri"/>
              </a:rPr>
              <a:t>stáž študentov študijných programov vysokých škôl pripravujúcich budúcich pedagogických a/alebo odborných zamestnancov</a:t>
            </a:r>
            <a:r>
              <a:rPr b="0" lang="sk-SK" sz="2400" spc="-1" strike="noStrike">
                <a:solidFill>
                  <a:srgbClr val="000000"/>
                </a:solidFill>
                <a:latin typeface="Calibri"/>
              </a:rPr>
              <a:t>: </a:t>
            </a:r>
            <a:r>
              <a:rPr b="0" i="1" lang="sk-SK" sz="2400" spc="-1" strike="noStrike">
                <a:solidFill>
                  <a:srgbClr val="000000"/>
                </a:solidFill>
                <a:latin typeface="Calibri"/>
              </a:rPr>
              <a:t>Stáž študentov je forma praktickej skúsenosti realizovaná v škole a/alebo školskom zariadení zaradenom do Siete škôl a školských zariadení</a:t>
            </a:r>
            <a:r>
              <a:rPr b="0" lang="sk-SK"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Žiadateľ je povinný v časti 7.2 popísať spôsob realizácie stáže a jej výstupy. </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00000"/>
                </a:solidFill>
                <a:latin typeface="Calibri"/>
              </a:rPr>
              <a:t>Počas implementácie projektu je prijímateľ povinný pred spustením tejto činnosti predložiť poskytovateľovi plán stáž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Paľková Veronika</cp:lastModifiedBy>
  <dcterms:modified xsi:type="dcterms:W3CDTF">2019-08-05T07:28:31Z</dcterms:modified>
  <cp:revision>175</cp:revision>
  <dc:subject/>
  <dc:title>Snímka 1</dc:title>
</cp:coreProperties>
</file>