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2E8-529F-4F7E-935D-200830E64F23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7BE5-BD06-4117-9A03-8F42DD85D69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1DE-5484-430C-81B4-B3BD39B01B0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D70D-86E3-4554-8D8F-450BFCCA439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619-8A7A-401A-9376-BF15C264305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projekte bolo nakúpených a rozvezených do škôl 1 500 notebookov, 1 500 USB kľúčov, 1 500 dataprojektorov a  1 500 ks aplikačného kancelárskeho softvé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6910-1F42-4C67-8BAD-8574AB92A30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FD2-2B2B-4A68-973E-1526D86D1F0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ástupný symbol čísla snímky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30B5-8EBB-4933-9FE1-4570D98AFA6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217-63DD-4807-85F6-402E75F4EFB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CE55-2E1C-4A19-9344-3A5278DF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8026-A7CE-4D6C-A110-86450C93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600F-1EBF-4F7B-AFB7-EA6A52D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C033-635D-41DA-909A-48B3D690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F1C-21A2-4200-A938-6D7665E1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75D-509E-47BC-8FD1-5B8FEF8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B84-56B1-47A2-9A47-C61D96A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4324-20A7-4217-84DF-EEF5AFC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6EFC-B9CD-4E2A-B9E5-02AEA09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1196-D575-48B2-A44C-8906D81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90D2-3B8F-4A0B-81B0-D219A37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552A-DF2C-4619-B508-A0882153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C53-EB9F-49EC-B4A5-DEE7F1B2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A49A-9A97-4835-B097-6C5B62DE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6FE-7F3F-42AE-ACFF-ABFCF002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3C8-0756-4DE4-A05A-81A4F9B8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54B2-A6D2-42DC-BC0B-673925CE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EEF3-EA81-48F6-9A7F-22925B5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7409-6715-4D7A-BA10-33C43AC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6A33-876E-4B11-A881-AC192A4F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CA8E-03D8-416F-A84C-F65E15EA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7E3A-DA81-4EDB-B426-13796F19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106D-9CD4-4083-B72C-04B5C3A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F60F-588A-4BB1-B7E8-700571E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273-3584-432E-9495-7B1C373158C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5BC-DB0E-4A54-BA05-7F3E3D572CAD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5B5B-D39A-49C6-B02B-8F34B8CB8460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4B1-F049-4287-B0F7-CF344092484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nedu.sk/" TargetMode="External"/><Relationship Id="rId2" Type="http://schemas.openxmlformats.org/officeDocument/2006/relationships/hyperlink" Target="mailto:opvzdelavanie@minedu.sk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okrok v implementácii národných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7800" y="4365720"/>
            <a:ext cx="6019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Trenčianske Teplice, 25. jún 2014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Monitorovací výbor pre OP Vzdelá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hDr. Miriam Kováči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adite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bor realizácie OP Vzdeláva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187800" y="404640"/>
            <a:ext cx="6019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ok 1" descr=""/>
          <p:cNvPicPr/>
          <p:nvPr/>
        </p:nvPicPr>
        <p:blipFill>
          <a:blip r:embed="rId1"/>
          <a:stretch/>
        </p:blipFill>
        <p:spPr>
          <a:xfrm>
            <a:off x="7236000" y="85680"/>
            <a:ext cx="170172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Obrázok 2" descr=""/>
          <p:cNvPicPr/>
          <p:nvPr/>
        </p:nvPicPr>
        <p:blipFill>
          <a:blip r:embed="rId2"/>
          <a:stretch/>
        </p:blipFill>
        <p:spPr>
          <a:xfrm>
            <a:off x="2268360" y="247680"/>
            <a:ext cx="232740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Obrázok 3" descr=""/>
          <p:cNvPicPr/>
          <p:nvPr/>
        </p:nvPicPr>
        <p:blipFill>
          <a:blip r:embed="rId3"/>
          <a:stretch/>
        </p:blipFill>
        <p:spPr>
          <a:xfrm>
            <a:off x="5791320" y="24768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64D-618C-46EA-83D4-18B2DD42E947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620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patrenia prijaté RO OPV v nadväznosti na zistenia identifikované auditom EK č. 2013 – 15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atrenia sa týkajú nasledovných obla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administratívnej kontroly a kontroly na mi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výkonu kontroly RO nad SORO (ASFEU, MZ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špecifických výdav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8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176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5BC-1FFA-4862-92E3-0F22FB6B4D17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blasť VO – opatr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enie ex-ante kontoly na SORO OPV (ASFEU; MZ SR) od 1/6/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cké usmerňovanie RO OPV vo vzťahu k SORO OPV a k prijímateľom – 2 materiály o najčastejších chybách v VO – jeden pre zamestnancov SORO OPV a druhý pre prijím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ácia informačných dní pre prijímateľov – ASFEU: od 30/9/2013 do 3/10/2013 – Žilina, Košice, Banská Bystrica, Bratis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C1A-48FE-48F2-A1C9-7446CA94C7A4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blasť administratívnej kontroly a kontroly na mie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anie Usmernenia RO OPV k zabezpečeniu jednotného postupu výkonu kontroly na mie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anie Usmernenia RO OPV k zabezpečeniu jednotného postupu pri vykonávaní administratívnej kontroly žiadostí o plat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iešané kontroly na mieste RO a S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8DB-4ECE-4E73-A2C0-1ABE35A4526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blasť výkonu kontroly RO nad SORO (ASFEU, MZ S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ykonávanie pravidelných kontrol delegovaných právomocí na SORO OPV – každý 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ok 2013 – vykonané kontroly na oboch SORO – MZ SR od 29/7/2013, ukončená 30.9.2013; ASFEU od 23/9/2013, ukončená 28.2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ok 2014 – MZ SR od 30/6/2014, ASFEU koncom 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nie 100% kontroly MZ SR ako SORO (ŽoP, 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ady RO a SO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cké usmerň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BlokTextu 2"/>
          <p:cNvSpPr/>
          <p:nvPr/>
        </p:nvSpPr>
        <p:spPr>
          <a:xfrm>
            <a:off x="1403280" y="6093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blasť špecifických výdav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čné dni pre prijímateľov – informácie o zisteniach z auditu EK č. 2013-1595; z vládnych auditov a z certifikačných overovaní – ASFEU: 28/5/2013 -31/5/2013 – Zvolen, Žilina, Košice, Bratislava; MZ SR: 13/6/2013 – Bratis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álna komunikácia s prijímateľ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né preberacie protokoly pri výdavkoch týkajúcich sa edukačných portá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ovanie nákup na konci projektov – usmernenie ASFEU pre prijímateľov vydané 2/9/2013 + doplnené do Príručky pre prijímateľa OPV NFP, verzia 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anie zoznamu najčastejších chýb v oblasti personálnych výdavkov – zverejnený na webovom sídle RO OPV 28/8/201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200320" cy="73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66BB-5BA9-42E0-A3B1-0414834D1C4A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pvzdelavanie@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ĺžnik 1"/>
          <p:cNvSpPr/>
          <p:nvPr/>
        </p:nvSpPr>
        <p:spPr>
          <a:xfrm>
            <a:off x="539640" y="5661000"/>
            <a:ext cx="770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cc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41440" cy="117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5" descr=""/>
          <p:cNvPicPr/>
          <p:nvPr/>
        </p:nvPicPr>
        <p:blipFill>
          <a:blip r:embed="rId4"/>
          <a:stretch/>
        </p:blipFill>
        <p:spPr>
          <a:xfrm>
            <a:off x="755640" y="620640"/>
            <a:ext cx="19368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k-SK" sz="2400" spc="-1" strike="noStrike">
                <a:solidFill>
                  <a:srgbClr val="ff3300"/>
                </a:solidFill>
                <a:latin typeface="Arial"/>
              </a:rPr>
              <a:t>Operačný program Vzdelávanie </a:t>
            </a:r>
            <a:br>
              <a:rPr sz="2400"/>
            </a:b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Kontrahovanie a čerpa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ONTRAHOV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13. 6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7,4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ČERP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13.6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 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,1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Vo vzťahu k plneniu pravidla N+2/N+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 (ostatné prioritné osi okrem 4) - aktuálne je čerpaný záväzok 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,62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, že je potrebné pre splnenie pravidla N+2/N+3 do 31.12.2014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,265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 (prioritná os 4) - aktuálne je čerpaný záväzok 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69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 že je potrebné pre splnenie pravidla N+2/N+3 do 31.12.2014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93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DB9-3F32-446F-A42B-3A46CC95E74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13. 06. 2014 bolo kumulatívne vyhlásený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6</a:t>
            </a:r>
            <a:r>
              <a:rPr b="0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ísomných vyzvaní pre národné proje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13. 06. 2014 je stav nasledovn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ch projektov (z toho 5 multi-cieľových)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realizá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nčených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o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ch projektov (z toho 5 multicieľových) – ŠPÚ – IKT, CJ; ÚIPŠ/CVTI SR – MVP  ZŠ, MVP SŠ; ŠŠI, NÚC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F77-E25F-479C-8787-3715C184188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30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981080"/>
            <a:ext cx="8218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A91-945C-4C4C-B52D-092EB664563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2" descr=""/>
          <p:cNvPicPr/>
          <p:nvPr/>
        </p:nvPicPr>
        <p:blipFill>
          <a:blip r:embed="rId1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pic>
        <p:nvPicPr>
          <p:cNvPr id="136" name="Obrázok 4" descr=""/>
          <p:cNvPicPr/>
          <p:nvPr/>
        </p:nvPicPr>
        <p:blipFill>
          <a:blip r:embed="rId2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sp>
        <p:nvSpPr>
          <p:cNvPr id="137" name="BlokTextu 8"/>
          <p:cNvSpPr/>
          <p:nvPr/>
        </p:nvSpPr>
        <p:spPr>
          <a:xfrm>
            <a:off x="1403280" y="1773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844640"/>
          <a:ext cx="7777080" cy="4392720"/>
        </p:xfrm>
        <a:graphic>
          <a:graphicData uri="http://schemas.openxmlformats.org/drawingml/2006/table">
            <a:tbl>
              <a:tblPr/>
              <a:tblGrid>
                <a:gridCol w="1063800"/>
                <a:gridCol w="765000"/>
                <a:gridCol w="1841400"/>
                <a:gridCol w="1841760"/>
                <a:gridCol w="1133280"/>
                <a:gridCol w="1131840"/>
              </a:tblGrid>
              <a:tr h="506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 k 5/6/20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6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ívny model vzdelávania na predprimárnom stupni školskej sústav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66 224,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2 986,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83 076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336 113,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7 906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25 884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160 921,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991 987,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255,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 607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ím pedagogických zamestnancov k inklúzii marginalizovaných rómskych komuní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240 651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20 260,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zujúce metódy vo výcho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75048,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 859,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1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ED- PRojekt INkluzívnej Edukác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73 800,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435C-7B77-4410-9BE7-D5E93919D54E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2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11360" y="1981080"/>
          <a:ext cx="7677000" cy="3889440"/>
        </p:xfrm>
        <a:graphic>
          <a:graphicData uri="http://schemas.openxmlformats.org/drawingml/2006/table">
            <a:tbl>
              <a:tblPr/>
              <a:tblGrid>
                <a:gridCol w="1050840"/>
                <a:gridCol w="753840"/>
                <a:gridCol w="1818000"/>
                <a:gridCol w="1819080"/>
                <a:gridCol w="1117800"/>
                <a:gridCol w="1117440"/>
              </a:tblGrid>
              <a:tr h="666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 k 5/6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22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rax -Kompetencie pre prax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60 956,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4 441,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K – Praktické zručnosti cez neformálne vzdelávanie v práci s mládežo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50 609,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 421,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ie kvalifikácie učiteľov telesnej a športovej výchov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é športové centru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05 514,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6 231,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a poradenstvo pre dospelých ako nástroj lepšej uplatniteľnosti na trhu prá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loživotného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566,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574 202,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3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notenie kvality vzdelávania na ZŠ a SŠ v SR v kontexte prebiehajúcej obsahovej reformy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24 3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85 407,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 elektronického testovania 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806 571,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67 853,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elektronického testovania RK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80 635,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 272,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B26-7903-41E4-9F2B-0CA8D3EF6EB9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8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11280" y="1844640"/>
          <a:ext cx="7921440" cy="4491000"/>
        </p:xfrm>
        <a:graphic>
          <a:graphicData uri="http://schemas.openxmlformats.org/drawingml/2006/table">
            <a:tbl>
              <a:tblPr/>
              <a:tblGrid>
                <a:gridCol w="1084320"/>
                <a:gridCol w="777600"/>
                <a:gridCol w="1876680"/>
                <a:gridCol w="1876320"/>
                <a:gridCol w="1152360"/>
                <a:gridCol w="1154160"/>
              </a:tblGrid>
              <a:tr h="8301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 k 5/6/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26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695,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 201,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529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912,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ora profesijnej orientácie žiakov základnej školy na odborné vzdelávanie a prípravu prostredníctvom rozvoja polytechnickej výchovy zameranej na rozvoj praktických zručností a práca s talenta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934 419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29 358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oj stredného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99 162,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35 560,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26 462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4 187,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41 901,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071,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726 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70 181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2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595,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432,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425-3926-4397-B34B-D7FAA3257DEA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5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1360" y="1981080"/>
          <a:ext cx="7748280" cy="4256280"/>
        </p:xfrm>
        <a:graphic>
          <a:graphicData uri="http://schemas.openxmlformats.org/drawingml/2006/table">
            <a:tbl>
              <a:tblPr/>
              <a:tblGrid>
                <a:gridCol w="1060200"/>
                <a:gridCol w="760680"/>
                <a:gridCol w="1834920"/>
                <a:gridCol w="1836720"/>
                <a:gridCol w="1127160"/>
                <a:gridCol w="1128600"/>
              </a:tblGrid>
              <a:tr h="9129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 k 5/6/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3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38 367,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28 891,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74 655,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37 117,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1 434,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6 276,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5 196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 966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D75-7B08-4B59-8E5F-72B55CEE01A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0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1981080"/>
          <a:ext cx="7632720" cy="4330800"/>
        </p:xfrm>
        <a:graphic>
          <a:graphicData uri="http://schemas.openxmlformats.org/drawingml/2006/table">
            <a:tbl>
              <a:tblPr/>
              <a:tblGrid>
                <a:gridCol w="1044720"/>
                <a:gridCol w="749160"/>
                <a:gridCol w="1808280"/>
                <a:gridCol w="1808280"/>
                <a:gridCol w="1111320"/>
                <a:gridCol w="1110960"/>
              </a:tblGrid>
              <a:tr h="6559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 k 5/6/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é vzdelávanie – digitálne vzdelávanie pre všeobecno-vzdelávacie predme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29 887,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43 434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23 345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11 782,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 641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 083,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536 034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59458,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 659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521,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23008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školy ako motory rozvoja vedomostnej spoloč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/Centrum vedecko-technických informácií S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11 455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3 870,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230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lexný poradenský systém prevencie a ovplyvňovania sociálnopatologických javov v školskom prostred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umný ústav detskej psychológie a patopsychológ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63 594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22 252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95E-6E5D-4C3E-81BF-B91019E6F98E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trenia prijaté RO OPV na akceleráciu implementácie O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žiadostí o platb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 (</a:t>
            </a: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alizácia Príručky pre prijímateľa NFP OPV, verzia 7.0, účinná od 12/02/2013 a aktualizácia Príručky pre prijímateľa NFP OPV, verzia 8.0, účinná od 28/05/2014</a:t>
            </a:r>
            <a:r>
              <a:rPr b="1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žiadostiach o platb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lehôt kontroly žiadostí o platbu zo strany RO a SOR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álny a flexibilný prístup k prijímateľov (každodenná komunikáci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nie pre prijímateľov NP OPV – 29.5.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nie pre zamestnancov OROVP – 15.5.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najčastejších chýb podľa jednotlivých NP + prijímatelia prijali opatrenia na ich odstránen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verejného obstarávan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enie systému ex-ante kontroly – </a:t>
            </a:r>
            <a:r>
              <a:rPr b="0" lang="pl-PL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</a:t>
            </a:r>
            <a:r>
              <a:rPr b="1" lang="pl-PL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braných aspektov verejných obstarávaní (nadlimitné a podlimitné zákazky) pred ich vyhlásením zo strany prijímateľov národných projekt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verejných obstarávania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a komunikácia s ÚVO 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05:52Z</dcterms:created>
  <dc:creator>henrieta holubekova</dc:creator>
  <dc:description/>
  <dc:language>en-US</dc:language>
  <cp:lastModifiedBy>Kováčiková Miriam</cp:lastModifiedBy>
  <cp:lastPrinted>2012-06-25T14:19:31Z</cp:lastPrinted>
  <dcterms:modified xsi:type="dcterms:W3CDTF">2014-06-19T07:53:27Z</dcterms:modified>
  <cp:revision>285</cp:revision>
  <dc:subject/>
  <dc:title>operačný program Vzdelávanie</dc:title>
</cp:coreProperties>
</file>