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14"/>
          </p:nvPr>
        </p:nvSpPr>
        <p:spPr>
          <a:xfrm>
            <a:off x="385128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15"/>
          </p:nvPr>
        </p:nvSpPr>
        <p:spPr>
          <a:xfrm>
            <a:off x="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16"/>
          </p:nvPr>
        </p:nvSpPr>
        <p:spPr>
          <a:xfrm>
            <a:off x="385128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50BD-DA64-469D-93DE-D8C4C4698575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5128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FA19-CE95-4F0A-8B1E-E354865E39A8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B10F8-64E7-4295-B439-400F09F7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D8E14-04B3-47C3-B3C1-560640EF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1135F-1FFF-4A02-9012-D47E5C3D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BBC43-C726-4397-8540-7BF9B85A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359D5-108F-4A4C-B7C9-C3637280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BF7E3-E7B5-4659-AA1B-DAC850FA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6A3EE-9CA7-498C-AA0F-C28BBDA2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E2B30-8CF4-4971-81C4-DFE82F61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81A9D-1426-46B8-8172-19DB87D4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99CB5-ABBD-4D79-BF77-51638A0D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B114A-72A6-4C13-A6BB-525BA076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FAF1B-B5B0-46CE-8C86-EE48E01E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122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123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6798-2D8E-42B3-8890-0FAD84CD4E3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208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7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5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291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292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9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3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7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375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376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1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459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460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pv.health-sf.sk/" TargetMode="External"/><Relationship Id="rId2" Type="http://schemas.openxmlformats.org/officeDocument/2006/relationships/hyperlink" Target="mailto:info.opv@health.gov.sk" TargetMode="External"/><Relationship Id="rId3" Type="http://schemas.openxmlformats.org/officeDocument/2006/relationships/hyperlink" Target="mailto:info.opv@health.gov.sk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722160" y="2297160"/>
            <a:ext cx="777240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nformácia o opatrení 2.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peračného programu Vzdelávan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 31.5.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inisterstvo zdravotníctva S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ffffff"/>
                </a:solidFill>
                <a:latin typeface="Trebuchet MS"/>
              </a:rPr>
              <a:t>25. jún 2014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600720" cy="1440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2"/>
          <a:stretch/>
        </p:blipFill>
        <p:spPr>
          <a:xfrm>
            <a:off x="6659640" y="415800"/>
            <a:ext cx="1447560" cy="14288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ESF_logo_SK_male"/>
          <p:cNvPicPr/>
          <p:nvPr/>
        </p:nvPicPr>
        <p:blipFill>
          <a:blip r:embed="rId3"/>
          <a:stretch/>
        </p:blipFill>
        <p:spPr>
          <a:xfrm>
            <a:off x="1042920" y="404640"/>
            <a:ext cx="1513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yhlásené výzv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Zástupný symbol obsahu 7" descr=""/>
          <p:cNvPicPr/>
          <p:nvPr/>
        </p:nvPicPr>
        <p:blipFill>
          <a:blip r:embed="rId1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sp>
        <p:nvSpPr>
          <p:cNvPr id="515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25. jún 2014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ok 8" descr=""/>
          <p:cNvPicPr/>
          <p:nvPr/>
        </p:nvPicPr>
        <p:blipFill>
          <a:blip r:embed="rId2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517" name="Obrázok 9" descr=""/>
          <p:cNvPicPr/>
          <p:nvPr/>
        </p:nvPicPr>
        <p:blipFill>
          <a:blip r:embed="rId3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2"/>
          <p:cNvSpPr/>
          <p:nvPr/>
        </p:nvSpPr>
        <p:spPr>
          <a:xfrm>
            <a:off x="223920" y="1744560"/>
            <a:ext cx="8731080" cy="47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08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8/2.2/01 „Doplnenie  systému zdravotníctva o kvalifikovaných odborníkov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8/2.2/02 „Rozvoj nových foriem ďalšieho vzdelávania v zdravotníctve“ 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8/2.2/03 „Doplnenie  systému zdravotníctva o kvalifikovaných odborníkov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09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9/2.2/01 „Podpora hodnotenia sústavného vzdelávania zdravotníckych pracovníkov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9/2.2/02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10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10/2.2/01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10/2.2/02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11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11/2.2/01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Výzva z roku 2014 (vyhlásená a implementovaná zo strany RO)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2014/2.2/01 „Doplnenie  systému zdravotníctva o kvalifikovaných odborníkov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realizácie opatr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Zástupný symbol obsahu 7" descr=""/>
          <p:cNvPicPr/>
          <p:nvPr/>
        </p:nvPicPr>
        <p:blipFill>
          <a:blip r:embed="rId1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sp>
        <p:nvSpPr>
          <p:cNvPr id="521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25. jún 2014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Obrázok 8" descr=""/>
          <p:cNvPicPr/>
          <p:nvPr/>
        </p:nvPicPr>
        <p:blipFill>
          <a:blip r:embed="rId2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523" name="Obrázok 9" descr=""/>
          <p:cNvPicPr/>
          <p:nvPr/>
        </p:nvPicPr>
        <p:blipFill>
          <a:blip r:embed="rId3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4" name=""/>
          <p:cNvGraphicFramePr/>
          <p:nvPr/>
        </p:nvGraphicFramePr>
        <p:xfrm>
          <a:off x="304920" y="1928880"/>
          <a:ext cx="8437320" cy="4037040"/>
        </p:xfrm>
        <a:graphic>
          <a:graphicData uri="http://schemas.openxmlformats.org/drawingml/2006/table">
            <a:tbl>
              <a:tblPr/>
              <a:tblGrid>
                <a:gridCol w="1576440"/>
                <a:gridCol w="2116080"/>
                <a:gridCol w="4744800"/>
              </a:tblGrid>
              <a:tr h="576360"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Ďalšie vzdelávanie pracovníkov v zdravotníctv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kter vzdelávan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áln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formálne a informáln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 vzdelávan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pecializačné štúdium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ústavné vzdelávani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zvy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8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8/2.2/03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14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8/2.2/02, OPV 2009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9/2.2/02, OPV 2010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10/2.2/02, OPV 2011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ímatel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osprávne kraj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ejné a štátne vysoké školy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ory, profesijné organizácie, vzdelávacie inštitúcie, univerzity, zdravotnícke zariadenia, priamo riadené organizácie MZ SR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azmluvnenie a realizácia opatre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Zástupný symbol obsahu 7" descr=""/>
          <p:cNvPicPr/>
          <p:nvPr/>
        </p:nvPicPr>
        <p:blipFill>
          <a:blip r:embed="rId1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sp>
        <p:nvSpPr>
          <p:cNvPr id="527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25. jún 2014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Obrázok 8" descr=""/>
          <p:cNvPicPr/>
          <p:nvPr/>
        </p:nvPicPr>
        <p:blipFill>
          <a:blip r:embed="rId2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529" name="Obrázok 9" descr=""/>
          <p:cNvPicPr/>
          <p:nvPr/>
        </p:nvPicPr>
        <p:blipFill>
          <a:blip r:embed="rId3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"/>
          <p:cNvGraphicFramePr/>
          <p:nvPr/>
        </p:nvGraphicFramePr>
        <p:xfrm>
          <a:off x="534960" y="1917720"/>
          <a:ext cx="8074080" cy="4284720"/>
        </p:xfrm>
        <a:graphic>
          <a:graphicData uri="http://schemas.openxmlformats.org/drawingml/2006/table">
            <a:tbl>
              <a:tblPr/>
              <a:tblGrid>
                <a:gridCol w="1614600"/>
                <a:gridCol w="1614240"/>
                <a:gridCol w="1630440"/>
                <a:gridCol w="1600200"/>
                <a:gridCol w="1614600"/>
              </a:tblGrid>
              <a:tr h="1138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zva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zazmluvnených projekt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projektov v realizácií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ukončených projekt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mimoriadne  ukončených projekt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1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4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1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ktuálne zazmluvnenie a čerpanie opatrenia podľa výzi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25. jún 2014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501480" y="1773360"/>
          <a:ext cx="8163000" cy="4367160"/>
        </p:xfrm>
        <a:graphic>
          <a:graphicData uri="http://schemas.openxmlformats.org/drawingml/2006/table">
            <a:tbl>
              <a:tblPr/>
              <a:tblGrid>
                <a:gridCol w="1632240"/>
                <a:gridCol w="1633320"/>
                <a:gridCol w="1631880"/>
                <a:gridCol w="1633680"/>
                <a:gridCol w="163188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ód výzvy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zmluvnené NFP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z alokáci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erpané NFP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z alokáci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602,91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 172,14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8 317,30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6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2 192,2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24 128,0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243 076,18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19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64 938,4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6 695,70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74 544,80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68 697,05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 761,64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 295,1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3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01 244,83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18 583,82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1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926 033,45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7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8 650,68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4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060 571,4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6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575 363,01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äty 3"/>
          <p:cNvSpPr/>
          <p:nvPr/>
        </p:nvSpPr>
        <p:spPr>
          <a:xfrm>
            <a:off x="534960" y="622764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25. jún 2014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577800" y="1833480"/>
          <a:ext cx="7763040" cy="2819520"/>
        </p:xfrm>
        <a:graphic>
          <a:graphicData uri="http://schemas.openxmlformats.org/drawingml/2006/table">
            <a:tbl>
              <a:tblPr/>
              <a:tblGrid>
                <a:gridCol w="3983040"/>
                <a:gridCol w="1136520"/>
                <a:gridCol w="1382760"/>
                <a:gridCol w="1260720"/>
              </a:tblGrid>
              <a:tr h="654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ov indikátora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Aktuálny stav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lánovaný stav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ieľová hodnota na úrovni OP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46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zamestnancov zapojených do vzdelávacích aktivít projektu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7 52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0 47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92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zamestnancov úspešne absolvujúcich vzdelávací program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40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8 51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5 143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79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zamestnancov, ktorí využívajú výsledky projektu po ukončení jeho realizáci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39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8 402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4 115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47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novovytvorených vzdelávacích program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536" name="Obdĺžnik 3"/>
          <p:cNvSpPr/>
          <p:nvPr/>
        </p:nvSpPr>
        <p:spPr>
          <a:xfrm>
            <a:off x="534960" y="4862520"/>
            <a:ext cx="8096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1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Cieľovú percentuálnu hodnotu 7% predstavuje 5 143 zdravotníckych pracovníkov z celkového počtu 73 472 pracovníkov so zdravotníckym vzdelaním. Zámerom je, aby aspoň 7 % z týchto zdravotníckych pracovníkov v rokoch 2008 až 2013 úspešne absolvovalo ďalšie vzdelávanie.</a:t>
            </a:r>
            <a:br>
              <a:rPr sz="1000"/>
            </a:b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Cieľovú percentuálnu hodnotu 80% predstavuje podiel počtu zdravotníckych pracovníkov, ktorí využívajú výsledky projektu po ukončení jeho realizácie z celkového počtu zdravotníckych pracovníkov absolvujúcich vzdelávacie aktivity. Cieľom je aby 80% zdravotníckych pracovníkov zotrvalo po ukončení ďalšieho vzdelávania v systéme zdravotníctva SR. </a:t>
            </a:r>
            <a:br>
              <a:rPr sz="1000"/>
            </a:b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Plánovaná hodnota 18 402 zdravotníckych pracovníkov predstavuje 99,39% z plánovaného počtu zdravotníckych pracovníkov absolvujúcich vzdelávacie aktivity.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diká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rebuchet MS"/>
              </a:rPr>
              <a:t>25. jún 2014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90680" y="1158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atrenia prijaté SORO MZ SR v súvislosti s plnením Akčného plánu v rámci OP Vzdeláva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90160" y="1888920"/>
            <a:ext cx="86072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zintenzívnenie osobných a písomných konzultácií poskytovaných prijímateľom pred predložením ŽoP a v procese jej spracovan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zorganizovani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racovného stretnutia s prijímateľmi za účelom zlepšenia stavu   implementácie v rámci opatrenia 2.2 OPV (13.6.20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17040" indent="-257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resnejšie plánovanie predkladania Ž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17040" indent="-257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informácie o problémoch súvisiacich s procesom 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17040" indent="-257040" algn="just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najčastejšie pochybenia v rámci implementačnej fázy projektu zistené auditm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zavedenie preventívneho opatrenia – pilotnej kontroly súladu jednotlivých písomných podkladov v rámci dokumentácie súvisiacej s procesom VO k nadlimitným/ podlimitným zákazká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zavedenie ex-ante kontroly VO (1.6.20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100% kontrola zo strany RO OPV (žiadosti o platbu, V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príprava podkladov na vyhlásenie výzvy OPV 2014/2.2/01 a organizácia informačného seminára k výzve a informačných seminárov k rezidentskému programu (oslovenie cieľovej skupiny výzv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501480" y="26384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www.opv.health-sf.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info.opv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@health.gov.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9" descr="ministerstvo-zdravotnictva-mzsr-mz"/>
          <p:cNvPicPr/>
          <p:nvPr/>
        </p:nvPicPr>
        <p:blipFill>
          <a:blip r:embed="rId4"/>
          <a:stretch/>
        </p:blipFill>
        <p:spPr>
          <a:xfrm>
            <a:off x="317520" y="1386000"/>
            <a:ext cx="3097080" cy="29304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0"/>
          <p:cNvSpPr/>
          <p:nvPr/>
        </p:nvSpPr>
        <p:spPr>
          <a:xfrm>
            <a:off x="3492360" y="1916280"/>
            <a:ext cx="540072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Ministerstvo zdravotníctva S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rostredkovateľský orgán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od riadiacim orgáno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re opatrenie 2.2 OPV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Zástupný symbol päty 1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25. jún 2014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6:37:42Z</dcterms:created>
  <dc:creator>Gabriela Gergelová</dc:creator>
  <dc:description/>
  <dc:language>en-US</dc:language>
  <cp:lastModifiedBy>Edmund Škorvaga</cp:lastModifiedBy>
  <cp:lastPrinted>2014-06-17T10:29:05Z</cp:lastPrinted>
  <dcterms:modified xsi:type="dcterms:W3CDTF">2014-06-20T12:03:30Z</dcterms:modified>
  <cp:revision>445</cp:revision>
  <dc:subject/>
  <dc:title>Najväčším bohatstvom, najvyššou hodnotou každého človeka, každého jedinca je  ZDRAVIE</dc:title>
</cp:coreProperties>
</file>