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B16-6247-4CF1-A1D6-47A0CC2B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A7B-898C-4385-A3EB-88A943E5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FFE0C-2793-4111-9138-4083A29C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05BBD-1E4E-40CF-9A5F-F63E224E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21EDF-5720-497F-A74E-5AE7E05B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7731E-6901-45B1-BC94-944F69C0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328AF-0055-40BB-BD46-623D1146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96028-AAD3-445B-9A7C-16C9F7BF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08663-1C49-4EA3-AFE0-145F1A64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9FFF3-A53B-4B99-8C8A-7C7433DB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A4D6B-DDC6-49F7-ACB5-B2C03FBD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E47C5-0B2A-4183-A794-09EFCFF1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EDC-3E36-4A4C-8B78-E4D49900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88627-A944-47BA-B726-7A625699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27AAA-8FC3-465B-B9FB-9EA8A34E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3044D-6A1D-4190-BE3F-10EEE77F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FD1DD-EE4B-4FEB-835B-56C419E0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42933-DB44-4DC7-B033-6A02C5B6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C8998-67D6-4253-B7DF-389F2691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4DE5B-5614-4F4D-8858-0807063F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67BC0-E9E2-4B7D-9222-659F04C8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47C7C-86C7-4825-87A6-E6E5B79B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5872F-457D-47B0-8465-6A191D5B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C8C2-F5A0-4A33-9A36-C74E1975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6E013-F419-4EEC-98E8-35FC98C7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9D8D1-20F1-4D7D-9920-A11A874B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FBDBC-28B6-4B05-BE41-ED2C5170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AE3F4-29B1-4253-B5CC-1A257442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82477-EF1A-4E3F-91DC-A99C4D1E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56469-4D40-4A9A-9397-B2934E3E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21C44-0F7C-4ED7-8143-0A09CFCC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A2E95-2B6B-44A5-BE49-542E25FF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D33F7-710F-4F58-A498-88F0605A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69CD6-5411-4CAB-90BC-66142F3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8ECF-758E-4E82-9E64-62A264A5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BD15F-A866-42BA-A759-B0379394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75B5B-191A-495B-A921-9CE9C656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29FCF-276A-4C48-9CA1-9A52024C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A108C-CB63-4305-BC28-FADDD86F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BA965-0D6C-4229-B573-6D68264F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907AB-6C8D-4594-9A6D-CE01FAF8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BE7AC-4FC5-4B91-B59F-4532EE5C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BC84A-31DE-4161-88C3-B5361C5A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EEAC3-BE64-4564-A22A-ABA5F6F4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EB0FE-9A16-4C5C-A0EE-471D9520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433F-5DAD-4B68-B153-D64B8181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6CF76-9DA8-4A51-982B-76F116D4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324E3-00FC-4D13-86B9-74369BAE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C5E60-A86B-44AC-AE74-FB450FFA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22ABF-0D69-4B30-9DE3-085FC8C1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DD074-A57B-425B-9308-62FC033F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90C79-3B9B-4AEF-BED4-2B409C7F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9542C-3E0C-4D7D-8F64-C85B2360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50C407-F748-4758-A960-033A5E8E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7F659-1D49-474B-81FC-4B77C964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19872-6E9E-4ED8-9C01-8E1809B3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7E48-34DB-4524-B1D4-BA045636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C8AA5-BCA4-44D4-897D-E344CE7D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748EB-D0C7-48B9-A567-6E442BC6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E2E2B-82C1-4046-B0F5-D7D7CDA9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7CAEC-75A0-479C-B2AE-95C1388A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5E149-7327-46FD-953E-60825EFF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B1A8B-DA4B-4D37-A7A1-54CF19DB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D57EF-6146-4AC0-8691-1B8DC683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FE956-853D-4609-9233-88AE87C1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2319D-936E-434F-A9A5-9C61144B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09377-9BD9-4FB7-BAE7-BF87652F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119B-1178-4AF3-B7D7-CCD3B866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599789-3279-4041-A873-0E2B9818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760AA-FBB2-47F0-866F-E7E8F0A2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3107F-10D1-46E9-AE81-89D4591D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15CDB-E6CF-4D9B-A4C7-C62701A5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5A0344-5BFA-423F-937B-C6E27385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6343A-046F-4A5D-AA69-A0670A42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41592-B0CD-4B68-A8CD-0E9FB5D3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FD51B-1920-4BDE-929C-5B35E6B9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62A04-295D-459F-8D86-59424BAE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A5E9B-2FBD-495C-9B67-620AB745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42D1-F19E-4661-A479-44F91291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C6B4A-463E-4EFE-B3D8-4F666943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D878D-6066-43F3-8032-53268E6E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85AEA4-A203-4B34-B87D-0E6A5249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25643E-661B-4CDC-84FE-E00D395E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6FD670-070F-4CFE-B863-E4DA0ED7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0E2ECE-5D77-4CD2-A743-D9260453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594DA-F385-4224-A843-26D31673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B3AF0-FA24-42B8-90D5-BAE237BC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BB067-E017-4010-B4CD-6BD97DE6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D90F8-A085-4AC1-8879-F8291ACF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D0BD-07AD-458E-951D-2BBED321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35994C-F88B-4D98-A9B5-FFDA9883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145AA2-5CA7-460A-A8D1-1D0035F9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073EC6-0FBC-4B1E-B5AD-BC269238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D433C5-396A-4857-8B48-23FFF816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F0B04-21DF-4E99-9327-2391C3A7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A876A5-7CFB-4C88-A83F-5FBAEFC9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9C921E-A6AE-4759-A265-4F0CE6D7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119A49-A768-42AF-BB7B-63DF51FF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278393-F780-46C8-A3AC-2EE19231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9C1787-DAC0-488C-B70D-643CA1AF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4B15-86D6-4C3F-B04F-7B400062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D53AAE-0642-4D6F-955D-68F207C3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8A9A86-B496-424A-AE75-985EC115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7D2429-C195-4D55-ACCD-7F8F67E4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E0069A-59C3-4473-B9FA-622110C9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C9388-E3B5-4F48-AF17-1E21DA02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99A021-6CDF-450B-B025-7A7B3805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E4E5B-B3B9-4D41-AE0E-C81D1506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919519-D7FF-4512-BF59-B0A320D8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EDA339-734C-406D-A812-56151FD1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1BB0FA-816C-43BB-BF3E-D6DB8FF8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9E6-AC19-4040-8CF6-BAD0305C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487F-B78E-4757-A9D0-D91EC34B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ABB580-E497-4035-8854-41ED5444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59C3E4-80D1-49E3-9F53-55FB33C9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AB9B6-6E17-4C54-9996-253E0F52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5EE52-D165-4CA7-8A0A-6ED1656B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7CB938-553B-453A-B36F-517C0710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B074FE-002D-43F3-93DB-4981A9B8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126791-91DC-47E2-8BB0-6D05D737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80CAB2-69D8-43B0-9D52-77E03CD0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BC9621-C412-49F3-859B-939E802C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D9B7D5-3CBE-4A72-869D-5BF8ACF4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147E-BD0F-4CD5-8765-FEB116A2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14F1B8-E14A-4D62-9BFA-71BF9A85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64C319-E681-4723-BEB2-38F300DF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7D5DC9-88F3-46B7-9A02-10B5E443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7EEBAC-84CE-4C5E-8D30-935B0206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71F200-3289-4A9E-B3E3-DE44D25C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4FEFDF-4B8E-4330-BFC6-44A7BF39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B39DA8-159C-4CA5-AF31-D77FA317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26C7F0-DDA1-44AA-9215-2FCF0BDE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B4D0CC-6E6A-4429-8EB0-DA1C55AD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C9DD2B-D6BE-4029-B454-FB4116EA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BE70-512D-44E3-BD0C-8069B40D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CBE838-0EC4-4934-B72A-C2CA5389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F9E62-5846-479D-9E6F-CD804579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B9EFEB-2D3C-4FE7-9FA5-C65007AA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92E0BB-55E1-4F79-9014-3CFB31CC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E5FEA8-F1B9-4B39-8D3D-AB32D248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E3A79B-5391-40F0-951E-74388BA3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49D297-0A24-4270-B37D-5D04DA0B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424729-B79D-4807-8C9C-CA2DB4F6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5243A1-6263-437B-856C-EC269BB0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0FAF05-F7FD-48C8-AA8C-6617B3C6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B541-AA27-40A7-8559-46179B59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5778B3-7E00-4B58-BF12-EF094BE9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AF510F-32E4-4A48-9AFE-BE3F2744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A5F472-FE07-4FCD-A78E-AA859A24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4AB0E3-0CF8-4225-9C18-9498B017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477949-7975-4695-89B9-D3B9C358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F9209B-5F37-4EF3-BA54-E9F73A0E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3815DC-25F1-41B3-83F4-1105696A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F00123-09A1-4776-87EE-1B8E2E6E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95BE6D-A403-44A2-9C90-41635CB8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50F349-770B-463F-845F-551C57A9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1A54-D61B-415D-AE5D-3CC09F6C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468F8-AC02-4006-949C-64A3330D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FC83C9-C4D2-4F6C-8540-3392D8C7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85D9FD-7ED5-4570-995D-D76DAE74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23B816-0969-434D-8A63-D0293975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9EF6E6-1368-4CD2-8386-D88573F5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A23F2C-C489-456B-818E-74208222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86CDBC-83A5-430A-8424-0722EF20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820EE6-AA64-4C7B-A9B3-5FE685CA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43F098-C678-42EB-9210-50A3C270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8F2B89-5411-4493-A853-0AB13A14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6DA44-BB6B-4EC6-9C50-9D4A4B5B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99778E-C3C0-4F67-8B72-D28B349E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96E247-2D44-47C7-A08B-7804F37D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939616-1213-4ADD-B058-A827B325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22565A-7A3E-4D09-A10B-2955EED2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9E1E89-4A91-48A5-AA4E-FCA84DB4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AA0A17-421B-4A1A-BA97-2B731918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72E991-2049-4CAB-80E3-00C922FD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ACF12F-7FA0-4402-9644-CB64D690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B5B0B3-6C2C-4A1B-B36C-19D93AD1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7B28FE-CA58-4C85-B0BE-DAF3DBA0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C265E-0FCF-4870-BB2A-F8ADF6C4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E5A5AC-3A2A-413A-BE06-F6F2B0CC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444AA4-72BB-49C2-A52C-3C55DC58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BE1C23-2273-48A4-8250-EA8D6D0C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6067CF-3AE7-4117-A767-330BFAF3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2C7EFA-9EE1-4728-80DF-5B486475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38264B-136A-4529-B01D-44B845DB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34AB6B-1820-4C75-A303-A664F206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4D600E-93B2-49B4-8D74-31E0FAD9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DCD0F7-F840-4BB2-8ACC-44CFF280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29477A-1ECF-4C3F-B4B6-13B6F65C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F6488-1166-477E-9AA3-253FEF54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B9034E-3469-4C9D-B098-A6C88AF8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BA43F0-C20C-4C82-9458-6406EEB1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54E8BD-3166-4342-A7D4-E2B4ACAE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BD2A64-EEA6-4DDF-A580-B49A9793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EDF5DC-254B-4128-9D3A-D001DD99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019259-4CD4-4007-8092-988D7A71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B76F3F-FB7B-48AA-9123-A96B61CF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563157-4CCF-4F03-9516-F0A9CA0C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AAC751-9B75-4510-A56A-FC511B56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EEC36F-ADAA-4FA5-8520-22CBDB61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53525-4F41-4BD7-9127-71AC6802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A63595-96C7-4BB1-B419-6D4A221C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7707B0-D7E5-4F39-AD9F-E24BC335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2EDD13-8D8D-456B-ABE3-E3D49D4B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C5E03F-B57F-4164-9D88-1B5EEB12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5F383D-660C-4BEA-8816-C5D92658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2178EA-254E-44E0-9BE4-CB572304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63C664-20B1-4925-8463-AF2D85AE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B19378-6552-4AC8-9587-26BD561E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F4119D-454B-424B-B386-FD3664F0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74780F-F6F8-4441-9E5E-F7BED075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5337-FB04-458F-A52A-10FB6EB4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01EAC6-B5D1-4327-A4DA-D7A44F64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373BD2-5159-44ED-B4A2-51F61ABC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63CAC4-D1B8-4BB9-B4BB-7C8BD5F6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98AC38-5509-4F1D-A9DC-0441AC86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CF8992-405C-404C-B9BA-B184BF44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082495-7E2F-460F-89F1-D9068805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9460AF-923D-4477-932B-243F3D52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C3A490-380A-419B-9216-A614BA60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17CCBD-806F-44EB-9822-C6027482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E4E1EA-3E75-4A95-A0DB-3B930D2B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20A-8167-49AF-ABF3-67D09E98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EB004-7D97-4A1E-8185-8FEBF3F1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BCA167-EC60-4D93-BBA9-331F760C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68C48D-5E37-4A72-B4F8-471C639E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58BC98-71D2-4680-918C-57F96650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A81CF8-786B-47FD-9FEC-6A839E0F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29C73F-E0BC-4DE1-9ABB-6D87A3C5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4282D4-A778-433A-8419-38BA4487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56E898-BC46-476C-8A84-0C3A3DC4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09BC6D-106D-4243-927E-EAF7F1E3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8D7D18-B6E8-4F9F-9339-4EAD2DCC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7A793E-4638-4FC6-8DB2-D5049A09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B3D3D-1A27-47AF-B2CB-40F29463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35A3F9-A55B-49B5-94CE-85D279C7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3E6B9B-B3B9-4F50-9444-638E39C3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5435BA-71CC-4547-8673-EE28C287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2439-3888-4508-B7DE-082B22FD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E97B2-FF9B-4233-8DA6-42C7F086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E22A-2B37-4943-8C23-B650CDE7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64F62-49E7-4353-A7E1-8D428C6D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80DF4-C14D-48DC-A22A-36A8CC54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47573-8404-4EBD-BD61-0098767E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65B06-7667-4B05-BEA8-739CC0C4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EA06D-2263-474D-AA75-9C0E4DF3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8BE-DE11-4107-8587-E50733C4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8DED6-A35C-4406-8FE1-1B2E7889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AB99F-53AA-49DA-BF12-61E46374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BDF5F-5812-43C3-A1B2-B74AF33D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8D872-F88C-478E-A7D1-1808EEF4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183F3-D2A0-4DA0-A9A1-E421AA74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0ECAF-6E9E-4256-80E9-D2EF669E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B09C5-4A70-4016-B010-6B45BD6F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90B2F-38D1-4E80-B38F-91376BF3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D8285-A9F1-4C3F-B9A0-3BE3C363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08954-A21F-4EBC-AC51-6B1D16E8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90D-D6D7-438F-AA5C-3E19982F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32D43-3E1B-4584-B970-A45A93EC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15B03-4ECC-43C1-8FBA-546DE4D1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465BE-3C67-41F9-A8E1-D643BF0C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5B073-C815-4109-A3AB-0BEBA0A0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C6A40-1BFE-4DD8-B354-E7DE7496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D2906-2DCD-4696-98A5-3985893E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F6A07-B282-41FA-8A76-42F420E6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4812E-318D-40C4-A004-CA67E152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F0095-42ED-46A3-8A92-3ACCCE09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6299E-58DC-4D78-9FE3-3C3B797B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E67-955C-4940-91C8-431188A1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D52A6-7E31-41BE-8F7E-6EA7A1D4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FFA96-49B5-41F3-AF54-0807AEA6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50FF2-9E41-4C04-A824-A1CE4329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8C687-4733-4D2A-9364-4101D13F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38D08-5885-4CE9-81A2-3AA00AA8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6C2E7-C327-4298-9DA7-AAF479E8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4A8F0-072A-4BA4-A04D-90928280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25A92-915A-4FB6-9142-16D3EFC1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76E66-D1C6-424B-AAD8-41512A1B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0FEF8-4E42-46D9-8CAC-A4FF529F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0166-2D1C-4EE5-8489-D659CA00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6A4FE-F93F-4A28-81DE-34B36354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F1532-FC87-4781-9211-DB04BE02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64823-9BFB-47C8-BB85-246554A2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4CAE4-F186-4AE6-8599-7CC583F9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75771-5D13-44C6-8613-11828E4A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33187-3986-4C1C-A718-5A0FF40A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B0D2A-1D87-434D-AA74-D7B1D72A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FEFD5-D14E-450D-8A26-099187E0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2F24C-9F99-4590-813D-0280DB20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4F356-E371-49A4-B8FE-3C445125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582-E8C4-4177-97C0-06AEAB6C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1643D-FB4B-4BDB-8095-85AA2A7A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56BE7-FA07-47C9-8D75-BC7A9022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0DF91-748B-4469-A071-1726F51C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8F7C1-C62E-4975-AAF4-7205EB60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12772-C8B5-49D9-9687-5D050E82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9885F-DB71-4940-8CB0-167A980B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B341F-B035-4DDD-81E7-620D29F0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0F419-1D3D-4FB3-A496-71FA9E09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5E14F-A698-445A-8071-35F0CC47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8A72B-7B84-41C9-BA90-D367C3B1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CAA-EEBF-4237-98D9-4F5D3A64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8B2A2-187E-4BBB-BA6D-89F21D34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03047-FE9D-45B9-94D1-9A853842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7E782-209B-4747-B602-4873C38A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724AF-6D38-42B5-8E89-9F82EF32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16E30-6455-4630-B101-9191BA56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829EE-3FAD-4199-AD99-E447FB8C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FD033-5510-4831-AAAB-5D5C63D0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25631-7396-48B8-B2F6-8F8BC1C3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2AC30-F84F-46EF-9333-D99C5ADA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31322-5107-4DA9-B364-F6F81B5D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45.xml"/><Relationship Id="rId9" Type="http://schemas.openxmlformats.org/officeDocument/2006/relationships/slideLayout" Target="../slideLayouts/slideLayout146.xml"/><Relationship Id="rId10" Type="http://schemas.openxmlformats.org/officeDocument/2006/relationships/slideLayout" Target="../slideLayouts/slideLayout147.xml"/><Relationship Id="rId11" Type="http://schemas.openxmlformats.org/officeDocument/2006/relationships/slideLayout" Target="../slideLayouts/slideLayout148.xml"/><Relationship Id="rId12" Type="http://schemas.openxmlformats.org/officeDocument/2006/relationships/slideLayout" Target="../slideLayouts/slideLayout149.xml"/><Relationship Id="rId13" Type="http://schemas.openxmlformats.org/officeDocument/2006/relationships/slideLayout" Target="../slideLayouts/slideLayout150.xml"/><Relationship Id="rId14" Type="http://schemas.openxmlformats.org/officeDocument/2006/relationships/slideLayout" Target="../slideLayouts/slideLayout151.xml"/><Relationship Id="rId15" Type="http://schemas.openxmlformats.org/officeDocument/2006/relationships/slideLayout" Target="../slideLayouts/slideLayout152.xml"/><Relationship Id="rId16" Type="http://schemas.openxmlformats.org/officeDocument/2006/relationships/slideLayout" Target="../slideLayouts/slideLayout153.xml"/><Relationship Id="rId17" Type="http://schemas.openxmlformats.org/officeDocument/2006/relationships/slideLayout" Target="../slideLayouts/slideLayout154.xml"/><Relationship Id="rId18" Type="http://schemas.openxmlformats.org/officeDocument/2006/relationships/slideLayout" Target="../slideLayouts/slideLayout155.xml"/><Relationship Id="rId19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7.xml"/><Relationship Id="rId9" Type="http://schemas.openxmlformats.org/officeDocument/2006/relationships/slideLayout" Target="../slideLayouts/slideLayout158.xml"/><Relationship Id="rId10" Type="http://schemas.openxmlformats.org/officeDocument/2006/relationships/slideLayout" Target="../slideLayouts/slideLayout159.xml"/><Relationship Id="rId11" Type="http://schemas.openxmlformats.org/officeDocument/2006/relationships/slideLayout" Target="../slideLayouts/slideLayout160.xml"/><Relationship Id="rId12" Type="http://schemas.openxmlformats.org/officeDocument/2006/relationships/slideLayout" Target="../slideLayouts/slideLayout161.xml"/><Relationship Id="rId13" Type="http://schemas.openxmlformats.org/officeDocument/2006/relationships/slideLayout" Target="../slideLayouts/slideLayout162.xml"/><Relationship Id="rId14" Type="http://schemas.openxmlformats.org/officeDocument/2006/relationships/slideLayout" Target="../slideLayouts/slideLayout163.xml"/><Relationship Id="rId15" Type="http://schemas.openxmlformats.org/officeDocument/2006/relationships/slideLayout" Target="../slideLayouts/slideLayout164.xml"/><Relationship Id="rId16" Type="http://schemas.openxmlformats.org/officeDocument/2006/relationships/slideLayout" Target="../slideLayouts/slideLayout165.xml"/><Relationship Id="rId17" Type="http://schemas.openxmlformats.org/officeDocument/2006/relationships/slideLayout" Target="../slideLayouts/slideLayout166.xml"/><Relationship Id="rId18" Type="http://schemas.openxmlformats.org/officeDocument/2006/relationships/slideLayout" Target="../slideLayouts/slideLayout167.xml"/><Relationship Id="rId19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69.xml"/><Relationship Id="rId9" Type="http://schemas.openxmlformats.org/officeDocument/2006/relationships/slideLayout" Target="../slideLayouts/slideLayout170.xml"/><Relationship Id="rId10" Type="http://schemas.openxmlformats.org/officeDocument/2006/relationships/slideLayout" Target="../slideLayouts/slideLayout171.xml"/><Relationship Id="rId11" Type="http://schemas.openxmlformats.org/officeDocument/2006/relationships/slideLayout" Target="../slideLayouts/slideLayout172.xml"/><Relationship Id="rId12" Type="http://schemas.openxmlformats.org/officeDocument/2006/relationships/slideLayout" Target="../slideLayouts/slideLayout173.xml"/><Relationship Id="rId13" Type="http://schemas.openxmlformats.org/officeDocument/2006/relationships/slideLayout" Target="../slideLayouts/slideLayout174.xml"/><Relationship Id="rId14" Type="http://schemas.openxmlformats.org/officeDocument/2006/relationships/slideLayout" Target="../slideLayouts/slideLayout175.xml"/><Relationship Id="rId15" Type="http://schemas.openxmlformats.org/officeDocument/2006/relationships/slideLayout" Target="../slideLayouts/slideLayout176.xml"/><Relationship Id="rId16" Type="http://schemas.openxmlformats.org/officeDocument/2006/relationships/slideLayout" Target="../slideLayouts/slideLayout177.xml"/><Relationship Id="rId17" Type="http://schemas.openxmlformats.org/officeDocument/2006/relationships/slideLayout" Target="../slideLayouts/slideLayout178.xml"/><Relationship Id="rId18" Type="http://schemas.openxmlformats.org/officeDocument/2006/relationships/slideLayout" Target="../slideLayouts/slideLayout179.xml"/><Relationship Id="rId19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81.xml"/><Relationship Id="rId9" Type="http://schemas.openxmlformats.org/officeDocument/2006/relationships/slideLayout" Target="../slideLayouts/slideLayout182.xml"/><Relationship Id="rId10" Type="http://schemas.openxmlformats.org/officeDocument/2006/relationships/slideLayout" Target="../slideLayouts/slideLayout183.xml"/><Relationship Id="rId11" Type="http://schemas.openxmlformats.org/officeDocument/2006/relationships/slideLayout" Target="../slideLayouts/slideLayout184.xml"/><Relationship Id="rId12" Type="http://schemas.openxmlformats.org/officeDocument/2006/relationships/slideLayout" Target="../slideLayouts/slideLayout185.xml"/><Relationship Id="rId13" Type="http://schemas.openxmlformats.org/officeDocument/2006/relationships/slideLayout" Target="../slideLayouts/slideLayout186.xml"/><Relationship Id="rId14" Type="http://schemas.openxmlformats.org/officeDocument/2006/relationships/slideLayout" Target="../slideLayouts/slideLayout187.xml"/><Relationship Id="rId15" Type="http://schemas.openxmlformats.org/officeDocument/2006/relationships/slideLayout" Target="../slideLayouts/slideLayout188.xml"/><Relationship Id="rId16" Type="http://schemas.openxmlformats.org/officeDocument/2006/relationships/slideLayout" Target="../slideLayouts/slideLayout189.xml"/><Relationship Id="rId17" Type="http://schemas.openxmlformats.org/officeDocument/2006/relationships/slideLayout" Target="../slideLayouts/slideLayout190.xml"/><Relationship Id="rId18" Type="http://schemas.openxmlformats.org/officeDocument/2006/relationships/slideLayout" Target="../slideLayouts/slideLayout191.xml"/><Relationship Id="rId1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05.xml"/><Relationship Id="rId9" Type="http://schemas.openxmlformats.org/officeDocument/2006/relationships/slideLayout" Target="../slideLayouts/slideLayout206.xml"/><Relationship Id="rId10" Type="http://schemas.openxmlformats.org/officeDocument/2006/relationships/slideLayout" Target="../slideLayouts/slideLayout207.xml"/><Relationship Id="rId11" Type="http://schemas.openxmlformats.org/officeDocument/2006/relationships/slideLayout" Target="../slideLayouts/slideLayout208.xml"/><Relationship Id="rId12" Type="http://schemas.openxmlformats.org/officeDocument/2006/relationships/slideLayout" Target="../slideLayouts/slideLayout209.xml"/><Relationship Id="rId13" Type="http://schemas.openxmlformats.org/officeDocument/2006/relationships/slideLayout" Target="../slideLayouts/slideLayout210.xml"/><Relationship Id="rId14" Type="http://schemas.openxmlformats.org/officeDocument/2006/relationships/slideLayout" Target="../slideLayouts/slideLayout211.xml"/><Relationship Id="rId15" Type="http://schemas.openxmlformats.org/officeDocument/2006/relationships/slideLayout" Target="../slideLayouts/slideLayout212.xml"/><Relationship Id="rId16" Type="http://schemas.openxmlformats.org/officeDocument/2006/relationships/slideLayout" Target="../slideLayouts/slideLayout213.xml"/><Relationship Id="rId17" Type="http://schemas.openxmlformats.org/officeDocument/2006/relationships/slideLayout" Target="../slideLayouts/slideLayout214.xml"/><Relationship Id="rId18" Type="http://schemas.openxmlformats.org/officeDocument/2006/relationships/slideLayout" Target="../slideLayouts/slideLayout215.xml"/><Relationship Id="rId19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41.xml"/><Relationship Id="rId9" Type="http://schemas.openxmlformats.org/officeDocument/2006/relationships/slideLayout" Target="../slideLayouts/slideLayout242.xml"/><Relationship Id="rId10" Type="http://schemas.openxmlformats.org/officeDocument/2006/relationships/slideLayout" Target="../slideLayouts/slideLayout243.xml"/><Relationship Id="rId11" Type="http://schemas.openxmlformats.org/officeDocument/2006/relationships/slideLayout" Target="../slideLayouts/slideLayout244.xml"/><Relationship Id="rId12" Type="http://schemas.openxmlformats.org/officeDocument/2006/relationships/slideLayout" Target="../slideLayouts/slideLayout245.xml"/><Relationship Id="rId13" Type="http://schemas.openxmlformats.org/officeDocument/2006/relationships/slideLayout" Target="../slideLayouts/slideLayout246.xml"/><Relationship Id="rId14" Type="http://schemas.openxmlformats.org/officeDocument/2006/relationships/slideLayout" Target="../slideLayouts/slideLayout247.xml"/><Relationship Id="rId15" Type="http://schemas.openxmlformats.org/officeDocument/2006/relationships/slideLayout" Target="../slideLayouts/slideLayout248.xml"/><Relationship Id="rId16" Type="http://schemas.openxmlformats.org/officeDocument/2006/relationships/slideLayout" Target="../slideLayouts/slideLayout249.xml"/><Relationship Id="rId17" Type="http://schemas.openxmlformats.org/officeDocument/2006/relationships/slideLayout" Target="../slideLayouts/slideLayout250.xml"/><Relationship Id="rId18" Type="http://schemas.openxmlformats.org/officeDocument/2006/relationships/slideLayout" Target="../slideLayouts/slideLayout251.xml"/><Relationship Id="rId19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65.xml"/><Relationship Id="rId9" Type="http://schemas.openxmlformats.org/officeDocument/2006/relationships/slideLayout" Target="../slideLayouts/slideLayout266.xml"/><Relationship Id="rId10" Type="http://schemas.openxmlformats.org/officeDocument/2006/relationships/slideLayout" Target="../slideLayouts/slideLayout267.xml"/><Relationship Id="rId11" Type="http://schemas.openxmlformats.org/officeDocument/2006/relationships/slideLayout" Target="../slideLayouts/slideLayout268.xml"/><Relationship Id="rId12" Type="http://schemas.openxmlformats.org/officeDocument/2006/relationships/slideLayout" Target="../slideLayouts/slideLayout269.xml"/><Relationship Id="rId13" Type="http://schemas.openxmlformats.org/officeDocument/2006/relationships/slideLayout" Target="../slideLayouts/slideLayout270.xml"/><Relationship Id="rId14" Type="http://schemas.openxmlformats.org/officeDocument/2006/relationships/slideLayout" Target="../slideLayouts/slideLayout271.xml"/><Relationship Id="rId15" Type="http://schemas.openxmlformats.org/officeDocument/2006/relationships/slideLayout" Target="../slideLayouts/slideLayout272.xml"/><Relationship Id="rId16" Type="http://schemas.openxmlformats.org/officeDocument/2006/relationships/slideLayout" Target="../slideLayouts/slideLayout273.xml"/><Relationship Id="rId17" Type="http://schemas.openxmlformats.org/officeDocument/2006/relationships/slideLayout" Target="../slideLayouts/slideLayout274.xml"/><Relationship Id="rId18" Type="http://schemas.openxmlformats.org/officeDocument/2006/relationships/slideLayout" Target="../slideLayouts/slideLayout275.xml"/><Relationship Id="rId19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77.xml"/><Relationship Id="rId9" Type="http://schemas.openxmlformats.org/officeDocument/2006/relationships/slideLayout" Target="../slideLayouts/slideLayout278.xml"/><Relationship Id="rId10" Type="http://schemas.openxmlformats.org/officeDocument/2006/relationships/slideLayout" Target="../slideLayouts/slideLayout279.xml"/><Relationship Id="rId11" Type="http://schemas.openxmlformats.org/officeDocument/2006/relationships/slideLayout" Target="../slideLayouts/slideLayout280.xml"/><Relationship Id="rId12" Type="http://schemas.openxmlformats.org/officeDocument/2006/relationships/slideLayout" Target="../slideLayouts/slideLayout281.xml"/><Relationship Id="rId13" Type="http://schemas.openxmlformats.org/officeDocument/2006/relationships/slideLayout" Target="../slideLayouts/slideLayout282.xml"/><Relationship Id="rId14" Type="http://schemas.openxmlformats.org/officeDocument/2006/relationships/slideLayout" Target="../slideLayouts/slideLayout283.xml"/><Relationship Id="rId15" Type="http://schemas.openxmlformats.org/officeDocument/2006/relationships/slideLayout" Target="../slideLayouts/slideLayout284.xml"/><Relationship Id="rId16" Type="http://schemas.openxmlformats.org/officeDocument/2006/relationships/slideLayout" Target="../slideLayouts/slideLayout285.xml"/><Relationship Id="rId17" Type="http://schemas.openxmlformats.org/officeDocument/2006/relationships/slideLayout" Target="../slideLayouts/slideLayout286.xml"/><Relationship Id="rId18" Type="http://schemas.openxmlformats.org/officeDocument/2006/relationships/slideLayout" Target="../slideLayouts/slideLayout287.xml"/><Relationship Id="rId19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89.xml"/><Relationship Id="rId9" Type="http://schemas.openxmlformats.org/officeDocument/2006/relationships/slideLayout" Target="../slideLayouts/slideLayout290.xml"/><Relationship Id="rId10" Type="http://schemas.openxmlformats.org/officeDocument/2006/relationships/slideLayout" Target="../slideLayouts/slideLayout291.xml"/><Relationship Id="rId11" Type="http://schemas.openxmlformats.org/officeDocument/2006/relationships/slideLayout" Target="../slideLayouts/slideLayout292.xml"/><Relationship Id="rId12" Type="http://schemas.openxmlformats.org/officeDocument/2006/relationships/slideLayout" Target="../slideLayouts/slideLayout293.xml"/><Relationship Id="rId13" Type="http://schemas.openxmlformats.org/officeDocument/2006/relationships/slideLayout" Target="../slideLayouts/slideLayout294.xml"/><Relationship Id="rId14" Type="http://schemas.openxmlformats.org/officeDocument/2006/relationships/slideLayout" Target="../slideLayouts/slideLayout295.xml"/><Relationship Id="rId15" Type="http://schemas.openxmlformats.org/officeDocument/2006/relationships/slideLayout" Target="../slideLayouts/slideLayout296.xml"/><Relationship Id="rId16" Type="http://schemas.openxmlformats.org/officeDocument/2006/relationships/slideLayout" Target="../slideLayouts/slideLayout297.xml"/><Relationship Id="rId17" Type="http://schemas.openxmlformats.org/officeDocument/2006/relationships/slideLayout" Target="../slideLayouts/slideLayout298.xml"/><Relationship Id="rId18" Type="http://schemas.openxmlformats.org/officeDocument/2006/relationships/slideLayout" Target="../slideLayouts/slideLayout299.xml"/><Relationship Id="rId19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01.xml"/><Relationship Id="rId9" Type="http://schemas.openxmlformats.org/officeDocument/2006/relationships/slideLayout" Target="../slideLayouts/slideLayout302.xml"/><Relationship Id="rId10" Type="http://schemas.openxmlformats.org/officeDocument/2006/relationships/slideLayout" Target="../slideLayouts/slideLayout303.xml"/><Relationship Id="rId11" Type="http://schemas.openxmlformats.org/officeDocument/2006/relationships/slideLayout" Target="../slideLayouts/slideLayout304.xml"/><Relationship Id="rId12" Type="http://schemas.openxmlformats.org/officeDocument/2006/relationships/slideLayout" Target="../slideLayouts/slideLayout305.xml"/><Relationship Id="rId13" Type="http://schemas.openxmlformats.org/officeDocument/2006/relationships/slideLayout" Target="../slideLayouts/slideLayout306.xml"/><Relationship Id="rId14" Type="http://schemas.openxmlformats.org/officeDocument/2006/relationships/slideLayout" Target="../slideLayouts/slideLayout307.xml"/><Relationship Id="rId15" Type="http://schemas.openxmlformats.org/officeDocument/2006/relationships/slideLayout" Target="../slideLayouts/slideLayout308.xml"/><Relationship Id="rId16" Type="http://schemas.openxmlformats.org/officeDocument/2006/relationships/slideLayout" Target="../slideLayouts/slideLayout309.xml"/><Relationship Id="rId17" Type="http://schemas.openxmlformats.org/officeDocument/2006/relationships/slideLayout" Target="../slideLayouts/slideLayout310.xml"/><Relationship Id="rId18" Type="http://schemas.openxmlformats.org/officeDocument/2006/relationships/slideLayout" Target="../slideLayouts/slideLayout311.xml"/><Relationship Id="rId19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1449-A94D-465B-98E8-822949F08B06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13CB-1498-4538-B410-453147940E12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9402-C9D6-4E05-A8F9-6F45942C32F8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A780-869E-4D9F-8E21-55C9E9F35982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4088-71DF-4EC8-8EFD-D0100BFB9F13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8"/>
    <p:sldLayoutId id="2147483806" r:id="rId9"/>
    <p:sldLayoutId id="2147483807" r:id="rId10"/>
    <p:sldLayoutId id="2147483808" r:id="rId11"/>
    <p:sldLayoutId id="2147483809" r:id="rId12"/>
    <p:sldLayoutId id="2147483810" r:id="rId13"/>
    <p:sldLayoutId id="2147483811" r:id="rId14"/>
    <p:sldLayoutId id="2147483812" r:id="rId15"/>
    <p:sldLayoutId id="2147483813" r:id="rId16"/>
    <p:sldLayoutId id="2147483814" r:id="rId17"/>
    <p:sldLayoutId id="2147483815" r:id="rId18"/>
    <p:sldLayoutId id="2147483816" r:id="rId19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F434-1F5F-45AD-BF47-65357E6731CC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8"/>
    <p:sldLayoutId id="2147483819" r:id="rId9"/>
    <p:sldLayoutId id="2147483820" r:id="rId10"/>
    <p:sldLayoutId id="2147483821" r:id="rId11"/>
    <p:sldLayoutId id="2147483822" r:id="rId12"/>
    <p:sldLayoutId id="2147483823" r:id="rId13"/>
    <p:sldLayoutId id="2147483824" r:id="rId14"/>
    <p:sldLayoutId id="2147483825" r:id="rId15"/>
    <p:sldLayoutId id="2147483826" r:id="rId16"/>
    <p:sldLayoutId id="2147483827" r:id="rId17"/>
    <p:sldLayoutId id="2147483828" r:id="rId18"/>
    <p:sldLayoutId id="2147483829" r:id="rId19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9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0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1317-B223-40FD-AED4-3AB060D46C60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8"/>
    <p:sldLayoutId id="2147483832" r:id="rId9"/>
    <p:sldLayoutId id="2147483833" r:id="rId10"/>
    <p:sldLayoutId id="2147483834" r:id="rId11"/>
    <p:sldLayoutId id="2147483835" r:id="rId12"/>
    <p:sldLayoutId id="2147483836" r:id="rId13"/>
    <p:sldLayoutId id="2147483837" r:id="rId14"/>
    <p:sldLayoutId id="2147483838" r:id="rId15"/>
    <p:sldLayoutId id="2147483839" r:id="rId16"/>
    <p:sldLayoutId id="2147483840" r:id="rId17"/>
    <p:sldLayoutId id="2147483841" r:id="rId18"/>
    <p:sldLayoutId id="2147483842" r:id="rId19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EEAA-3B55-40C0-8CEB-039BC4C5003F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8"/>
    <p:sldLayoutId id="2147483845" r:id="rId9"/>
    <p:sldLayoutId id="2147483846" r:id="rId10"/>
    <p:sldLayoutId id="2147483847" r:id="rId11"/>
    <p:sldLayoutId id="2147483848" r:id="rId12"/>
    <p:sldLayoutId id="2147483849" r:id="rId13"/>
    <p:sldLayoutId id="2147483850" r:id="rId14"/>
    <p:sldLayoutId id="2147483851" r:id="rId15"/>
    <p:sldLayoutId id="2147483852" r:id="rId16"/>
    <p:sldLayoutId id="2147483853" r:id="rId17"/>
    <p:sldLayoutId id="2147483854" r:id="rId18"/>
    <p:sldLayoutId id="2147483855" r:id="rId1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5E0E-011F-4536-8DAE-6C4AE001969A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35F7-BDAD-416D-BF24-C55679AF4479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8"/>
    <p:sldLayoutId id="2147483871" r:id="rId9"/>
    <p:sldLayoutId id="2147483872" r:id="rId10"/>
    <p:sldLayoutId id="2147483873" r:id="rId11"/>
    <p:sldLayoutId id="2147483874" r:id="rId12"/>
    <p:sldLayoutId id="2147483875" r:id="rId13"/>
    <p:sldLayoutId id="2147483876" r:id="rId14"/>
    <p:sldLayoutId id="2147483877" r:id="rId15"/>
    <p:sldLayoutId id="2147483878" r:id="rId16"/>
    <p:sldLayoutId id="2147483879" r:id="rId17"/>
    <p:sldLayoutId id="2147483880" r:id="rId18"/>
    <p:sldLayoutId id="2147483881" r:id="rId19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74EA-06AB-4358-AE49-00B648727891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F6AA-D65F-425A-9829-6892F3D5ED6B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4C15-F54E-4D33-ABE8-8174A5FC5CAF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E147-DBE6-43B4-8542-E8AE5DD70808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8"/>
    <p:sldLayoutId id="2147483910" r:id="rId9"/>
    <p:sldLayoutId id="2147483911" r:id="rId10"/>
    <p:sldLayoutId id="2147483912" r:id="rId11"/>
    <p:sldLayoutId id="2147483913" r:id="rId12"/>
    <p:sldLayoutId id="2147483914" r:id="rId13"/>
    <p:sldLayoutId id="2147483915" r:id="rId14"/>
    <p:sldLayoutId id="2147483916" r:id="rId15"/>
    <p:sldLayoutId id="2147483917" r:id="rId16"/>
    <p:sldLayoutId id="2147483918" r:id="rId17"/>
    <p:sldLayoutId id="2147483919" r:id="rId18"/>
    <p:sldLayoutId id="2147483920" r:id="rId19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7BD2-B283-4DF1-A0D6-A9E9D28B5C90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04AC-6921-4B93-A5AD-B57A177D3239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8"/>
    <p:sldLayoutId id="2147483936" r:id="rId9"/>
    <p:sldLayoutId id="2147483937" r:id="rId10"/>
    <p:sldLayoutId id="2147483938" r:id="rId11"/>
    <p:sldLayoutId id="2147483939" r:id="rId12"/>
    <p:sldLayoutId id="2147483940" r:id="rId13"/>
    <p:sldLayoutId id="2147483941" r:id="rId14"/>
    <p:sldLayoutId id="2147483942" r:id="rId15"/>
    <p:sldLayoutId id="2147483943" r:id="rId16"/>
    <p:sldLayoutId id="2147483944" r:id="rId17"/>
    <p:sldLayoutId id="2147483945" r:id="rId18"/>
    <p:sldLayoutId id="2147483946" r:id="rId19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66FD-4F8C-4387-B4EA-02B490B29ED9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8"/>
    <p:sldLayoutId id="2147483949" r:id="rId9"/>
    <p:sldLayoutId id="2147483950" r:id="rId10"/>
    <p:sldLayoutId id="2147483951" r:id="rId11"/>
    <p:sldLayoutId id="2147483952" r:id="rId12"/>
    <p:sldLayoutId id="2147483953" r:id="rId13"/>
    <p:sldLayoutId id="2147483954" r:id="rId14"/>
    <p:sldLayoutId id="2147483955" r:id="rId15"/>
    <p:sldLayoutId id="2147483956" r:id="rId16"/>
    <p:sldLayoutId id="2147483957" r:id="rId17"/>
    <p:sldLayoutId id="2147483958" r:id="rId18"/>
    <p:sldLayoutId id="2147483959" r:id="rId19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3DE6-A586-4B95-A50B-75AAD7870C58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8"/>
    <p:sldLayoutId id="2147483962" r:id="rId9"/>
    <p:sldLayoutId id="2147483963" r:id="rId10"/>
    <p:sldLayoutId id="2147483964" r:id="rId11"/>
    <p:sldLayoutId id="2147483965" r:id="rId12"/>
    <p:sldLayoutId id="2147483966" r:id="rId13"/>
    <p:sldLayoutId id="2147483967" r:id="rId14"/>
    <p:sldLayoutId id="2147483968" r:id="rId15"/>
    <p:sldLayoutId id="2147483969" r:id="rId16"/>
    <p:sldLayoutId id="2147483970" r:id="rId17"/>
    <p:sldLayoutId id="2147483971" r:id="rId18"/>
    <p:sldLayoutId id="2147483972" r:id="rId19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3828-3CB0-4BF1-A884-1A886989F2EA}" type="slidenum">
              <a:rPr b="0" lang="sk-SK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8"/>
    <p:sldLayoutId id="2147483975" r:id="rId9"/>
    <p:sldLayoutId id="2147483976" r:id="rId10"/>
    <p:sldLayoutId id="2147483977" r:id="rId11"/>
    <p:sldLayoutId id="2147483978" r:id="rId12"/>
    <p:sldLayoutId id="2147483979" r:id="rId13"/>
    <p:sldLayoutId id="2147483980" r:id="rId14"/>
    <p:sldLayoutId id="2147483981" r:id="rId15"/>
    <p:sldLayoutId id="2147483982" r:id="rId16"/>
    <p:sldLayoutId id="2147483983" r:id="rId17"/>
    <p:sldLayoutId id="2147483984" r:id="rId18"/>
    <p:sldLayoutId id="2147483985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E4F6-2A76-453A-AF19-14AC59C3F679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4491-D2CD-4B8A-9CF7-909512196580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F95F-B262-4554-9801-784D313D6DC2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E335-846D-4BFC-AB9D-7358E1B34165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5488-E63C-43DA-BF47-7CE4DDCEFB44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DF02-5D2C-4CE1-A6AA-E6E43156FD7F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8030-9305-4048-B7B9-A6AE187475D8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57120" y="2928600"/>
            <a:ext cx="5143680" cy="19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Implementácia OPV v rámci dopytovo- orientovaných projektov SORO ASFEU</a:t>
            </a:r>
            <a:br>
              <a:rPr sz="1600"/>
            </a:b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223" name="Skupina 6"/>
          <p:cNvGrpSpPr/>
          <p:nvPr/>
        </p:nvGrpSpPr>
        <p:grpSpPr>
          <a:xfrm>
            <a:off x="642960" y="1143000"/>
            <a:ext cx="1379520" cy="428760"/>
            <a:chOff x="642960" y="1143000"/>
            <a:chExt cx="1379520" cy="428760"/>
          </a:xfrm>
        </p:grpSpPr>
        <p:sp>
          <p:nvSpPr>
            <p:cNvPr id="1224" name="Obdĺžnik 5"/>
            <p:cNvSpPr/>
            <p:nvPr/>
          </p:nvSpPr>
          <p:spPr>
            <a:xfrm>
              <a:off x="714240" y="114300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25" name="Picture 7" descr="agentura_cmyk"/>
            <p:cNvPicPr/>
            <p:nvPr/>
          </p:nvPicPr>
          <p:blipFill>
            <a:blip r:embed="rId2"/>
            <a:stretch/>
          </p:blipFill>
          <p:spPr>
            <a:xfrm>
              <a:off x="642960" y="121428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356760" y="5124600"/>
            <a:ext cx="528660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Projekt je spolufinancovaný zo zdrojov EÚ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©</a:t>
            </a: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 Agentúra Ministerstva školstva, vedy, výskumu a športu SR pre ŠF EÚ </a:t>
            </a:r>
            <a:br>
              <a:rPr sz="1000"/>
            </a:b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07. 06. 2013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Opatreni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TextovéPole 6"/>
          <p:cNvSpPr/>
          <p:nvPr/>
        </p:nvSpPr>
        <p:spPr>
          <a:xfrm>
            <a:off x="357120" y="2071800"/>
            <a:ext cx="842976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S cieľom zabezpečiť naplnenie plánovaného čerpania na rok 2013 ASFEU prijala viacero opatrení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v dňoch od 28.05.2013 – 31.05.2013 uskutočnilo ASFEU </a:t>
            </a: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Informačné dni</a:t>
            </a: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 pre prijímateľov NFP, OPV v štyroch slovenských mestách na témy: Aktualizácia Príručky pre prijímateľa NFP, OPV; Najčastejšie chyby v predložených žiadostiach o platbu (zálohové platby, zúčtovania zálohových platieb, priebežné platby a záverečné platby)  a Zistenia auditov a certifikačných overovaní na projektoch realizovaných prijímateľmi nenávratného finančného príspevku v rámci dopytovo – orientovaných projektov. Pričom v Bratislave mali prijímatelia možnosť zúčastniť sa aj tzv. prípadových štúdií na témy: Ako najlepšie požiadať o Zmenu zmluvy; Najlepšia žiadosť o platbu a ako finančne ukončiť projekt; Ako nerobiť chyby pri predkladaní žiadosti o platbu; Monitorovacia správa ako má byť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uskutočnenie </a:t>
            </a: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pracovného stretnutia s úspešnými žiadateľmi </a:t>
            </a: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dňa 23. 05. 2013 v rámci dvoch výziev opatrenia 1.2 (OPV-2012/1.2/05-SORO a OPV-2012/1.2/06-SORO) 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00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01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02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3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04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5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Opatreni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TextovéPole 6"/>
          <p:cNvSpPr/>
          <p:nvPr/>
        </p:nvSpPr>
        <p:spPr>
          <a:xfrm>
            <a:off x="714240" y="2071800"/>
            <a:ext cx="807264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S cieľom zabezpečiť naplnenie plánovaného čerpania na rok 2013 ASFEU prijala viacero opatrení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2b0000"/>
                </a:solidFill>
                <a:latin typeface="Arial"/>
              </a:rPr>
              <a:t>zavedenie ex-ante kontroly verejného obstarávania pred jeho vyhlásením, pri zákazkách s plánovaným vyhlásením od 01. 06. 2013 (vrátane) s hodnotou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80 000,00 EUR (bez DPH) a viac – povinn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40 000,00 EUR (bez DPH) – 79 999,99 EUR (bez DPH) – dobrovoľn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Prijímateľ je povinný predložiť na pilotnú kontrolu nasledujúcu dokumentáciu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určenie predpokladanej hodnoty zákazky (výpočet predpokladanej hodnoty zákazky musí preukazovať, že predmet zákazky vychádza z ceny, za ktorú sa obvykle predáva rovnaký, alebo porovnateľný predmet zákazky v čase vyhlásenia verejného obstarávania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návrh oznámenie o vyhlásení verejného obstarávania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návrh súťažných podkladov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rozpočet projektu s vyznačením položiek, ktorých sa predmetné verejné obstarávanie dotýk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08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09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10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1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12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3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Opatreni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5" name="TextovéPole 6"/>
          <p:cNvSpPr/>
          <p:nvPr/>
        </p:nvSpPr>
        <p:spPr>
          <a:xfrm>
            <a:off x="714240" y="2071800"/>
            <a:ext cx="807264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S cieľom zabezpečiť naplnenie plánovaného čerpania na rok 2013 ASFEU prijala viacero opatrení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k 31. 05. 2013 vydala ASFEU tri nové Usmernenia pre prijímateľov NFP, OP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Usmernenie vo veci periodicity predkladania plánov a harmonogramu verejných obstarávaní a iných náležitostí výkonu verejného obstarávan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Usmernenie vo veci zúčtovania minimálne 50 % z poskytnutej zálohovej platby do 6 mesiaco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Usmernenie o koordinácií systémov sociálneho zabezpečenia EÚ pri vykonávaní činnosti zamestnancov na území dvoch a viacerých členských štátov zapojených do projektov realizovaných cez OP Vzdelávani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16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17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18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9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20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1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Opatreni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3" name="TextovéPole 6"/>
          <p:cNvSpPr/>
          <p:nvPr/>
        </p:nvSpPr>
        <p:spPr>
          <a:xfrm>
            <a:off x="714240" y="2071800"/>
            <a:ext cx="8072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S cieľom zabezpečiť naplnenie plánovaného čerpania na rok 2013 ASFEU prijala viacero opatrení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prerozdelila proces predbežnej finančnej kontroly a proces zazmluvňovania </a:t>
            </a: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medzi oddelenia (t.j. dve oddelenia zo štyroch vykonávajú proces PFK a dve oddelenia proces zazmluvňovania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proces predbežnej finančnej kontroly sa vykonáva len 2 týždne z mesiaca tak, aby projektoví manažéri mali čas len na administratívnu kontrolu ŽoP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zaviedla pilotné </a:t>
            </a: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mesačné stretnutia </a:t>
            </a: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k rizikovým projektom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zreálnila plán čerpania </a:t>
            </a: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na základe kapacity prijímateľov predkladať žiadosti o platbu a na základe kapacity ASFEU ich následne zúčtovávať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24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25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26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7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28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9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6880" y="3714840"/>
            <a:ext cx="4884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ffffff"/>
                </a:solidFill>
                <a:latin typeface="Brush Script MT"/>
              </a:rPr>
              <a:t>          </a:t>
            </a:r>
            <a:r>
              <a:rPr b="0" i="1" lang="sk-SK" sz="3200" spc="-1" strike="noStrike">
                <a:solidFill>
                  <a:srgbClr val="ffffff"/>
                </a:solidFill>
                <a:latin typeface="Brush Script MT"/>
              </a:rPr>
              <a:t>Ďakujem za pozornosť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356760" y="5143680"/>
            <a:ext cx="535788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Projekt je spolufinancovaný zo zdrojov EÚ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©</a:t>
            </a: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 Agentúra Ministerstva školstva, vedy, výskumu a športu SR pre štrukturálne fondy EÚ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32" name="Skupina 4"/>
          <p:cNvGrpSpPr/>
          <p:nvPr/>
        </p:nvGrpSpPr>
        <p:grpSpPr>
          <a:xfrm>
            <a:off x="642960" y="1143000"/>
            <a:ext cx="1379520" cy="428760"/>
            <a:chOff x="642960" y="1143000"/>
            <a:chExt cx="1379520" cy="428760"/>
          </a:xfrm>
        </p:grpSpPr>
        <p:sp>
          <p:nvSpPr>
            <p:cNvPr id="1333" name="Obdĺžnik 5"/>
            <p:cNvSpPr/>
            <p:nvPr/>
          </p:nvSpPr>
          <p:spPr>
            <a:xfrm>
              <a:off x="714240" y="114300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34" name="Picture 7" descr="agentura_cmyk"/>
            <p:cNvPicPr/>
            <p:nvPr/>
          </p:nvPicPr>
          <p:blipFill>
            <a:blip r:embed="rId2"/>
            <a:stretch/>
          </p:blipFill>
          <p:spPr>
            <a:xfrm>
              <a:off x="642960" y="121428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/>
          </p:nvPr>
        </p:nvSpPr>
        <p:spPr>
          <a:xfrm>
            <a:off x="642960" y="1500120"/>
            <a:ext cx="75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8" name="TextovéPole 6"/>
          <p:cNvSpPr/>
          <p:nvPr/>
        </p:nvSpPr>
        <p:spPr>
          <a:xfrm>
            <a:off x="714240" y="2133720"/>
            <a:ext cx="771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Prehľad kontrahovania a čerpani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haroni"/>
              </a:rPr>
              <a:t>k 31. 05. 2013 </a:t>
            </a: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za SORO ASFE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29" name="Skupina 5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30" name="Obdĺžnik 7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31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2" name="Skupina 12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33" name="Obdĺžnik 11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4" name="BlokTextu 10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35" name=""/>
          <p:cNvGraphicFramePr/>
          <p:nvPr/>
        </p:nvGraphicFramePr>
        <p:xfrm>
          <a:off x="971640" y="2637000"/>
          <a:ext cx="7561080" cy="2974680"/>
        </p:xfrm>
        <a:graphic>
          <a:graphicData uri="http://schemas.openxmlformats.org/drawingml/2006/table">
            <a:tbl>
              <a:tblPr/>
              <a:tblGrid>
                <a:gridCol w="1962000"/>
                <a:gridCol w="1768680"/>
                <a:gridCol w="1438200"/>
                <a:gridCol w="2392200"/>
              </a:tblGrid>
              <a:tr h="63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ontrahovanie (EÚ)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Čerpanie (EÚ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% Čerpanie / Kontrahova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9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6 361 537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6 385 665,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3,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6 795 000,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5 489 722,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7,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842 426,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295 070,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7,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 126 331,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 186 409,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7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54 468,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937 769,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7,8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353 942,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750 834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4,3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726 060,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96 554,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6,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46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0 059 767,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4 642 026,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3,8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/>
          </p:nvPr>
        </p:nvSpPr>
        <p:spPr>
          <a:xfrm>
            <a:off x="642960" y="1500120"/>
            <a:ext cx="75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Základné informáci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7" name="TextovéPole 6"/>
          <p:cNvSpPr/>
          <p:nvPr/>
        </p:nvSpPr>
        <p:spPr>
          <a:xfrm>
            <a:off x="714240" y="2133720"/>
            <a:ext cx="7715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Prehľad projektov v realizácií a ukončených projektov podľa výziev SORO ASFEU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haroni"/>
              </a:rPr>
              <a:t>k 31.05.2013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Sumárn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8" name="Skupina 5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39" name="Obdĺžnik 7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40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1" name="Skupina 12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42" name="Obdĺžnik 11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3" name="BlokTextu 10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44" name=""/>
          <p:cNvGraphicFramePr/>
          <p:nvPr/>
        </p:nvGraphicFramePr>
        <p:xfrm>
          <a:off x="900000" y="3213000"/>
          <a:ext cx="7704360" cy="2808360"/>
        </p:xfrm>
        <a:graphic>
          <a:graphicData uri="http://schemas.openxmlformats.org/drawingml/2006/table">
            <a:tbl>
              <a:tblPr/>
              <a:tblGrid>
                <a:gridCol w="2006640"/>
                <a:gridCol w="1362240"/>
                <a:gridCol w="1611360"/>
                <a:gridCol w="1361880"/>
                <a:gridCol w="1362240"/>
              </a:tblGrid>
              <a:tr h="79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zazmluvn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azmluvnená suma (zdroj EÚ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projektov v realizáci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ukonč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6 361 537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6 795 000,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842 426,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 126 331,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54 468,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353 942,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5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726 060,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0 059 767,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/>
          </p:nvPr>
        </p:nvSpPr>
        <p:spPr>
          <a:xfrm>
            <a:off x="356760" y="142848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Riziká plnenia plánu čerpania na rok 2013 z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6" name="TextovéPole 6"/>
          <p:cNvSpPr/>
          <p:nvPr/>
        </p:nvSpPr>
        <p:spPr>
          <a:xfrm>
            <a:off x="357120" y="2349360"/>
            <a:ext cx="842976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ako rizikové pri plnení plánu čerpania na rok 2013 vidí ASFEU najmä mesiace máj, jún, október a november 2013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dôvodom identifikácie rizikovosti je</a:t>
            </a: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v uvedených mesiacov je vysoký podiel odhadu čerpania v daných mesiacoch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nadmerná záťaž projektových manažérov, ktorí vykonávajú proces administratívnej kontroly žiadostí o platbu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nedostatočný objem žiadostí o platbu predložených zo strany prijímateľov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ASFEU preto prehodnotila svoj plán čerpania a nastavila nový plán čerpania na jednotlivé mesiace od júna 2013 – decembra 2013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47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48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49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0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51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2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/>
          </p:nvPr>
        </p:nvSpPr>
        <p:spPr>
          <a:xfrm>
            <a:off x="356760" y="142848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rehľad pôvodného a zrevidovaného plánu po mesiacoch čerpania na rok 2013 za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4" name="TextovéPole 6"/>
          <p:cNvSpPr/>
          <p:nvPr/>
        </p:nvSpPr>
        <p:spPr>
          <a:xfrm>
            <a:off x="357120" y="2349360"/>
            <a:ext cx="8429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5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56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57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8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59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0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61" name=""/>
          <p:cNvGraphicFramePr/>
          <p:nvPr/>
        </p:nvGraphicFramePr>
        <p:xfrm>
          <a:off x="368280" y="2462040"/>
          <a:ext cx="8418600" cy="3472200"/>
        </p:xfrm>
        <a:graphic>
          <a:graphicData uri="http://schemas.openxmlformats.org/drawingml/2006/table">
            <a:tbl>
              <a:tblPr/>
              <a:tblGrid>
                <a:gridCol w="1203480"/>
                <a:gridCol w="1201680"/>
                <a:gridCol w="1203120"/>
                <a:gridCol w="1202040"/>
                <a:gridCol w="1203120"/>
                <a:gridCol w="1201680"/>
                <a:gridCol w="1203480"/>
              </a:tblGrid>
              <a:tr h="244800"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Apríl 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áj 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racované ŽoP a odoslané na PJ za mesia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racované ŽoP a odoslané na PJ za mesia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62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354 987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99 442,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52 501,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158 974,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36 307,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517 180,9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44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908 687,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126 125,9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24 799,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01 587,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392 761,8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102 128,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588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0 238,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3 938,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2 269,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5 332,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9 759,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0 537,9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44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15 987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57 272,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1 009,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22 587,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50 842,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3 082,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62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2 984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5 530,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7 354,9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6 730,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8 700,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44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5 365,9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 712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2 653,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092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09 258,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9 369,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 302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62 854,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4 170,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6 076,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09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437 509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606 392,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895 881,9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 188 691,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70 571,8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90 359,5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356760" y="142848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rehľad pôvodného a zrevidovaného plánu po mesiacoch čerpania na rok 2013 za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TextovéPole 6"/>
          <p:cNvSpPr/>
          <p:nvPr/>
        </p:nvSpPr>
        <p:spPr>
          <a:xfrm>
            <a:off x="357120" y="2349360"/>
            <a:ext cx="8429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64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65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66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7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68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9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70" name=""/>
          <p:cNvGraphicFramePr/>
          <p:nvPr/>
        </p:nvGraphicFramePr>
        <p:xfrm>
          <a:off x="357120" y="2503440"/>
          <a:ext cx="8429760" cy="3711600"/>
        </p:xfrm>
        <a:graphic>
          <a:graphicData uri="http://schemas.openxmlformats.org/drawingml/2006/table">
            <a:tbl>
              <a:tblPr/>
              <a:tblGrid>
                <a:gridCol w="901800"/>
                <a:gridCol w="1297080"/>
                <a:gridCol w="1150920"/>
                <a:gridCol w="1238040"/>
                <a:gridCol w="1238400"/>
                <a:gridCol w="1303200"/>
                <a:gridCol w="1300320"/>
              </a:tblGrid>
              <a:tr h="2095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jú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jú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augus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408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358 765,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85 032,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148 965,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11 089,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155 987,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17 268,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409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95 874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378 102,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195 369,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51 925,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202 416,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58 126,8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9 990,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8 995,5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5 814,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4 316,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9 250,9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7 340,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11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05 857,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78 694,5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4 875,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80 290,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5 570,5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80 902,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6 258,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3 479,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2 588,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2 677,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1 229,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1 481,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10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22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65 041,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21 919,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25 698,3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0 614,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6 782,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20 368,4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407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 491 788,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86 222,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53 311,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510 914,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81 237,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535 488,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/>
          </p:nvPr>
        </p:nvSpPr>
        <p:spPr>
          <a:xfrm>
            <a:off x="356760" y="142848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rehľad pôvodného a zrevidovaného plánu po mesiacoch čerpania na rok 2013 za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2" name="TextovéPole 6"/>
          <p:cNvSpPr/>
          <p:nvPr/>
        </p:nvSpPr>
        <p:spPr>
          <a:xfrm>
            <a:off x="357120" y="2349360"/>
            <a:ext cx="8429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73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74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75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6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77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8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79" name=""/>
          <p:cNvGraphicFramePr/>
          <p:nvPr/>
        </p:nvGraphicFramePr>
        <p:xfrm>
          <a:off x="361800" y="2432160"/>
          <a:ext cx="8329680" cy="3638520"/>
        </p:xfrm>
        <a:graphic>
          <a:graphicData uri="http://schemas.openxmlformats.org/drawingml/2006/table">
            <a:tbl>
              <a:tblPr/>
              <a:tblGrid>
                <a:gridCol w="1036800"/>
                <a:gridCol w="1216080"/>
                <a:gridCol w="1216080"/>
                <a:gridCol w="1214280"/>
                <a:gridCol w="1216080"/>
                <a:gridCol w="1214280"/>
                <a:gridCol w="1216080"/>
              </a:tblGrid>
              <a:tr h="2458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eptemb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któb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ovemb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45880"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208 687,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414 164,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290 874,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47 157,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685 748,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406 419,7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46240"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206 587,8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411 707,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805 879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464 929,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98 745,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418 423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47680"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9 863,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0 040,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1 948,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0 812,5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3 957,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8 388,4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45880"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49 687,9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92 134,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89 948,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35 206,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51 258,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93 055,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46240"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5 369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8 181,8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9 909,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6 710,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8 258,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6 948,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45880"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57040"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7 965,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8 019,7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9 930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7 287,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5 954,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21 769,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57400"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18 161,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414 248,8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688 489,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92 102,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 243 922,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375 004,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/>
          </p:nvPr>
        </p:nvSpPr>
        <p:spPr>
          <a:xfrm>
            <a:off x="356760" y="142848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rehľad pôvodného a zrevidovaného plánu po mesiacoch čerpania na rok 2013 za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1" name="TextovéPole 6"/>
          <p:cNvSpPr/>
          <p:nvPr/>
        </p:nvSpPr>
        <p:spPr>
          <a:xfrm>
            <a:off x="357120" y="2349360"/>
            <a:ext cx="8429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2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83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84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5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86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7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88" name=""/>
          <p:cNvGraphicFramePr/>
          <p:nvPr/>
        </p:nvGraphicFramePr>
        <p:xfrm>
          <a:off x="457200" y="2697120"/>
          <a:ext cx="8329680" cy="3517920"/>
        </p:xfrm>
        <a:graphic>
          <a:graphicData uri="http://schemas.openxmlformats.org/drawingml/2006/table">
            <a:tbl>
              <a:tblPr/>
              <a:tblGrid>
                <a:gridCol w="1452600"/>
                <a:gridCol w="1701720"/>
                <a:gridCol w="1703520"/>
                <a:gridCol w="1701720"/>
                <a:gridCol w="1770120"/>
              </a:tblGrid>
              <a:tr h="23652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decemb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spolu na rok 2013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spolu na rok 2013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136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139 466,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159 977,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5 109 082,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 583 485,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65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513 817,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541 065,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 767 449,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 981 651,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65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4 601,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5 584,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300 196,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48 376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65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4 329,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7 467,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031 531,5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057 293,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65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4 846,8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5 834,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49 933,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58 708,4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65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6 849,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6 195,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7 356,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8 569,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983 735,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464 981,9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0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004 417,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058 497,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3 288 778,9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3 030 692,8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lnenie plánu čerpania na rok 2013 z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0" name="TextovéPole 6"/>
          <p:cNvSpPr/>
          <p:nvPr/>
        </p:nvSpPr>
        <p:spPr>
          <a:xfrm>
            <a:off x="687240" y="2060640"/>
            <a:ext cx="8215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OK 201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1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92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93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4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95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6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97" name=""/>
          <p:cNvGraphicFramePr/>
          <p:nvPr/>
        </p:nvGraphicFramePr>
        <p:xfrm>
          <a:off x="357120" y="2460600"/>
          <a:ext cx="8391600" cy="3826080"/>
        </p:xfrm>
        <a:graphic>
          <a:graphicData uri="http://schemas.openxmlformats.org/drawingml/2006/table">
            <a:tbl>
              <a:tblPr/>
              <a:tblGrid>
                <a:gridCol w="2098800"/>
                <a:gridCol w="2097000"/>
                <a:gridCol w="2097000"/>
                <a:gridCol w="2098800"/>
              </a:tblGrid>
              <a:tr h="2649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ROK  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zrevidovaný odhad čerpania za zdroj EÚ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racované ŽoP a odoslané na PJ od </a:t>
                      </a: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1.2013 do 31.05.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reálne čerpanie za mesiac podľa súhrnných ŽoP od </a:t>
                      </a: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1.01.2013 do 31.05.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5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1 583 485,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954 338,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145 088,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4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4 981 651,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674 648,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048 936,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 048 376,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4 779,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1 849,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4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 057 293,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4 908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0 848,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58 708,4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2 028,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 821,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5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36 195,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 034,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 381,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 464 981,9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 646,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 596,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7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3 030 692,8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202 383,3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672 522,4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4:46:45Z</dcterms:created>
  <dc:creator>Kiko</dc:creator>
  <dc:description/>
  <dc:language>en-US</dc:language>
  <cp:lastModifiedBy>Komarcová Anna</cp:lastModifiedBy>
  <dcterms:modified xsi:type="dcterms:W3CDTF">2014-05-26T11:28:22Z</dcterms:modified>
  <cp:revision>331</cp:revision>
  <dc:subject/>
  <dc:title>Snímka 1</dc:title>
</cp:coreProperties>
</file>