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199-F46D-42D4-84B8-F34C26142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B946-5045-43FF-BFF5-7604D22E1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82E-CD9F-40E3-9078-5FF947EE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97D-2EDE-49A8-B095-FCC04303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0C8-5C18-4DD7-9FF2-9E8BFDB5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189-DBE6-439D-9220-64C82081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859-6419-47B5-9CC7-7AB030B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4B4-C2B4-4953-9BAC-B24533D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1A7-86AF-4EC3-8A46-47A5BC5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3E1-C636-422F-9659-DE2C4BD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089-D21D-47ED-8BE6-4C7A3100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11B-2138-4375-80D5-A8967415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A9F-9262-4163-AAAC-4BF7D48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FF9-27E0-4491-81D6-6758761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70A-0446-40BC-A3F7-123526D46E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675-D7FB-4BD2-A8C3-5AF6B05C1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Národný projekt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c00000"/>
                </a:solidFill>
                <a:latin typeface="Book Antiqua"/>
              </a:rPr>
              <a:t>Vzdelávanie pedagogických zamestnancov materských škôl ako súčasť reformy vzdelávania </a:t>
            </a:r>
            <a:br>
              <a:rPr sz="4000"/>
            </a:br>
            <a:r>
              <a:rPr b="1" lang="sk-SK" sz="4000" spc="-1" strike="noStrike">
                <a:solidFill>
                  <a:srgbClr val="c00000"/>
                </a:solidFill>
                <a:latin typeface="Book Antiqua"/>
              </a:rPr>
              <a:t>(MAT)</a:t>
            </a:r>
            <a:br>
              <a:rPr sz="4000"/>
            </a:br>
            <a:r>
              <a:rPr b="1" lang="sk-SK" sz="1700" spc="-1" strike="noStrike">
                <a:solidFill>
                  <a:srgbClr val="c00000"/>
                </a:solidFill>
                <a:latin typeface="Book Antiqua"/>
              </a:rPr>
              <a:t>začiatok realizácie projektu: máj 2009 – koniec realizácie projektu: 30.9.2014 </a:t>
            </a:r>
            <a:br>
              <a:rPr sz="1700"/>
            </a:b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MPC Bratisl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 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10018 osôb, ktorým sú pridelené vstupné heslá využíva služby por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Informácie v súlade s cieľom portálu je možné získať v nasledovných sekciách portál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Úplné znenie 18 akreditovaných programov; Informácie o 382 študijných skupinách; Možnosť otestovať sa  v 6 testoch z modulov projektu; 23 diskusných oblastí na aktuálne témy z oblasti predprimárneho vzdelávania; Informácie o 1762 podujatiach; 4734 oznamov; 1392 prezentácií využiteľných aj pre dištančné vzdelávanie; 47 článkov k edukačnému procesu a zvyšovaniu poznania v oblastiach predprimárneho vzdelávania; Blogy 9; Edukačné materiály 5; Zoznam 2930 materských škôl; 443 administratívnych materiálov využiteľných v pedagogickej a riadiacej práci; Dotazník 1 </a:t>
            </a:r>
            <a:r>
              <a:rPr b="0" lang="sk-SK" sz="1100" spc="-1" strike="noStrike">
                <a:solidFill>
                  <a:srgbClr val="000000"/>
                </a:solidFill>
                <a:latin typeface="Book Antiqua"/>
              </a:rPr>
              <a:t>(z 1093 respondentov 1020 považuje EP za prínos a 73 sa buď nevyjadrilo, alebo portál nepovažuje za prínos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19C-6AE3-4FE3-AA09-54E6D5FFB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197000"/>
          <a:ext cx="8207280" cy="15843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Využívanie funkčného edukačného portálu cieľovou skupinou projektu na realizáciu aktivít projektu a na využívania podporných  služieb pre frekventantov aktivít projektu bez obmedzenia času prístupu  do portálového edukačného priestor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1 Tvorba edukačného materiá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vytvoriť novú odbornú literatúru v tlačenej a elektronickej podobe na zefektívnenie edukačného procesu materských škôl a na účely tvorby školských vzdelávacích programov pre maters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E4ED-C377-4251-A8D7-4194C1137A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5. 2009 - 31. 3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1 2290826,12€ K/144371,20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Počet pripravených edukačných materiálov ku  14.4.2013 je  63. Ďalších 65 je v procese tvorb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Vytlačenie  edukačných materiálov je podmienené ukončením verejného obstarávania na tlač (predpoklad ukončenia VO 15.10.2013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F5B9-967B-4ED8-9CE4-6DDF1875E4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136000" cy="1368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danie metodických príručiek, metodík, metodických listov v tlačenej aj digitálnej podobe, CD a DVD nahrávok výchovno-vzdelávacej činnosti, učebných zdrojov, učebných pomôcok (cca 200) a ich využívanie pedagogickými zamestnanc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870-80C0-453D-B708-F18D23673F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2 Odborné stáže a odborné exkurz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získať informácie a prehľad o najnovších stratégiách predprimárneho vzdelávania v EÚ a vo svete a implementovať najlepšiu prax do edukačnej praxe slovenských materských škô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1. 8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2. 403157,00€ K/47982,86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Uskutočnili sa tri odborné stáž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Švédska - Štokholmská univerzita (program semináre na Katedre výskumu detstva a mládeže, návštevy predškolských zariadení spadajúcich pod gesciu Katedry výskumu detstva a mládeže Štokholmskej univerzity, Návšteva Inštitútu Reggio E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Belgicka - K.H. Kempen University College, Vorselaar, pedagogické strediská Antwerpy, Ghent, Moerbeke-Waas (program semináre, návštevy predškolských zariadení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Ruskej federácie - Ruská štátna pedagogická univerzita A. N. Gercena,</a:t>
            </a:r>
            <a:r>
              <a:rPr b="1" lang="sk-SK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Inštitút dets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6D5-2462-4EF5-A4C2-67B2F38C0F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ĺžnik 9"/>
          <p:cNvSpPr/>
          <p:nvPr/>
        </p:nvSpPr>
        <p:spPr>
          <a:xfrm>
            <a:off x="539640" y="1268280"/>
            <a:ext cx="8064720" cy="2288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Uskutočnenie odborných stáží. Spracovanie návrhov a odporúčaní  z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najlepšej praxe  navštívených krajín v rámci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odborných stáží a odborných exkurzií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do edukačnej praxe slovenských materských škôl . Námety na tvorbu edukačných materiálov, prekladov , podnetov pre ďalšie vzdelávanie pedagogických zamestnancov materských škôl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todici odborných stáží využívajú poznatky zo stáží  pri vypracovávaní revidovaného štátneho vzdelávacieho programu pre predprimárne vzdelávanie (ISCED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912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Účastníci odborných stáží - v zmysle projektu zapojení frekventanti do vzdelávacích programov v rámci NP MAT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o Švédsku sa odbornej stáže zúčastnilo  8 pedagogických zamestnancov, z každého kraja SR po jednom, ktorí splnili požiadavky  z</a:t>
            </a: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apojenia sa do vzdelávacieho programu realizovaného v rámci NP MAT a osvojenie anglického jazyka na úrovni B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 Belgicku sa odbornej stáže zúčastnilo  7 pedagogických zamestnancov, zo  SR, ktorí splnili predchádzajúce požiadavky.  (Vzhľadom na podieľaní sa frekventantov na nákladoch  stáže, záujem o stáž pokles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 Ruskej federácii sa odbornej stáže zúčastnilo  9 pedagogických zamestnancov zo  SR, ktorí splnili požiadavku  zapojenia sa do vzdelávacieho programu realizovaného v rámci NP MAT požiadavky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Verejné obstarávanie  na odborné stáže a odborné konferencie má byť ukončené 30.10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851-0438-45FC-858B-160993A32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Ďalšie plánované odborné stáže a odborné exkurzie v roku 2013 a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USA, Pennsylvania, Scranton rok 2013 a 2014 (návštevy materských škôl, školiace semináre na univerzi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Austrália, University of Newcastle rok 2013 (Štúdium austrálskeho systému predškolského vzdelávania- Hospitácie materských škôl, semináre na Katedre pedagogiky University of Newcast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Chorvátsko rok 2013 a 2014 (Exkurzia v obci Svätý Iľja na základe Zmluvy o spolupráci uzatvorenej v rámci projektu MAT, návšteva fakulty, ministerstva školstva, materskej škol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Írsko, Dublin rok 2014 (Štúdium predškolského vzdelávania Veľkej Británie založené na spolupráci s University of East London, hospitácie predškolských zariadení v Dub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Švédsko rok 2014 (Stáž založená na zmluve o spolupráci medzi Stockholm University návštevy materských škôl, školiace semináre na univerzi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5034-5C43-4435-BBC5-94F01FF048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3 Odborné semináre a odborné konferen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vytvárať priestor na výmenu skúseností a poznatkov z jednotlivých odborných aktivít projektu a šírenie dobrej a osvedčenej prax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731E-C928-47CD-974C-1A1C33BBB9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4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55091,00€ K/28473,20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ýstupy aktivity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42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Uskutočnilo sa desať odborných seminárov a jedna konferencia. Témami odborných seminárov boli Prírodovedná gramotnosť v materských školách; Aktuálne zmeny právnych predpisov a ich aplikácia v praxi; Hra,tvorivosť a gramotnosť v preprimárnom vzdelávaní a hlavne Revízia a inovácia štátneho vzdelávacieho programu pre predprimárne vzdelávanie – východiská, štruktúra a medzinárodné porovnania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Veľký záujem o uvedené témy seminárov umožnil diskusiu k revidovanému ŠVP na celoslovenskej úrovni a tým aj možnosť získať a zapracovať pripomienky zo škô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92F-6DA3-475C-A1ED-66361138EE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dĺžnik 4"/>
          <p:cNvSpPr/>
          <p:nvPr/>
        </p:nvSpPr>
        <p:spPr>
          <a:xfrm>
            <a:off x="468360" y="1197000"/>
            <a:ext cx="8064360" cy="201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Uskutočnenie seminárov a konferencií s lektormi-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 hlavnými tvorcami nového štátneho vzdelávacieho programu pre materské školy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. Spracovanie návrhov a odporúčaní  pre pedagogickú prax predprimárneho vzdelávania, ktoré budú využité pre tvorbu revidovaného štátneho vzdelávacieho programu .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Prezentácia inovatívnych stratégií  a poznatkov z odborných stáží využiteľných  v ďalšom vzdelávaní pedagogických zamestnancov materských škô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38A-FD9D-4442-97A5-497B1CC29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Cieľové skupiny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Book Antiqua"/>
              </a:rPr>
              <a:t>Pedagogickí zamestnanci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– materských škôl vrátane manažmentu materských škôl –pedagogických zamestnancov materských škôl s úplným stredným odborným vzdelaním, s vysokoškolským vzdelaním prvého a druhého stupň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Book Antiqua"/>
              </a:rPr>
              <a:t>Zamestnanci pracujúci v oblasti vzdelávania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– odborní zamestnanci štátnej a verejnej správy pôsobiaci v oblasti predškolskej výchovy na MPC, KŠU, MŠVVaŠ SR, ŠPÚ, ŠŠI , ktorí v rámci plnenia pracovných povinností participujú na riadení materských škôl, príp. na ďalšom vzdelávaní pedagogických zamestnancov materských škô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Cieľové skupiny sú definované zákonom NR SR č. 317/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Plánované počty PZ v cieľovej skupine (merateľné ukazovatele projekt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Book Antiqua"/>
              </a:rPr>
              <a:t>spolu (11 350 PZ, z toho 10 000 za SR a 1 350 za 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7CFC-ED4C-43CF-B187-4230ADA4C3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99"/>
                </a:solidFill>
                <a:latin typeface="Book Antiqua"/>
              </a:rPr>
              <a:t>Priebežné počty frekventantov na aktivitách </a:t>
            </a:r>
            <a:br>
              <a:rPr sz="2800"/>
            </a:br>
            <a:r>
              <a:rPr b="1" lang="sk-SK" sz="2000" spc="-1" strike="noStrike">
                <a:solidFill>
                  <a:srgbClr val="000099"/>
                </a:solidFill>
                <a:latin typeface="Book Antiqua"/>
              </a:rPr>
              <a:t>1.1. Vzdelávanie manažmentu a odborných zamestnancov štátnej a verejnej správy a  1.2 Vzdelávanie PZ  materských škôl</a:t>
            </a:r>
            <a:br>
              <a:rPr sz="2000"/>
            </a:br>
            <a:r>
              <a:rPr b="1" lang="sk-SK" sz="2000" spc="-1" strike="noStrike">
                <a:solidFill>
                  <a:srgbClr val="000099"/>
                </a:solidFill>
                <a:latin typeface="Book Antiqua"/>
              </a:rPr>
              <a:t> k 31.3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1.1. Vzdelávanie manažmentu a odborných zamestnancov štátnej a verejnej správy (2500 frekventantovK/215 frekventantov RK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sk-SK" sz="1900" spc="-1" strike="noStrike">
                <a:solidFill>
                  <a:srgbClr val="000000"/>
                </a:solidFill>
                <a:latin typeface="Book Antiqua"/>
              </a:rPr>
              <a:t>Aktuálny sta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1838 SR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216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BA zamestnancov  sa zúčastnilo raz na  vzdelávaní v rámci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2938  SR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435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 BA zamestnancov  sa opakovane zúčastnilo na  vzdelávaní v rámci viacerých 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1.2. Vzdelávanie PZ  materských škôl (7500 frekventantov K/1135 frekventantov RKZ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Aktuálny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6658 SR 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876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 BA zamestnancov  sa zúčastnilo raz na  vzdelávaní v rámci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8979  SR 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1523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BA zamestnancov  sa opakovane zúčastnilo na  vzdelávaní v rámci viacerých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D6F-DF38-4F0B-A4E1-B673F4BAC3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Ciele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14280"/>
          <a:ext cx="8229600" cy="3873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mplementovať obsahovú reformu a rozvíjať systém celoživotného vzdelávania zameraný na rozvíjanie kľúčových kompetencií PZ materských škôl v súlade s potrebami vedomostnej spoloč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36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  Orientovať prípravu a ďalšie vzdelávanie PZ na získanie a rozvoj kompetencií na premenu tradičnej školy na modernú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 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ovovať obsah a  metódy, skvalitniť výstupy vzdelávania pre potreby trhu práce vo vedomostnej spoloč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čísla snímky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AE3-DD42-4D8F-82B5-25B3479C8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8218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1. Vzdelávanie manažmentu a odborných zamestnancov štátnej a verejnej s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osvojenie si komplexu profesionálnych manažérskych kompetenci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197000"/>
          <a:ext cx="8147160" cy="2011320"/>
        </p:xfrm>
        <a:graphic>
          <a:graphicData uri="http://schemas.openxmlformats.org/drawingml/2006/table">
            <a:tbl>
              <a:tblPr/>
              <a:tblGrid>
                <a:gridCol w="3075120"/>
                <a:gridCol w="5072040"/>
              </a:tblGrid>
              <a:tr h="1189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1. 837815,22€ K/73314,9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59B-7DAF-476E-B0D0-CF4507152C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– merateľné ukazovat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í v rámci akreditovaných vzdelávacích programov sa zúčastnilo 1838 vedúcich pedagogických zamestnancov- manažment MŠ za SR a 216 za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ie manažmentu  boli vytvorené nasledujúce akreditované programy kontinuálneho vzdelá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Digitálne technológie v MŠ pre V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Obsahová reforma v MŠ pre PV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Školský manažment v M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Inovácie v didaktike  pre V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Inovácie v riadení materskej školy (19.10.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268280"/>
          <a:ext cx="8136000" cy="1584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ončenie vzdelávania 2500 zamestnancov manažmentu MŠ v cieli K /215 v cieli RKZ v akreditovaných vzdelávacích programoch  v súlade so zákonom o pedagogických zamestnancoch  v minimálne piatich akreditovaných program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2. Vzdelávanie pedagogických zamestnancov materských škô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po absolvovaní a úspešnom zvládnutím vzdelávacích programov získanie, inovovanie a rozvoj profesionálnych odborných kompetencií PZ vrátane kompetencií potrebných ku komplexnej informatizácii MŠ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6E6-DCAC-4BF7-900F-3967D4257A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2. 2605438,43€ K/228451,80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0280" indent="-35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– merateľné ukazovat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í v rámci akreditovaných vzdelávacích programov sa zúčastnilo 6658 pedagogických zamestnancov materských škôl za SR a 876 za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ie pedagogických zamestnancov bolo vytvorených 13 akreditovaných programov kontinuálneho vzdelá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Book Antiqua"/>
              </a:rPr>
              <a:t>Zoznam akreditovaných programov: Digitálne technológie v materskej škole (úroveň začiatočník); Inovácie v didaktike pre učiteľov predprimárneho vzdelávania; Kreslenie v grafickom programe RNA (Revelation Natural ART); Land Art a jeho možnosti v predprimárnom vzdelávaní; Lyžovanie v materskej škole; Obsahová reforma v materskej škole; Orientácia v priestore a priestorová predstavivosť v predprimárnom vzdelávaní; Pracujeme s digitálnou hračkou Bee-bot v materskej škole; Prípravné atestačné vzdelávanie k prvej atestácii pre učiteľov predprimárneho vzdelávania; Programujeme v materskej škole; Rozvíjanie grafomotorických zručností detí ako príprava na písanie v základnej škole; Rozvíjanie predčitateľskej gramotnosti v materskej škole; Kreslíme na počítači v materskej šk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4DAB-0EC6-4C82-9688-3222C4980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8360" y="1268280"/>
          <a:ext cx="8136000" cy="144000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ončenie vzdelávania 7500 pedagogických zamestnancov MŠ v cieli K /1135 v cieli RKZ v akreditovaných vzdelávacích programoch  v súlade so zákonom o pedagogických zamestnancoch  v minimálne troch akreditovaných program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3 Edukačný portá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Poskytnúť komplexný systém digitálnych služieb pre informačné a vzdelávacie potreby cieľovej skupiny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C7D-CAEB-4FE4-9B3F-CF84E5395E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9. 2009 - 30. 9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3. 679525,06€ K/16973,04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9:56:24Z</dcterms:created>
  <dc:creator>Lašák</dc:creator>
  <dc:description/>
  <dc:language>en-US</dc:language>
  <cp:lastModifiedBy>Komarcová Anna</cp:lastModifiedBy>
  <dcterms:modified xsi:type="dcterms:W3CDTF">2014-05-26T11:27:46Z</dcterms:modified>
  <cp:revision>199</cp:revision>
  <dc:subject/>
  <dc:title>Profesijný a kariérový rast pedagogických zamestnancov</dc:title>
</cp:coreProperties>
</file>