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sldIdLst>
    <p:sldId id="256" r:id="rId28"/>
    <p:sldId id="257" r:id="rId29"/>
    <p:sldId id="258" r:id="rId30"/>
    <p:sldId id="259" r:id="rId31"/>
    <p:sldId id="260" r:id="rId32"/>
    <p:sldId id="261" r:id="rId33"/>
    <p:sldId id="262" r:id="rId34"/>
    <p:sldId id="263" r:id="rId35"/>
    <p:sldId id="264" r:id="rId36"/>
    <p:sldId id="265" r:id="rId37"/>
    <p:sldId id="266" r:id="rId38"/>
    <p:sldId id="267" r:id="rId39"/>
    <p:sldId id="268" r:id="rId40"/>
    <p:sldId id="269" r:id="rId41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" Target="slides/slide1.xml"/><Relationship Id="rId29" Type="http://schemas.openxmlformats.org/officeDocument/2006/relationships/slide" Target="slides/slide2.xml"/><Relationship Id="rId30" Type="http://schemas.openxmlformats.org/officeDocument/2006/relationships/slide" Target="slides/slide3.xml"/><Relationship Id="rId31" Type="http://schemas.openxmlformats.org/officeDocument/2006/relationships/slide" Target="slides/slide4.xml"/><Relationship Id="rId32" Type="http://schemas.openxmlformats.org/officeDocument/2006/relationships/slide" Target="slides/slide5.xml"/><Relationship Id="rId33" Type="http://schemas.openxmlformats.org/officeDocument/2006/relationships/slide" Target="slides/slide6.xml"/><Relationship Id="rId34" Type="http://schemas.openxmlformats.org/officeDocument/2006/relationships/slide" Target="slides/slide7.xml"/><Relationship Id="rId35" Type="http://schemas.openxmlformats.org/officeDocument/2006/relationships/slide" Target="slides/slide8.xml"/><Relationship Id="rId36" Type="http://schemas.openxmlformats.org/officeDocument/2006/relationships/slide" Target="slides/slide9.xml"/><Relationship Id="rId37" Type="http://schemas.openxmlformats.org/officeDocument/2006/relationships/slide" Target="slides/slide10.xml"/><Relationship Id="rId38" Type="http://schemas.openxmlformats.org/officeDocument/2006/relationships/slide" Target="slides/slide11.xml"/><Relationship Id="rId39" Type="http://schemas.openxmlformats.org/officeDocument/2006/relationships/slide" Target="slides/slide12.xml"/><Relationship Id="rId40" Type="http://schemas.openxmlformats.org/officeDocument/2006/relationships/slide" Target="slides/slide13.xml"/><Relationship Id="rId41" Type="http://schemas.openxmlformats.org/officeDocument/2006/relationships/slide" Target="slides/slide1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41C-C0BC-40FF-9E8A-C8162FE1A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21D-286A-4F79-98D2-FD7FECE3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CAE605-019C-4DED-8FAB-C78361C3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38BF0-4507-4499-85A4-AF09DA15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0785A-B818-4551-8304-510AB83D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2882A-7F3F-4D30-8D3C-890B3169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B9E39-1934-4EB3-807F-92A34F8B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D6C852-6827-45DC-A376-2AA768C4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3D350-289B-4DB6-8687-C60D1DBF2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DBF63-37C3-4DE8-9C70-78F05C733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D6ADE-123A-4849-AB9A-AEA89F75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A230B-7BAA-4E92-92EC-89DC0C7EC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59D7-B7B9-4085-9D69-64AA92973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DEB7F-78E1-4FCD-A4D8-FCF80A85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340DAC-B1B5-4A63-B44D-ED0DE0EA5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30578D-BB45-4C11-B386-FFD3C0C8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3305D-B059-46FA-837B-9D4C12B7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222391-77C8-4CD6-8D15-3A6331426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BE188-0666-4B00-B8F4-FDFAFCFFD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7C00C-8E06-44E3-9A15-E36CDA640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3CD3F-507E-4605-BD12-D83E1F54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13244-2347-4DDE-BE0D-E32030200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A6C688-DF3F-410D-8B20-838A9A44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5A28-28C3-4112-BFD0-8CD6421C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671315-3315-48F0-B44D-5F9286FD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6DFB0A-5BEE-4AF2-AF35-2CA20C1F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0E5BA9-7EDC-4513-A099-44ED2BEF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42910-7FA5-4A65-95F7-38E7F399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96ABD-75DC-48E1-86C1-0A11570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7F5194-B434-41A1-B157-867FFF1B3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FADC7-2260-485C-BD31-EE48B6FDE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90372-3613-4F01-968C-F48114D8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111717-E625-40D4-9561-BAEA26FB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82011-6A1C-4228-9001-79262144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A7C6-D58F-47F4-BDAA-8FDF9811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35FEC-BFC5-4A61-9563-CE752001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A6654A-BD95-4D71-859D-8BDD5D5DE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F2B9B-8B54-4963-ABA7-8CC7E155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C0021-FAC5-442A-83A6-5D625AF5B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5A6BC-77C4-4648-AFB8-3385C86D4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12340F-30B9-44E0-8634-162D9299E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67296-94D7-4B38-870C-58A53870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6A89FB-061B-4488-BF0D-B7E3EBB80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5D16B2-3EF4-4C3F-9078-D90BD6486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2EB23-F31B-4B49-A250-27278410E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66E1-1685-45A3-AFAD-922C40598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9B637B-46D9-41E1-904E-BA02988B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5EB71B-C1D3-4488-9D1B-230B9CF2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9FEA05-F0E1-4455-9730-D5154128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C8F502-39E7-4DB5-8FFE-734503496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CE50A9-543D-469C-8794-B513C05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FE0D0-6841-49D5-9DE6-1239DC179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ECCEC5-9C7C-4C4B-94A2-D52E7BC7C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FFC71D-C415-4D20-A1D1-8754C79A2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EBD989-DD45-48AD-B0F3-BA3E16C5F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F00260-319E-4A3A-9ABF-DED816BC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A92E2-04E2-4146-A35E-C9694622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A71F8-104B-4FBB-9BD3-F112CC20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4D441A-F4D0-4B77-89B3-0E19D678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E73F4-DC17-4735-AC07-6E2662B1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208195-709B-4A4D-9EF7-682F747E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2FD90F-647A-43A7-8A0A-E52635E73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79BB5D-3BEC-407B-8B35-260D23286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2198B9-01B6-4C12-A15A-9988F3F0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17542-75D2-4D93-B83D-2408531F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CF3F68-A052-4CD7-B905-D08A97675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18CD8-9CB9-4086-B4BF-83CBDC608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85C3-3383-4582-B3A6-A40965FD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F16983-283F-46EA-9ED3-7B823D3D1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39CD42-D1B1-4C22-9A66-61B7524F5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18351B-35E4-4205-93EE-87D53F9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C03B9E-9BCF-413B-96C2-F2C24E469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8AE071-968F-494E-BFA8-BA5AE58C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E0E954-A34D-42EF-B29B-EB019D42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8B1DD0-8DA6-46CA-ABF3-537E0442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C66E8-2A4B-439D-9947-42B47DBB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167923-614B-412A-B85B-BB4738309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A178CE-11A3-4666-B255-82BCBD849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8B957-1CC3-4854-A2EC-1EF4E353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21610C-D83B-481A-858F-0E83A387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CA24F6-CDC6-4BF6-B63C-24AE0B82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F369C-D0C8-4D3F-8FAE-DA1F8910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CB2A82-0F21-4427-8D46-BD58289A4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CCAAEF-B38B-49F6-B39A-CCC34F17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569BD4-FFCC-41E1-8F67-2F0491C74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683C5D-5C18-4C22-BDE5-78E6B05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122D11-73A5-48D7-A4C1-D7D55CE5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DF37C6-7604-4270-AC6E-F0724B1B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424067-D7CD-431B-8313-3161F5EFB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02409-A311-443F-954F-4865A16D7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9E102-CE15-4200-8C66-2AF80D66D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3D6BED-EF14-46B6-965A-6E42466BB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29022-12D4-463A-859C-025D24538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874781-F3CA-4C40-B300-31DA1895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AE9B65-9009-454D-8ACE-AA17DEDA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AAE06-5492-4504-8F1E-FAF44522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B09780-1FDC-4E85-9D1F-E3DC212C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F65CB-1AFD-495A-9713-3C1EACA9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1AB7E-6736-4FC5-A444-D72AC2F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53E2DA-119F-49F0-A370-4A467DFC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86CF-6A13-476F-85D3-E190CB86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17A5BD-5FE4-4F87-9D44-4A1AD1A9C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A90A5A-D4C9-4DFD-A4BB-7030A0E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B68B7E-48D9-456C-A78E-A39035A00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7E087-027E-4140-8A04-9D07FA9FD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4CA205-371F-4B86-A89E-914B29602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903D75-A40E-4236-83BE-CB2E7C71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08A64E-2B46-4EAD-99AF-C85BC9C30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12F4B7-F816-4DBF-98D3-214EB53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8CBAA8-4717-4DD7-9FAB-9AD559A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031135-DA0F-4954-805F-92124BAD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DDF3-1F50-42DE-8CCB-F2A1753DD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A667-1AC5-409A-9F88-C2D6825E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C4579B-C29F-4176-9305-0A0B8AE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78DFB0-16F6-4B9F-8EA1-77295288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4DEC62-E0C4-49D5-A303-508A4859C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945BAB-C266-44DC-BCB7-44D6E3218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B7B00-AD3B-44D6-AB2E-AB6A482F3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D1F7B5-E682-4E59-9592-419472DF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1F6AEF-B59F-4544-AE0A-FC4EC7FF3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88C10F-CB7C-4FA3-AC23-3370C6690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0E4748-EA6D-4BF5-9A46-5C06C9D6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2BBE21-38F8-43DA-ADA6-A34FAE79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88949-C50C-485A-AC52-65B8E577C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24ED3-AC6B-4873-A51A-D60BFAD63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334436-C67C-4117-ABBA-77C65FDB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D935A1-83F4-423C-BA3B-9AD72913B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BDEA6B-C7E6-479D-BEA7-A880B444A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831A464-8C0F-45CA-A528-BD18D8F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CE09C8-EBB3-4B15-95E5-C860147A4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F8C317-6223-4BBE-B763-C12016BAB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6A1AF-568D-4244-A10F-AE6BEFB4E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6C4FE4-DBBA-42A7-9761-CD37ECEFC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E3AA92-EE11-47A3-A31C-91CF7917E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C996-32F8-4F20-9AFA-CC3C3E41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0AC51B-08A3-481F-86F1-5039E280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4E1B0E-96C3-4469-A4D1-34407C51D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3B9C34-1C83-4E57-8F19-4134AE9D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6FDB0-98BF-4FF6-80A7-A5592631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895FBF-D729-4958-877D-EC6A67C3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7CFC03-C41A-401A-A5F4-27CB1DC8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12675-9EF2-4B55-9B55-4BFF0923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468A6B-E467-42CC-BB9D-98B4820B2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1AED75-B115-4655-91A2-2787E055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53A491-7D69-4C6B-9D48-C6A73295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E6CDD-42B4-4AC5-A2C3-F57195A63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7A9350-C2FA-46F0-B9F2-9B5E7938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EB5E29-346F-404B-A367-E095815BD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44D6FB6-64A5-4D98-BB6E-F54820F0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8F8525-EC86-46CA-B8C1-7B7F7913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2E810-D775-459B-A1F9-74C2495B6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93163E0-D434-4219-8B37-E9D2CB4F4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21A9DB-0B5E-475D-B359-0365B03B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5D8881-F1F3-4F4E-BAE3-9BD1C0C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8066A-F0B2-48A4-AFB7-3BDA7B11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D94E34-3BC8-4DDF-BEFA-DA39EA6B8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ED52-E074-49F5-BFCE-D75EE075F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D5D92-00BD-4BEF-8E1D-2D239ADDA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86860-91FA-4689-9A43-2BB7F4A0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CE57CD-43FA-4307-AA47-FCB049523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86436E-637B-4FAE-84BD-8822036A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DEC1B5-4F5F-470B-B4BE-338E8A20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E07C7A-E09B-4DBF-A612-5CE2AB065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EC6239F-B246-40B1-BD09-F8DF8B1C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06FABE-EF42-4FD3-A93C-B38FDA97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EF11F7-5195-44D0-9BE0-6BD0BCE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A81222-8BF9-4389-A9C0-99BDA648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BA1E5-7AC3-4B3A-80F9-AFDB46C4B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55AFC-767C-496D-B8AE-7DA71417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F8678F-4669-4FEE-B26F-9ABB1BA71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DC6F8A-1996-498B-972C-50AAACBA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C58416-B409-4854-8DA7-93A712E9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07557B-29EC-4D85-A81B-FBF54EEF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4EBF2DD-343C-4E67-9452-FDB7AE3A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E71492-2E32-47A2-8445-5379C6A7E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57CB3E-ECF4-4E23-A545-5480E8C3E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35E374-0648-4525-A814-BF0044A5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27C2A2-8596-48E4-94B2-7B23121D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0FE3A-E603-4D11-B0B7-AE19917F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D38620-D30B-43E8-9C3B-9FE8F61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AA2603-1702-4144-A1D8-9CE84DCD8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A4BA0A-E695-45C5-ACB6-EF03BD831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642F71-4524-4EF2-9215-9EA6EB331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9C62E8-9E9E-4AFD-902F-3AB7B9FB4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0C5C79-8D43-42BE-82A0-81C65B390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46444A-2F8C-4830-8C04-BD078F65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2E910A-DD81-450E-BE99-5F23F4A9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C01C15-51BD-4134-A728-27F03F57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66E2150-500B-4D9E-B32A-69F6BF77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DB0B8-F9FA-4532-BAE6-D3449700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2AF9E-3EFB-4DF6-B138-577E4F81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0DD33B-11E8-4519-89AF-B5269BF0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E4F129-AE57-46F6-9621-F82EAAF5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B5AFA4-2CA8-4296-A234-0D3EEC99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984AA7-8283-40BD-A2DD-44B680F98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646C96-E77C-4F1C-B366-576EC45E5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D0AC9A-E8DB-4ECB-94E0-BFA70C20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801D6E3-0C45-4713-8F9C-B1641468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ABE081-B1A6-4EC1-8178-F5BF67B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845136-DEA5-4923-8D06-CB8A83EC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929C5-C082-4845-9CE2-047EBF96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1E1696-0347-44D4-B51B-4B2A4860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893B85-15DD-4C51-8931-44F9AFCFD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A7D228-4CA6-4A7D-96CD-35077B63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3A30A7F-79AB-400A-9F5F-C3FDCB86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0E93C7-4D13-4250-A290-D141DA88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6E3893-A25E-45F2-8EA8-6933D665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6F8D82-53E6-4AEF-9BEB-0CAFB71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D857B8-9A8F-4B9A-B453-272B95931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11E314-DB80-473B-B259-C24830A4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7349F7-39AD-4600-9349-8309768FA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75457-E7BD-42FC-995A-A54976CA6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4BFE9BA-E3FB-4499-8CAF-B8FF56F00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900B80-FD42-4FBF-98B8-CCCFCDE8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A347E9-7B88-410A-9B08-3B411DAD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643168-9E24-485E-B48F-BD51927F4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E1F8BFE-B11C-4134-BBAA-B2416EC2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A66DE6-EDD8-4EA1-B28A-06073D43E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80EACF-2E3D-467D-A0FD-8DA2E492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4CACAC-F4C3-44FE-9441-2A4337E5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00A828-935D-44D2-88DF-B11E9C7A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BFDE1F-C9A4-469A-97DF-6FF5CCCC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98AB-2C20-454C-ACAF-0B69666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501C1-1585-43A6-89F5-0DAA02CA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E1705A8-25D7-4484-BDC6-7165042F7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D97D04B-74DB-47E3-B499-4E3C39E07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12EA8F-8C63-40C7-9BDF-35461A39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CAC9DBE-5691-42F1-9ECF-E9221BA7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40993-3751-4FFF-A1FE-5C89A2F4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EA0DE8D-74E1-4DEF-B139-8B8C8443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F79485-0FBF-4D22-9DFC-1C3B87ED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28AD332-5DB6-4EDB-84B9-DA0BE6B7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558D89E-3842-4339-8842-C469AFBB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BE87E5-D10D-4217-956D-375C405F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8D0FB-6AFD-4E02-AB27-208502A0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57826F-0370-4696-97D1-3ED049BF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501068-AF0F-4E2E-B77B-B5052A3B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341EF9D-8254-48BE-BAF5-94460E3D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6D41D-5BA0-4CB3-A269-F26CD362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2A1D2-7B8A-4C6C-80B5-5921609D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35D99-50C9-4414-80B1-E3754D1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46616-CE0A-4B39-96CF-60F44FD0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C63300-F46D-47A0-93D4-FAD2EC75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A0CC0-7026-47A7-B76F-071715C15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A9EA8D-AE4C-4FEF-B243-F3BA7B6D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99820-60A0-4B53-A2B8-4F3DA3CBE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EAC-E3B4-4D11-AFB8-8789CF49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1FC49-DA4E-486F-AD9C-1FE06394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4E7E1-C9FB-40A6-B7CC-041B495F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28C7E-CADF-4ABA-9582-1E6F14930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BBF3A-E76F-46E6-A9EF-70DF8E10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BBCED-94AF-4995-B9ED-9E653AD6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FAC3A-9EC0-4B78-94D9-10DDFA35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CA375-ED15-45E9-9718-8D6084C9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7D308-C6A7-4D35-B11C-DB14BD911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CD02A-7A15-4E5C-BA02-7288AD4B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03FAE-3161-4D95-BFD2-DE392116C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F7DD-1711-4582-8EA1-5B744C0CC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71270-F220-49F0-BE40-B46C72B6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F8613A-8623-4F9E-91E8-E3BBD71BB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498E8-507B-48EC-8923-6D947FA2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93AE5-ADDD-498E-8A49-EE9DB517F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69BAC-EEF3-43ED-AF60-1ABEC04E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7E7DE-2CB4-4C71-8D9F-9CBC34E79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82BA4-5A48-4EC8-AC05-BE5037EC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4A97B-8FE1-46B3-B9E9-AE5D4B97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1B828-6E89-440A-AC9F-83813329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87CE-5CA0-4389-8E88-813031F99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E436-96C8-4C62-B8E9-1DD9FA9B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E37DD-4F63-4002-B5A2-73F1837C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7C433-53AE-4666-BD27-23A86569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8636A-DC68-49AB-91AE-2AB5F4BDD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191E99-159F-400B-8926-E89087285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7AC6D-2C4F-4051-AAEC-B18B3B49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92EB-E62F-486B-BAD7-18796AA4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22A7C-9747-4E37-B981-33ED7B60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991EC-1D9B-4F29-838A-7F1BACFF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F6ED5-E65B-4D1D-A8D3-DB0F8069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73274-7358-46E4-84CE-401F24B3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627D-6663-4FD9-9A15-060F163B2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A1F5D-DB7C-48D8-9BD6-BB631F1E9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CAD08-99C8-4089-8983-3EAEA92C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0FD72C-92C5-4914-B7EC-AAF81A292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D1B2-0BE5-4F1F-BA78-C06100EA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D54A7-F92A-40B6-AB05-E4135C27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5CA03-5C4B-460E-9545-A0CEB708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1742C-F84E-431E-AB7E-9A7C898D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1BE900-1100-4854-B46E-584E720C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A9ADD-BFBD-4F24-9AD8-E63179FB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210E7-40C1-4D39-BBA6-626E98E9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EAAAC-5DAE-4664-BD1B-EC96661C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4AA47-0103-4449-9DD0-8DECC6E1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23569-3614-422B-A7D0-BE4C8C80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0641E1-12B1-42F0-9BFC-CA8A4579D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7BAA6-5E77-4C0A-90DA-D1EA97000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07814-4F5F-411E-B6AE-537A41F0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57737-5F85-40FE-85FC-42649A06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F981D-68F5-401B-A131-A39CA3C0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886E3-2006-4963-877E-8AA94C26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AA74E8-4867-4EF5-9D80-F65EE1E8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15B86-1F88-4CD9-B3E9-03787403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5DC8-5DBB-418B-ABE8-83B2B154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78CB3-3845-41BA-A334-47C737E9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0FB5BE-D018-468E-B208-609D2E8A4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3BB2D-7555-4786-87B3-FEE9220A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EB94E-F327-481E-BFE0-FCF0C7EB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0A09-DD7D-4993-9AD2-74747300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EA758-4B12-4DFD-8D8B-7B7B0742C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23159-9A9F-47BD-B5EF-AECC76B32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7C443-F8BF-42EB-B9E6-749672DD1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D7A688-A57D-4EE9-9F1E-5A5E2A21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0468D6-3124-4B06-8590-98DABD6F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09.xml"/><Relationship Id="rId9" Type="http://schemas.openxmlformats.org/officeDocument/2006/relationships/slideLayout" Target="../slideLayouts/slideLayout110.xml"/><Relationship Id="rId10" Type="http://schemas.openxmlformats.org/officeDocument/2006/relationships/slideLayout" Target="../slideLayouts/slideLayout111.xml"/><Relationship Id="rId11" Type="http://schemas.openxmlformats.org/officeDocument/2006/relationships/slideLayout" Target="../slideLayouts/slideLayout112.xml"/><Relationship Id="rId12" Type="http://schemas.openxmlformats.org/officeDocument/2006/relationships/slideLayout" Target="../slideLayouts/slideLayout113.xml"/><Relationship Id="rId13" Type="http://schemas.openxmlformats.org/officeDocument/2006/relationships/slideLayout" Target="../slideLayouts/slideLayout114.xml"/><Relationship Id="rId14" Type="http://schemas.openxmlformats.org/officeDocument/2006/relationships/slideLayout" Target="../slideLayouts/slideLayout115.xml"/><Relationship Id="rId15" Type="http://schemas.openxmlformats.org/officeDocument/2006/relationships/slideLayout" Target="../slideLayouts/slideLayout116.xml"/><Relationship Id="rId16" Type="http://schemas.openxmlformats.org/officeDocument/2006/relationships/slideLayout" Target="../slideLayouts/slideLayout117.xml"/><Relationship Id="rId17" Type="http://schemas.openxmlformats.org/officeDocument/2006/relationships/slideLayout" Target="../slideLayouts/slideLayout118.xml"/><Relationship Id="rId18" Type="http://schemas.openxmlformats.org/officeDocument/2006/relationships/slideLayout" Target="../slideLayouts/slideLayout119.xml"/><Relationship Id="rId19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21.xml"/><Relationship Id="rId9" Type="http://schemas.openxmlformats.org/officeDocument/2006/relationships/slideLayout" Target="../slideLayouts/slideLayout122.xml"/><Relationship Id="rId10" Type="http://schemas.openxmlformats.org/officeDocument/2006/relationships/slideLayout" Target="../slideLayouts/slideLayout123.xml"/><Relationship Id="rId11" Type="http://schemas.openxmlformats.org/officeDocument/2006/relationships/slideLayout" Target="../slideLayouts/slideLayout124.xml"/><Relationship Id="rId12" Type="http://schemas.openxmlformats.org/officeDocument/2006/relationships/slideLayout" Target="../slideLayouts/slideLayout125.xml"/><Relationship Id="rId13" Type="http://schemas.openxmlformats.org/officeDocument/2006/relationships/slideLayout" Target="../slideLayouts/slideLayout126.xml"/><Relationship Id="rId14" Type="http://schemas.openxmlformats.org/officeDocument/2006/relationships/slideLayout" Target="../slideLayouts/slideLayout127.xml"/><Relationship Id="rId15" Type="http://schemas.openxmlformats.org/officeDocument/2006/relationships/slideLayout" Target="../slideLayouts/slideLayout128.xml"/><Relationship Id="rId16" Type="http://schemas.openxmlformats.org/officeDocument/2006/relationships/slideLayout" Target="../slideLayouts/slideLayout129.xml"/><Relationship Id="rId17" Type="http://schemas.openxmlformats.org/officeDocument/2006/relationships/slideLayout" Target="../slideLayouts/slideLayout130.xml"/><Relationship Id="rId18" Type="http://schemas.openxmlformats.org/officeDocument/2006/relationships/slideLayout" Target="../slideLayouts/slideLayout131.xml"/><Relationship Id="rId19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45.xml"/><Relationship Id="rId9" Type="http://schemas.openxmlformats.org/officeDocument/2006/relationships/slideLayout" Target="../slideLayouts/slideLayout146.xml"/><Relationship Id="rId10" Type="http://schemas.openxmlformats.org/officeDocument/2006/relationships/slideLayout" Target="../slideLayouts/slideLayout147.xml"/><Relationship Id="rId11" Type="http://schemas.openxmlformats.org/officeDocument/2006/relationships/slideLayout" Target="../slideLayouts/slideLayout148.xml"/><Relationship Id="rId12" Type="http://schemas.openxmlformats.org/officeDocument/2006/relationships/slideLayout" Target="../slideLayouts/slideLayout149.xml"/><Relationship Id="rId13" Type="http://schemas.openxmlformats.org/officeDocument/2006/relationships/slideLayout" Target="../slideLayouts/slideLayout150.xml"/><Relationship Id="rId14" Type="http://schemas.openxmlformats.org/officeDocument/2006/relationships/slideLayout" Target="../slideLayouts/slideLayout151.xml"/><Relationship Id="rId15" Type="http://schemas.openxmlformats.org/officeDocument/2006/relationships/slideLayout" Target="../slideLayouts/slideLayout152.xml"/><Relationship Id="rId16" Type="http://schemas.openxmlformats.org/officeDocument/2006/relationships/slideLayout" Target="../slideLayouts/slideLayout153.xml"/><Relationship Id="rId17" Type="http://schemas.openxmlformats.org/officeDocument/2006/relationships/slideLayout" Target="../slideLayouts/slideLayout154.xml"/><Relationship Id="rId18" Type="http://schemas.openxmlformats.org/officeDocument/2006/relationships/slideLayout" Target="../slideLayouts/slideLayout155.xml"/><Relationship Id="rId19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57.xml"/><Relationship Id="rId9" Type="http://schemas.openxmlformats.org/officeDocument/2006/relationships/slideLayout" Target="../slideLayouts/slideLayout158.xml"/><Relationship Id="rId10" Type="http://schemas.openxmlformats.org/officeDocument/2006/relationships/slideLayout" Target="../slideLayouts/slideLayout159.xml"/><Relationship Id="rId11" Type="http://schemas.openxmlformats.org/officeDocument/2006/relationships/slideLayout" Target="../slideLayouts/slideLayout160.xml"/><Relationship Id="rId12" Type="http://schemas.openxmlformats.org/officeDocument/2006/relationships/slideLayout" Target="../slideLayouts/slideLayout161.xml"/><Relationship Id="rId13" Type="http://schemas.openxmlformats.org/officeDocument/2006/relationships/slideLayout" Target="../slideLayouts/slideLayout162.xml"/><Relationship Id="rId14" Type="http://schemas.openxmlformats.org/officeDocument/2006/relationships/slideLayout" Target="../slideLayouts/slideLayout163.xml"/><Relationship Id="rId15" Type="http://schemas.openxmlformats.org/officeDocument/2006/relationships/slideLayout" Target="../slideLayouts/slideLayout164.xml"/><Relationship Id="rId16" Type="http://schemas.openxmlformats.org/officeDocument/2006/relationships/slideLayout" Target="../slideLayouts/slideLayout165.xml"/><Relationship Id="rId17" Type="http://schemas.openxmlformats.org/officeDocument/2006/relationships/slideLayout" Target="../slideLayouts/slideLayout166.xml"/><Relationship Id="rId18" Type="http://schemas.openxmlformats.org/officeDocument/2006/relationships/slideLayout" Target="../slideLayouts/slideLayout167.xml"/><Relationship Id="rId19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69.xml"/><Relationship Id="rId9" Type="http://schemas.openxmlformats.org/officeDocument/2006/relationships/slideLayout" Target="../slideLayouts/slideLayout170.xml"/><Relationship Id="rId10" Type="http://schemas.openxmlformats.org/officeDocument/2006/relationships/slideLayout" Target="../slideLayouts/slideLayout171.xml"/><Relationship Id="rId11" Type="http://schemas.openxmlformats.org/officeDocument/2006/relationships/slideLayout" Target="../slideLayouts/slideLayout172.xml"/><Relationship Id="rId12" Type="http://schemas.openxmlformats.org/officeDocument/2006/relationships/slideLayout" Target="../slideLayouts/slideLayout173.xml"/><Relationship Id="rId13" Type="http://schemas.openxmlformats.org/officeDocument/2006/relationships/slideLayout" Target="../slideLayouts/slideLayout174.xml"/><Relationship Id="rId14" Type="http://schemas.openxmlformats.org/officeDocument/2006/relationships/slideLayout" Target="../slideLayouts/slideLayout175.xml"/><Relationship Id="rId15" Type="http://schemas.openxmlformats.org/officeDocument/2006/relationships/slideLayout" Target="../slideLayouts/slideLayout176.xml"/><Relationship Id="rId16" Type="http://schemas.openxmlformats.org/officeDocument/2006/relationships/slideLayout" Target="../slideLayouts/slideLayout177.xml"/><Relationship Id="rId17" Type="http://schemas.openxmlformats.org/officeDocument/2006/relationships/slideLayout" Target="../slideLayouts/slideLayout178.xml"/><Relationship Id="rId18" Type="http://schemas.openxmlformats.org/officeDocument/2006/relationships/slideLayout" Target="../slideLayouts/slideLayout179.xml"/><Relationship Id="rId19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81.xml"/><Relationship Id="rId9" Type="http://schemas.openxmlformats.org/officeDocument/2006/relationships/slideLayout" Target="../slideLayouts/slideLayout182.xml"/><Relationship Id="rId10" Type="http://schemas.openxmlformats.org/officeDocument/2006/relationships/slideLayout" Target="../slideLayouts/slideLayout183.xml"/><Relationship Id="rId11" Type="http://schemas.openxmlformats.org/officeDocument/2006/relationships/slideLayout" Target="../slideLayouts/slideLayout184.xml"/><Relationship Id="rId12" Type="http://schemas.openxmlformats.org/officeDocument/2006/relationships/slideLayout" Target="../slideLayouts/slideLayout185.xml"/><Relationship Id="rId13" Type="http://schemas.openxmlformats.org/officeDocument/2006/relationships/slideLayout" Target="../slideLayouts/slideLayout186.xml"/><Relationship Id="rId14" Type="http://schemas.openxmlformats.org/officeDocument/2006/relationships/slideLayout" Target="../slideLayouts/slideLayout187.xml"/><Relationship Id="rId15" Type="http://schemas.openxmlformats.org/officeDocument/2006/relationships/slideLayout" Target="../slideLayouts/slideLayout188.xml"/><Relationship Id="rId16" Type="http://schemas.openxmlformats.org/officeDocument/2006/relationships/slideLayout" Target="../slideLayouts/slideLayout189.xml"/><Relationship Id="rId17" Type="http://schemas.openxmlformats.org/officeDocument/2006/relationships/slideLayout" Target="../slideLayouts/slideLayout190.xml"/><Relationship Id="rId18" Type="http://schemas.openxmlformats.org/officeDocument/2006/relationships/slideLayout" Target="../slideLayouts/slideLayout191.xml"/><Relationship Id="rId19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05.xml"/><Relationship Id="rId9" Type="http://schemas.openxmlformats.org/officeDocument/2006/relationships/slideLayout" Target="../slideLayouts/slideLayout206.xml"/><Relationship Id="rId10" Type="http://schemas.openxmlformats.org/officeDocument/2006/relationships/slideLayout" Target="../slideLayouts/slideLayout207.xml"/><Relationship Id="rId11" Type="http://schemas.openxmlformats.org/officeDocument/2006/relationships/slideLayout" Target="../slideLayouts/slideLayout208.xml"/><Relationship Id="rId12" Type="http://schemas.openxmlformats.org/officeDocument/2006/relationships/slideLayout" Target="../slideLayouts/slideLayout209.xml"/><Relationship Id="rId13" Type="http://schemas.openxmlformats.org/officeDocument/2006/relationships/slideLayout" Target="../slideLayouts/slideLayout210.xml"/><Relationship Id="rId14" Type="http://schemas.openxmlformats.org/officeDocument/2006/relationships/slideLayout" Target="../slideLayouts/slideLayout211.xml"/><Relationship Id="rId15" Type="http://schemas.openxmlformats.org/officeDocument/2006/relationships/slideLayout" Target="../slideLayouts/slideLayout212.xml"/><Relationship Id="rId16" Type="http://schemas.openxmlformats.org/officeDocument/2006/relationships/slideLayout" Target="../slideLayouts/slideLayout213.xml"/><Relationship Id="rId17" Type="http://schemas.openxmlformats.org/officeDocument/2006/relationships/slideLayout" Target="../slideLayouts/slideLayout214.xml"/><Relationship Id="rId18" Type="http://schemas.openxmlformats.org/officeDocument/2006/relationships/slideLayout" Target="../slideLayouts/slideLayout215.xml"/><Relationship Id="rId19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41.xml"/><Relationship Id="rId9" Type="http://schemas.openxmlformats.org/officeDocument/2006/relationships/slideLayout" Target="../slideLayouts/slideLayout242.xml"/><Relationship Id="rId10" Type="http://schemas.openxmlformats.org/officeDocument/2006/relationships/slideLayout" Target="../slideLayouts/slideLayout243.xml"/><Relationship Id="rId11" Type="http://schemas.openxmlformats.org/officeDocument/2006/relationships/slideLayout" Target="../slideLayouts/slideLayout244.xml"/><Relationship Id="rId12" Type="http://schemas.openxmlformats.org/officeDocument/2006/relationships/slideLayout" Target="../slideLayouts/slideLayout245.xml"/><Relationship Id="rId13" Type="http://schemas.openxmlformats.org/officeDocument/2006/relationships/slideLayout" Target="../slideLayouts/slideLayout246.xml"/><Relationship Id="rId14" Type="http://schemas.openxmlformats.org/officeDocument/2006/relationships/slideLayout" Target="../slideLayouts/slideLayout247.xml"/><Relationship Id="rId15" Type="http://schemas.openxmlformats.org/officeDocument/2006/relationships/slideLayout" Target="../slideLayouts/slideLayout248.xml"/><Relationship Id="rId16" Type="http://schemas.openxmlformats.org/officeDocument/2006/relationships/slideLayout" Target="../slideLayouts/slideLayout249.xml"/><Relationship Id="rId17" Type="http://schemas.openxmlformats.org/officeDocument/2006/relationships/slideLayout" Target="../slideLayouts/slideLayout250.xml"/><Relationship Id="rId18" Type="http://schemas.openxmlformats.org/officeDocument/2006/relationships/slideLayout" Target="../slideLayouts/slideLayout251.xml"/><Relationship Id="rId19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65.xml"/><Relationship Id="rId9" Type="http://schemas.openxmlformats.org/officeDocument/2006/relationships/slideLayout" Target="../slideLayouts/slideLayout266.xml"/><Relationship Id="rId10" Type="http://schemas.openxmlformats.org/officeDocument/2006/relationships/slideLayout" Target="../slideLayouts/slideLayout267.xml"/><Relationship Id="rId11" Type="http://schemas.openxmlformats.org/officeDocument/2006/relationships/slideLayout" Target="../slideLayouts/slideLayout268.xml"/><Relationship Id="rId12" Type="http://schemas.openxmlformats.org/officeDocument/2006/relationships/slideLayout" Target="../slideLayouts/slideLayout269.xml"/><Relationship Id="rId13" Type="http://schemas.openxmlformats.org/officeDocument/2006/relationships/slideLayout" Target="../slideLayouts/slideLayout270.xml"/><Relationship Id="rId14" Type="http://schemas.openxmlformats.org/officeDocument/2006/relationships/slideLayout" Target="../slideLayouts/slideLayout271.xml"/><Relationship Id="rId15" Type="http://schemas.openxmlformats.org/officeDocument/2006/relationships/slideLayout" Target="../slideLayouts/slideLayout272.xml"/><Relationship Id="rId16" Type="http://schemas.openxmlformats.org/officeDocument/2006/relationships/slideLayout" Target="../slideLayouts/slideLayout273.xml"/><Relationship Id="rId17" Type="http://schemas.openxmlformats.org/officeDocument/2006/relationships/slideLayout" Target="../slideLayouts/slideLayout274.xml"/><Relationship Id="rId18" Type="http://schemas.openxmlformats.org/officeDocument/2006/relationships/slideLayout" Target="../slideLayouts/slideLayout275.xml"/><Relationship Id="rId19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77.xml"/><Relationship Id="rId9" Type="http://schemas.openxmlformats.org/officeDocument/2006/relationships/slideLayout" Target="../slideLayouts/slideLayout278.xml"/><Relationship Id="rId10" Type="http://schemas.openxmlformats.org/officeDocument/2006/relationships/slideLayout" Target="../slideLayouts/slideLayout279.xml"/><Relationship Id="rId11" Type="http://schemas.openxmlformats.org/officeDocument/2006/relationships/slideLayout" Target="../slideLayouts/slideLayout280.xml"/><Relationship Id="rId12" Type="http://schemas.openxmlformats.org/officeDocument/2006/relationships/slideLayout" Target="../slideLayouts/slideLayout281.xml"/><Relationship Id="rId13" Type="http://schemas.openxmlformats.org/officeDocument/2006/relationships/slideLayout" Target="../slideLayouts/slideLayout282.xml"/><Relationship Id="rId14" Type="http://schemas.openxmlformats.org/officeDocument/2006/relationships/slideLayout" Target="../slideLayouts/slideLayout283.xml"/><Relationship Id="rId15" Type="http://schemas.openxmlformats.org/officeDocument/2006/relationships/slideLayout" Target="../slideLayouts/slideLayout284.xml"/><Relationship Id="rId16" Type="http://schemas.openxmlformats.org/officeDocument/2006/relationships/slideLayout" Target="../slideLayouts/slideLayout285.xml"/><Relationship Id="rId17" Type="http://schemas.openxmlformats.org/officeDocument/2006/relationships/slideLayout" Target="../slideLayouts/slideLayout286.xml"/><Relationship Id="rId18" Type="http://schemas.openxmlformats.org/officeDocument/2006/relationships/slideLayout" Target="../slideLayouts/slideLayout287.xml"/><Relationship Id="rId19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89.xml"/><Relationship Id="rId9" Type="http://schemas.openxmlformats.org/officeDocument/2006/relationships/slideLayout" Target="../slideLayouts/slideLayout290.xml"/><Relationship Id="rId10" Type="http://schemas.openxmlformats.org/officeDocument/2006/relationships/slideLayout" Target="../slideLayouts/slideLayout291.xml"/><Relationship Id="rId11" Type="http://schemas.openxmlformats.org/officeDocument/2006/relationships/slideLayout" Target="../slideLayouts/slideLayout292.xml"/><Relationship Id="rId12" Type="http://schemas.openxmlformats.org/officeDocument/2006/relationships/slideLayout" Target="../slideLayouts/slideLayout293.xml"/><Relationship Id="rId13" Type="http://schemas.openxmlformats.org/officeDocument/2006/relationships/slideLayout" Target="../slideLayouts/slideLayout294.xml"/><Relationship Id="rId14" Type="http://schemas.openxmlformats.org/officeDocument/2006/relationships/slideLayout" Target="../slideLayouts/slideLayout295.xml"/><Relationship Id="rId15" Type="http://schemas.openxmlformats.org/officeDocument/2006/relationships/slideLayout" Target="../slideLayouts/slideLayout296.xml"/><Relationship Id="rId16" Type="http://schemas.openxmlformats.org/officeDocument/2006/relationships/slideLayout" Target="../slideLayouts/slideLayout297.xml"/><Relationship Id="rId17" Type="http://schemas.openxmlformats.org/officeDocument/2006/relationships/slideLayout" Target="../slideLayouts/slideLayout298.xml"/><Relationship Id="rId18" Type="http://schemas.openxmlformats.org/officeDocument/2006/relationships/slideLayout" Target="../slideLayouts/slideLayout299.xml"/><Relationship Id="rId19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01.xml"/><Relationship Id="rId9" Type="http://schemas.openxmlformats.org/officeDocument/2006/relationships/slideLayout" Target="../slideLayouts/slideLayout302.xml"/><Relationship Id="rId10" Type="http://schemas.openxmlformats.org/officeDocument/2006/relationships/slideLayout" Target="../slideLayouts/slideLayout303.xml"/><Relationship Id="rId11" Type="http://schemas.openxmlformats.org/officeDocument/2006/relationships/slideLayout" Target="../slideLayouts/slideLayout304.xml"/><Relationship Id="rId12" Type="http://schemas.openxmlformats.org/officeDocument/2006/relationships/slideLayout" Target="../slideLayouts/slideLayout305.xml"/><Relationship Id="rId13" Type="http://schemas.openxmlformats.org/officeDocument/2006/relationships/slideLayout" Target="../slideLayouts/slideLayout306.xml"/><Relationship Id="rId14" Type="http://schemas.openxmlformats.org/officeDocument/2006/relationships/slideLayout" Target="../slideLayouts/slideLayout307.xml"/><Relationship Id="rId15" Type="http://schemas.openxmlformats.org/officeDocument/2006/relationships/slideLayout" Target="../slideLayouts/slideLayout308.xml"/><Relationship Id="rId16" Type="http://schemas.openxmlformats.org/officeDocument/2006/relationships/slideLayout" Target="../slideLayouts/slideLayout309.xml"/><Relationship Id="rId17" Type="http://schemas.openxmlformats.org/officeDocument/2006/relationships/slideLayout" Target="../slideLayouts/slideLayout310.xml"/><Relationship Id="rId18" Type="http://schemas.openxmlformats.org/officeDocument/2006/relationships/slideLayout" Target="../slideLayouts/slideLayout311.xml"/><Relationship Id="rId19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97.xml"/><Relationship Id="rId9" Type="http://schemas.openxmlformats.org/officeDocument/2006/relationships/slideLayout" Target="../slideLayouts/slideLayout98.xml"/><Relationship Id="rId10" Type="http://schemas.openxmlformats.org/officeDocument/2006/relationships/slideLayout" Target="../slideLayouts/slideLayout99.xml"/><Relationship Id="rId11" Type="http://schemas.openxmlformats.org/officeDocument/2006/relationships/slideLayout" Target="../slideLayouts/slideLayout100.xml"/><Relationship Id="rId12" Type="http://schemas.openxmlformats.org/officeDocument/2006/relationships/slideLayout" Target="../slideLayouts/slideLayout101.xml"/><Relationship Id="rId13" Type="http://schemas.openxmlformats.org/officeDocument/2006/relationships/slideLayout" Target="../slideLayouts/slideLayout102.xml"/><Relationship Id="rId14" Type="http://schemas.openxmlformats.org/officeDocument/2006/relationships/slideLayout" Target="../slideLayouts/slideLayout103.xml"/><Relationship Id="rId15" Type="http://schemas.openxmlformats.org/officeDocument/2006/relationships/slideLayout" Target="../slideLayouts/slideLayout104.xml"/><Relationship Id="rId16" Type="http://schemas.openxmlformats.org/officeDocument/2006/relationships/slideLayout" Target="../slideLayouts/slideLayout105.xml"/><Relationship Id="rId17" Type="http://schemas.openxmlformats.org/officeDocument/2006/relationships/slideLayout" Target="../slideLayouts/slideLayout106.xml"/><Relationship Id="rId18" Type="http://schemas.openxmlformats.org/officeDocument/2006/relationships/slideLayout" Target="../slideLayouts/slideLayout107.xml"/><Relationship Id="rId19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EBEA-FC0B-4E59-9694-8A6E7143C8D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1E9C-A9D3-4090-A2D1-D2DB3831E3F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8"/>
    <p:sldLayoutId id="2147483767" r:id="rId9"/>
    <p:sldLayoutId id="2147483768" r:id="rId10"/>
    <p:sldLayoutId id="2147483769" r:id="rId11"/>
    <p:sldLayoutId id="2147483770" r:id="rId12"/>
    <p:sldLayoutId id="2147483771" r:id="rId13"/>
    <p:sldLayoutId id="2147483772" r:id="rId14"/>
    <p:sldLayoutId id="2147483773" r:id="rId15"/>
    <p:sldLayoutId id="2147483774" r:id="rId16"/>
    <p:sldLayoutId id="2147483775" r:id="rId17"/>
    <p:sldLayoutId id="2147483776" r:id="rId18"/>
    <p:sldLayoutId id="2147483777" r:id="rId19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0067-4C82-4C0C-AEDE-6240CE562BE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8"/>
    <p:sldLayoutId id="2147483780" r:id="rId9"/>
    <p:sldLayoutId id="2147483781" r:id="rId10"/>
    <p:sldLayoutId id="2147483782" r:id="rId11"/>
    <p:sldLayoutId id="2147483783" r:id="rId12"/>
    <p:sldLayoutId id="2147483784" r:id="rId13"/>
    <p:sldLayoutId id="2147483785" r:id="rId14"/>
    <p:sldLayoutId id="2147483786" r:id="rId15"/>
    <p:sldLayoutId id="2147483787" r:id="rId16"/>
    <p:sldLayoutId id="2147483788" r:id="rId17"/>
    <p:sldLayoutId id="2147483789" r:id="rId18"/>
    <p:sldLayoutId id="2147483790" r:id="rId19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D43A-7F83-41CD-9F17-0CE390D1116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1411-A86F-4FB5-A4D9-CF51D00BDFA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8"/>
    <p:sldLayoutId id="2147483806" r:id="rId9"/>
    <p:sldLayoutId id="2147483807" r:id="rId10"/>
    <p:sldLayoutId id="2147483808" r:id="rId11"/>
    <p:sldLayoutId id="2147483809" r:id="rId12"/>
    <p:sldLayoutId id="2147483810" r:id="rId13"/>
    <p:sldLayoutId id="2147483811" r:id="rId14"/>
    <p:sldLayoutId id="2147483812" r:id="rId15"/>
    <p:sldLayoutId id="2147483813" r:id="rId16"/>
    <p:sldLayoutId id="2147483814" r:id="rId17"/>
    <p:sldLayoutId id="2147483815" r:id="rId18"/>
    <p:sldLayoutId id="2147483816" r:id="rId19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80E9-6DA6-47FC-8060-5C34BBCC3AB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8"/>
    <p:sldLayoutId id="2147483819" r:id="rId9"/>
    <p:sldLayoutId id="2147483820" r:id="rId10"/>
    <p:sldLayoutId id="2147483821" r:id="rId11"/>
    <p:sldLayoutId id="2147483822" r:id="rId12"/>
    <p:sldLayoutId id="2147483823" r:id="rId13"/>
    <p:sldLayoutId id="2147483824" r:id="rId14"/>
    <p:sldLayoutId id="2147483825" r:id="rId15"/>
    <p:sldLayoutId id="2147483826" r:id="rId16"/>
    <p:sldLayoutId id="2147483827" r:id="rId17"/>
    <p:sldLayoutId id="2147483828" r:id="rId18"/>
    <p:sldLayoutId id="2147483829" r:id="rId19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6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6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7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7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5D142-41B3-404A-AFDA-B78071CA4F1D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8"/>
    <p:sldLayoutId id="2147483832" r:id="rId9"/>
    <p:sldLayoutId id="2147483833" r:id="rId10"/>
    <p:sldLayoutId id="2147483834" r:id="rId11"/>
    <p:sldLayoutId id="2147483835" r:id="rId12"/>
    <p:sldLayoutId id="2147483836" r:id="rId13"/>
    <p:sldLayoutId id="2147483837" r:id="rId14"/>
    <p:sldLayoutId id="2147483838" r:id="rId15"/>
    <p:sldLayoutId id="2147483839" r:id="rId16"/>
    <p:sldLayoutId id="2147483840" r:id="rId17"/>
    <p:sldLayoutId id="2147483841" r:id="rId18"/>
    <p:sldLayoutId id="2147483842" r:id="rId19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 type="dt" idx="4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51A5-03D3-4774-8501-33D583497840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8"/>
    <p:sldLayoutId id="2147483845" r:id="rId9"/>
    <p:sldLayoutId id="2147483846" r:id="rId10"/>
    <p:sldLayoutId id="2147483847" r:id="rId11"/>
    <p:sldLayoutId id="2147483848" r:id="rId12"/>
    <p:sldLayoutId id="2147483849" r:id="rId13"/>
    <p:sldLayoutId id="2147483850" r:id="rId14"/>
    <p:sldLayoutId id="2147483851" r:id="rId15"/>
    <p:sldLayoutId id="2147483852" r:id="rId16"/>
    <p:sldLayoutId id="2147483853" r:id="rId17"/>
    <p:sldLayoutId id="2147483854" r:id="rId18"/>
    <p:sldLayoutId id="2147483855" r:id="rId19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796F-E544-4880-AB42-92F18CF0E1B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4287A-C4C1-4C60-B769-F409B611F7D3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8"/>
    <p:sldLayoutId id="2147483871" r:id="rId9"/>
    <p:sldLayoutId id="2147483872" r:id="rId10"/>
    <p:sldLayoutId id="2147483873" r:id="rId11"/>
    <p:sldLayoutId id="2147483874" r:id="rId12"/>
    <p:sldLayoutId id="2147483875" r:id="rId13"/>
    <p:sldLayoutId id="2147483876" r:id="rId14"/>
    <p:sldLayoutId id="2147483877" r:id="rId15"/>
    <p:sldLayoutId id="2147483878" r:id="rId16"/>
    <p:sldLayoutId id="2147483879" r:id="rId17"/>
    <p:sldLayoutId id="2147483880" r:id="rId18"/>
    <p:sldLayoutId id="2147483881" r:id="rId19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 type="dt" idx="5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AE5F-11DC-452B-95BD-6F91C976C20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92E1-BC75-43DA-810E-9B15734EE45F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 type="dt" idx="5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91E3F-2A18-48D2-86D9-589B106E7D9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6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C14B-3013-4DFE-9977-A4C969439F35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8"/>
    <p:sldLayoutId id="2147483910" r:id="rId9"/>
    <p:sldLayoutId id="2147483911" r:id="rId10"/>
    <p:sldLayoutId id="2147483912" r:id="rId11"/>
    <p:sldLayoutId id="2147483913" r:id="rId12"/>
    <p:sldLayoutId id="2147483914" r:id="rId13"/>
    <p:sldLayoutId id="2147483915" r:id="rId14"/>
    <p:sldLayoutId id="2147483916" r:id="rId15"/>
    <p:sldLayoutId id="2147483917" r:id="rId16"/>
    <p:sldLayoutId id="2147483918" r:id="rId17"/>
    <p:sldLayoutId id="2147483919" r:id="rId18"/>
    <p:sldLayoutId id="2147483920" r:id="rId19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 type="dt" idx="6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6DB4-1593-4F1F-85C4-8594E71697C3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4E47-E852-4ADF-9077-7D3888475CAE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8"/>
    <p:sldLayoutId id="2147483936" r:id="rId9"/>
    <p:sldLayoutId id="2147483937" r:id="rId10"/>
    <p:sldLayoutId id="2147483938" r:id="rId11"/>
    <p:sldLayoutId id="2147483939" r:id="rId12"/>
    <p:sldLayoutId id="2147483940" r:id="rId13"/>
    <p:sldLayoutId id="2147483941" r:id="rId14"/>
    <p:sldLayoutId id="2147483942" r:id="rId15"/>
    <p:sldLayoutId id="2147483943" r:id="rId16"/>
    <p:sldLayoutId id="2147483944" r:id="rId17"/>
    <p:sldLayoutId id="2147483945" r:id="rId18"/>
    <p:sldLayoutId id="2147483946" r:id="rId19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3D94-13A5-411A-8254-5AEA11C245DB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8"/>
    <p:sldLayoutId id="2147483949" r:id="rId9"/>
    <p:sldLayoutId id="2147483950" r:id="rId10"/>
    <p:sldLayoutId id="2147483951" r:id="rId11"/>
    <p:sldLayoutId id="2147483952" r:id="rId12"/>
    <p:sldLayoutId id="2147483953" r:id="rId13"/>
    <p:sldLayoutId id="2147483954" r:id="rId14"/>
    <p:sldLayoutId id="2147483955" r:id="rId15"/>
    <p:sldLayoutId id="2147483956" r:id="rId16"/>
    <p:sldLayoutId id="2147483957" r:id="rId17"/>
    <p:sldLayoutId id="2147483958" r:id="rId18"/>
    <p:sldLayoutId id="2147483959" r:id="rId19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 type="dt" idx="7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67217-9492-4E1D-A8AF-F3E48B7D87E6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8"/>
    <p:sldLayoutId id="2147483962" r:id="rId9"/>
    <p:sldLayoutId id="2147483963" r:id="rId10"/>
    <p:sldLayoutId id="2147483964" r:id="rId11"/>
    <p:sldLayoutId id="2147483965" r:id="rId12"/>
    <p:sldLayoutId id="2147483966" r:id="rId13"/>
    <p:sldLayoutId id="2147483967" r:id="rId14"/>
    <p:sldLayoutId id="2147483968" r:id="rId15"/>
    <p:sldLayoutId id="2147483969" r:id="rId16"/>
    <p:sldLayoutId id="2147483970" r:id="rId17"/>
    <p:sldLayoutId id="2147483971" r:id="rId18"/>
    <p:sldLayoutId id="2147483972" r:id="rId19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 type="dt" idx="7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E216-8B71-4D14-B3A9-35E2DADABDDE}" type="slidenum">
              <a:rPr b="0" lang="sk-SK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8"/>
    <p:sldLayoutId id="2147483975" r:id="rId9"/>
    <p:sldLayoutId id="2147483976" r:id="rId10"/>
    <p:sldLayoutId id="2147483977" r:id="rId11"/>
    <p:sldLayoutId id="2147483978" r:id="rId12"/>
    <p:sldLayoutId id="2147483979" r:id="rId13"/>
    <p:sldLayoutId id="2147483980" r:id="rId14"/>
    <p:sldLayoutId id="2147483981" r:id="rId15"/>
    <p:sldLayoutId id="2147483982" r:id="rId16"/>
    <p:sldLayoutId id="2147483983" r:id="rId17"/>
    <p:sldLayoutId id="2147483984" r:id="rId18"/>
    <p:sldLayoutId id="2147483985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61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2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3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4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5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6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7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8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69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0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1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72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73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74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5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6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7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8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9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0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1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2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3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4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5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9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0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4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5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6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7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8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0BE33-5D8C-4900-89A5-28CD5AD3909A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2A7D-2869-4291-B656-66845E281E08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B1F5-3B24-4FE5-B78E-06A612E7283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73C3-8417-48FC-9E0A-3DB0C600D2D1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B95E-717A-4004-84BC-A771E9312FB1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2E99-1820-4507-BF76-8AECE5154C72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2DF2B-5032-4DED-8B5C-41E95948E8B9}" type="slidenum">
              <a:rPr b="0" lang="sk-SK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8"/>
    <p:sldLayoutId id="2147483754" r:id="rId9"/>
    <p:sldLayoutId id="2147483755" r:id="rId10"/>
    <p:sldLayoutId id="2147483756" r:id="rId11"/>
    <p:sldLayoutId id="2147483757" r:id="rId12"/>
    <p:sldLayoutId id="2147483758" r:id="rId13"/>
    <p:sldLayoutId id="2147483759" r:id="rId14"/>
    <p:sldLayoutId id="2147483760" r:id="rId15"/>
    <p:sldLayoutId id="2147483761" r:id="rId16"/>
    <p:sldLayoutId id="2147483762" r:id="rId17"/>
    <p:sldLayoutId id="2147483763" r:id="rId18"/>
    <p:sldLayoutId id="2147483764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57120" y="2928600"/>
            <a:ext cx="5143680" cy="19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200" spc="-1" strike="noStrike">
                <a:solidFill>
                  <a:srgbClr val="ffffff"/>
                </a:solidFill>
                <a:latin typeface="Arial"/>
              </a:rPr>
              <a:t>Implementácia OPV v rámci dopytovo- orientovaných projektov SORO ASFEU</a:t>
            </a:r>
            <a:br>
              <a:rPr sz="1600"/>
            </a:br>
            <a:endParaRPr b="0" lang="en-US" sz="2200" spc="-1" strike="noStrike">
              <a:solidFill>
                <a:srgbClr val="ffff99"/>
              </a:solidFill>
              <a:latin typeface="Arial"/>
            </a:endParaRPr>
          </a:p>
        </p:txBody>
      </p:sp>
      <p:grpSp>
        <p:nvGrpSpPr>
          <p:cNvPr id="1223" name="Skupina 6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224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25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356760" y="5124600"/>
            <a:ext cx="528660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F EÚ </a:t>
            </a:r>
            <a:br>
              <a:rPr sz="1000"/>
            </a:b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07. 06. 2013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9" name="TextovéPole 6"/>
          <p:cNvSpPr/>
          <p:nvPr/>
        </p:nvSpPr>
        <p:spPr>
          <a:xfrm>
            <a:off x="357120" y="2071800"/>
            <a:ext cx="8429760" cy="38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 dňoch od 28.05.2013 – 31.05.2013 uskutočnilo ASFEU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Informačné dni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 pre prijímateľov NFP, OPV v štyroch slovenských mestách na témy: Aktualizácia Príručky pre prijímateľa NFP, OPV; Najčastejšie chyby v predložených žiadostiach o platbu (zálohové platby, zúčtovania zálohových platieb, priebežné platby a záverečné platby)  a Zistenia auditov a certifikačných overovaní na projektoch realizovaných prijímateľmi nenávratného finančného príspevku v rámci dopytovo – orientovaných projektov. Pričom v Bratislave mali prijímatelia možnosť zúčastniť sa aj tzv. prípadových štúdií na témy: Ako najlepšie požiadať o Zmenu zmluvy; Najlepšia žiadosť o platbu a ako finančne ukončiť projekt; Ako nerobiť chyby pri predkladaní žiadosti o platbu; Monitorovacia správa ako má byť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uskutočnenie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acovného stretnutia s úspešnými žiadateľmi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dňa 23. 05. 2013 v rámci dvoch výziev opatrenia 1.2 (OPV-2012/1.2/05-SORO a OPV-2012/1.2/06-SORO) 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0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1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02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3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04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05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7" name="TextovéPole 6"/>
          <p:cNvSpPr/>
          <p:nvPr/>
        </p:nvSpPr>
        <p:spPr>
          <a:xfrm>
            <a:off x="714240" y="2071800"/>
            <a:ext cx="8072640" cy="39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2b0000"/>
                </a:solidFill>
                <a:latin typeface="Arial"/>
              </a:rPr>
              <a:t>zavedenie ex-ante kontroly verejného obstarávania pred jeho vyhlásením, pri zákazkách s plánovaným vyhlásením od 01. 06. 2013 (vrátane) s hodnotou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80 000,00 EUR (bez DPH) a viac – povin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40 000,00 EUR (bez DPH) – 79 999,99 EUR (bez DPH) – dobrovoľn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	</a:t>
            </a: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Prijímateľ je povinný predložiť na pilotnú kontrolu nasledujúcu dokumentáciu: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určenie predpokladanej hodnoty zákazky (výpočet predpokladanej hodnoty zákazky musí preukazovať, že predmet zákazky vychádza z ceny, za ktorú sa obvykle predáva rovnaký, alebo porovnateľný predmet zákazky v čase vyhlásenia verejného obstarávania)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návrh oznámenie o vyhlásení verejného obstarávania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návrh súťažných podkladov;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2b0000"/>
                </a:solidFill>
                <a:latin typeface="Arial"/>
              </a:rPr>
              <a:t>rozpočet projektu s vyznačením položiek, ktorých sa predmetné verejné obstarávanie dotýka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08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09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1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12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3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5" name="TextovéPole 6"/>
          <p:cNvSpPr/>
          <p:nvPr/>
        </p:nvSpPr>
        <p:spPr>
          <a:xfrm>
            <a:off x="714240" y="2071800"/>
            <a:ext cx="8072640" cy="30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k 31. 05. 2013 vydala ASFEU tri nové Usmernenia pre prijímateľov NFP, OP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vo veci periodicity predkladania plánov a harmonogramu verejných obstarávaní a iných náležitostí výkonu verejného obstarávania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vo veci zúčtovania minimálne 50 % z poskytnutej zálohovej platby do 6 mesiacov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Usmernenie o koordinácií systémov sociálneho zabezpečenia EÚ pri vykonávaní činnosti zamestnancov na území dvoch a viacerých členských štátov zapojených do projektov realizovaných cez OP Vzdelávani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6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17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18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9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0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1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/>
          </p:nvPr>
        </p:nvSpPr>
        <p:spPr>
          <a:xfrm>
            <a:off x="642960" y="1428480"/>
            <a:ext cx="85010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Opatreni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3" name="TextovéPole 6"/>
          <p:cNvSpPr/>
          <p:nvPr/>
        </p:nvSpPr>
        <p:spPr>
          <a:xfrm>
            <a:off x="714240" y="2071800"/>
            <a:ext cx="8072640" cy="28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S cieľom zabezpečiť naplnenie plánovaného čerpania na rok 2013 ASFEU prijala viacero opatrení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prerozdelila proces predbežnej finančnej kontroly a proces zazmluvňovan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medzi oddelenia (t.j. dve oddelenia zo štyroch vykonávajú proces PFK a dve oddelenia proces zazmluvňovania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proces predbežnej finančnej kontroly sa vykonáva len 2 týždne z mesiaca tak, aby projektoví manažéri mali čas len na administratívnu kontrolu ŽoP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zaviedla pilotné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mesačné stretnut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k rizikovým projektom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zreálnila plán čerpania 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 základe kapacity prijímateľov predkladať žiadosti o platbu a na základe kapacity ASFEU ich následne zúčtovávať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2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32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2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2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32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86880" y="3714840"/>
            <a:ext cx="48848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          </a:t>
            </a:r>
            <a:r>
              <a:rPr b="0" i="1" lang="sk-SK" sz="3200" spc="-1" strike="noStrike">
                <a:solidFill>
                  <a:srgbClr val="ffffff"/>
                </a:solidFill>
                <a:latin typeface="Brush Script MT"/>
              </a:rPr>
              <a:t>Ďakujem za pozornosť.</a:t>
            </a:r>
            <a:endParaRPr b="0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356760" y="5143680"/>
            <a:ext cx="5357880" cy="5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Projekt je spolufinancovaný zo zdrojov EÚ 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c000"/>
                </a:solidFill>
                <a:latin typeface="Arial"/>
              </a:rPr>
              <a:t>©</a:t>
            </a:r>
            <a:r>
              <a:rPr b="0" lang="sk-SK" sz="1000" spc="-1" strike="noStrike">
                <a:solidFill>
                  <a:srgbClr val="ffc000"/>
                </a:solidFill>
                <a:latin typeface="Arial"/>
              </a:rPr>
              <a:t> Agentúra Ministerstva školstva, vedy, výskumu a športu SR pre štrukturálne fondy EÚ</a:t>
            </a: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32" name="Skupina 4"/>
          <p:cNvGrpSpPr/>
          <p:nvPr/>
        </p:nvGrpSpPr>
        <p:grpSpPr>
          <a:xfrm>
            <a:off x="642960" y="1143000"/>
            <a:ext cx="1379520" cy="428760"/>
            <a:chOff x="642960" y="1143000"/>
            <a:chExt cx="1379520" cy="428760"/>
          </a:xfrm>
        </p:grpSpPr>
        <p:sp>
          <p:nvSpPr>
            <p:cNvPr id="1333" name="Obdĺžnik 5"/>
            <p:cNvSpPr/>
            <p:nvPr/>
          </p:nvSpPr>
          <p:spPr>
            <a:xfrm>
              <a:off x="714240" y="114300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334" name="Picture 7" descr="agentura_cmyk"/>
            <p:cNvPicPr/>
            <p:nvPr/>
          </p:nvPicPr>
          <p:blipFill>
            <a:blip r:embed="rId2"/>
            <a:stretch/>
          </p:blipFill>
          <p:spPr>
            <a:xfrm>
              <a:off x="642960" y="121428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8" name="TextovéPole 6"/>
          <p:cNvSpPr/>
          <p:nvPr/>
        </p:nvSpPr>
        <p:spPr>
          <a:xfrm>
            <a:off x="714240" y="2133720"/>
            <a:ext cx="7715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kontrahovania a čerpani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 05. 2013 </a:t>
            </a: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za SORO ASFEU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29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0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31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2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33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4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35" name=""/>
          <p:cNvGraphicFramePr/>
          <p:nvPr/>
        </p:nvGraphicFramePr>
        <p:xfrm>
          <a:off x="971640" y="2637000"/>
          <a:ext cx="7561080" cy="2974680"/>
        </p:xfrm>
        <a:graphic>
          <a:graphicData uri="http://schemas.openxmlformats.org/drawingml/2006/table">
            <a:tbl>
              <a:tblPr/>
              <a:tblGrid>
                <a:gridCol w="1962000"/>
                <a:gridCol w="1768680"/>
                <a:gridCol w="1438200"/>
                <a:gridCol w="2392200"/>
              </a:tblGrid>
              <a:tr h="637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Kontrahovanie (EÚ)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Čerpanie (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% Čerpanie / Kontrahova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98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385 665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,7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7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95 000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489 722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295 070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,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26 331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186 409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7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41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37 769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750 83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82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60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6 554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6,0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4618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059 767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 642 026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,8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/>
          </p:nvPr>
        </p:nvSpPr>
        <p:spPr>
          <a:xfrm>
            <a:off x="642960" y="1500120"/>
            <a:ext cx="75009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Základné informácie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7" name="TextovéPole 6"/>
          <p:cNvSpPr/>
          <p:nvPr/>
        </p:nvSpPr>
        <p:spPr>
          <a:xfrm>
            <a:off x="714240" y="2133720"/>
            <a:ext cx="77155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Prehľad projektov v realizácií a ukončených projektov podľa výziev SORO ASFEU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  <a:ea typeface="Aharoni"/>
              </a:rPr>
              <a:t>k 31.05.2013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  <a:ea typeface="Aharoni"/>
              </a:rPr>
              <a:t>Sumárn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8" name="Skupina 5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39" name="Obdĺžnik 7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0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1" name="Skupina 12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42" name="Obdĺžnik 11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3" name="BlokTextu 10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44" name=""/>
          <p:cNvGraphicFramePr/>
          <p:nvPr/>
        </p:nvGraphicFramePr>
        <p:xfrm>
          <a:off x="900000" y="3213000"/>
          <a:ext cx="7704360" cy="2808360"/>
        </p:xfrm>
        <a:graphic>
          <a:graphicData uri="http://schemas.openxmlformats.org/drawingml/2006/table">
            <a:tbl>
              <a:tblPr/>
              <a:tblGrid>
                <a:gridCol w="2006640"/>
                <a:gridCol w="1362240"/>
                <a:gridCol w="1611360"/>
                <a:gridCol w="1361880"/>
                <a:gridCol w="1362240"/>
              </a:tblGrid>
              <a:tr h="793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zazmluvn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azmluvnená suma (zdroj EÚ)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projektov v realizácii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očet ukončených projektov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1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0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6 361 537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95 000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842 426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24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 126 331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4 468,4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23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3 942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50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 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726 060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38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4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0 059 767,3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Riziká plnenia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6" name="TextovéPole 6"/>
          <p:cNvSpPr/>
          <p:nvPr/>
        </p:nvSpPr>
        <p:spPr>
          <a:xfrm>
            <a:off x="357120" y="2349360"/>
            <a:ext cx="8429760" cy="33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ako rizikové pri plnení plánu čerpania na rok 2013 vidí ASFEU najmä mesiace máj, jún, október a november 2013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2b0000"/>
                </a:solidFill>
                <a:latin typeface="Arial"/>
              </a:rPr>
              <a:t>dôvodom identifikácie rizikovosti je</a:t>
            </a: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v uvedených mesiacov je vysoký podiel odhadu čerpania v daných mesiacoch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admerná záťaž projektových manažérov, ktorí vykonávajú proces administratívnej kontroly žiadostí o platbu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nedostatočný objem žiadostí o platbu predložených zo strany prijímateľov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2b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2b0000"/>
                </a:solidFill>
                <a:latin typeface="Arial"/>
              </a:rPr>
              <a:t>ASFEU preto prehodnotila svoj plán čerpania a nastavila nový plán čerpania na jednotlivé mesiace od júna 2013 – decembra 2013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47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48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49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0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1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2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4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55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56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57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58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59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0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61" name=""/>
          <p:cNvGraphicFramePr/>
          <p:nvPr/>
        </p:nvGraphicFramePr>
        <p:xfrm>
          <a:off x="368280" y="2462040"/>
          <a:ext cx="8418600" cy="3472200"/>
        </p:xfrm>
        <a:graphic>
          <a:graphicData uri="http://schemas.openxmlformats.org/drawingml/2006/table">
            <a:tbl>
              <a:tblPr/>
              <a:tblGrid>
                <a:gridCol w="1203480"/>
                <a:gridCol w="1201680"/>
                <a:gridCol w="1203120"/>
                <a:gridCol w="1202040"/>
                <a:gridCol w="1203120"/>
                <a:gridCol w="1201680"/>
                <a:gridCol w="1203480"/>
              </a:tblGrid>
              <a:tr h="24480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príl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Máj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5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racované ŽoP a odoslané na PJ za mesia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6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54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99 442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52 50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158 974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36 307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17 180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08 687,9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26 125,9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4 799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01 58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92 761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02 12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588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0 238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3 938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2 269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332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 759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0 537,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15 987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7 272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1 009,0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22 587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0 842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3 082,6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62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2 984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5 530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7 354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730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8 700,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444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5 365,9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712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 65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400" rIns="5400" tIns="540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09 258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9 369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302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62 8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 170,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6 076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400" rIns="5400" tIns="540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437 509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606 392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895 881,9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188 691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70 571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400" rIns="5400" tIns="540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0 359,5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400" marR="5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3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64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65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66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7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68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69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70" name=""/>
          <p:cNvGraphicFramePr/>
          <p:nvPr/>
        </p:nvGraphicFramePr>
        <p:xfrm>
          <a:off x="357120" y="2503440"/>
          <a:ext cx="8429760" cy="3711600"/>
        </p:xfrm>
        <a:graphic>
          <a:graphicData uri="http://schemas.openxmlformats.org/drawingml/2006/table">
            <a:tbl>
              <a:tblPr/>
              <a:tblGrid>
                <a:gridCol w="901800"/>
                <a:gridCol w="1297080"/>
                <a:gridCol w="1150920"/>
                <a:gridCol w="1238040"/>
                <a:gridCol w="1238400"/>
                <a:gridCol w="1303200"/>
                <a:gridCol w="1300320"/>
              </a:tblGrid>
              <a:tr h="2095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ú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jú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august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82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358 76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85 032,2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48 965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11 089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55 98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17 268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9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5 874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78 102,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95 369,8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51 925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2 416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58 126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9 990,3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995,5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5 81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4 316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9 250,9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7 340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11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05 857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78 694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4 875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0 290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05 570,5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80 902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09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6 258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3 479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2 58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2 677,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1 229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1 481,6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10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224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65 041,6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1 919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5 698,3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0 614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6 782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0 36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407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 491 788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86 222,7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53 311,9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10 914,5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81 237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535 488,6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2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73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74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75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76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77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78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79" name=""/>
          <p:cNvGraphicFramePr/>
          <p:nvPr/>
        </p:nvGraphicFramePr>
        <p:xfrm>
          <a:off x="361800" y="2432160"/>
          <a:ext cx="8329680" cy="3638520"/>
        </p:xfrm>
        <a:graphic>
          <a:graphicData uri="http://schemas.openxmlformats.org/drawingml/2006/table">
            <a:tbl>
              <a:tblPr/>
              <a:tblGrid>
                <a:gridCol w="1036800"/>
                <a:gridCol w="1216080"/>
                <a:gridCol w="1216080"/>
                <a:gridCol w="1214280"/>
                <a:gridCol w="1216080"/>
                <a:gridCol w="1214280"/>
                <a:gridCol w="1216080"/>
              </a:tblGrid>
              <a:tr h="2458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ept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któ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nov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8 687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14 164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90 874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47 157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685 748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06 419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62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206 587,8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11 707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805 879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64 929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898 745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418 423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76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9 86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0 040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1 94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0 812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3 957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8 38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49 687,9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2 134,9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89 948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35 206,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51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93 055,2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62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5 369,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88 181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9 909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710,3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258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6 948,3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4588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5704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7 965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8 019,7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9 930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7 287,4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5 954,3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21 769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  <a:tr h="257400"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18 161,4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414 248,8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688 489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 992 102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 243 922,5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375 004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/>
          </p:nvPr>
        </p:nvSpPr>
        <p:spPr>
          <a:xfrm>
            <a:off x="356760" y="1428480"/>
            <a:ext cx="8102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rehľad pôvodného a zrevidovaného plánu po mesiacoch čerpania na rok 2013 za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1" name="TextovéPole 6"/>
          <p:cNvSpPr/>
          <p:nvPr/>
        </p:nvSpPr>
        <p:spPr>
          <a:xfrm>
            <a:off x="357120" y="2349360"/>
            <a:ext cx="84297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2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83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84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85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86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87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88" name=""/>
          <p:cNvGraphicFramePr/>
          <p:nvPr/>
        </p:nvGraphicFramePr>
        <p:xfrm>
          <a:off x="457200" y="2697120"/>
          <a:ext cx="8329680" cy="3517920"/>
        </p:xfrm>
        <a:graphic>
          <a:graphicData uri="http://schemas.openxmlformats.org/drawingml/2006/table">
            <a:tbl>
              <a:tblPr/>
              <a:tblGrid>
                <a:gridCol w="1452600"/>
                <a:gridCol w="1701720"/>
                <a:gridCol w="1703520"/>
                <a:gridCol w="1701720"/>
                <a:gridCol w="1770120"/>
              </a:tblGrid>
              <a:tr h="23652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december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spolu na rok 2013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spolu na rok 2013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1362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Pôvodný odhad čepr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Zrevidovaný odhad čerpania za zdroj EÚ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39 466,6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159 977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5 109 082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1 583 485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13 817,0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541 065,7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9 767 449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 981 65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 601,2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 584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300 196,7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048 376,2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4 329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77 467,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 031 531,5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57 293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4 846,8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55 834,0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949 933,5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758 70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365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,0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46 849,4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36 19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49120">
                <a:tc>
                  <a:txBody>
                    <a:bodyPr lIns="5040" rIns="5040" tIns="504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7 356,6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68 569,0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983 735,7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 464 981,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50920">
                <a:tc>
                  <a:txBody>
                    <a:bodyPr lIns="5040" rIns="5040" tIns="504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04 417,7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bcc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 058 497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69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3 288 778,9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5040" rIns="5040" tIns="5040" bIns="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3 030 692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8072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9f3a"/>
                </a:solidFill>
                <a:latin typeface="Arial"/>
              </a:rPr>
              <a:t>Plnenie plánu čerpania na rok 2013 za SORO ASFE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0" name="TextovéPole 6"/>
          <p:cNvSpPr/>
          <p:nvPr/>
        </p:nvSpPr>
        <p:spPr>
          <a:xfrm>
            <a:off x="687240" y="2060640"/>
            <a:ext cx="8215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ROK 2013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91" name="Skupina 4"/>
          <p:cNvGrpSpPr/>
          <p:nvPr/>
        </p:nvGrpSpPr>
        <p:grpSpPr>
          <a:xfrm>
            <a:off x="4786200" y="642960"/>
            <a:ext cx="1379520" cy="428760"/>
            <a:chOff x="4786200" y="642960"/>
            <a:chExt cx="1379520" cy="428760"/>
          </a:xfrm>
        </p:grpSpPr>
        <p:sp>
          <p:nvSpPr>
            <p:cNvPr id="1292" name="Obdĺžnik 5"/>
            <p:cNvSpPr/>
            <p:nvPr/>
          </p:nvSpPr>
          <p:spPr>
            <a:xfrm>
              <a:off x="4857480" y="642960"/>
              <a:ext cx="1285920" cy="428760"/>
            </a:xfrm>
            <a:prstGeom prst="rect">
              <a:avLst/>
            </a:prstGeom>
            <a:solidFill>
              <a:srgbClr val="ffd699"/>
            </a:solidFill>
            <a:ln w="25560">
              <a:solidFill>
                <a:srgbClr val="ffd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pic>
          <p:nvPicPr>
            <p:cNvPr id="1293" name="Picture 7" descr="agentura_cmyk"/>
            <p:cNvPicPr/>
            <p:nvPr/>
          </p:nvPicPr>
          <p:blipFill>
            <a:blip r:embed="rId1"/>
            <a:stretch/>
          </p:blipFill>
          <p:spPr>
            <a:xfrm>
              <a:off x="4786200" y="714240"/>
              <a:ext cx="1379520" cy="31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94" name="Skupina 7"/>
          <p:cNvGrpSpPr/>
          <p:nvPr/>
        </p:nvGrpSpPr>
        <p:grpSpPr>
          <a:xfrm>
            <a:off x="357120" y="6215040"/>
            <a:ext cx="8537760" cy="378360"/>
            <a:chOff x="357120" y="6215040"/>
            <a:chExt cx="8537760" cy="378360"/>
          </a:xfrm>
        </p:grpSpPr>
        <p:sp>
          <p:nvSpPr>
            <p:cNvPr id="1295" name="Obdĺžnik 8"/>
            <p:cNvSpPr/>
            <p:nvPr/>
          </p:nvSpPr>
          <p:spPr>
            <a:xfrm>
              <a:off x="357120" y="6215040"/>
              <a:ext cx="8537760" cy="285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96" name="BlokTextu 9"/>
            <p:cNvSpPr/>
            <p:nvPr/>
          </p:nvSpPr>
          <p:spPr>
            <a:xfrm>
              <a:off x="357120" y="6286320"/>
              <a:ext cx="846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Agentúra Ministerstva školstva, vedy, výskumu a športu SR pre štrukturálne fondy EÚ, Adresa: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Hanulova 5/B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, </a:t>
              </a:r>
              <a:r>
                <a:rPr b="1" lang="it-IT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841 01  Bratislava</a:t>
              </a:r>
              <a:r>
                <a:rPr b="1" lang="sk-SK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 </a:t>
              </a:r>
              <a:r>
                <a:rPr b="1" lang="cs-CZ" sz="700" spc="-1" strike="noStrike">
                  <a:solidFill>
                    <a:srgbClr val="7f7f7f"/>
                  </a:solidFill>
                  <a:latin typeface="Arial"/>
                  <a:ea typeface="Arial"/>
                </a:rPr>
                <a:t>Telefón: +421 (2) 692 99 296, Fax: +421  (2) 692 99 350, info@asfeu.sk, www.asfeu.sk</a:t>
              </a:r>
              <a:endParaRPr b="0" lang="en-US" sz="7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aphicFrame>
        <p:nvGraphicFramePr>
          <p:cNvPr id="1297" name=""/>
          <p:cNvGraphicFramePr/>
          <p:nvPr/>
        </p:nvGraphicFramePr>
        <p:xfrm>
          <a:off x="357120" y="2460600"/>
          <a:ext cx="8391600" cy="3826080"/>
        </p:xfrm>
        <a:graphic>
          <a:graphicData uri="http://schemas.openxmlformats.org/drawingml/2006/table">
            <a:tbl>
              <a:tblPr/>
              <a:tblGrid>
                <a:gridCol w="2098800"/>
                <a:gridCol w="2097000"/>
                <a:gridCol w="2097000"/>
                <a:gridCol w="2098800"/>
              </a:tblGrid>
              <a:tr h="26496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opatreni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OK  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13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zrevidovaný odhad čerpania za zdroj EÚ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racované ŽoP a odoslané na PJ od 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.01.2013 do 31.05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reálne čerpanie za mesiac podľa súhrnných ŽoP od </a:t>
                      </a: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01.01.2013 do 31.05.20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1 583 485,2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954 338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145 088,3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1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4 981 651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674 648,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 048 936,6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2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 048 376,2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4 779,2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51 849,6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 057 293,4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54 908,2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70 848,7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35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3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758 708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2 028,5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6 821,8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653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36 195,8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3 034,6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 381,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80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4.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1 464 981,9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8 646,2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 596,0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  <a:tr h="279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800000"/>
                          </a:solidFill>
                          <a:latin typeface="Verdana"/>
                        </a:rPr>
                        <a:t>SPOL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33 030 692,8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 202 383,3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 672 522,4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2T14:46:45Z</dcterms:created>
  <dc:creator>Kiko</dc:creator>
  <dc:description/>
  <dc:language>en-US</dc:language>
  <cp:lastModifiedBy>Komarcová Anna</cp:lastModifiedBy>
  <dcterms:modified xsi:type="dcterms:W3CDTF">2014-05-26T11:28:22Z</dcterms:modified>
  <cp:revision>331</cp:revision>
  <dc:subject/>
  <dc:title>Snímka 1</dc:title>
</cp:coreProperties>
</file>