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468-2574-45E6-84C2-455451819321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5B1E-76CE-494E-BD5B-D6ED09F9BB3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4803-9A61-4CB9-9E5C-0173815A8FD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FC4-9FDE-4CE5-8496-724428FE790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37FB-54BC-4B60-94F5-121B6A27C3F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0D13-E864-49EA-B80C-270DED48C84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Na projekte bolo nakúpených a rozvezených do škôl 1 500 notebookov, 1 500 USB kľúčov, 1 500 dataprojektorov a  1 500 ks aplikačného kancelárskeho softvé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A03-8A18-40F2-890D-646D320915E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7C2D-707C-4863-8EC9-27CF6F5C56F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EA87-FAAE-42DC-B91C-6121BA9B2EB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B889-9B33-4DDD-881C-6D1B619DC12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A82-3F9E-49CC-9CF9-FBD4AE12CD3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3676-04DE-4E9D-AABC-9FC72557A0D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737F-76EC-4B5D-90A8-E63AFCF7365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čísla snímky 3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D6FA-5534-4291-9ABC-F2F4839A84F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ástupný symbol čísla snímky 3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BA74-41D0-46DF-92FB-8FCF91DFF7C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3C53-0BD6-44FB-A464-B8C9D9AB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8448-20F3-4B7C-9E5D-8EB7811D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A7C3-CC35-4C9A-BAA4-C5DCA1A6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6654-D60B-4B4A-9DA6-B5696A43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45B0-28D3-44D3-A8B3-AE127C4B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0789-5516-4B05-8CAB-7F08171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164C-1A33-4AFA-B0BC-E562472E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C87E-E6D5-4E6D-AB29-35728333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4CE4-3562-426C-AEF7-E0DA4E4A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613-4926-4AA5-B689-538673EB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1D54-0707-43C8-AAFF-C0458F8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0757-9D37-4DEA-92CF-7E908911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AFEF-415B-4887-A7DC-37E442F7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D79E-F1A3-47B6-BC4C-B5C10ED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567E-FAE6-4F2E-9747-036A6265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EDF-F9A7-4E33-BF56-F6CB84B5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5CFF-35DF-4D0C-AEEC-544C7831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2198-972D-4DD1-9F8D-1107287E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C737-7022-46FF-BA02-7EDBE6B1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9A34-A883-48B1-8996-1BDED140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36CA-AD92-46EF-8138-96FFC5E3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7F1E-A902-4345-9F38-4E1E736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3060C-E65A-46DF-9881-2C9EA20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36C0-625C-485F-9993-059B2D9C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CA41-75DF-4AFC-91C2-87C41DF3B86A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3FAB-14E2-4A5C-B55D-D322B8A4AC0A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53DA-60E6-472B-AC98-7D8CF50E4D06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F543-3EE7-4D37-B0D3-6603676B774F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inedu.sk/" TargetMode="External"/><Relationship Id="rId2" Type="http://schemas.openxmlformats.org/officeDocument/2006/relationships/hyperlink" Target="mailto:opvzdelavanie@minedu.sk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okrok v implementácii národných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17800" y="4365720"/>
            <a:ext cx="6019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Bratislava, 18. jún 201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Monitorovací výbor pre OP Vzdelá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hDr. Miriam Kováči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adite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bor realizácie OP Vzdeláva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3187800" y="404640"/>
            <a:ext cx="6019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ázok 1" descr=""/>
          <p:cNvPicPr/>
          <p:nvPr/>
        </p:nvPicPr>
        <p:blipFill>
          <a:blip r:embed="rId1"/>
          <a:stretch/>
        </p:blipFill>
        <p:spPr>
          <a:xfrm>
            <a:off x="7236000" y="85680"/>
            <a:ext cx="170172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Obrázok 2" descr=""/>
          <p:cNvPicPr/>
          <p:nvPr/>
        </p:nvPicPr>
        <p:blipFill>
          <a:blip r:embed="rId2"/>
          <a:stretch/>
        </p:blipFill>
        <p:spPr>
          <a:xfrm>
            <a:off x="2268360" y="247680"/>
            <a:ext cx="2327400" cy="781200"/>
          </a:xfrm>
          <a:prstGeom prst="rect">
            <a:avLst/>
          </a:prstGeom>
          <a:ln w="0">
            <a:noFill/>
          </a:ln>
        </p:spPr>
      </p:pic>
      <p:pic>
        <p:nvPicPr>
          <p:cNvPr id="118" name="Obrázok 3" descr=""/>
          <p:cNvPicPr/>
          <p:nvPr/>
        </p:nvPicPr>
        <p:blipFill>
          <a:blip r:embed="rId3"/>
          <a:stretch/>
        </p:blipFill>
        <p:spPr>
          <a:xfrm>
            <a:off x="5791320" y="247680"/>
            <a:ext cx="109368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64C5-03C8-4505-99CE-8830D2A8803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2F21-5ABD-4B9E-B0C9-A9A880170925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9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11360" y="1981080"/>
          <a:ext cx="7748280" cy="4256280"/>
        </p:xfrm>
        <a:graphic>
          <a:graphicData uri="http://schemas.openxmlformats.org/drawingml/2006/table">
            <a:tbl>
              <a:tblPr/>
              <a:tblGrid>
                <a:gridCol w="1060200"/>
                <a:gridCol w="760680"/>
                <a:gridCol w="1834920"/>
                <a:gridCol w="1836720"/>
                <a:gridCol w="1127160"/>
                <a:gridCol w="1128600"/>
              </a:tblGrid>
              <a:tr h="9129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3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základných škôl v oblasti cudzích jazykov v súvislosti s Koncepciou vyučovania cudzích jazykov na základných 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73 065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27587,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učiteľov základných škôl a stredných škôl v  predmete informa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74 655,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20 831,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základných škôl v oblasti cudzích jazykov v súvislosti s Koncepciou vyučovania cudzích jazykov na základných 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5 022,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7 497,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učiteľov základných škôl a stredných škôl v  predmete informa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5 196,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 563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07F-7BF0-4368-820F-2DDB1C0E28F8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A931-ED8F-43D6-A27B-EA31DBEAACEB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75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1981080"/>
          <a:ext cx="7632720" cy="4330800"/>
        </p:xfrm>
        <a:graphic>
          <a:graphicData uri="http://schemas.openxmlformats.org/drawingml/2006/table">
            <a:tbl>
              <a:tblPr/>
              <a:tblGrid>
                <a:gridCol w="1044720"/>
                <a:gridCol w="749160"/>
                <a:gridCol w="1808280"/>
                <a:gridCol w="1808280"/>
                <a:gridCol w="1111320"/>
                <a:gridCol w="1110960"/>
              </a:tblGrid>
              <a:tr h="6559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094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é vzdelávanie – digitálne vzdelávanie pre všeobecno-vzdelávacie predme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933 200,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23 345,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56 175,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 641,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394,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zákla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536 034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</a:t>
                      </a: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 935,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zákla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9 659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 557,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23008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školy ako motory rozvoja vedomostnej spoloč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511 455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230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lexný poradenský systém prevencie a ovplyvňovania sociálnopatologických javov v školskom prostred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kumný ústav detskej psychológ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63 594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7D9D-0279-4944-9F0E-A4945A04C472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AFA1-1B78-49AB-B253-21AA00144DB1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81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BlokTextu 11"/>
          <p:cNvSpPr/>
          <p:nvPr/>
        </p:nvSpPr>
        <p:spPr>
          <a:xfrm>
            <a:off x="1332000" y="2060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erpanie NP za zdroj ESF očistené od nezrovnalostí a vrátených fin. prostriedkov v členení podľa opatren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stav aktualizácie k 31.5.201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3213000"/>
          <a:ext cx="7488360" cy="1733760"/>
        </p:xfrm>
        <a:graphic>
          <a:graphicData uri="http://schemas.openxmlformats.org/drawingml/2006/table">
            <a:tbl>
              <a:tblPr/>
              <a:tblGrid>
                <a:gridCol w="3743280"/>
                <a:gridCol w="3745080"/>
              </a:tblGrid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atre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rpanie (v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559 718,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710 106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65 020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 124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4 259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o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962 229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3C48-EE0E-4AE1-A035-D9BB74C463A2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46E5-4967-4B0F-B2C2-41D7E280FB83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 Vzdelávanie na zlepšenie stavu jeho implement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Akčného plánu OPV: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zrýchliť kontrahovanie, čerpanie a celkovú implementáciu OP Vzdelá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dentifikované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hlavné riziká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á spojené s plánovanými verejnými obstarávaniami v rámci nových národných projektov (časový sklz/prieťahy/opakovanie verejného obstarávan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pory finančných prostriedkov pri verejných obstarávaniach  (napr. v dôsledku elektronickej aukcie pri tovaro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ybovosť v žiadostiach predkladaných na RO a SO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é korekcie z prebiehajúcich vládnych auditov a z auditov Európskej komis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Opatrenia na zlepšenie stavu boli prijaté v 2 hlavných oblastiach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kontraho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čerp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0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BAC2-C14B-4089-A898-934815A477E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620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kontrahovania – prijaté opatr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ýšenie počtu vyhlasovania výziev pre dopytovo – orientované projekty a písomných vyzvaní pre národné projek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átenie procesu konania žiadosti o N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osobných a písomných konzultácií poskytovaných prijímateľom pred predložením ŽoP a v procese jej spraco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sledok: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kontrahovanie OPV na úrovni 101,26% -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januára 2013 do konca mája 2013 bolo zazmluvnených 11 nových národných projektov; v prípade národných projektov, ktoré sa implementujú od r. 2008 došlo k redukcii rozpočtov (znižovanie NFP) – tieto zdroje boli presunuté do výziev ASFEU (SORO) na dopytovo-orientované projek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8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1760" cy="64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0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43B4-48D3-4F49-A818-38FC2AD22E22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V  -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čerpania – prijaté opatr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Oblasť žiadostí o plat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ie procesov a zníženie administratívnej záťaže pre prijímateľov (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alizácia Príručky pre prijímateľa NFP OPV, verzia 7.0, účinná od 12/02/2013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 komunikácie s prijímateľmi o chybách a nedostatkoch v predkladaných žiadostiach o plat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átenie lehôt kontroly žiadostí o platbu zo strany RO a SO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álny a flexibilný príst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Oblasť verejného obstará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edenie systému ex-ante kontroly –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braných aspektov verejných obstarávaní (nadlimitné a podlimitné zákazky) pred ich vyhlásením zo strany prijímateľov národných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 komunikácie s prijímateľmi o chybách a nedostatkoch v predkladaných verejných obstarávani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a komunikácia s ÚVO 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sledok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zintenzívnenie čerpania ku koncu r. 2012;  výrazný nárast čerpania sa očakáva od mája – júna 2013, kedy sa v čerpaní začne prejavovať realizácia nových národných projektov, ktoré boli zazmluvnené v 1.Q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E636-24FD-44DF-B358-85B8AEA9CD0B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AA97-5C86-41ED-BC28-6DA5D0D498C8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1980720"/>
            <a:ext cx="8291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ie procesov a zníženie administratívnej záťaže pre prijímateľ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aktualizácia Príručky pre prijímateľa NFP OPV, verzia 7.0, účinná od 12/02/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Zjednodušenia vyplývajúce z aktualizácia PpP O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ímateľ pre vybrané skupiny zamestnancov môže predkladať zjednodušené pracovné výk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základe súhlasu RO/SORO možnosť používať novovytvorený sumárny prehľad bez podpornej dokumentácie, ktorá bude predmetom kontroly na mies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kladanie personálnej matice a oznámenia o konaní vzdelávacích aktivít iba v elektronickej pod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tránenie duplicity v predkladaní príloh a podpornej dokumentácie k ŽoP a k monitorovacím správ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ť predkladania preberacích protokolov (namiesto pracovných výkazov) k expertízam, posudkom, štúdiám a iným odborným die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ňa 26/02/2013 sa uskutočnilo školenie pre prijímateľov národných projektov, na ktorom boli oboznámení so zmenami vyplývajúcimi z PpP O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A2FF-AC52-453B-90D5-868476D96F28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ácie s prijímateľ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avidelné dvojtýždenné porady na úrovni ministra školstva, vedy, výskumu a športu SR s prijímateľmi národných projektov OPV (stretnutia prebiehajú od októbra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tanovenie osobnej zodpovednosti štatutárov prijímateľov národných projektov OPV  za čerpanie, vrátane disciplinovanosti pri predkladaní žiadostí o platbu  ako zodpovednosť za bezproblémovú realizáciu verejných obstará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špeciálny režim pre prijímateľov národných projektov OPV  - krízový manažment riadenia implementácie národných projektov OP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avidelné stretnutia s prijímateľmi národných projektov – upozorňovanie na potenciálne chyby pri žiadostiach o platbu a pri monitorovacích sprá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ennodenná operatívna komunikácia RO OPV (finančných manažérov) s prijímateľmi národných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peratívne riešenie vzniknutých problém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BlokTextu 2"/>
          <p:cNvSpPr/>
          <p:nvPr/>
        </p:nvSpPr>
        <p:spPr>
          <a:xfrm>
            <a:off x="1403280" y="609300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9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B104-5062-4CB9-A719-14ABB17FACCB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FINANČNÁ ALOKÁCIA OP VZDELÁVANIE (po revízii zo dňa 19. 09. 2012) </a:t>
            </a:r>
            <a:r>
              <a:rPr b="0" lang="sk-SK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sky sociálny fond (ESF) - cieľ Konvergenci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540 500 000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- cieľ Regionálna konkurencieschopnosť a zam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7 801 578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átny rozpočet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8 523 811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656 825 389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4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6CE7-ED8B-4CD6-8FAC-72BC02AD3223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dátumu 5"/>
          <p:cNvSpPr/>
          <p:nvPr/>
        </p:nvSpPr>
        <p:spPr>
          <a:xfrm>
            <a:off x="4032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nformácia o tzv. dekomit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väzok 2007 -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 126 094 €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 394 239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5 731 85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enie záväzku 2007 – 2009  k 31.12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 207 342,51 €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 530 521,9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5 731 855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ký decommitment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čl.93 nariadenia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863 717,0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prava finančného plánu OP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k-SK" sz="2400" spc="-1" strike="noStrike">
                <a:solidFill>
                  <a:srgbClr val="ff3300"/>
                </a:solidFill>
                <a:latin typeface="Arial"/>
              </a:rPr>
              <a:t>Operačný program Vzdelávanie </a:t>
            </a:r>
            <a:br>
              <a:rPr sz="2400"/>
            </a:b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Kontrahovanie a čerpa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ONTRAHOVANI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v k 31. 5.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odiel na alokácii 2007-2013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26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ČERPANI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v k 31.5.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odiel na alokácii 2007-2013 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,0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Vo vzťahu k plneniu pravidla N+2/N+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 (ostatné prioritné osi okrem 4) - aktuálne je čerpaný záväzok 2010-2011 na úrovni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57 %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znamená, že je potrebné pre splnenie pravidla N+2/N+3 do 31.12.2013 schváliť výdavky približne vo výške ESF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9,624 mil. EU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 (prioritná os 4) - aktuálne je čerpaný záväzok 2010-2011 na úrovni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51 %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znamená že je potrebné pre splnenie pravidla N+2/N+3 do 31.12.2013 schváliť výdavky približne vo výške ESF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477 mil. EU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F269-9CD9-49F2-B249-1A17FFBCB38F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C015-2D07-4C7D-B0F3-04614FFACFEF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E1DB-470E-4B11-8DD4-35053AE9AE0F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Návrh úpravy finančného plánu O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vrhovaná úprava záväzku 2009 vo FP OPV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celková výška decommitmentu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863 717,05 €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ená o 4 % (finančné prostriedky na Technickú pomoc v rámci cieľa Konvergencia na opatreniach 5.1 a 5.2) bola následne rozdelená pomerom 60/40 medzi opatrenia 2.1 a 1.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lokTextu 2"/>
          <p:cNvSpPr/>
          <p:nvPr/>
        </p:nvSpPr>
        <p:spPr>
          <a:xfrm>
            <a:off x="1116000" y="5877000"/>
            <a:ext cx="6912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5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7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kt 2"/>
          <p:cNvGraphicFramePr/>
          <p:nvPr/>
        </p:nvGraphicFramePr>
        <p:xfrm>
          <a:off x="1258920" y="3357720"/>
          <a:ext cx="453240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357720"/>
                    <a:ext cx="45324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82E7-47AB-47D3-BFB7-B246F5C12B49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Ďakujem za pozornos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opvzdelavanie@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dĺžnik 1"/>
          <p:cNvSpPr/>
          <p:nvPr/>
        </p:nvSpPr>
        <p:spPr>
          <a:xfrm>
            <a:off x="539640" y="5661000"/>
            <a:ext cx="770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cc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341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3667-112A-4A0F-9D1A-F41061B86876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28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29" name="Graf 6" descr=""/>
          <p:cNvPicPr/>
          <p:nvPr/>
        </p:nvPicPr>
        <p:blipFill>
          <a:blip r:embed="rId2"/>
          <a:stretch/>
        </p:blipFill>
        <p:spPr>
          <a:xfrm>
            <a:off x="384120" y="1689120"/>
            <a:ext cx="82296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730A-FB55-48E0-975F-F02250FB779C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33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34" name="Graf 6" descr=""/>
          <p:cNvPicPr/>
          <p:nvPr/>
        </p:nvPicPr>
        <p:blipFill>
          <a:blip r:embed="rId2"/>
          <a:stretch/>
        </p:blipFill>
        <p:spPr>
          <a:xfrm>
            <a:off x="384120" y="1689120"/>
            <a:ext cx="82296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779480"/>
            <a:ext cx="821844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BEE0-7E2A-4978-9EE6-AE8F3DF285C1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BlokTextu 8"/>
          <p:cNvSpPr/>
          <p:nvPr/>
        </p:nvSpPr>
        <p:spPr>
          <a:xfrm>
            <a:off x="1403280" y="2039760"/>
            <a:ext cx="6840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5640" y="1341360"/>
          <a:ext cx="7835760" cy="5178600"/>
        </p:xfrm>
        <a:graphic>
          <a:graphicData uri="http://schemas.openxmlformats.org/drawingml/2006/table">
            <a:tbl>
              <a:tblPr/>
              <a:tblGrid>
                <a:gridCol w="2435400"/>
                <a:gridCol w="2303280"/>
                <a:gridCol w="3097080"/>
              </a:tblGrid>
              <a:tr h="219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Vzdeláv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 31/03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 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0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2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celkovej alokác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8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26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45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celkovej alokác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5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1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900240">
                <a:tc gridSpan="3"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a prijaté na akceleráciu implementácie OP Vzdelávani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ízový manažment riadenia národných projektov zo strany vedenia MŠVVaŠ SR (pravidelné dvojtýždenné porady minist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eovanie profesionálnych projektových tímov na priamo riadených organizáciách MŠVVaŠ SR ako prijímateľoch národných projekt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edenie osobnej zodpovednosti a motivačného mechanizmu štatutárov priamo riadených organizáciách MŠVVaŠ SR ako prijímateľoch národných projekt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ízia väčšiny  národných projektov, ktoré sú v realizácii od r. 2008 (nutnosť  znižovania rozpočtov, úprava  časových harmonogramov, predlžovanie dĺžky realizáci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kčný plán OP Vzdelávanie na zlepšenie stavu jeho implementácie – odblokovanie  pozastavených platieb zo strany 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SLEDOK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RAHOVANIE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výšenie o 40%; za 1 rok sa nakontrahovalo toľko ako predtým za 4 ro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RPANIE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výšenie o 11,88 %; za 1 rok sa vyčerpalo takmer toľko ako predtým za 4 ro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 31. 05. 2013 bolo kumulatívne vyhlásený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5</a:t>
            </a:r>
            <a:r>
              <a:rPr b="0" lang="sk-SK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ísomných vyzvaní pre národné proje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 31. 05. 2013 je stav nasledovn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ch projektov (z toho 10 multi-cieľových) v realizáci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0A1F-5205-404D-B9F8-43EF6691894C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0DE0-AE56-49B4-9E8D-2ED30CBBB273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45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981080"/>
            <a:ext cx="8218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3B79-DD36-4EE1-8E74-D6600F45A805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ázok 2" descr=""/>
          <p:cNvPicPr/>
          <p:nvPr/>
        </p:nvPicPr>
        <p:blipFill>
          <a:blip r:embed="rId1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pic>
        <p:nvPicPr>
          <p:cNvPr id="151" name="Obrázok 4" descr=""/>
          <p:cNvPicPr/>
          <p:nvPr/>
        </p:nvPicPr>
        <p:blipFill>
          <a:blip r:embed="rId2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sp>
        <p:nvSpPr>
          <p:cNvPr id="152" name="BlokTextu 8"/>
          <p:cNvSpPr/>
          <p:nvPr/>
        </p:nvSpPr>
        <p:spPr>
          <a:xfrm>
            <a:off x="1403280" y="19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árodné projekty, kontrahovanie, čerp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2421000"/>
          <a:ext cx="7777080" cy="3857400"/>
        </p:xfrm>
        <a:graphic>
          <a:graphicData uri="http://schemas.openxmlformats.org/drawingml/2006/table">
            <a:tbl>
              <a:tblPr/>
              <a:tblGrid>
                <a:gridCol w="1063800"/>
                <a:gridCol w="765000"/>
                <a:gridCol w="1841400"/>
                <a:gridCol w="1841760"/>
                <a:gridCol w="1133280"/>
                <a:gridCol w="1131840"/>
              </a:tblGrid>
              <a:tr h="503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700"/>
                      </a:b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700"/>
                      </a:b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21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0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luzívny model vzdelávania na predprimárnom stupni školskej sústav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66 224,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jný a kariérny rast pedagogických zamestnanc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83 076,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</a:t>
                      </a: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149,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jný a kariérny rast pedagogických zamestnanc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47 906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8 257,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pedagogických zamestnancov materských škôl ako súčasť reformy vzdeláv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160 921,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</a:t>
                      </a: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 920,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pedagogických zamestnancov materských škôl ako súčasť reformy vzdeláv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 255,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 735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0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ím pedagogických zamestnancov k inklúzii marginalizovaných rómskych komuní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240 651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 920,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ovaný projek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izujúce metódy vo výcho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MEUR – plánovaná alokác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A9D0-CAEE-4517-906C-175A5196DBD1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E2F2-2B27-4261-B590-502E21798D74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57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11360" y="1981080"/>
          <a:ext cx="7677000" cy="3889440"/>
        </p:xfrm>
        <a:graphic>
          <a:graphicData uri="http://schemas.openxmlformats.org/drawingml/2006/table">
            <a:tbl>
              <a:tblPr/>
              <a:tblGrid>
                <a:gridCol w="1050840"/>
                <a:gridCol w="753840"/>
                <a:gridCol w="1818000"/>
                <a:gridCol w="1819080"/>
                <a:gridCol w="1117800"/>
                <a:gridCol w="1117440"/>
              </a:tblGrid>
              <a:tr h="666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600"/>
                      </a:b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600"/>
                      </a:b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22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rax -Kompetencie pre prax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VEN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860 956,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8 746,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TIK – Praktické zručnosti cez neformálne vzdelávanie v práci s mládežo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VEN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50 609,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ýšenie kvalifikácie učiteľov telesnej a športovej výchov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é športové centru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05 514,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a poradenstvo pre dospelých ako nástroj lepšej uplatniteľnosti na trhu prác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loživotného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794 566,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3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notenie kvality vzdelávania na ZŠ a SŠ v SR v kontexte prebiehajúcej obsahovej reformy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05 931,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6 988,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yšovanie kvality vzdelávania na základných a stredných školách s využitím  elektronického testovania 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806 571,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yšovanie kvality vzdelávania na základných a stredných školách s využitím elektronického testovania RK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80 635,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FA81-C7EB-43E2-9D07-4A1D51F2EA68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F92E-C3FE-44B4-BF99-E5CCC6BE2314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3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981080"/>
          <a:ext cx="7921440" cy="4186440"/>
        </p:xfrm>
        <a:graphic>
          <a:graphicData uri="http://schemas.openxmlformats.org/drawingml/2006/table">
            <a:tbl>
              <a:tblPr/>
              <a:tblGrid>
                <a:gridCol w="1084320"/>
                <a:gridCol w="777600"/>
                <a:gridCol w="1876680"/>
                <a:gridCol w="1876320"/>
                <a:gridCol w="1152360"/>
                <a:gridCol w="1154160"/>
              </a:tblGrid>
              <a:tr h="8971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983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é hodnoteni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y školy podporujúc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bahodnotiace procesy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ozvoj ško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a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ská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špek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 970,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 882,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é hodnoteni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y školy podporujúc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bahodnotiace procesy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ozvoj ško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a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ská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špek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120,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708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oj stredného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99 162,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orba Národnej sústavy kvalifikáci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26 462,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orba Národnej sústavy kvalifikáci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41 901,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v súvislosti s tvorbou školských vzdelávacích program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33 939,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4 229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v súvislosti s tvorbou školských vzdelávacích program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 598,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230,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7:05:52Z</dcterms:created>
  <dc:creator>henrieta holubekova</dc:creator>
  <dc:description/>
  <dc:language>en-US</dc:language>
  <cp:lastModifiedBy>Komarcová Anna</cp:lastModifiedBy>
  <cp:lastPrinted>2012-06-25T14:19:31Z</cp:lastPrinted>
  <dcterms:modified xsi:type="dcterms:W3CDTF">2014-05-26T11:26:07Z</dcterms:modified>
  <cp:revision>276</cp:revision>
  <dc:subject/>
  <dc:title>operačný program Vzdelávanie</dc:title>
</cp:coreProperties>
</file>