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39760" y="0"/>
            <a:ext cx="29401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39760" y="9427680"/>
            <a:ext cx="29401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616F-6E25-46F6-BF3F-61B87D01799A}" type="slidenum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C2BE-BE31-490F-82FA-235639D612E1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8515-B03A-4C04-A3D0-CF0F1A0E6BD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833B9-42FD-4189-B777-9D1CF8D9E051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84F3-75F3-4DC7-BE34-8D062CDC05A2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9E05-9C36-4AC8-9832-2A37AF7B3631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Na projekte bolo nakúpených a rozvezených do škôl 1 500 notebookov, 1 500 USB kľúčov, 1 500 dataprojektorov a  1 500 ks aplikačného kancelárskeho softvé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3EFB-9466-4E2F-94D7-D3FA9912BB7B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1C62D-8D10-4806-94EA-AA44ADFEC67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1CF8-37CA-4949-A44E-D3B0E7A372E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6182-15FE-4160-9657-A46CDFD95CDB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85DBE-5FFE-4086-8503-1E25DDC0EF7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421E-6CB0-4F24-853C-E2BC6EAD637F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8BC4B-3EFB-43F7-814B-169DACC3DD8E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Zástupný symbol čísla snímky 3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EF1E1-4EAE-41D5-A4E4-E1BAC51C9ABD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25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Zástupný symbol čísla snímky 3"/>
          <p:cNvSpPr/>
          <p:nvPr/>
        </p:nvSpPr>
        <p:spPr>
          <a:xfrm>
            <a:off x="3840120" y="9428040"/>
            <a:ext cx="294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3EAB-6201-4C6C-86F7-82FB6D7710BF}" type="slidenum">
              <a:rPr b="0" lang="sk-S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DB5B-66D7-46D7-AA06-2CF03AF5E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40FD08-04CF-4459-93BA-8C7F8E4F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8E9E2-98FD-4F7A-932F-EC3B241E6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D8675-B535-4D78-87C9-616BDAEE7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A4FB4-5DCB-4CAE-8226-049E52ED2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B3AEF-78F8-4998-8208-09003A91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2C7B-F99F-43C4-855A-312B77A3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5CA34-A5CB-40E1-B575-1C251B886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FE32-6F0B-4BFC-A1AC-E47DBA6C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6B79-AF75-48BF-B2C5-3276C4DE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8EA7-F9C7-4870-B287-1A1A2C34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11461-1E8F-4258-B48C-A98FEE2E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B516-88EE-4CED-B8AC-2CEF07B2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EDF1C-4977-4C26-8936-75E8962C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C276-3791-4F2F-AE3A-3B53E2F2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D92B-B300-4648-9DCF-D8C7DCEC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2FFF-A859-42C0-9296-E94B89A2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A69B6-A581-4712-AE50-0689918D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DA16F-B84F-460D-A024-6A86FEC3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C003-9B11-48B0-BE5C-766B203F9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BB21-649B-43E1-943F-B94154177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FD982-175E-493D-9D4D-B610C270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C2A93-1AEF-4AA9-92AE-B18CF595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4863B-91F9-4699-98E9-71CBD1ED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515D-6E61-4354-A229-BBD6D57DA9C9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D9AE-FEA4-4163-BEE7-BAC81CFCA4A5}" type="datetime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CF49-FB3C-4A7D-AE57-503C00407677}" type="datetime">
              <a:rPr b="0" lang="sk-SK" sz="12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B057-6D22-45D8-8CA2-D67AB6E00090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minedu.sk/" TargetMode="External"/><Relationship Id="rId2" Type="http://schemas.openxmlformats.org/officeDocument/2006/relationships/hyperlink" Target="mailto:opvzdelavanie@minedu.sk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Arial"/>
              </a:rPr>
              <a:t>Pokrok v implementácii národných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17800" y="4365720"/>
            <a:ext cx="60199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Bratislava, 18. jún 2013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Monitorovací výbor pre OP Vzdelávan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PhDr. Miriam Kováčikov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riaditeľ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dbor realizácie OP Vzdelávan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ekcia štrukturálnych fondov E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Ministerstvo školstva, vedy, výskumu a športu 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00"/>
                </a:solidFill>
                <a:latin typeface="Arial"/>
              </a:rPr>
              <a:t>Moderné vzdelávanie pre vedomostnú spoločnosť/Projekt je spolufinancovaný zo zdrojov E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7"/>
          <p:cNvSpPr/>
          <p:nvPr/>
        </p:nvSpPr>
        <p:spPr>
          <a:xfrm>
            <a:off x="3187800" y="404640"/>
            <a:ext cx="60195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Obrázok 1" descr=""/>
          <p:cNvPicPr/>
          <p:nvPr/>
        </p:nvPicPr>
        <p:blipFill>
          <a:blip r:embed="rId1"/>
          <a:stretch/>
        </p:blipFill>
        <p:spPr>
          <a:xfrm>
            <a:off x="7236000" y="85680"/>
            <a:ext cx="1701720" cy="1575000"/>
          </a:xfrm>
          <a:prstGeom prst="rect">
            <a:avLst/>
          </a:prstGeom>
          <a:ln w="0">
            <a:noFill/>
          </a:ln>
        </p:spPr>
      </p:pic>
      <p:pic>
        <p:nvPicPr>
          <p:cNvPr id="117" name="Obrázok 2" descr=""/>
          <p:cNvPicPr/>
          <p:nvPr/>
        </p:nvPicPr>
        <p:blipFill>
          <a:blip r:embed="rId2"/>
          <a:stretch/>
        </p:blipFill>
        <p:spPr>
          <a:xfrm>
            <a:off x="2268360" y="247680"/>
            <a:ext cx="2327400" cy="781200"/>
          </a:xfrm>
          <a:prstGeom prst="rect">
            <a:avLst/>
          </a:prstGeom>
          <a:ln w="0">
            <a:noFill/>
          </a:ln>
        </p:spPr>
      </p:pic>
      <p:pic>
        <p:nvPicPr>
          <p:cNvPr id="118" name="Obrázok 3" descr=""/>
          <p:cNvPicPr/>
          <p:nvPr/>
        </p:nvPicPr>
        <p:blipFill>
          <a:blip r:embed="rId3"/>
          <a:stretch/>
        </p:blipFill>
        <p:spPr>
          <a:xfrm>
            <a:off x="5791320" y="247680"/>
            <a:ext cx="1093680" cy="109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E2FF2-1BAD-4150-8839-DEC6C7B661C3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E34B-4AF0-4250-821C-973076076723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69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11360" y="1981080"/>
          <a:ext cx="7748280" cy="4256280"/>
        </p:xfrm>
        <a:graphic>
          <a:graphicData uri="http://schemas.openxmlformats.org/drawingml/2006/table">
            <a:tbl>
              <a:tblPr/>
              <a:tblGrid>
                <a:gridCol w="1060200"/>
                <a:gridCol w="760680"/>
                <a:gridCol w="1834920"/>
                <a:gridCol w="1836720"/>
                <a:gridCol w="1127160"/>
                <a:gridCol w="1128600"/>
              </a:tblGrid>
              <a:tr h="91296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0634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základných škôl v oblasti cudzích jazykov v súvislosti s Koncepciou vyučovania cudzích jazykov na základných 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773 065,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 527587,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80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Ďalšie vzdelávanie učiteľov základných škôl a stredných škôl v  predmete informati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74 655,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220 831,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6380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základných škôl v oblasti cudzích jazykov v súvislosti s Koncepciou vyučovania cudzích jazykov na základných 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185 022,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7 497,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080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2300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Ďalšie vzdelávanie učiteľov základných škôl a stredných škôl v  predmete informatik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pedagogický ústa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5 196,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4 563,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09E9-963B-4EFA-B39F-54FEBDFEC377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B779-F88A-4312-8934-EDE6303DCE86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75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826920" y="1981080"/>
          <a:ext cx="7632720" cy="4330800"/>
        </p:xfrm>
        <a:graphic>
          <a:graphicData uri="http://schemas.openxmlformats.org/drawingml/2006/table">
            <a:tbl>
              <a:tblPr/>
              <a:tblGrid>
                <a:gridCol w="1044720"/>
                <a:gridCol w="749160"/>
                <a:gridCol w="1808280"/>
                <a:gridCol w="1808280"/>
                <a:gridCol w="1111320"/>
                <a:gridCol w="1110960"/>
              </a:tblGrid>
              <a:tr h="6559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0948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5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é vzdelávanie – digitálne vzdelávanie pre všeobecno-vzdelávacie predme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 933 200,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823 345,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956 175,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stre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9 641,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 394,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zákla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 536 034,6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</a:t>
                      </a: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 935,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720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dernizácia vzdelávacieho procesu na základných školách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9 659,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 557,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77880">
                <a:tc>
                  <a:txBody>
                    <a:bodyPr lIns="7200" rIns="7200" tIns="720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230089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soké školy ako motory rozvoja vedomostnej spoločnost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stav informácií a prognóz školst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511 455,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8720"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02300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plexný poradenský systém prevencie a ovplyvňovania sociálnopatologických javov v školskom prostred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kumný ústav detskej psychológ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563 594,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200" marR="72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3D24-E540-4A58-A81C-7CF059F4AE2D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5AAB2-ADD0-485E-9543-2B8996A49DEE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81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BlokTextu 11"/>
          <p:cNvSpPr/>
          <p:nvPr/>
        </p:nvSpPr>
        <p:spPr>
          <a:xfrm>
            <a:off x="1332000" y="2060640"/>
            <a:ext cx="68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Čerpanie NP za zdroj ESF očistené od nezrovnalostí a vrátených fin. prostriedkov v členení podľa opatrení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(stav aktualizácie k 31.5.201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00000" y="3213000"/>
          <a:ext cx="7488360" cy="1733760"/>
        </p:xfrm>
        <a:graphic>
          <a:graphicData uri="http://schemas.openxmlformats.org/drawingml/2006/table">
            <a:tbl>
              <a:tblPr/>
              <a:tblGrid>
                <a:gridCol w="3743280"/>
                <a:gridCol w="3745080"/>
              </a:tblGrid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patre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rpanie (v €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 559 718,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710 106,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965 020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 124,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794 259,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2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pol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 962 229,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8F2AF-DC8F-4BE3-A525-0569587BBB3D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98099-6A95-4C7F-BEBD-BF99079DB76B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151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čný plán OP Vzdelávanie na zlepšenie stavu jeho implementá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Akčného plánu OPV:</a:t>
            </a:r>
            <a:r>
              <a:rPr b="0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 </a:t>
            </a: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zrýchliť kontrahovanie, čerpanie a celkovú implementáciu OP Vzdeláva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Identifikované </a:t>
            </a: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hlavné riziká</a:t>
            </a:r>
            <a:r>
              <a:rPr b="0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ziká spojené s plánovanými verejnými obstarávaniami v rámci nových národných projektov (časový sklz/prieťahy/opakovanie verejného obstarávan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spory finančných prostriedkov pri verejných obstarávaniach  (napr. v dôsledku elektronickej aukcie pri tovaroch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ybovosť v žiadostiach predkladaných na RO a SO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né korekcie z prebiehajúcich vládnych auditov a z auditov Európskej komis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Opatrenia na zlepšenie stavu boli prijaté v 2 hlavných oblastiach</a:t>
            </a:r>
            <a:r>
              <a:rPr b="0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kontrahov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čerp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Obrázok 1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016360" cy="677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0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13E8C-16EF-4FCD-B935-7B82FE41F13E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lnSpc>
                <a:spcPct val="100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br>
              <a:rPr sz="20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6203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čný plán OPV </a:t>
            </a:r>
            <a:r>
              <a:rPr b="0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kontrahovania – prijaté opatr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výšenie počtu vyhlasovania výziev pre dopytovo – orientované projekty a písomných vyzvaní pre národné projek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átenie procesu konania žiadosti o N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osobných a písomných konzultácií poskytovaných prijímateľom pred predložením ŽoP a v procese jej spracov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výsledok: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kontrahovanie OPV na úrovni 101,26% -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 januára 2013 do konca mája 2013 bolo zazmluvnených 11 nových národných projektov; v prípade národných projektov, ktoré sa implementujú od r. 2008 došlo k redukcii rozpočtov (znižovanie NFP) – tieto zdroje boli presunuté do výziev ASFEU (SORO) na dopytovo-orientované projek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8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1760" cy="647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0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2952-DE24-49BB-9A9E-660A0CC86AA4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čný plán OPV  -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asť čerpania – prijaté opatr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Oblasť žiadostí o platb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jednodušenie procesov a zníženie administratívnej záťaže pre prijímateľov (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ktualizácia Príručky pre prijímateľa NFP OPV, verzia 7.0, účinná od 12/02/2013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 komunikácie s prijímateľmi o chybách a nedostatkoch v predkladaných žiadostiach o platb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rátenie lehôt kontroly žiadostí o platbu zo strany RO a SO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ividuálny a flexibilný prístu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Oblasť verejného obstaráv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vedenie systému ex-ante kontroly – </a:t>
            </a:r>
            <a:r>
              <a:rPr b="0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ntrola</a:t>
            </a:r>
            <a:r>
              <a:rPr b="1" lang="pl-P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ybraných aspektov verejných obstarávaní (nadlimitné a podlimitné zákazky) pred ich vyhlásením zo strany prijímateľov národných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 komunikácie s prijímateľmi o chybách a nedostatkoch v predkladaných verejných obstarávani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nzívna komunikácia s ÚVO 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výsledok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zintenzívnenie čerpania ku koncu r. 2012;  výrazný nárast čerpania sa očakáva od mája – júna 2013, kedy sa v čerpaní začne prejavovať realizácia nových národných projektov, ktoré boli zazmluvnené v 1.Q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4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01761-ED3A-4E1D-9EC7-9C63E34F8EC5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E72D9-0C77-4A88-A8BC-10D500868281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95280" y="1980720"/>
            <a:ext cx="829152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jednodušenie procesov a zníženie administratívnej záťaže pre prijímateľ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9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aktualizácia Príručky pre prijímateľa NFP OPV, verzia 7.0, účinná od 12/02/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Zjednodušenia vyplývajúce z aktualizácia PpP O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jímateľ pre vybrané skupiny zamestnancov môže predkladať zjednodušené pracovné výk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základe súhlasu RO/SORO možnosť používať novovytvorený sumárny prehľad bez podpornej dokumentácie, ktorá bude predmetom kontroly na mies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dkladanie personálnej matice a oznámenia o konaní vzdelávacích aktivít iba v elektronickej podob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stránenie duplicity v predkladaní príloh a podpornej dokumentácie k ŽoP a k monitorovacím správ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žnosť predkladania preberacích protokolov (namiesto pracovných výkazov) k expertízam, posudkom, štúdiám a iným odborným diel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ňa 26/02/2013 sa uskutočnilo školenie pre prijímateľov národných projektov, na ktorom boli oboznámení so zmenami vyplývajúcimi z PpP OP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1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7F1D-4B2B-4780-8F9A-51F8797136E3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intenzívnenie </a:t>
            </a:r>
            <a:r>
              <a:rPr b="1" lang="sk-SK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unikácie s prijímateľ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avidelné dvojtýždenné porady na úrovni ministra školstva, vedy, výskumu a športu SR s prijímateľmi národných projektov OPV (stretnutia prebiehajú od októbra 201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stanovenie osobnej zodpovednosti štatutárov prijímateľov národných projektov OPV  za čerpanie, vrátane disciplinovanosti pri predkladaní žiadostí o platbu  ako zodpovednosť za bezproblémovú realizáciu verejných obstaráva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špeciálny režim pre prijímateľov národných projektov OPV  - krízový manažment riadenia implementácie národných projektov OPV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avidelné stretnutia s prijímateľmi národných projektov – upozorňovanie na potenciálne chyby pri žiadostiach o platbu a pri monitorovacích správ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dennodenná operatívna komunikácia RO OPV (finančných manažérov) s prijímateľmi národných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operatívne riešenie vzniknutých problém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BlokTextu 2"/>
          <p:cNvSpPr/>
          <p:nvPr/>
        </p:nvSpPr>
        <p:spPr>
          <a:xfrm>
            <a:off x="1403280" y="609300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9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1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12125-C958-4828-8220-3F0CA2A0CC82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FINANČNÁ ALOKÁCIA OP VZDELÁVANIE (po revízii zo dňa 19. 09. 2012) </a:t>
            </a:r>
            <a:r>
              <a:rPr b="0" lang="sk-SK" sz="16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urópsky sociálny fond (ESF) - cieľ Konvergencia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540 500 000 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F- cieľ Regionálna konkurencieschopnosť a zam.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7 801 578 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štátny rozpočet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98 523 811 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OLU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656 825 389 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2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4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33222-D3E2-406D-BC33-1B565B3D67A8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Zástupný symbol dátumu 5"/>
          <p:cNvSpPr/>
          <p:nvPr/>
        </p:nvSpPr>
        <p:spPr>
          <a:xfrm>
            <a:off x="40320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1844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Informácia o tzv. dekomit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áväzok 2007 - 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F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 126 094 €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K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1 394 239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RKaZ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5 731 855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lnenie záväzku 2007 – 2009  k 31.12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F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 207 342,51 €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K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9 530 521,95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RKaZ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5 731 855,00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matický decommitment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čl.93 nariadenia 1083/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K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1 863 717,05 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úprava finančného plánu OP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lang="sk-SK" sz="2400" spc="-1" strike="noStrike">
                <a:solidFill>
                  <a:srgbClr val="ff3300"/>
                </a:solidFill>
                <a:latin typeface="Arial"/>
              </a:rPr>
              <a:t>Operačný program Vzdelávanie </a:t>
            </a:r>
            <a:br>
              <a:rPr sz="2400"/>
            </a:b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Kontrahovanie a čerpanie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9528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KONTRAHOVANIE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tav k 31. 5.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podiel na alokácii 2007-2013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1,26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ČERPANIE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stav k 31.5.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podiel na alokácii 2007-2013 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7,07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Vo vzťahu k plneniu pravidla N+2/N+3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K (ostatné prioritné osi okrem 4) - aktuálne je čerpaný záväzok 2010-2011 na úrovni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57 %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čo znamená, že je potrebné pre splnenie pravidla N+2/N+3 do 31.12.2013 schváliť výdavky približne vo výške ESF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9,624 mil. EUR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eľ RKaZ (prioritná os 4) - aktuálne je čerpaný záväzok 2010-2011 na úrovni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51 %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čo znamená že je potrebné pre splnenie pravidla N+2/N+3 do 31.12.2013 schváliť výdavky približne vo výške ESF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477 mil. EUR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8DD5-ACBE-42D6-A624-5353471AEB96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5340-2F9C-416A-836A-725BA7F7CC93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24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F0BA-2715-477F-8E23-B9754DC8C34E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br>
              <a:rPr sz="3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</a:t>
            </a:r>
            <a:br>
              <a:rPr sz="2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Návrh úpravy finančného plánu O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avrhovaná úprava záväzku 2009 vo FP OPV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celková výška decommitmentu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863 717,05 €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ravená o 4 % (finančné prostriedky na Technickú pomoc v rámci cieľa Konvergencia na opatreniach 5.1 a 5.2) bola následne rozdelená pomerom 60/40 medzi opatrenia 2.1 a 1.1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BlokTextu 2"/>
          <p:cNvSpPr/>
          <p:nvPr/>
        </p:nvSpPr>
        <p:spPr>
          <a:xfrm>
            <a:off x="1116000" y="5877000"/>
            <a:ext cx="6912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5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1936800" cy="649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7" descr=""/>
          <p:cNvPicPr/>
          <p:nvPr/>
        </p:nvPicPr>
        <p:blipFill>
          <a:blip r:embed="rId2"/>
          <a:stretch/>
        </p:blipFill>
        <p:spPr>
          <a:xfrm>
            <a:off x="6622920" y="404640"/>
            <a:ext cx="234180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2" name="Objekt 2"/>
          <p:cNvGraphicFramePr/>
          <p:nvPr/>
        </p:nvGraphicFramePr>
        <p:xfrm>
          <a:off x="1258920" y="3357720"/>
          <a:ext cx="4532400" cy="20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k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3357720"/>
                    <a:ext cx="45324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5DCF-43CA-4B70-98B0-21860794D706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Zástupný symbol dátumu 5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2779560" indent="0" algn="r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Ďakujem za pozornosť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Ministerstvo školstva, vedy, výskumu a športu SR</a:t>
            </a:r>
            <a:br>
              <a:rPr sz="1600"/>
            </a:b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ekcia štrukturálnych fondov E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www.minedu.s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600"/>
            </a:br>
            <a:r>
              <a:rPr b="0" lang="sk-SK" sz="16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opvzdelavanie@minedu.s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bdĺžnik 1"/>
          <p:cNvSpPr/>
          <p:nvPr/>
        </p:nvSpPr>
        <p:spPr>
          <a:xfrm>
            <a:off x="539640" y="5661000"/>
            <a:ext cx="77043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0000cc"/>
                </a:solidFill>
                <a:latin typeface="Arial"/>
              </a:rPr>
              <a:t>Moderné vzdelávanie pre vedomostnú spoločnosť/Projekt je spolufinancovaný zo zdrojov E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3"/>
          <a:stretch/>
        </p:blipFill>
        <p:spPr>
          <a:xfrm>
            <a:off x="6443640" y="476280"/>
            <a:ext cx="234144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144D-0EAD-4FDE-9D95-A65690F8AD80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151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28" name="Obrázok 1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016360" cy="677880"/>
          </a:xfrm>
          <a:prstGeom prst="rect">
            <a:avLst/>
          </a:prstGeom>
          <a:ln w="0">
            <a:noFill/>
          </a:ln>
        </p:spPr>
      </p:pic>
      <p:pic>
        <p:nvPicPr>
          <p:cNvPr id="129" name="Graf 6" descr=""/>
          <p:cNvPicPr/>
          <p:nvPr/>
        </p:nvPicPr>
        <p:blipFill>
          <a:blip r:embed="rId2"/>
          <a:stretch/>
        </p:blipFill>
        <p:spPr>
          <a:xfrm>
            <a:off x="384120" y="1689120"/>
            <a:ext cx="82296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Zástupný symbol čísla snímky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6F74-085D-4B92-823C-00621FC22BB3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15177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sk-SK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        </a:t>
            </a:r>
            <a:br>
              <a:rPr sz="1200"/>
            </a:br>
            <a:br>
              <a:rPr sz="1200"/>
            </a:b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362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400" spc="-1" strike="noStrike">
              <a:solidFill>
                <a:srgbClr val="00007d"/>
              </a:solidFill>
              <a:latin typeface="Arial"/>
            </a:endParaRPr>
          </a:p>
        </p:txBody>
      </p:sp>
      <p:pic>
        <p:nvPicPr>
          <p:cNvPr id="133" name="Obrázok 1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016360" cy="677880"/>
          </a:xfrm>
          <a:prstGeom prst="rect">
            <a:avLst/>
          </a:prstGeom>
          <a:ln w="0">
            <a:noFill/>
          </a:ln>
        </p:spPr>
      </p:pic>
      <p:pic>
        <p:nvPicPr>
          <p:cNvPr id="134" name="Graf 6" descr=""/>
          <p:cNvPicPr/>
          <p:nvPr/>
        </p:nvPicPr>
        <p:blipFill>
          <a:blip r:embed="rId2"/>
          <a:stretch/>
        </p:blipFill>
        <p:spPr>
          <a:xfrm>
            <a:off x="384120" y="1689120"/>
            <a:ext cx="82296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6840" y="1779480"/>
            <a:ext cx="8218440" cy="48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2EE9-BB08-470D-9179-50ED91FCAF10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BlokTextu 8"/>
          <p:cNvSpPr/>
          <p:nvPr/>
        </p:nvSpPr>
        <p:spPr>
          <a:xfrm>
            <a:off x="1403280" y="2039760"/>
            <a:ext cx="68407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755640" y="1341360"/>
          <a:ext cx="7835760" cy="5178600"/>
        </p:xfrm>
        <a:graphic>
          <a:graphicData uri="http://schemas.openxmlformats.org/drawingml/2006/table">
            <a:tbl>
              <a:tblPr/>
              <a:tblGrid>
                <a:gridCol w="2435400"/>
                <a:gridCol w="2303280"/>
                <a:gridCol w="3097080"/>
              </a:tblGrid>
              <a:tr h="2196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 Vzdeláv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 31/03/20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 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/0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2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327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I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celkovej alokác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,8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,26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45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 celkovej alokác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5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,41</a:t>
                      </a:r>
                      <a:r>
                        <a:rPr b="1" lang="sk-SK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3900240">
                <a:tc gridSpan="3">
                  <a:txBody>
                    <a:bodyPr lIns="6120" rIns="6120" tIns="61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a prijaté na akceleráciu implementácie OP Vzdelávani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ízový manažment riadenia národných projektov zo strany vedenia MŠVVaŠ SR (pravidelné dvojtýždenné porady ministr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reovanie profesionálnych projektových tímov na priamo riadených organizáciách MŠVVaŠ SR ako prijímateľoch národných projekto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vedenie osobnej zodpovednosti a motivačného mechanizmu štatutárov priamo riadených organizáciách MŠVVaŠ SR ako prijímateľoch národných projektov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ízia väčšiny  národných projektov, ktoré sú v realizácii od r. 2008 (nutnosť  znižovania rozpočtov, úprava  časových harmonogramov, predlžovanie dĺžky realizáci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kčný plán OP Vzdelávanie na zlepšenie stavu jeho implementácie – odblokovanie  pozastavených platieb zo strany 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VÝSLEDOK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ONTRAHOVANIE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sk-SK" sz="16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sk-SK" sz="16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výšenie o 40%; za 1 rok sa nakontrahovalo toľko ako predtým za 4 ro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ČERPANIE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sk-SK" sz="16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– </a:t>
                      </a:r>
                      <a:r>
                        <a:rPr b="1" lang="sk-SK" sz="1600" spc="-1" strike="noStrike">
                          <a:solidFill>
                            <a:srgbClr val="0000cc"/>
                          </a:solidFill>
                          <a:latin typeface="Calibri"/>
                          <a:ea typeface="Times New Roman"/>
                        </a:rPr>
                        <a:t>zvýšenie o 11,88 %; za 1 rok sa vyčerpalo takmer toľko ako predtým za 4 rok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K 31. 05. 2013 bolo kumulatívne vyhlásenýc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: </a:t>
            </a:r>
            <a:r>
              <a:rPr b="1" lang="sk-SK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35</a:t>
            </a:r>
            <a:r>
              <a:rPr b="0" lang="sk-SK" sz="1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ísomných vyzvaní pre národné proje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400" spc="-1" strike="noStrike" u="sng">
                <a:solidFill>
                  <a:srgbClr val="00007d"/>
                </a:solidFill>
                <a:uFillTx/>
                <a:latin typeface="Times New Roman"/>
                <a:ea typeface="Times New Roman"/>
              </a:rPr>
              <a:t>K 31. 05. 2013 je stav nasledovný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: </a:t>
            </a:r>
            <a:r>
              <a:rPr b="1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sk-SK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árodných projektov (z toho 10 multi-cieľových) v realizáci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49"/>
              </a:spcBef>
              <a:buClr>
                <a:srgbClr val="ad2e27"/>
              </a:buClr>
              <a:buSzPct val="75000"/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EC93-D7DD-4048-8891-CEEA97C077CA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8C0E-E4C4-406C-BF83-90C70EAC7F0E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45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6840" y="1981080"/>
            <a:ext cx="821844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2455-194B-4905-A8CE-8E15DCA57D43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200" spc="-1" strike="noStrike">
                <a:solidFill>
                  <a:srgbClr val="000000"/>
                </a:solidFill>
                <a:latin typeface="Arial"/>
              </a:rPr>
              <a:t>25.6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Obrázok 2" descr=""/>
          <p:cNvPicPr/>
          <p:nvPr/>
        </p:nvPicPr>
        <p:blipFill>
          <a:blip r:embed="rId1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pic>
        <p:nvPicPr>
          <p:cNvPr id="151" name="Obrázok 4" descr=""/>
          <p:cNvPicPr/>
          <p:nvPr/>
        </p:nvPicPr>
        <p:blipFill>
          <a:blip r:embed="rId2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sp>
        <p:nvSpPr>
          <p:cNvPr id="152" name="BlokTextu 8"/>
          <p:cNvSpPr/>
          <p:nvPr/>
        </p:nvSpPr>
        <p:spPr>
          <a:xfrm>
            <a:off x="1403280" y="198900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Národné projekty, kontrahovanie, čerp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755640" y="2421000"/>
          <a:ext cx="7777080" cy="3857400"/>
        </p:xfrm>
        <a:graphic>
          <a:graphicData uri="http://schemas.openxmlformats.org/drawingml/2006/table">
            <a:tbl>
              <a:tblPr/>
              <a:tblGrid>
                <a:gridCol w="1063800"/>
                <a:gridCol w="765000"/>
                <a:gridCol w="1841400"/>
                <a:gridCol w="1841760"/>
                <a:gridCol w="1133280"/>
                <a:gridCol w="1131840"/>
              </a:tblGrid>
              <a:tr h="5032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700"/>
                      </a:b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700"/>
                      </a:br>
                      <a:r>
                        <a:rPr b="1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921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013009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kluzívny model vzdelávania na predprimárnom stupni školskej sústavy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266 224,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jný a kariérny rast pedagogických zamestnanc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 983 076,8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</a:t>
                      </a: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 149,8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0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23000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esijný a kariérny rast pedagogických zamestnancov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47 906,2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88 257,5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68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pedagogických zamestnancov materských škôl ako súčasť reformy vzdelávan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160 921,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</a:t>
                      </a: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4 920,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pedagogických zamestnancov materských škôl ako súčasť reformy vzdelávan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3 255,6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 735,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59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3013005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ím pedagogických zamestnancov k inklúzii marginalizovaných rómskych komuní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240 651,7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874 920,34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047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ovaný projekt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izujúce metódy vo výchove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odicko-pedagogické centrum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MEUR – plánovaná alokácia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33D8-E8B4-4B90-B2FA-0026AA98FDAD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512CF-5C5E-4C9E-8EF6-6CC16895F84D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57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711360" y="1981080"/>
          <a:ext cx="7677000" cy="3889440"/>
        </p:xfrm>
        <a:graphic>
          <a:graphicData uri="http://schemas.openxmlformats.org/drawingml/2006/table">
            <a:tbl>
              <a:tblPr/>
              <a:tblGrid>
                <a:gridCol w="1050840"/>
                <a:gridCol w="753840"/>
                <a:gridCol w="1818000"/>
                <a:gridCol w="1819080"/>
                <a:gridCol w="1117800"/>
                <a:gridCol w="1117440"/>
              </a:tblGrid>
              <a:tr h="66672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600"/>
                      </a:b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600"/>
                      </a:br>
                      <a:r>
                        <a:rPr b="1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22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1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mPrax -Kompetencie pre prax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UVEN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860 956,2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18 746,6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AKTIK – Praktické zručnosti cez neformálne vzdelávanie v práci s mládežou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UVENT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450 609,8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336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ýšenie kvalifikácie učiteľov telesnej a športovej výchovy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é športové centrum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305 514,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Ďalšie vzdelávanie a poradenstvo pre dospelých ako nástroj lepšej uplatniteľnosti na trhu práce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loživotného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 794 566,6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30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dnotenie kvality vzdelávania na ZŠ a SŠ v SR v kontexte prebiehajúcej obsahovej reformy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rtifikovaných meraní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905 931,7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46 988,69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84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54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yšovanie kvality vzdelávania na základných a stredných školách s využitím  elektronického testovania K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rtifikovaných meraní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 806 571,1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5480"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3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vyšovanie kvality vzdelávania na základných a stredných školách s využitím elektronického testovania RKZ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rodný ústav certifikovaných meraní vzdelávania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180 635,0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Zástupný symbol čísla snímky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0BBA-9105-4A95-A7FB-C3753FBC1E6C}" type="slidenum">
              <a:rPr b="0" lang="sk-SK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dátumu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F1AE-4F77-4672-8D6F-D9B4E09ADA4A}" type="datetime">
              <a:rPr b="0" lang="sk-SK" sz="1200" spc="-1" strike="noStrike">
                <a:solidFill>
                  <a:srgbClr val="000000"/>
                </a:solidFill>
                <a:latin typeface="Arial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Obrázok 4" descr=""/>
          <p:cNvPicPr/>
          <p:nvPr/>
        </p:nvPicPr>
        <p:blipFill>
          <a:blip r:embed="rId1"/>
          <a:stretch/>
        </p:blipFill>
        <p:spPr>
          <a:xfrm>
            <a:off x="711360" y="612720"/>
            <a:ext cx="1033200" cy="1035000"/>
          </a:xfrm>
          <a:prstGeom prst="rect">
            <a:avLst/>
          </a:prstGeom>
          <a:ln w="0">
            <a:noFill/>
          </a:ln>
        </p:spPr>
      </p:pic>
      <p:pic>
        <p:nvPicPr>
          <p:cNvPr id="163" name="Obrázok 2" descr=""/>
          <p:cNvPicPr/>
          <p:nvPr/>
        </p:nvPicPr>
        <p:blipFill>
          <a:blip r:embed="rId2"/>
          <a:stretch/>
        </p:blipFill>
        <p:spPr>
          <a:xfrm>
            <a:off x="2198520" y="612720"/>
            <a:ext cx="1258920" cy="116676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                                           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Operačný program Vzdelávanie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lang="sk-SK" sz="2400" spc="-1" strike="noStrike">
                <a:solidFill>
                  <a:srgbClr val="00007d"/>
                </a:solidFill>
                <a:latin typeface="Arial"/>
              </a:rPr>
              <a:t>Národné projekty – prehľ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11280" y="1981080"/>
          <a:ext cx="7921440" cy="4186440"/>
        </p:xfrm>
        <a:graphic>
          <a:graphicData uri="http://schemas.openxmlformats.org/drawingml/2006/table">
            <a:tbl>
              <a:tblPr/>
              <a:tblGrid>
                <a:gridCol w="1084320"/>
                <a:gridCol w="777600"/>
                <a:gridCol w="1876680"/>
                <a:gridCol w="1876320"/>
                <a:gridCol w="1152360"/>
                <a:gridCol w="1154160"/>
              </a:tblGrid>
              <a:tr h="8971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MS kód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atreni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ov projekt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jímateľ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ahovaná suma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erpaná suma upravená o nezrovnalosti a vrátené fin. prostriedky</a:t>
                      </a:r>
                      <a:br>
                        <a:rPr sz="800"/>
                      </a:br>
                      <a:r>
                        <a:rPr b="1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zdroj ESF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983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rné hodnoteni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lity školy podporujúc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bahodnotiace procesy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rozvoj ško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a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ská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špek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48 970,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9 882,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6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terné hodnoteni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vality školy podporujúce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bahodnotiace procesy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 rozvoj škol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a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kolská </a:t>
                      </a:r>
                      <a:br>
                        <a:rPr sz="800"/>
                      </a:b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špekc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120,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708,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5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voj stredného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 399 162,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201300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orba Národnej sústavy kvalifikáci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226 462,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844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230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orba Národnej sústavy kvalifikácií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241 901,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32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10130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v súvislosti s tvorbou školských vzdelávacích program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333 939,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264 229,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98680"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01300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zdelávanie učiteľov v súvislosti s tvorbou školských vzdelávacích programov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Štátny inštitút odborného vzdelávan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3 598,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" rIns="6840" tIns="68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 230,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" marR="68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7:05:52Z</dcterms:created>
  <dc:creator>henrieta holubekova</dc:creator>
  <dc:description/>
  <dc:language>en-US</dc:language>
  <cp:lastModifiedBy>Komarcová Anna</cp:lastModifiedBy>
  <cp:lastPrinted>2012-06-25T14:19:31Z</cp:lastPrinted>
  <dcterms:modified xsi:type="dcterms:W3CDTF">2014-05-26T11:26:07Z</dcterms:modified>
  <cp:revision>276</cp:revision>
  <dc:subject/>
  <dc:title>operačný program Vzdelávanie</dc:title>
</cp:coreProperties>
</file>