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AB657-0528-443B-B38D-151E66FB0E7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622840" y="6456240"/>
            <a:ext cx="4302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42DD-F434-44C2-8018-FB84B400F4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95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8D8C-CA97-4030-99DD-0E7BA2E4B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5340-E337-4B1A-A3D9-B3B918AE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75B0-79B0-437D-9FDD-81D96DE1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1B6F-7BFB-4928-9761-9BA3E18D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33C5-4210-463F-B310-46C7733D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2F1-715C-4F47-8593-CCBDCF1AF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BD50-8FFC-4498-883B-69A4184D5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39BB-F1A2-429F-80DA-F232AFEB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9E8C-7AA3-4013-907D-461B3F88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EF09-0087-4C3F-B7D7-E4E872A2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F5D-5C23-45C2-BDBB-740D26D9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1E1C-8395-4AFF-9DD4-3A41591AB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6E35-9E45-4B36-8415-7EA628825B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ástupný symbol čísla snímky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1EED-AFAF-4773-B565-D69FC54980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99"/>
                </a:solidFill>
                <a:latin typeface="Book Antiqua"/>
              </a:rPr>
              <a:t>Národný projekt</a:t>
            </a:r>
            <a:br>
              <a:rPr sz="4000"/>
            </a:br>
            <a:br>
              <a:rPr sz="4000"/>
            </a:br>
            <a:r>
              <a:rPr b="1" lang="sk-SK" sz="4000" spc="-1" strike="noStrike">
                <a:solidFill>
                  <a:srgbClr val="c00000"/>
                </a:solidFill>
                <a:latin typeface="Book Antiqua"/>
              </a:rPr>
              <a:t>Vzdelávanie pedagogických zamestnancov materských škôl ako súčasť reformy vzdelávania </a:t>
            </a:r>
            <a:br>
              <a:rPr sz="4000"/>
            </a:br>
            <a:r>
              <a:rPr b="1" lang="sk-SK" sz="4000" spc="-1" strike="noStrike">
                <a:solidFill>
                  <a:srgbClr val="c00000"/>
                </a:solidFill>
                <a:latin typeface="Book Antiqua"/>
              </a:rPr>
              <a:t>(MAT)</a:t>
            </a:r>
            <a:br>
              <a:rPr sz="4000"/>
            </a:br>
            <a:r>
              <a:rPr b="1" lang="sk-SK" sz="1700" spc="-1" strike="noStrike">
                <a:solidFill>
                  <a:srgbClr val="c00000"/>
                </a:solidFill>
                <a:latin typeface="Book Antiqua"/>
              </a:rPr>
              <a:t>začiatok realizácie projektu: máj 2009 – koniec realizácie projektu: 30.9.2014 </a:t>
            </a:r>
            <a:br>
              <a:rPr sz="1700"/>
            </a:br>
            <a:br>
              <a:rPr sz="4000"/>
            </a:br>
            <a:br>
              <a:rPr sz="4000"/>
            </a:br>
            <a:r>
              <a:rPr b="1" lang="sk-SK" sz="4000" spc="-1" strike="noStrike">
                <a:solidFill>
                  <a:srgbClr val="000099"/>
                </a:solidFill>
                <a:latin typeface="Book Antiqua"/>
              </a:rPr>
              <a:t>MPC Bratisla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Výstupy aktivity 1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278136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Súčasný stav v realizácii aktivity  </a:t>
            </a: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10018 osôb, ktorým sú pridelené vstupné heslá využíva služby port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Book Antiqua"/>
              </a:rPr>
              <a:t>Informácie v súlade s cieľom portálu je možné získať v nasledovných sekciách portálu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Book Antiqua"/>
              </a:rPr>
              <a:t>Úplné znenie 18 akreditovaných programov; Informácie o 382 študijných skupinách; Možnosť otestovať sa  v 6 testoch z modulov projektu; 23 diskusných oblastí na aktuálne témy z oblasti predprimárneho vzdelávania; Informácie o 1762 podujatiach; 4734 oznamov; 1392 prezentácií využiteľných aj pre dištančné vzdelávanie; 47 článkov k edukačnému procesu a zvyšovaniu poznania v oblastiach predprimárneho vzdelávania; Blogy 9; Edukačné materiály 5; Zoznam 2930 materských škôl; 443 administratívnych materiálov využiteľných v pedagogickej a riadiacej práci; Dotazník 1 </a:t>
            </a:r>
            <a:r>
              <a:rPr b="0" lang="sk-SK" sz="1100" spc="-1" strike="noStrike">
                <a:solidFill>
                  <a:srgbClr val="000000"/>
                </a:solidFill>
                <a:latin typeface="Book Antiqua"/>
              </a:rPr>
              <a:t>(z 1093 respondentov 1020 považuje EP za prínos a 73 sa buď nevyjadrilo, alebo portál nepovažuje za prínos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DDD6-87FE-4EDA-97F9-3C3E66A2D9E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68360" y="1197000"/>
          <a:ext cx="8207280" cy="1584360"/>
        </p:xfrm>
        <a:graphic>
          <a:graphicData uri="http://schemas.openxmlformats.org/drawingml/2006/table">
            <a:tbl>
              <a:tblPr/>
              <a:tblGrid>
                <a:gridCol w="8207280"/>
              </a:tblGrid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Využívanie funkčného edukačného portálu cieľovou skupinou projektu na realizáciu aktivít projektu a na využívania podporných  služieb pre frekventantov aktivít projektu bez obmedzenia času prístupu  do portálového edukačného priestor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Aktivita 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 u="sng">
                <a:solidFill>
                  <a:srgbClr val="000000"/>
                </a:solidFill>
                <a:uFillTx/>
                <a:latin typeface="Book Antiqua"/>
              </a:rPr>
              <a:t>Názov aktiv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Book Antiqua"/>
              </a:rPr>
              <a:t>2.1 Tvorba edukačného materiál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Book Antiqua"/>
              </a:rPr>
              <a:t>Cieľom aktivity je vytvoriť novú odbornú literatúru v tlačenej a elektronickej podobe na zefektívnenie edukačného procesu materských škôl a na účely tvorby školských vzdelávacích programov pre materské ško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C99B7-6EEF-47AB-9D6C-488BA34E031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68360" y="1268280"/>
          <a:ext cx="8218440" cy="2011320"/>
        </p:xfrm>
        <a:graphic>
          <a:graphicData uri="http://schemas.openxmlformats.org/drawingml/2006/table">
            <a:tbl>
              <a:tblPr/>
              <a:tblGrid>
                <a:gridCol w="3190680"/>
                <a:gridCol w="502776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ín realizácie aktivit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5. 2009 - 31. 3. 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edpokladané finančné prostriedky na aktivitu 2.1 2290826,12€ K/144371,20€ RK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Výstupy aktivity 2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997000"/>
            <a:ext cx="8229600" cy="31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Súčasný stav v realizácii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Počet pripravených edukačných materiálov ku  14.4.2013 je  63. Ďalších 65 je v procese tvorby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Vytlačenie  edukačných materiálov je podmienené ukončením verejného obstarávania na tlač (predpoklad ukončenia VO 15.10.2013 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90E8-41C1-4DF9-B0A1-C3134FEF5F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68360" y="1484280"/>
          <a:ext cx="8136000" cy="1368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36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Dodanie metodických príručiek, metodík, metodických listov v tlačenej aj digitálnej podobe, CD a DVD nahrávok výchovno-vzdelávacej činnosti, učebných zdrojov, učebných pomôcok (cca 200) a ich využívanie pedagogickými zamestnancam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Aktivita 2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A0A4-5347-49B1-B58F-68208B59344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 u="sng">
                <a:solidFill>
                  <a:srgbClr val="000000"/>
                </a:solidFill>
                <a:uFillTx/>
                <a:latin typeface="Book Antiqua"/>
              </a:rPr>
              <a:t>Názov aktiv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Book Antiqua"/>
              </a:rPr>
              <a:t>2.2 Odborné stáže a odborné exkurz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Book Antiqua"/>
              </a:rPr>
              <a:t>Cieľom aktivity je získať informácie a prehľad o najnovších stratégiách predprimárneho vzdelávania v EÚ a vo svete a implementovať najlepšiu prax do edukačnej praxe slovenských materských škô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68360" y="1268280"/>
          <a:ext cx="8218440" cy="2011320"/>
        </p:xfrm>
        <a:graphic>
          <a:graphicData uri="http://schemas.openxmlformats.org/drawingml/2006/table">
            <a:tbl>
              <a:tblPr/>
              <a:tblGrid>
                <a:gridCol w="3190680"/>
                <a:gridCol w="502776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ín realizácie aktivit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 3. 2010 - 31. 8. 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edpokladané finančné prostriedky na aktivitu 2.2. 403157,00€ K/47982,86 RKZ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Výstupy aktivity 2.2</a:t>
            </a:r>
            <a:r>
              <a:rPr b="0" lang="sk-SK" sz="4400" spc="-1" strike="noStrike">
                <a:solidFill>
                  <a:srgbClr val="000099"/>
                </a:solidFill>
                <a:latin typeface="Book Antiqua"/>
              </a:rPr>
              <a:t>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335736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Book Antiqua"/>
              </a:rPr>
              <a:t>Súčasný stav v realizácii ak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Uskutočnili sa tri odborné stáž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Book Antiqua"/>
              </a:rPr>
              <a:t>do Švédska - Štokholmská univerzita (program semináre na Katedre výskumu detstva a mládeže, návštevy predškolských zariadení spadajúcich pod gesciu Katedry výskumu detstva a mládeže Štokholmskej univerzity, Návšteva Inštitútu Reggio Emil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Book Antiqua"/>
              </a:rPr>
              <a:t>Do Belgicka - K.H. Kempen University College, Vorselaar, pedagogické strediská Antwerpy, Ghent, Moerbeke-Waas (program semináre, návštevy predškolských zariadení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Book Antiqua"/>
              </a:rPr>
              <a:t>Do Ruskej federácie - Ruská štátna pedagogická univerzita A. N. Gercena,</a:t>
            </a:r>
            <a:r>
              <a:rPr b="1" lang="sk-SK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Book Antiqua"/>
              </a:rPr>
              <a:t>Inštitút detstv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39558-69DC-40CD-8AD1-881B4F9712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bdĺžnik 9"/>
          <p:cNvSpPr/>
          <p:nvPr/>
        </p:nvSpPr>
        <p:spPr>
          <a:xfrm>
            <a:off x="539640" y="1268280"/>
            <a:ext cx="8064720" cy="22885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Uskutočnenie odborných stáží. Spracovanie návrhov a odporúčaní  z </a:t>
            </a:r>
            <a:r>
              <a:rPr b="0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najlepšej praxe  navštívených krajín v rámci </a:t>
            </a:r>
            <a:r>
              <a:rPr b="1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odborných stáží a odborných exkurzií </a:t>
            </a:r>
            <a:r>
              <a:rPr b="0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do edukačnej praxe slovenských materských škôl . Námety na tvorbu edukačných materiálov, prekladov , podnetov pre ďalšie vzdelávanie pedagogických zamestnancov materských škôl. </a:t>
            </a:r>
            <a:r>
              <a:rPr b="1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Metodici odborných stáží využívajú poznatky zo stáží  pri vypracovávaní revidovaného štátneho vzdelávacieho programu pre predprimárne vzdelávanie (ISCED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Výstupy aktivity 2.2</a:t>
            </a:r>
            <a:r>
              <a:rPr b="0" lang="sk-SK" sz="4400" spc="-1" strike="noStrike">
                <a:solidFill>
                  <a:srgbClr val="000099"/>
                </a:solidFill>
                <a:latin typeface="Book Antiqua"/>
              </a:rPr>
              <a:t>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1912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Účastníci odborných stáží - v zmysle projektu zapojení frekventanti do vzdelávacích programov v rámci NP MAT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Vo Švédsku sa odbornej stáže zúčastnilo  8 pedagogických zamestnancov, z každého kraja SR po jednom, ktorí splnili požiadavky  z</a:t>
            </a:r>
            <a:r>
              <a:rPr b="0" lang="sk-SK" sz="1700" spc="-1" strike="noStrike">
                <a:solidFill>
                  <a:srgbClr val="000000"/>
                </a:solidFill>
                <a:latin typeface="Book Antiqua"/>
              </a:rPr>
              <a:t>apojenia sa do vzdelávacieho programu realizovaného v rámci NP MAT a osvojenie anglického jazyka na úrovni B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363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V Belgicku sa odbornej stáže zúčastnilo  7 pedagogických zamestnancov, zo  SR, ktorí splnili predchádzajúce požiadavky.  (Vzhľadom na podieľaní sa frekventantov na nákladoch  stáže, záujem o stáž poklesol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363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V Ruskej federácii sa odbornej stáže zúčastnilo  9 pedagogických zamestnancov zo  SR, ktorí splnili požiadavku  zapojenia sa do vzdelávacieho programu realizovaného v rámci NP MAT požiadavky. </a:t>
            </a:r>
            <a:r>
              <a:rPr b="1" lang="sk-SK" sz="1800" spc="-1" strike="noStrike">
                <a:solidFill>
                  <a:srgbClr val="000000"/>
                </a:solidFill>
                <a:latin typeface="Book Antiqua"/>
              </a:rPr>
              <a:t>Verejné obstarávanie  na odborné stáže a odborné konferencie má byť ukončené 30.10.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3636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36360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51912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6D4CE-8EDB-419B-9241-A663F2D43EB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Výstupy aktivity 2.2</a:t>
            </a:r>
            <a:r>
              <a:rPr b="0" lang="sk-SK" sz="4400" spc="-1" strike="noStrike">
                <a:solidFill>
                  <a:srgbClr val="000099"/>
                </a:solidFill>
                <a:latin typeface="Book Antiqua"/>
              </a:rPr>
              <a:t>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Book Antiqua"/>
              </a:rPr>
              <a:t>Ďalšie plánované odborné stáže a odborné exkurzie v roku 2013 a 201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Book Antiqua"/>
              </a:rPr>
              <a:t>USA, Pennsylvania, Scranton rok 2013 a 2014 (návštevy materských škôl, školiace semináre na univerzit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Book Antiqua"/>
              </a:rPr>
              <a:t>Austrália, University of Newcastle rok 2013 (Štúdium austrálskeho systému predškolského vzdelávania- Hospitácie materských škôl, semináre na Katedre pedagogiky University of Newcastl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Book Antiqua"/>
              </a:rPr>
              <a:t>Chorvátsko rok 2013 a 2014 (Exkurzia v obci Svätý Iľja na základe Zmluvy o spolupráci uzatvorenej v rámci projektu MAT, návšteva fakulty, ministerstva školstva, materskej školy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Book Antiqua"/>
              </a:rPr>
              <a:t>Írsko, Dublin rok 2014 (Štúdium predškolského vzdelávania Veľkej Británie založené na spolupráci s University of East London, hospitácie predškolských zariadení v Dublin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000000"/>
                </a:solidFill>
                <a:latin typeface="Book Antiqua"/>
              </a:rPr>
              <a:t>Švédsko rok 2014 (Stáž založená na zmluve o spolupráci medzi Stockholm University návštevy materských škôl, školiace semináre na univerzit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769B-3750-427B-B0E7-732E48F8E72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Aktivita 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 u="sng">
                <a:solidFill>
                  <a:srgbClr val="000000"/>
                </a:solidFill>
                <a:uFillTx/>
                <a:latin typeface="Book Antiqua"/>
              </a:rPr>
              <a:t>Názov aktiv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Book Antiqua"/>
              </a:rPr>
              <a:t>2.3 Odborné semináre a odborné konferenci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Book Antiqua"/>
              </a:rPr>
              <a:t>Cieľom aktivity je vytvárať priestor na výmenu skúseností a poznatkov z jednotlivých odborných aktivít projektu a šírenie dobrej a osvedčenej prax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08465-8F2A-4AF9-A303-8AB73F337A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268280"/>
          <a:ext cx="8218440" cy="2011320"/>
        </p:xfrm>
        <a:graphic>
          <a:graphicData uri="http://schemas.openxmlformats.org/drawingml/2006/table">
            <a:tbl>
              <a:tblPr/>
              <a:tblGrid>
                <a:gridCol w="3190680"/>
                <a:gridCol w="502776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ín realizácie aktivit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4. 2010 - 30. 6. 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edpokladané finančné prostriedky na aktivitu 2.3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55091,00€ K/28473,20 RKZ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Výstupy aktivity 2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342864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Súčasný stav v realizácii a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Uskutočnilo sa desať odborných seminárov a jedna konferencia. Témami odborných seminárov boli Prírodovedná gramotnosť v materských školách; Aktuálne zmeny právnych predpisov a ich aplikácia v praxi; Hra,tvorivosť a gramotnosť v preprimárnom vzdelávaní a hlavne Revízia a inovácia štátneho vzdelávacieho programu pre predprimárne vzdelávanie – východiská, štruktúra a medzinárodné porovnania. </a:t>
            </a:r>
            <a:r>
              <a:rPr b="1" lang="sk-SK" sz="1800" spc="-1" strike="noStrike">
                <a:solidFill>
                  <a:srgbClr val="000000"/>
                </a:solidFill>
                <a:latin typeface="Book Antiqua"/>
              </a:rPr>
              <a:t>Veľký záujem o uvedené témy seminárov umožnil diskusiu k revidovanému ŠVP na celoslovenskej úrovni a tým aj možnosť získať a zapracovať pripomienky zo škô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A322-5007-4822-9F1D-59FA90F6DF1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bdĺžnik 4"/>
          <p:cNvSpPr/>
          <p:nvPr/>
        </p:nvSpPr>
        <p:spPr>
          <a:xfrm>
            <a:off x="468360" y="1197000"/>
            <a:ext cx="8064360" cy="20142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Uskutočnenie seminárov a konferencií s lektormi-</a:t>
            </a:r>
            <a:r>
              <a:rPr b="0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 hlavnými tvorcami nového štátneho vzdelávacieho programu pre materské školy</a:t>
            </a:r>
            <a:r>
              <a:rPr b="1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. Spracovanie návrhov a odporúčaní  pre pedagogickú prax predprimárneho vzdelávania, ktoré budú využité pre tvorbu revidovaného štátneho vzdelávacieho programu . </a:t>
            </a:r>
            <a:r>
              <a:rPr b="0" lang="sk-SK" sz="1800" spc="-1" strike="noStrike">
                <a:solidFill>
                  <a:srgbClr val="000000"/>
                </a:solidFill>
                <a:latin typeface="Book Antiqua"/>
                <a:ea typeface="Arial"/>
              </a:rPr>
              <a:t>Prezentácia inovatívnych stratégií  a poznatkov z odborných stáží využiteľných  v ďalšom vzdelávaní pedagogických zamestnancov materských škô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Zástupný symbol čísla snímky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E0CB3-B7B8-463F-96C3-819F5896F62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99"/>
                </a:solidFill>
                <a:latin typeface="Book Antiqua"/>
              </a:rPr>
              <a:t>Cieľové skupiny projek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Book Antiqua"/>
              </a:rPr>
              <a:t>Pedagogickí zamestnanci</a:t>
            </a: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 – materských škôl vrátane manažmentu materských škôl –pedagogických zamestnancov materských škôl s úplným stredným odborným vzdelaním, s vysokoškolským vzdelaním prvého a druhého stupň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ff0000"/>
                </a:solidFill>
                <a:latin typeface="Book Antiqua"/>
              </a:rPr>
              <a:t>Zamestnanci pracujúci v oblasti vzdelávania</a:t>
            </a: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 – odborní zamestnanci štátnej a verejnej správy pôsobiaci v oblasti predškolskej výchovy na MPC, KŠU, MŠVVaŠ SR, ŠPÚ, ŠŠI , ktorí v rámci plnenia pracovných povinností participujú na riadení materských škôl, príp. na ďalšom vzdelávaní pedagogických zamestnancov materských škô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Cieľové skupiny sú definované zákonom NR SR č. 317/200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Plánované počty PZ v cieľovej skupine (merateľné ukazovatele projektu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0000"/>
                </a:solidFill>
                <a:latin typeface="Book Antiqua"/>
              </a:rPr>
              <a:t>spolu (11 350 PZ, z toho 10 000 za SR a 1 350 za B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čísla snímky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CA0F-1B61-45F3-ADFC-3268E0A092C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99"/>
                </a:solidFill>
                <a:latin typeface="Book Antiqua"/>
              </a:rPr>
              <a:t>Priebežné počty frekventantov na aktivitách </a:t>
            </a:r>
            <a:br>
              <a:rPr sz="2800"/>
            </a:br>
            <a:r>
              <a:rPr b="1" lang="sk-SK" sz="2000" spc="-1" strike="noStrike">
                <a:solidFill>
                  <a:srgbClr val="000099"/>
                </a:solidFill>
                <a:latin typeface="Book Antiqua"/>
              </a:rPr>
              <a:t>1.1. Vzdelávanie manažmentu a odborných zamestnancov štátnej a verejnej správy a  1.2 Vzdelávanie PZ  materských škôl</a:t>
            </a:r>
            <a:br>
              <a:rPr sz="2000"/>
            </a:br>
            <a:r>
              <a:rPr b="1" lang="sk-SK" sz="2000" spc="-1" strike="noStrike">
                <a:solidFill>
                  <a:srgbClr val="000099"/>
                </a:solidFill>
                <a:latin typeface="Book Antiqua"/>
              </a:rPr>
              <a:t> k 31.3.201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1.1. Vzdelávanie manažmentu a odborných zamestnancov štátnej a verejnej správy (2500 frekventantovK/215 frekventantov RK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0" lang="sk-SK" sz="1900" spc="-1" strike="noStrike">
                <a:solidFill>
                  <a:srgbClr val="000000"/>
                </a:solidFill>
                <a:latin typeface="Book Antiqua"/>
              </a:rPr>
              <a:t>Aktuálny stav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1838 SR/</a:t>
            </a:r>
            <a:r>
              <a:rPr b="0" lang="sk-SK" sz="1800" spc="-1" strike="noStrike">
                <a:solidFill>
                  <a:srgbClr val="00b050"/>
                </a:solidFill>
                <a:latin typeface="Book Antiqua"/>
              </a:rPr>
              <a:t>216</a:t>
            </a: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 BA zamestnancov  sa zúčastnilo raz na  vzdelávaní v rámci akreditovaných vzdelávacích 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2938  SR/</a:t>
            </a:r>
            <a:r>
              <a:rPr b="0" lang="sk-SK" sz="1800" spc="-1" strike="noStrike">
                <a:solidFill>
                  <a:srgbClr val="00b050"/>
                </a:solidFill>
                <a:latin typeface="Book Antiqua"/>
              </a:rPr>
              <a:t>435</a:t>
            </a: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  BA zamestnancov  sa opakovane zúčastnilo na  vzdelávaní v rámci viacerých  akreditovaných vzdelávacích 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1.2. Vzdelávanie PZ  materských škôl (7500 frekventantov K/1135 frekventantov RKZ)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Aktuálny sta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6658 SR /</a:t>
            </a:r>
            <a:r>
              <a:rPr b="0" lang="sk-SK" sz="1800" spc="-1" strike="noStrike">
                <a:solidFill>
                  <a:srgbClr val="00b050"/>
                </a:solidFill>
                <a:latin typeface="Book Antiqua"/>
              </a:rPr>
              <a:t>876</a:t>
            </a: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  BA zamestnancov  sa zúčastnilo raz na  vzdelávaní v rámci akreditovaných vzdelávacích 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8979  SR /</a:t>
            </a:r>
            <a:r>
              <a:rPr b="0" lang="sk-SK" sz="1800" spc="-1" strike="noStrike">
                <a:solidFill>
                  <a:srgbClr val="00b050"/>
                </a:solidFill>
                <a:latin typeface="Book Antiqua"/>
              </a:rPr>
              <a:t>1523 </a:t>
            </a: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 BA zamestnancov  sa opakovane zúčastnilo na  vzdelávaní v rámci viacerých akreditovaných vzdelávacích 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Zástupný symbol čísla snímky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01AFC-D572-4D63-BC2A-F3F46C7BDE4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000" spc="-1" strike="noStrike">
                <a:solidFill>
                  <a:srgbClr val="000099"/>
                </a:solidFill>
                <a:latin typeface="Book Antiqua"/>
              </a:rPr>
              <a:t>Ciele projek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214280"/>
          <a:ext cx="8229600" cy="38736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155448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Implementovať obsahovú reformu a rozvíjať systém celoživotného vzdelávania zameraný na rozvíjanie kľúčových kompetencií PZ materských škôl v súlade s potrebami vedomostnej spoloč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3660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1.  Orientovať prípravu a ďalšie vzdelávanie PZ na získanie a rozvoj kompetencií na premenu tradičnej školy na modernú</a:t>
                      </a: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520"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2. </a:t>
                      </a: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Book Antiqua"/>
                          <a:ea typeface="Times New Roman"/>
                        </a:rPr>
                        <a:t>Inovovať obsah a  metódy, skvalitniť výstupy vzdelávania pre potreby trhu práce vo vedomostnej spoloč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Zástupný symbol čísla snímky 6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0024-FE51-4160-B10D-BACE4BC646C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Aktivita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82184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 u="sng">
                <a:solidFill>
                  <a:srgbClr val="000000"/>
                </a:solidFill>
                <a:uFillTx/>
                <a:latin typeface="Book Antiqua"/>
              </a:rPr>
              <a:t>Názov aktiv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Book Antiqua"/>
              </a:rPr>
              <a:t>1.1. Vzdelávanie manažmentu a odborných zamestnancov štátnej a verejnej s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Book Antiqua"/>
              </a:rPr>
              <a:t>Cieľom aktivity je osvojenie si komplexu profesionálnych manažérskych kompetencií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39640" y="1197000"/>
          <a:ext cx="8147160" cy="2011320"/>
        </p:xfrm>
        <a:graphic>
          <a:graphicData uri="http://schemas.openxmlformats.org/drawingml/2006/table">
            <a:tbl>
              <a:tblPr/>
              <a:tblGrid>
                <a:gridCol w="3075120"/>
                <a:gridCol w="5072040"/>
              </a:tblGrid>
              <a:tr h="1189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ín realizácie aktivit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 3. 2010 - 30. 6. 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edpokladané finančné prostriedky na aktivitu 1.1. 837815,22€ K/73314,9€ RK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čísla snímky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1135-D290-4C73-9845-FE92A6D04C6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Výstupy aktivity 1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152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8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6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Súčasný stav v realizácii aktivity – merateľné ukazovat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6560" indent="-28656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Na vzdelávaní v rámci akreditovaných vzdelávacích programov sa zúčastnilo 1838 vedúcich pedagogických zamestnancov- manažment MŠ za SR a 216 za 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6560" indent="-28656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Na vzdelávanie manažmentu  boli vytvorené nasledujúce akreditované programy kontinuálneho vzdeláv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2040" indent="-2206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Digitálne technológie v MŠ pre VP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2040" indent="-2206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Obsahová reforma v MŠ pre PV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2040" indent="-2206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Školský manažment v M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2040" indent="-2206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Inovácie v didaktike  pre VP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2040" indent="-220680">
              <a:lnSpc>
                <a:spcPct val="100000"/>
              </a:lnSpc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Book Antiqua"/>
              </a:rPr>
              <a:t>Inovácie v riadení materskej školy (19.10.20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6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Book Antiqu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68360" y="1268280"/>
          <a:ext cx="8136000" cy="158436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92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končenie vzdelávania 2500 zamestnancov manažmentu MŠ v cieli K /215 v cieli RKZ v akreditovaných vzdelávacích programoch  v súlade so zákonom o pedagogických zamestnancoch  v minimálne piatich akreditovaných programo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Aktivita 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 u="sng">
                <a:solidFill>
                  <a:srgbClr val="000000"/>
                </a:solidFill>
                <a:uFillTx/>
                <a:latin typeface="Book Antiqua"/>
              </a:rPr>
              <a:t>Názov aktiv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Book Antiqua"/>
              </a:rPr>
              <a:t>1.2. Vzdelávanie pedagogických zamestnancov materských škô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Book Antiqua"/>
              </a:rPr>
              <a:t>Cieľom aktivity je po absolvovaní a úspešnom zvládnutím vzdelávacích programov získanie, inovovanie a rozvoj profesionálnych odborných kompetencií PZ vrátane kompetencií potrebných ku komplexnej informatizácii MŠ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9392-39C6-4C0C-B57B-7E2FDE57E7A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68360" y="1268280"/>
          <a:ext cx="8218440" cy="2011320"/>
        </p:xfrm>
        <a:graphic>
          <a:graphicData uri="http://schemas.openxmlformats.org/drawingml/2006/table">
            <a:tbl>
              <a:tblPr/>
              <a:tblGrid>
                <a:gridCol w="3190680"/>
                <a:gridCol w="502776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ín realizácie aktivit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. 3. 2010 - 30. 6. 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edpokladané finančné prostriedky na aktivitu 1.2. 2605438,43€ K/228451,80 RKZ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Výstupy aktivity 1.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2852640"/>
            <a:ext cx="82296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50280" indent="-350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Book Antiqua"/>
              </a:rPr>
              <a:t>Súčasný stav v realizácii aktivity – merateľné ukazovat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Na vzdelávaní v rámci akreditovaných vzdelávacích programov sa zúčastnilo 6658 pedagogických zamestnancov materských škôl za SR a 876 za B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0000"/>
              </a:lnSpc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Book Antiqua"/>
              </a:rPr>
              <a:t>Na vzdelávanie pedagogických zamestnancov bolo vytvorených 13 akreditovaných programov kontinuálneho vzdelávan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0280" indent="-350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Book Antiqua"/>
              </a:rPr>
              <a:t>Zoznam akreditovaných programov: Digitálne technológie v materskej škole (úroveň začiatočník); Inovácie v didaktike pre učiteľov predprimárneho vzdelávania; Kreslenie v grafickom programe RNA (Revelation Natural ART); Land Art a jeho možnosti v predprimárnom vzdelávaní; Lyžovanie v materskej škole; Obsahová reforma v materskej škole; Orientácia v priestore a priestorová predstavivosť v predprimárnom vzdelávaní; Pracujeme s digitálnou hračkou Bee-bot v materskej škole; Prípravné atestačné vzdelávanie k prvej atestácii pre učiteľov predprimárneho vzdelávania; Programujeme v materskej škole; Rozvíjanie grafomotorických zručností detí ako príprava na písanie v základnej škole; Rozvíjanie predčitateľskej gramotnosti v materskej škole; Kreslíme na počítači v materskej šk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4D56A-A532-4D9E-A491-059886CE8C7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68360" y="1268280"/>
          <a:ext cx="8136000" cy="1440000"/>
        </p:xfrm>
        <a:graphic>
          <a:graphicData uri="http://schemas.openxmlformats.org/drawingml/2006/table">
            <a:tbl>
              <a:tblPr/>
              <a:tblGrid>
                <a:gridCol w="8136000"/>
              </a:tblGrid>
              <a:tr h="1616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0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Ukončenie vzdelávania 7500 pedagogických zamestnancov MŠ v cieli K /1135 v cieli RKZ v akreditovaných vzdelávacích programoch  v súlade so zákonom o pedagogických zamestnancoch  v minimálne troch akreditovaných programo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000099"/>
                </a:solidFill>
                <a:latin typeface="Book Antiqua"/>
              </a:rPr>
              <a:t>Aktivita 1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 u="sng">
                <a:solidFill>
                  <a:srgbClr val="000000"/>
                </a:solidFill>
                <a:uFillTx/>
                <a:latin typeface="Book Antiqua"/>
              </a:rPr>
              <a:t>Názov aktivity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000000"/>
                </a:solidFill>
                <a:latin typeface="Book Antiqua"/>
              </a:rPr>
              <a:t>1.3 Edukačný portá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Book Antiqua"/>
              </a:rPr>
              <a:t>Cieľom aktivity je Poskytnúť komplexný systém digitálnych služieb pre informačné a vzdelávacie potreby cieľovej skupiny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ástupný symbol čísla snímky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6306-50CB-4CF0-9FAF-1F898D953E9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268280"/>
          <a:ext cx="8218440" cy="2011320"/>
        </p:xfrm>
        <a:graphic>
          <a:graphicData uri="http://schemas.openxmlformats.org/drawingml/2006/table">
            <a:tbl>
              <a:tblPr/>
              <a:tblGrid>
                <a:gridCol w="3190680"/>
                <a:gridCol w="5027760"/>
              </a:tblGrid>
              <a:tr h="1189080">
                <a:tc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rmín realizácie aktivity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b">
                      <a:noAutofit/>
                    </a:bodyPr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 9. 2009 - 30. 9. 20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 gridSpan="2">
                  <a:txBody>
                    <a:bodyPr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Predpokladané finančné prostriedky na aktivitu 1.3. 679525,06€ K/16973,04€ RK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7T09:56:24Z</dcterms:created>
  <dc:creator>Lašák</dc:creator>
  <dc:description/>
  <dc:language>en-US</dc:language>
  <cp:lastModifiedBy>Komarcová Anna</cp:lastModifiedBy>
  <dcterms:modified xsi:type="dcterms:W3CDTF">2014-05-26T11:27:46Z</dcterms:modified>
  <cp:revision>199</cp:revision>
  <dc:subject/>
  <dc:title>Profesijný a kariérový rast pedagogických zamestnancov</dc:title>
</cp:coreProperties>
</file>