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8.wmf" ContentType="image/x-wmf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14"/>
          </p:nvPr>
        </p:nvSpPr>
        <p:spPr>
          <a:xfrm>
            <a:off x="385128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15"/>
          </p:nvPr>
        </p:nvSpPr>
        <p:spPr>
          <a:xfrm>
            <a:off x="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16"/>
          </p:nvPr>
        </p:nvSpPr>
        <p:spPr>
          <a:xfrm>
            <a:off x="3851280" y="9427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E85B-3C17-433F-8BB7-8F579FE8CCAA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51280" y="9428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F7055-4FB2-4A75-9AF5-511661BA985F}" type="slidenum">
              <a:rPr b="0" lang="sk-SK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7E9333-5608-4BFC-9872-5D650A9E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5B648C-A8C7-4E62-B30E-BCBEB4CB5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754D9-1F93-4D5C-A3EE-A8AEF0FB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1E239B-5886-49F7-974A-16EFFBDD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5E0F3-C523-42B1-9EDA-13B5796D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9FFC6-5DC1-4FC2-9783-C84815BD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ACFC48-02C1-47DB-AAB2-C6BEFE96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1174AB-2A55-4CFF-9324-F938975E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D53924-4B7E-4F01-BBD8-1A5CA906C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9A1607-A197-4C2D-B186-C3862474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794838-708B-4154-B51F-68B32978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C2FD18-1044-4155-81FC-0A33B4F89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122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123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66D5-993A-4951-82FA-F5FFC6D10035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66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03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07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08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7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50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86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87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9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291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292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9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334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0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71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3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4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375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376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1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418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4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455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7" name="Line 47"/>
          <p:cNvSpPr/>
          <p:nvPr/>
        </p:nvSpPr>
        <p:spPr>
          <a:xfrm>
            <a:off x="684360" y="6308640"/>
            <a:ext cx="7848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8" name="Zástupný symbol obsahu 7" descr=""/>
          <p:cNvPicPr/>
          <p:nvPr/>
        </p:nvPicPr>
        <p:blipFill>
          <a:blip r:embed="rId2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pic>
        <p:nvPicPr>
          <p:cNvPr id="459" name="Obrázok 8" descr=""/>
          <p:cNvPicPr/>
          <p:nvPr/>
        </p:nvPicPr>
        <p:blipFill>
          <a:blip r:embed="rId3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460" name="Obrázok 9" descr=""/>
          <p:cNvPicPr/>
          <p:nvPr/>
        </p:nvPicPr>
        <p:blipFill>
          <a:blip r:embed="rId4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13"/>
          </p:nvPr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opv.health-sf.sk/" TargetMode="External"/><Relationship Id="rId2" Type="http://schemas.openxmlformats.org/officeDocument/2006/relationships/hyperlink" Target="mailto:info.opv@health.gov.sk" TargetMode="External"/><Relationship Id="rId3" Type="http://schemas.openxmlformats.org/officeDocument/2006/relationships/hyperlink" Target="mailto:info.opv@health.gov.sk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722160" y="2297160"/>
            <a:ext cx="7772400" cy="33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Informácia o opatrení 2.2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Operačného programu Vzdelávan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k 31.5.20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Footer Placeholder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0" name="Picture 3" descr=""/>
          <p:cNvPicPr/>
          <p:nvPr/>
        </p:nvPicPr>
        <p:blipFill>
          <a:blip r:embed="rId1"/>
          <a:stretch/>
        </p:blipFill>
        <p:spPr>
          <a:xfrm>
            <a:off x="2771640" y="40464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4" descr=""/>
          <p:cNvPicPr/>
          <p:nvPr/>
        </p:nvPicPr>
        <p:blipFill>
          <a:blip r:embed="rId2"/>
          <a:stretch/>
        </p:blipFill>
        <p:spPr>
          <a:xfrm>
            <a:off x="6659640" y="415800"/>
            <a:ext cx="1447560" cy="14288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7" descr="ESF_logo_SK_male"/>
          <p:cNvPicPr/>
          <p:nvPr/>
        </p:nvPicPr>
        <p:blipFill>
          <a:blip r:embed="rId3"/>
          <a:stretch/>
        </p:blipFill>
        <p:spPr>
          <a:xfrm>
            <a:off x="1042920" y="404640"/>
            <a:ext cx="151308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01480" y="26384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1"/>
              </a:rPr>
              <a:t>www.opv.health-sf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 u="sng">
                <a:solidFill>
                  <a:srgbClr val="86d1ec"/>
                </a:solidFill>
                <a:uFillTx/>
                <a:latin typeface="Arial"/>
                <a:hlinkClick r:id="rId2"/>
              </a:rPr>
              <a:t>info.opv</a:t>
            </a:r>
            <a:r>
              <a:rPr b="0" lang="en-US" sz="2800" spc="-1" strike="noStrike" u="sng">
                <a:solidFill>
                  <a:srgbClr val="86d1ec"/>
                </a:solidFill>
                <a:uFillTx/>
                <a:latin typeface="Arial"/>
                <a:hlinkClick r:id="rId3"/>
              </a:rPr>
              <a:t>@health.gov.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8" name="Picture 9" descr="ministerstvo-zdravotnictva-mzsr-mz"/>
          <p:cNvPicPr/>
          <p:nvPr/>
        </p:nvPicPr>
        <p:blipFill>
          <a:blip r:embed="rId4"/>
          <a:stretch/>
        </p:blipFill>
        <p:spPr>
          <a:xfrm>
            <a:off x="317520" y="1386000"/>
            <a:ext cx="3097080" cy="29304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10"/>
          <p:cNvSpPr/>
          <p:nvPr/>
        </p:nvSpPr>
        <p:spPr>
          <a:xfrm>
            <a:off x="3492360" y="1916280"/>
            <a:ext cx="5400720" cy="20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Arial"/>
              </a:rPr>
              <a:t>Ministerstvo zdravotníctva SR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rostredkovateľský orgán 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od riadiacim orgánom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pre opatrenie 2.2 OPV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Zástupný symbol päty 1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Vyhlásené výzv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4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1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17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2"/>
          <p:cNvSpPr/>
          <p:nvPr/>
        </p:nvSpPr>
        <p:spPr>
          <a:xfrm>
            <a:off x="223920" y="1744560"/>
            <a:ext cx="8731080" cy="409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8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1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2 „Rozvoj nových foriem ďalšieho vzdelávania v zdravotníctve“ 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8/2.2/03 „Doplnenie  systému zdravotníctva o kvalifikovaných odbor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09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1 „Podpora hodnotenia sústavného vzdelávania zdravotníckych pracovníkov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09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0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0/2.2/02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Ukončené výzvy z roku 2011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ffffff"/>
                </a:solidFill>
                <a:latin typeface="Arial"/>
              </a:rPr>
              <a:t>OPV 2011/2.2/01 „Zvýšenie ďalších zručností pracovníkov v zdravotníctve“</a:t>
            </a: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Prehľad realizácie opatren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0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1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3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4" name=""/>
          <p:cNvGraphicFramePr/>
          <p:nvPr/>
        </p:nvGraphicFramePr>
        <p:xfrm>
          <a:off x="304920" y="1928880"/>
          <a:ext cx="8437320" cy="4037040"/>
        </p:xfrm>
        <a:graphic>
          <a:graphicData uri="http://schemas.openxmlformats.org/drawingml/2006/table">
            <a:tbl>
              <a:tblPr/>
              <a:tblGrid>
                <a:gridCol w="1576440"/>
                <a:gridCol w="2116080"/>
                <a:gridCol w="4744800"/>
              </a:tblGrid>
              <a:tr h="576360">
                <a:tc gridSpan="3"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Ďalšie vzdelávanie pracovníkov v zdravotníctv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i="1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harakter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formálne a informáln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yp vzdelávan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špecializačné štúdium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ústavné vzdelávani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0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y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3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8/2.2/02, OPV 2009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09/2.2/02, OPV 2010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V 2010/2.2/02, OPV 2011/2.2/01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51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ímatelia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osprávne kraje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mory, profesijné organizácie, vzdelávacie inštitúcie, univerzity, zdravotnícke zariadenia, priamo riadené organizácie MZ SR</a:t>
                      </a:r>
                      <a:endParaRPr b="0" i="1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Zazmluvnenie a realizácia opatren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Zástupný symbol obsahu 7" descr=""/>
          <p:cNvPicPr/>
          <p:nvPr/>
        </p:nvPicPr>
        <p:blipFill>
          <a:blip r:embed="rId1"/>
          <a:stretch/>
        </p:blipFill>
        <p:spPr>
          <a:xfrm>
            <a:off x="2714760" y="214200"/>
            <a:ext cx="971280" cy="868320"/>
          </a:xfrm>
          <a:prstGeom prst="rect">
            <a:avLst/>
          </a:prstGeom>
          <a:ln w="0">
            <a:noFill/>
          </a:ln>
        </p:spPr>
      </p:pic>
      <p:sp>
        <p:nvSpPr>
          <p:cNvPr id="527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Obrázok 8" descr=""/>
          <p:cNvPicPr/>
          <p:nvPr/>
        </p:nvPicPr>
        <p:blipFill>
          <a:blip r:embed="rId2"/>
          <a:stretch/>
        </p:blipFill>
        <p:spPr>
          <a:xfrm>
            <a:off x="3979800" y="212760"/>
            <a:ext cx="669960" cy="858960"/>
          </a:xfrm>
          <a:prstGeom prst="rect">
            <a:avLst/>
          </a:prstGeom>
          <a:ln w="0">
            <a:noFill/>
          </a:ln>
        </p:spPr>
      </p:pic>
      <p:pic>
        <p:nvPicPr>
          <p:cNvPr id="529" name="Obrázok 9" descr=""/>
          <p:cNvPicPr/>
          <p:nvPr/>
        </p:nvPicPr>
        <p:blipFill>
          <a:blip r:embed="rId3"/>
          <a:stretch/>
        </p:blipFill>
        <p:spPr>
          <a:xfrm>
            <a:off x="4863960" y="212760"/>
            <a:ext cx="933480" cy="858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"/>
          <p:cNvGraphicFramePr/>
          <p:nvPr/>
        </p:nvGraphicFramePr>
        <p:xfrm>
          <a:off x="534960" y="1917720"/>
          <a:ext cx="8074080" cy="3970440"/>
        </p:xfrm>
        <a:graphic>
          <a:graphicData uri="http://schemas.openxmlformats.org/drawingml/2006/table">
            <a:tbl>
              <a:tblPr/>
              <a:tblGrid>
                <a:gridCol w="1614600"/>
                <a:gridCol w="1614240"/>
                <a:gridCol w="1630440"/>
                <a:gridCol w="1600200"/>
                <a:gridCol w="1614600"/>
              </a:tblGrid>
              <a:tr h="11383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ýzva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zazmluvn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projektov v realizácií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čet mimoriadne  ukončených projekt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6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5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14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ktuálne zazmluvnenie a čerpanie opatrenia podľa výzie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479520" y="1884240"/>
          <a:ext cx="8163000" cy="4211640"/>
        </p:xfrm>
        <a:graphic>
          <a:graphicData uri="http://schemas.openxmlformats.org/drawingml/2006/table">
            <a:tbl>
              <a:tblPr/>
              <a:tblGrid>
                <a:gridCol w="1631880"/>
                <a:gridCol w="1633680"/>
                <a:gridCol w="1631880"/>
                <a:gridCol w="1633320"/>
                <a:gridCol w="1632240"/>
              </a:tblGrid>
              <a:tr h="518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ód výzvy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zmluvne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Čerpané NFP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z alok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 602,9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 398,4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58 317,3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8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3 986,9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3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8/2.2/0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259 325,8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56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22 795,96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19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4 938,4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0 623,87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5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09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628 770,32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7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0 966,29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2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60 761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205,1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23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0/2.2/0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020 903,6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,0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2 873,91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8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240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V 2011/2.2/0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519 616,25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51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 804,40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2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 463 236,34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,27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477 654,93 €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,33%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Zazmluvnenie opatrenia 2.2 a 5.2 Operačného programu Vzdelávanie" descr=""/>
          <p:cNvPicPr/>
          <p:nvPr/>
        </p:nvPicPr>
        <p:blipFill>
          <a:blip r:embed="rId1"/>
          <a:stretch/>
        </p:blipFill>
        <p:spPr>
          <a:xfrm>
            <a:off x="560520" y="1206360"/>
            <a:ext cx="805968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017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9" name="Čerpanie opatrenia 2.2 a 5.2 Operačného programu Vzdelávanie" descr=""/>
          <p:cNvPicPr/>
          <p:nvPr/>
        </p:nvPicPr>
        <p:blipFill>
          <a:blip r:embed="rId1"/>
          <a:stretch/>
        </p:blipFill>
        <p:spPr>
          <a:xfrm>
            <a:off x="493560" y="1163520"/>
            <a:ext cx="81075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Zástupný symbol päty 3"/>
          <p:cNvSpPr/>
          <p:nvPr/>
        </p:nvSpPr>
        <p:spPr>
          <a:xfrm>
            <a:off x="534960" y="622764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577800" y="1833480"/>
          <a:ext cx="7763040" cy="2819520"/>
        </p:xfrm>
        <a:graphic>
          <a:graphicData uri="http://schemas.openxmlformats.org/drawingml/2006/table">
            <a:tbl>
              <a:tblPr/>
              <a:tblGrid>
                <a:gridCol w="3983040"/>
                <a:gridCol w="1136520"/>
                <a:gridCol w="1382760"/>
                <a:gridCol w="1260720"/>
              </a:tblGrid>
              <a:tr h="654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Názov indikátora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Aktuálny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Plánovaný stav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ffffff"/>
                          </a:solidFill>
                          <a:latin typeface="Arial"/>
                          <a:ea typeface="Calibri"/>
                        </a:rPr>
                        <a:t>Cieľová hodnota na úrovni OP</a:t>
                      </a:r>
                      <a:endParaRPr b="0" i="1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46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zapojených do vzdelávacích aktivít projektu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2 630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5 44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 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921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 úspešne absolvujúcich vzdelávací program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2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3 485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%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679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zamestnancov, ktorí využívajú výsledky projektu po ukončení jeho realizácie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9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21 254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80%</a:t>
                      </a:r>
                      <a:r>
                        <a:rPr b="1" lang="sk-SK" sz="1400" spc="-1" strike="noStrike" baseline="30000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3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478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Počet novovytvorených vzdelávacích programov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80"/>
                          </a:solidFill>
                          <a:latin typeface="Arial"/>
                          <a:ea typeface="Calibri"/>
                        </a:rPr>
                        <a:t>15</a:t>
                      </a:r>
                      <a:endParaRPr b="0" i="1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542" name="Obdĺžnik 3"/>
          <p:cNvSpPr/>
          <p:nvPr/>
        </p:nvSpPr>
        <p:spPr>
          <a:xfrm>
            <a:off x="534960" y="4862520"/>
            <a:ext cx="80964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1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Cieľovú percentuálnu hodnotu 7% predstavuje 5 143 zdravotníckych pracovníkov z celkového počtu 73 472 pracovníkov so zdravotníckym vzdelaním. Zámerom je, aby aspoň 7 % z týchto zdravotníckych pracovníkov v rokoch 2008 až 2013 úspešne absolvovalo ďalšie vzdelávanie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2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Hodnota 23 485 zdravotníckych pracovníkov predstavuje 31,96% z celkového počtu 73 472 pracovníkov so zdravotníckym vzdelaním.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3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Plánovanú cieľovú percentuálnu hodnotu 80% predstavuje podiel počtu zdravotníckych pracovníkov, ktorí využívajú výsledky projektu po ukončení jeho realizácie z celkového počtu zdravotníckych pracovníkov absolvujúcich vzdelávacie aktivity. Cieľom je aby 80% zdravotníckych pracovníkov zotrvalo po ukončení ďalšieho vzdelávania v systéme zdravotníctva SR. </a:t>
            </a:r>
            <a:br>
              <a:rPr sz="1000"/>
            </a:br>
            <a:r>
              <a:rPr b="1" i="1" lang="sk-SK" sz="1000" spc="-1" strike="noStrike" baseline="30000">
                <a:solidFill>
                  <a:srgbClr val="ffffff"/>
                </a:solidFill>
                <a:latin typeface="Arial"/>
              </a:rPr>
              <a:t>4 </a:t>
            </a:r>
            <a:r>
              <a:rPr b="0" i="1" lang="sk-SK" sz="1000" spc="-1" strike="noStrike">
                <a:solidFill>
                  <a:srgbClr val="ffffff"/>
                </a:solidFill>
                <a:latin typeface="Arial"/>
              </a:rPr>
              <a:t>Hodnota 21 254 zdravotníckych pracovníkov predstavuje 90,50% z počtu zdravotníckych pracovníkov absolvujúcich vzdelávacie aktivity.</a:t>
            </a:r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2400"/>
            </a:br>
            <a:br>
              <a:rPr sz="2400"/>
            </a:b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ndiká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Zástupný symbol päty 3"/>
          <p:cNvSpPr/>
          <p:nvPr/>
        </p:nvSpPr>
        <p:spPr>
          <a:xfrm>
            <a:off x="468360" y="6248520"/>
            <a:ext cx="820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rebuchet MS"/>
              </a:rPr>
              <a:t>18. jún 2013 - Zasadnutie MV OPV</a:t>
            </a:r>
            <a:endParaRPr b="0" i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314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patrenia prijaté SORO MZ SR v súvislosti s plnením Akčného plánu v rámci OP Vzdelávan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401760" y="2212920"/>
            <a:ext cx="8229600" cy="39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vyhlásenie výzvy na dopytovo – orientované projekty v júli 201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poskytovanie  dobrovoľných osobných  konzultácii pred uzávierkou výzv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intenzívnenie osobných a písomných konzultácií poskytovaných prijímateľom pred predložením ŽoP a v procese jej spracovan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organizovani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racovného stretnutia s prijímateľmi za účelom zlepšenia stavu   implementácie v rámci opatrenia 2.2 OP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presnejšie plánovanie predkladania Žo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informácie o problémoch súvisiacich s procesom V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85840" algn="just"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najčastejšie pochybenia v rámci implementačnej fázy projektu zistené auditm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ffff"/>
                </a:solidFill>
                <a:latin typeface="Arial"/>
              </a:rPr>
              <a:t>- zavedenie preventívneho opatrenia – pilotnej kontroly súladu jednotlivých písomných podkladov v rámci dokumentácie súvisiacej s procesom VO k nadlimitným/podlimitným zákazká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6T06:37:42Z</dcterms:created>
  <dc:creator>Gabriela Gergelová</dc:creator>
  <dc:description/>
  <dc:language>en-US</dc:language>
  <cp:lastModifiedBy>Komarcová Anna</cp:lastModifiedBy>
  <cp:lastPrinted>2013-06-10T05:33:06Z</cp:lastPrinted>
  <dcterms:modified xsi:type="dcterms:W3CDTF">2014-05-26T11:28:51Z</dcterms:modified>
  <cp:revision>428</cp:revision>
  <dc:subject/>
  <dc:title>Najväčším bohatstvom, najvyššou hodnotou každého človeka, každého jedinca je  ZDRAVIE</dc:title>
</cp:coreProperties>
</file>