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C04-A6C9-4015-B70A-290629E5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2A5-73E9-4ABF-9E5C-FA42D55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CEA-8BDF-4E2C-9502-DFAA8476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5BB-9DA6-411E-9475-F0DF3724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412C-89EA-42AA-B2FB-9214D9EF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F7E3-ED75-49BC-899E-F738885A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4B3C-7C26-491B-B024-A1CFE1DA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4381-4F62-4FFC-8DB1-2B89EF9E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F4F7-2310-4C79-89A5-52DFEA8F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19C6-2322-45BD-8B51-9D5CC78F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1528-1431-46E7-884F-6BAC5B7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3A8-9A1B-4FD6-8E5E-C5EE59D4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F35F-497B-42E7-A675-3315D6AA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C55B-5536-4C9D-8314-68D64835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C340-5684-4CA3-AF61-C0E3F53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FD73-539E-4A71-8372-FF255AD7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4F12-41BE-49FA-86A4-06B2A7CE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CAC-103F-4C14-8BE0-A574DB47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86C-F26D-429A-9DDF-2B3F194F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A2E-8621-4456-A57A-8C0D48F3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5FE-6B54-4395-A921-DB930B51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9BF-1DBD-4C4D-97A6-980E5C1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8CD-3CD6-49B1-B572-72FA2ACB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F01-E824-4567-8C0E-BE459CD6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5319-3A15-4689-B7A8-40E221E414B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BE44-413F-4EC9-B494-C0482A1F5FF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Čitateľská, matematická a prírodovedná gramotnosť v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BlokTextu 5"/>
          <p:cNvSpPr/>
          <p:nvPr/>
        </p:nvSpPr>
        <p:spPr>
          <a:xfrm>
            <a:off x="539640" y="580536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Starý Smokovec, 15. máj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Vzdelávanie OP Ľudské zd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7/6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/7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BSK – viac rozvinutý región) 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/7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mimo BSK – menej rozvinuté regióny)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/8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3.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/9/2018,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4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/10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Celé územie Sloven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15 mil. EUR (z toho pre BSK 1,5 mil. E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na projekt 50 000 EUR-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ĺžka trvania projektov od 12 do 24 mesiac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ačné semináre pre žiadateľov v Bratislave (8/6/2018), Žiline (11/6/2018), Prešove (12/6/2018), Banskej Bystrici (15/6/2018), Bratislave (22/8/2018), Žiline (23/8/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sobne/poštou/kurié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ožnosť využiť elektronickú schrá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škôl (potvrd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 a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196640"/>
            <a:ext cx="8331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Žiadate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ákladné ško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riaďovateľ len v prípade, že ZŠ nemá právnu subjektiv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, že je škola zaradená do siete škôl a školských zariad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olufinancovanie – predkladá sa formulár 1b žiadosti o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úkromné školy – vydané Rozhodnutie o schválení s podmienkou – predloženie výkazu ziskov a str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Cieľové skup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ci ZŠ vrátane žiakov so ŠV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í a odborní zamestna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Obe cieľové skupiny sú povin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šetky aktivity vo výzve povinné (3) – aktivita na žiakov, aktivita na PZ a riadenie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asť 7 formulára žiadosti o NFP – 7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1.aktiv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, prírodovedných, matematických, environmentálnych, jazykových, IKT zručností vrátane finančnej gramotnosti vrátane podnikateľských vedomostí a ekonomického myslenia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  a matematických zručností a gramo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a/al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-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ríloha č. 6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dôvodnenie rozsahu a obsahu extra hodín, predloženie aktuálneho ŠkVP školy a rámcového učebného plánu a plánovaného ŠkVP školy a rámcového učebného plán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 – na ktorú sa neuplatňuje vzdelávací poukaz a ktorá nie je realizovaná v rámci výchovného programu školy (napr. školský klub det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pora rozvoja kľúčových kompetencií pedagogických a odborných zamestnancov vrátane oblasti jazykových a IKT zručností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  a matematických zručností a gramo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zdelávanie PZ/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é klu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samostatná aktivita Riadenie/Koordinác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uzivatel</cp:lastModifiedBy>
  <dcterms:modified xsi:type="dcterms:W3CDTF">2018-08-22T06:41:54Z</dcterms:modified>
  <cp:revision>131</cp:revision>
  <dc:subject/>
  <dc:title>Snímka 1</dc:title>
</cp:coreProperties>
</file>