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C68-F129-4340-A9AE-6D58704AD09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231-EF63-4439-B46C-4BB66BBACBB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A565-7E1D-4CB1-BA7A-8D77097B8E7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C98E-5259-43E5-A406-EFB3486F547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AEF4-B36E-4A18-AE31-D1353DF7A84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D07A-8D22-43B1-A6C5-1133D6F4176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0E6A-0504-4A9B-AC77-38543FCD014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čísla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6820-B69A-48BD-8963-524E43402934}" type="slidenum">
              <a:rPr b="0" lang="sk-S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682F-ECD1-4C1C-B6AD-46E0A8627A1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62D8-6FBD-47A1-9EA4-7C19EFCA348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CF2-4846-4E14-8166-44BF97EF153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F2F-E24D-4CEF-B33B-99F3A4E69B0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4A5-DBDC-4E36-A745-248ED4A93A7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6015-DED4-481E-BA30-5CABC5FE7F5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FCC-C913-493B-BB65-3FE51EAA981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182-01D3-41BB-86F4-B5BFB843A3E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9B9F-0637-4C50-8BCA-9E32A95FB2A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B4B-91B2-4D15-8106-737188F4094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3F1-DA12-4C21-B8F5-411FB7BF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0B2-9F59-4C47-8ACD-234D260A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3F3-AABF-4DF0-A710-C849A4A0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462-E50C-406B-8651-382A7722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E30-FCC6-4D1C-B192-771BC908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086-E25C-48EC-BF84-4422457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837-BBA0-4374-ACC8-66A53AF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4CA-8C9E-40BD-B7BC-A78963E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477-10C0-495B-ABEF-E3E41A1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D3E-AE46-43A8-8E1B-5C43C1F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630-F68C-4564-BECE-D50F4F5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B34-A71C-4D78-8D5A-1DFC226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7C47-E50D-4217-9003-5C2FE8BCD50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 - implementá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539640" y="580536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ýzva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č.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OPLZ-PO1/2016/DOP/1.1.1-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„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 základnej škole úspešnejš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– riadok 0131 pod písmenom A je súčtový a uvádza kumulatívne všetkých pedagogických asistentov (B1) a členov inkluzívneho tímu (B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rávne vyplnené uvedené údaje sú nevyhnutné pre potreby dokladovania oprávnenosti výdavkov v rámci projektu. Zvyšné údaje v Štvrťročnom výkaze o práci v školstve (Škol MŠVVaŠ SR 1-04) je povinný subjekt vyplniť v zmysle pokynov Ministerstva školstva, vedy, výskumu a športu SR platné pre dané vykazova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smernenie pre prijímateľov k predkladaniu Štvrťročnej správy o činnosti v rámci štandardnej stupnice jednotkových nákladov pre pracovné pozície - pedagogický asistent, inkluzívny tím a asistent učiteľa pre žiakov so zdravotným znevýhodnením  (</a:t>
            </a:r>
            <a:r>
              <a:rPr b="1" lang="sk-SK" sz="1800" spc="-1" strike="noStrike">
                <a:solidFill>
                  <a:srgbClr val="0070c0"/>
                </a:solidFill>
                <a:latin typeface="Calibri"/>
              </a:rPr>
              <a:t>http://www.minedu.sk/usmernenie-pre-prijimatelov-k-predkladaniu-stvrtrocnej-spravy-o-cinnosti/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je povinný zasielať na Sprostredkovateľský orgán Ministerstvo školstva, vedy, výskumu a športu Slovenskej republiky raz za štvrťrok Štvrťročnú správu o činnosti. Štvrťročnú správu o činnosti predkladá prijímateľ v tlačenej forme ku každej žiadosti o platbu, v ktorej sú nárokované výdavky formou štandardnej stupnice jednotkových nákladov pedagogického asistenta, asistenta učiteľa a členov inkluzívneho tímu, ktorá je predložená na SO na zúčtovanie po uplynutí štvrťročného obdobia. V žiadostiach o platbu, ktoré sú predložené na SO mimo uvedeného obdobia Štvrťročnú správu o činnosti prijímateľ nepredklad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Štvrťročnej správe o činnosti sú uvedené všetky činnosti, ktoré zamestnanec vykonával v danom štvrťroku za každý príslušný mesiac samostatne, popíše sa najmä práca s cieľovou skupinou. Ak relevantné ku každej činnosti sa priradí výstup formou samostatnej prílohy. Opis činnosti musí byť v súlade s činnosťami oprávnenými pre financovanie uvedenými v štandardnej stupnici jednotkových nákladov a s opisom pracovnej činnosti zamestnan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a základe predložených Štvrťročných správ o činnosti vykoná SO kontrolu oprávnenosti výdavkov, v prípade zistenia nezrovnalostí aj spätne za celé vykazované štvrťročné obdob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kt 24"/>
          <p:cNvGraphicFramePr/>
          <p:nvPr/>
        </p:nvGraphicFramePr>
        <p:xfrm>
          <a:off x="2987640" y="1052640"/>
          <a:ext cx="32558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k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3255840" cy="489888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kyny k vyplneniu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fyzickej osoby, ktorá predmetnú činnosť vykonáv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 V riadku Názov a číslo rozpočtovej položky projektu - uvedie sa názov a číslo rozpočtovej položky podľa zmluvy o NF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6. V riadku Obdobie vykonávania činnosti – uvedie sa obdobie, za ktoré sa štvrťročná správa o činnosti predkladá. Obdobie sa uvádza v nasledovnom formáte DD.MM.RRRR – DD.MM.RRR, ( napr.01.01.2017 – 31.03.201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7. V riadku Správa o činnosti - uvedú a popíšu sa činnosti, ktoré zamestnanec vykonával v danom štvrťroku, popíše sa najmä prácu s cieľovou skupinou. Ak relevantné, ku každej činnosti sa priradí výstup. Opis činností musí byť v súlade s činnosťami oprávnenými pre financovanie uvedenými v štandardnej stupnici jednotkových nákladov a s opisom pracovnej činnosti zamestn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8. V riadku Zoznam výstupov činnosti – uvedie sa zoznam výstupov, ktoré zamestnanec priloží ako prílohy správy. Príklady výstupov : príloha č. 1 - prezentácie a fotodokumentácia z otvorených hodín; príloha č. 2 – pedagogická dokumentácia. Zoznam príloh musí byť v súlade s popisom uvedeným v časti „Správa o činnosti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 súvislosti  s využívaním  štandardnej stupnice jednotkových nákladov pre pracovné pozície - pedagogický asistent, inkluzívny tím a asistent učiteľa pre žiakov so zdravotným znevýhodn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lúži aj ako podklad pri overovaní novovytvoreného pracovného miesta na škole zapojenej do projektu. Ide o preukazovanie novovytvoreného pracovného miesta  pre pracovné pozície pedagogického asistenta, asistenta učiteľa pre žiakov so zdravotným znevýhodnením a členov inkluzívneho tímu (školský psychológ, špeciálny pedagóg, sociálny pedagóg) v rámci projektov OP Ľudské zd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novovytvorené pracovné pozície vo výkaze vypĺňa v riadku 0131. Overovanie bude uskutočnené porovnaním počtu uvedených pracovných pozícií pred začatím realizácie projektu a počtu pracovných pozícií po jeho spustení, t.j. budú predkladané a overované dva štvrťročné výkazy o práci v školstve výkaz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právne vyplnenie štvrťročného výkazu o práci v školstve je základným dokladom  pre priznanie nárokovaného výdavk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eva.fekova\Desktop\s.png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97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0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5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riadku 0131 „EŠIF z RK MŠVVaŠ S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stĺpca (priemerný evidenčný počet zamestnancov“ (t.j. zahrnú sa do prepočítaného stavu) - pedagogický asistent, asistent učiteľa pre žiakov so zdravotným znevýhodnením sa uvedú medzi pedagogických zamestnancov; členia inkluzívneho tímu (špeciálny pedagóg, sociálny pedagóg školský psychológ) sa uvedú medzi odborných zamestnancov (relevantný stĺpec č. 1,2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údaje o pedagogickom asistentovi, asistentovi učiteľa pre žiakov so zdravotným znevýhodnením a členoch inkluzívneho tímu (špeciálny pedagóg, sociálny pedagóg školský psychológ) sa uvádzajú do stĺpca „evidenčný počet zamestnancov k poslednú dňu štvrťroka“  - uvedie sa počet fyzický osôb spolu (stĺpec č.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1 - zmeny vykonané v riadku č. 0131 musia byť viditeľné aj v riadku č. 0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pedagogickom asistentovi a o  asistentovi učiteľa pre žiakov so zdravotným znevýhodnením sa uvedú do časti „EŠIF z RK MŠVVaŠ SR“ (0131)  pod písmeno B1 – pedagogickí zamestnanci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 členoch inkluzívneho tímu (špeciálny pedagóg, sociálny pedagóg školský psychológ) sa uvedú do časti „EŠIF z RK MŠVVaŠ SR“ (0131)    pod písmeno B2 – odborní zamestnanci 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8-09-04T08:39:03Z</cp:lastPrinted>
  <dcterms:modified xsi:type="dcterms:W3CDTF">2018-09-04T08:45:53Z</dcterms:modified>
  <cp:revision>152</cp:revision>
  <dc:subject/>
  <dc:title>Snímka 1</dc:title>
</cp:coreProperties>
</file>