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D4D-3FDF-498C-8FA9-508802FE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8D2-9B10-4A7A-9442-E43917A8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FBE-A77D-4E82-8E4C-71B17CDC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206-E338-4E63-9CEE-9AA924EF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F09-7E3F-4BB7-B74F-3B484169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F2B-3367-4282-BF29-ED0A221B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94E-D46F-4264-82C5-CB1D0A8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3B3-9604-4706-ACA4-08E5B2A6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20B-3005-4C97-9285-63E9B1EC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08A-7959-4369-A21E-2AF56E6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9D1-A7B5-4344-ADFA-1C4DA9C6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835-CAA5-46A8-9575-86C5C24C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B0C0-0B03-47B0-A4F0-472252C8E3F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inedu.sk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projekto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611280" y="4653000"/>
            <a:ext cx="3240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               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nformačné seminá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č.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OPLZ-PO1/2018/DOP/1.1.1-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Čitateľská, matematická a prírodovedná gramotnosť v základnej škol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č.</a:t>
            </a: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200" spc="-1" strike="noStrike">
                <a:solidFill>
                  <a:srgbClr val="7f7f7f"/>
                </a:solidFill>
                <a:latin typeface="Arial"/>
              </a:rPr>
              <a:t>OPLZ-PO1/2018/DOP/1.1.1-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7f7f7f"/>
                </a:solidFill>
                <a:latin typeface="Arial"/>
              </a:rPr>
              <a:t>Čitateľská, matematická, finančná  a prírodovedná gramotnosť na gymnáziách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ojektový  manažér SO vo vzťahu k žiadosti o platbu (zúčtovanie zálohovej platby) postupuje obdobne ako pri etape poskytnutia zálohovej platb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o vykonaní administratívnej finančnej kontroly žiadosti o platbu SO žiadosť o platb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chváli v plnej výške (schváli deklarované výdavky v plnej výške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žiadosť o platbu schváli v zníženej sume (schváli deklarované výdavky vo výške zníženej o sumu neoprávnených výdavkov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lebo žiadosť o platbu zamietne bezodkladne, najneskôr však v lehote 25 pracovných dní od prijatia žiadosti o platb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 prípade zistenia nedostatkov SO vyzve písomne s doručenkou alebo elektronicky        e-mailom s potvrdením doručenia a prečítania prijímateľa, aby v stanovenej lehote doplnil / zmenil žiadosť o zúčtovanie zálohovej platby. Za vyzvanie SO je možné považovať aj doručenie návrhu správy z kontroly v prípade, ak boli počas kontroly zistené nedostat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 každom z uvedených prípadov predkladá projektový manažér SO platobnej jednotke príslušnú časť formulára žiadosti o platbu, v ktorej sa uvádza výška schválených výdavk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boli v rámci kontroly zistené nedostatky je SO povinné vypracovať návrh správy z kontroly s určením lehoty na podanie námietok. Návrh správy z kontroly  je SO povinné doručiť návrh správy z kontroly prijímateľovi (písomne s doručenkou alebo elektronicky e-mailom s potvrdením doručenia a prečítani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má na podanie námietok lehotu 5 pracovných dní odo dňa doručenia návrhu správy z kontroly prijímateľovi. V prípade, ak SO neakceptuje námietky podané prijímateľom, resp. prijímateľ v stanovenej lehote nedoručí námietky, resp. ak prijímateľ doručí oznámenie, že nemá námietky k návrhu správy z kontroly, SO vypracuje správu z kontroly a zašle správu z kontroly </a:t>
            </a:r>
            <a:r>
              <a:rPr b="1" lang="cs-CZ" sz="1800" spc="-1" strike="noStrike">
                <a:solidFill>
                  <a:srgbClr val="00b050"/>
                </a:solidFill>
                <a:latin typeface="Calibri"/>
              </a:rPr>
              <a:t>písomne s doručenkou .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Momentom ukončenia kontroly je zaslanie správy z kontro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k SO akceptuje námietky podané prijímateľom, je povinný zohľadniť opodstatnenosť týchto námietok v správe z kontroly, t.j. zapracuje námietky do správy z kontroly. SO vypracuje správu z kontroly a zašle správu z kontroly písomne s doručenkou. Za moment ukončenia kontroly je v takomto prípade považovaný moment zaslania tejto správy z kontroly prijímateľov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kontrolou neboli zistené nedostatky, vypracuje SO správu z kontroly a zašle správu z kontroly písomne s doručenkou. Momentom ukončenia kontroly je zaslanie správy prijímateľov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o doručení správy od prijímateľa SO predloží žiadosť o zúčtovanie zálohovej platby na platobnú jednotk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refundá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O postupuje obdobne ako pri etape zúčtovania zálohovej plat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86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osť výdavkov – základné pravidl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25240" y="1197000"/>
            <a:ext cx="818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Za oprávnené výdavky 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sa považujú výdavky, ktoré vznikli po nadobudnutím účinnosti zmluvy o poskytnutí NFP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Zjednodušené vykazovanie výdavkov (SCO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Žiadateľ </a:t>
            </a:r>
            <a:r>
              <a:rPr b="1" lang="sk-SK" sz="1800" spc="-1" strike="noStrike" u="sng">
                <a:solidFill>
                  <a:srgbClr val="00b050"/>
                </a:solidFill>
                <a:uFillTx/>
                <a:latin typeface="Calibri"/>
              </a:rPr>
              <a:t>bol povinný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plikovať v rozpočte nasledovné zjednodušené vykazovanie výdavkov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15% paušálna sadzba na nepriame výdavky 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určené na základe nákladov na zamestnancov (nariadenie 1303/2013, čl. 68 ods. 1, písm. b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štandardná stupnica jednotkových nákladov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„hodinová sadzba učiteľa podľa kategórie škôl (ZŠ, SŠ) – zvýšené hodiny strávené vzdelávacími aktivitami“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(extra hodin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štandardná stupnica jednotkových nákladov „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edagogické kluby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štandardná stupnica jednotkových nákladov „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zdelávanie pedagogických a odborných zamestnancov“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Využívaním SCO 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nie sú dotknuté povinnosti prijímateľa vyplývajúce zo všeobecne záväzných právnych predpisov Slovenskej republiky a Európskej únie</a:t>
            </a:r>
            <a:r>
              <a:rPr b="0" lang="sk-SK" sz="1800" spc="-1" strike="noStrike">
                <a:solidFill>
                  <a:srgbClr val="00b050"/>
                </a:solidFill>
                <a:latin typeface="Calibri"/>
              </a:rPr>
              <a:t> (napr. zákon o verejnom obstarávaní, zákon o účtovníctve, zákonník prác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9680" y="1267920"/>
            <a:ext cx="818676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02 - Dlhodobý hmotný majeto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022 - Samostatné hnuteľné veci a súbory hnuteľných vecí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029 - Ostatný dlhodobý hmotný majeto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11 - Záso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112 - Záso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b050"/>
                </a:solidFill>
                <a:latin typeface="Calibri"/>
              </a:rPr>
              <a:t>35 - Dotácie, príspevky a transfer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352 - Poskytnutie dotácií, príspevkov voči tretím osobá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50 - Spotreb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02 - Spotreba energ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b050"/>
                </a:solidFill>
                <a:latin typeface="Calibri"/>
              </a:rPr>
              <a:t>51 - Služ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11 - Opravy a udržiavani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12 - Cestovné náhrad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b050"/>
                </a:solidFill>
                <a:latin typeface="Calibri"/>
              </a:rPr>
              <a:t>518 - Ostatné služ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99680" y="1125360"/>
            <a:ext cx="818676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2 - Osob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21 - Mzdové výdavky</a:t>
            </a:r>
            <a:r>
              <a:rPr b="0" i="1" lang="sk-SK" sz="18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(vrátane odmien za prácu vykonávanú mimo pracovného pomeru, platov, povinných odvodov za zamestnávateľa a iných zákonných náhra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4 - Ostat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48 - Výdavky na prevádzkovú činnos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5 - Odpis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51 - Odpis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56 - Finančné výdavky a poplat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568 - Ostatné finanč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b050"/>
                </a:solidFill>
                <a:latin typeface="Calibri"/>
              </a:rPr>
              <a:t>902 - Paušálna sadzba na nepriame výdavky určené na základe nákladov na zamestnancov</a:t>
            </a:r>
            <a:r>
              <a:rPr b="0" i="1" lang="sk-SK" sz="1800" spc="-1" strike="noStrike">
                <a:solidFill>
                  <a:srgbClr val="00b050"/>
                </a:solidFill>
                <a:latin typeface="Calibri"/>
              </a:rPr>
              <a:t> (nariadenie 1303/2013, čl. 68 ods. 1, písm. b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b050"/>
                </a:solidFill>
                <a:latin typeface="Calibri"/>
              </a:rPr>
              <a:t>910 - Jednotkov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0b050"/>
                </a:solidFill>
                <a:latin typeface="Calibri"/>
              </a:rPr>
              <a:t>9</a:t>
            </a:r>
            <a:r>
              <a:rPr b="1" i="1" lang="pt-BR" sz="1800" spc="-1" strike="noStrike">
                <a:solidFill>
                  <a:srgbClr val="00b050"/>
                </a:solidFill>
                <a:latin typeface="Calibri"/>
              </a:rPr>
              <a:t>30 - Rezerva na nepredvídané výdavk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Všeobecné pravidlá oprávnenosti výdavkov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000" y="148392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ynaložený výdavok je v súlade s platnými všeobecne záväznými právnymi predpismi (napr. zákon  č. 18/1996 Z. z. o cenách v znení neskorších predpisov, Zákonník práce, Občiansky zákonník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ok je vynaložený na projekt schválený sprostredkovateľským orgánom pre príslušný OP a realizovaný v zmysle zmluvy o poskytnutí NFP, resp. v zmysle rozhodnutia príslušného sprostredkovateľského orgánu o schválení žiadosti o NFP v súlade s kritériami stanovenými príslušným monitorovacím výborom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ky sú vynaložené v súlade s cieľom prioritnej osi č. 1 Vzdelávanie OP ĽZ, na aktivitu v súlade s obsahovou stránkou projektu a sú plne v súlade s cieľmi projektu, výdavky prispievajú k dosiahnutiu plánovaných aktivít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oprávnenosť výdavkov začína plynúť dňom účinnosti zmluvy o poskytnutí NFP + začiatok realizácie projektu uvedený v zmluve o NFP – čl. 2 (bod 2.2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– priame výdav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9680" y="1341360"/>
            <a:ext cx="818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i tvorbe rozpočtu v rámci konania Žiadosti o nenávratný finančný príspevok boli stanovené pravidlá pre oprávnenosť výdavkov podľa jednotlivých druhov výdavko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Za oprávnené sa budú považovať výdavky, ktoré sú schválené v rozpočte projektu v rámci podpísanej a účinnej Zmluvy o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nenávratný finančný príspevok. Jedná sa o výdavky na uskutočnenie činností, ktoré preukázateľne priamo súvisia 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konkrétnou činnosťou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personálne výdavky interné - koordinačné činnost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personálne výdavky interné – odborné činnost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neprekročenie 1,5 násobok možného úväzku v danom mesiaci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. Výdavky prekračujúce 1,5 úväzku za všetky jeho pracovné úväzky a dohody o vykonaní práce budú krátené. Do posudzovania 1,5 násobku sa započítavajú pracovné pomery na základe pracovnej zmluvy resp. obdobnej zmluvy ako práca vykonávaná na základe dohôd mimo pracovného pomer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školiaci materiál a potreby</a:t>
            </a:r>
            <a:r>
              <a:rPr b="0" lang="pl-PL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pre aktivity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evádzkové výdavky iba v rozsahu na uskutočnenie realizácie jednotlivých aktivít projektu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(spotrebný tovar a prevádzkový materiál, voda, plyn, elektrická energia, poštovné, telekomunikačné poplatky, spojovacie siete,..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nákup hmotného a nehmotného majetku (okrem nehnuteľností)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- obstaranie zariadenia/vybavenia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a didaktických prostriedkov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e hlavné aktivity projektu (vrátane nehmotného majetku) – </a:t>
            </a: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max. 30% limit z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právnených priamych výdavkov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rozpočtu - nezapočíta sa položka riziková priráž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cestovné náhrady odborného personálu, expertov, školiteľov, lektorov – tuzemské a zahraničné pracovné cesty - </a:t>
            </a: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oprávnené iba pre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mimoškolskú činnosť a pre vzdelávanie pedagogických a odborných zamestnancov zabezpečené dodávateľsky (t.j. neaplikuje sa/nevyužíva sa v prípade využitia štandardných stupníc jednotkových nákladov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íspevok (finančného alebo nefinančného charakteru) pre frekventantov, ako aj náhrady mzdy vrátane odvodov zamestnávateľa zúčastnených osôb (frekventantov), výdavky spojené so stravovaním, ubytovaním, cestovný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867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– priame výdav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000" y="1125000"/>
            <a:ext cx="8186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občerstvenie do výšky 1 500 EUR na projekt za podmienky, že nesmie byť poskytnuté súčasne v ten istý deň s výdavkom na stravné (napr. pre odborný personál, frekventantov) a zároveň nesmie presiahnuť výšku stravného pri tuzemských pracovných cestách v časovom pásme od 5 do 12 hodín na osobu/deň podľa opatrenia Ministerstva práce, sociálnych vecí a rodiny Slovenskej republiky o sumách stravného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poradenské a konzultačné služby (napr. právne poradenstv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poplatok za vykonanie skúšky, získanie certifikátu (úhrada výdavkov frekventantov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b050"/>
                </a:solidFill>
                <a:latin typeface="Calibri"/>
              </a:rPr>
              <a:t>dodávky na priame výdavky projektu </a:t>
            </a: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- realizácia vzdelávacích a iných hlavných aktivít projektu (napr. tvorba metodík, učebných osnov) prostredníctvom vzťahov, ktoré majú odberateľsko-dodávateľský charakter – dodávky na priame výdavky projektu -  </a:t>
            </a:r>
            <a:r>
              <a:rPr b="1" lang="sk-SK" sz="1400" spc="-1" strike="noStrike">
                <a:solidFill>
                  <a:srgbClr val="00b050"/>
                </a:solidFill>
                <a:latin typeface="Calibri"/>
              </a:rPr>
              <a:t>max 10. % limit z </a:t>
            </a: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oprávnených priamych výdavkov rozpočtu – nezapočítava sa riziková prirážka (dodávkou na priame výdavky projektu sa rozumie vykonávanie činností spojených s implementáciou projektu, t.j. odborných činnosti, napr. tvorba vzdelávacích programov; rôzne vzdelávacie činnosti; preklady); Do dodávok sa nezahŕňa najmä obstaranie didaktických prostriedkov, IKT, nájom priestorov, tla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výdavky súvisiace s akreditáciou programu, certifikácio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odpisy ak obstaraný odpisovaný majetok (hmotný/nehmotný majetok) nebol financovaný z akýchkoľvek verejných zdrojov (zdroje EÚ, štátny rozpočet, zdroje obce, VÚC a iné verejné zdro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vydavateľská činnosť (príprava, výroba, tlač, distribúcia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monitoring (monitorovacia správa, hodnotenie projektu,...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b050"/>
                </a:solidFill>
                <a:latin typeface="Calibri"/>
              </a:rPr>
              <a:t>riziková prirážka rozpočtovaná vo výške do 5% oprávnených výdavkov (priamych a nepriamych výdavkov projektu)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 – nepriame výdavk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9680" y="980640"/>
            <a:ext cx="8186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majú charakter bežných výdavkov (prevádzková réžia) a slúžia na financovanie podporných aktivít projektu. Nepriame výdavky (režijné výdavky) sú také výdavky, ktoré nie sú, resp. nemôžu byť priamo priradené k niektorej z hlavných aktivít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Nepriame výdavky sa uplatňujú </a:t>
            </a:r>
            <a:r>
              <a:rPr b="1" lang="sk-SK" sz="1200" spc="-1" strike="noStrike" u="sng">
                <a:solidFill>
                  <a:srgbClr val="00b050"/>
                </a:solidFill>
                <a:uFillTx/>
                <a:latin typeface="Calibri"/>
              </a:rPr>
              <a:t>ako 15% paušálna sadzba z priamych personálnych výdavkov (presne 15%)</a:t>
            </a: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. V každej žiadosti o platbu obsahujúcej priame personálne výdavky, môže byť nároková 15% paušálna sadzba na nepriame výdavky; ekonomické klasifikácia 6370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osobné výdavky prijímateľa, resp. partnera, ktoré súvisia s výkonom týchto činností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ípravná fáza realizácie projektu (napr. príprava žiadosti o NFP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ávne poradenstvo (napr. spisovanie listín o právnych úkonoch, spracúvanie právnych rozborov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ublicita a informovanosť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denie účtovníctva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denie agendy personalistiky a miez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rejné obstarávanie (vrátane prieskumu trhu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bslužné činnosti (upratovanie, čistenie, rozmnožovanie materiálov a pod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pravy a údržbu majetku využívaného pre účely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edenie vozidla využívaného personálom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kontrola a odborný dohľad (vrátane riadenia organizácie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výdavky na obstaranie služieb nevyhnutných pre vyššie uvedené činnos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služby súvisiace s publicitou a informovanosťou spojenou s realizáciou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vedenie účtovníctv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vedenie agendy personalistiky a miez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verejného obstarávania, prieskumu trh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hygieny (upratovanie, čistenie a pod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9680" y="189000"/>
            <a:ext cx="8186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Oprávnené výdavky  – nepriame výdavky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9680" y="692280"/>
            <a:ext cx="818676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opráv a údržby majetku využívaného pre účely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prepravy tovaru a osôb, okrem osôb cieľovej skupiny a odborného personálu (napr. lektorov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kontroly a odborného dohľad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externé zabezpečenie právneho poradens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bežné výdavky na obstaranie majetku; okrem majetku, ktorý výlučne používa odborný personál a osoby cieľovej skupin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b050"/>
                </a:solidFill>
                <a:latin typeface="Calibri"/>
              </a:rPr>
              <a:t>ostatné výdavky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renájom zariadenia/vybavenia a priestorov, ktoré sú využívané na účely projektu;  okrem zariadenia/vybavenia a priestorov, ktoré sa používa výlučne v rámci hlavných aktivít projektu a využíva ho len cieľová skupina, prípadne odborný personál projekt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šetky výdavky súvisiace s publicitou a informovanosťou spojenou s realizáciou projektu, napr. propagačné predmety a letáky, tlačové konferencie o projekte (vrátane občerstvenia, prenájmu priestorov a pod.), publikovaním článkov o projekte, televíznych a rozhlasových relácií a pod.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oštovné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telekomunikačné poplatk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ceniny (poštové známky a kolky, stravné poukážky pre zamestnancov vykonávajúcich činnosti pre projekt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cestovné náhrady pre zamestnancov vykonávajúcich činnosti pre projek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prevádzku vozidla využívaného pri vykonávaní činnosti pre projek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energie ako sú voda, plyn, elektrická energia a pod., ktoré vznikli v súvislosti s vykonávanými činnosťami pre projek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dpisy majetku využívaného pri činnostiach projekt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obstaranie spotrebného tovaru a prevádzkového materiálu (papier, písacie potreby, čistiace prostriedky a pod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úhradu poplatkov, napr. notárskych, správnych, bankových poplatkov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poradenstvo (právne, daňové, účtovné a pod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poistenie majetk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správa informačných systémo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Neoprávnené výdav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99680" y="1125360"/>
            <a:ext cx="81867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dodávky na priame výdavky projektu - realizácia vzdelávacích a iných hlavných aktivít projektu (napr. tvorba metodík, učebných osnov) prostredníctvom vzťahov, ktoré majú odberateľsko-dodávateľský charakter – vo výške viac ako max. 10% z oprávnených priamych výdavkov rozpočtu – nezapočítava sa riziková prirážka (dodávkou na priame výdavky projektu sa rozumie vykonávanie činností spojených so vzdelávacími a inými hlavnými aktivitami projektu, ktoré sú vykonávané mimo pracovnoprávnych (napr. pracovný pomer) alebo obdobných vzťahov (napr. štátnozamestnanecký pomer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obstaranie zariadenia/vybavenia a didaktických prostriedkov </a:t>
            </a:r>
            <a:r>
              <a:rPr b="0" lang="sk-SK" sz="1200" spc="-1" strike="noStrike" baseline="30000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(vrátane nehmotného majetku) pre hlavné aktivity projektu, ktoré presiahnu maximálne povolenú hranicu 30% z oprávnených priamych výdavkov rozpočtu (nezapočítava sa riziková prirážka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úroky z úverov a pôžičiek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miestne poplatky, ktoré nemajú priamu väzbu na projekt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a právne spory ako i sankčné poplatky, pokuty a penále, prípadne ďalšie sankčné výdavky, či už dohodnuté v zmluvách alebo vznikajú z iných príčin a tzv. balíky produktov (služieb), ktoré poskytujú banky k úverom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nákup infraštruktúry, pozemku a nehnuteľnost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riziková prirážka rozpočtovaná vo výške viac ako 5% oprávnených výdavkov (priamych a nepriamych výdavkov projektu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bankové poplatk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debetné úrok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bankové záruk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vratná daň z pridanej hodnoty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b050"/>
                </a:solidFill>
                <a:latin typeface="Calibri"/>
              </a:rPr>
              <a:t>obstaranie, odpisy dopravných prostriedkov (aj použitých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, ktoré presiahnu percentuálne výšky určené v písomnom vyzvaní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tvorba sociálneho fon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b050"/>
                </a:solidFill>
                <a:latin typeface="Calibri"/>
              </a:rPr>
              <a:t>výdavky neuvedené v zozname oprávnených výdavk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476280"/>
            <a:ext cx="818676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46c0a"/>
                </a:solidFill>
                <a:latin typeface="Calibri"/>
              </a:rPr>
              <a:t>Ďakujem za pozornosť a teším sa na implementáciu Vašich projektov.</a:t>
            </a:r>
            <a:br>
              <a:rPr sz="3600"/>
            </a:br>
            <a:r>
              <a:rPr b="0" lang="sk-SK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minedu.s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Všeobecné pravidlá oprávnenosti výdavkov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ok je realizovaný na oprávnenom území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ýdavok je primeraný, t.j. zodpovedá obvyklým cenám v danom mieste a čase a zodpovedá potrebá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pĺňa podmienky hospodárnosti, efektívnosti a účel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pôsob financovan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môže použiť pri implementácii projektu systém refundácie – úhrada z vlastných finančných prostriedkov a následné nárokovanie výdavku na MŠVVaŠ SR  ako sprostredkovateľský orgán OP ĽZ (ďalej „SO“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lebo systém zálohových platieb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pôsob financovania pre konkrétnych prijímateľov je zadefinovaný v Zmluve o poskytnutí nenávratného finančného príspev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Komunikácia so 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komunikuje s SO prostredníctvom systému ITMS 2014+, verejná časť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ístup do ITMS 2014+ má každý prijímateľ, ktorému bol poskytnutý nenávratný finančný príspevok a má podpísanú Zmluvu o poskytnutí NFP k výzve „Čitateľská, matematická a prírodovedná gramotnosť v základnej škole“ a výzve „Čitateľská, matematická, finančná  a prírodovedná gramotnosť na gymnáziách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Žiadosti o platbu prijímateľ vypracuje v systéme ITMS 2014+, verejná časť. Žiadosti o zálohovú platbu predkladá prijímateľ na SO v elektronickej a písomnej podobe vždy podľa potreby a nároku vzniku na zálohovú platb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Žiadosti o zúčtovanie zálohovej platby, resp. priebežnú platbu  – prijímateľ predkladá na SO v elektronickej a písomnej podobe najmenej jedenkrát za 6 kalendárnych mesiacov vždy k 15. dňu nasledujúceho mesiaca počas realizácie hlavných aktivít projektu, tak aby počas prvej polovice doby realizácie hlavných aktivít projektu suma v predložených ŽoP predstavovala výšku minimálne 20 % z celkových oprávnených výdavkov na realizáciu aktivít projektu.  Uvedené sa netýka zálohových platieb. </a:t>
            </a:r>
            <a:r>
              <a:rPr b="1" lang="sk-SK" sz="1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zálohových plat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 použitia systému zálohových platieb sa úhrada uskutočňuje                      z prostriedkov poskytnutej zálohovej platby. Žiadosť o zálohovú platbu prijímateľ vystaví v systéme IMS 2014+ vo verejnej časti. Prijímateľ vypracuje žiadosť o zálohovú platbu – v </a:t>
            </a:r>
            <a:r>
              <a:rPr b="1" lang="sk-SK" sz="1800" spc="-1" strike="noStrike">
                <a:solidFill>
                  <a:srgbClr val="ff0000"/>
                </a:solidFill>
                <a:latin typeface="Calibri"/>
              </a:rPr>
              <a:t>elektronickej a písomnej podobe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. Písomnú podobu ŽoP prijímateľ predloží na SO. ŽoP pozostáva z vyplneného formuláru (definované v Systéme finančného riadenia štrukturálnych fondov a Kohézneho fondu na programové obdobie 2014-2020). Písomnú ŽoP podpísanú štatutárom prijímateľ zašle na SO, ktoré ŽoP spracuje a postúpi na platobnú jednotku, ktorá zašle prijímateľovi finančné prostried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 prípade zistenia nedostatkov SO písomne s doručenkou alebo elektronicky e-mailom s potvrdením doručenia a prečítania vyzve prijímateľa, aby v stanovenej lehote doplnil / upravil resp. zmenil žiadosť o zálohovú platbu. Za vyzvanie sprostredkovateľským orgánom je možné považovať aj doručenie návrhu správy z kontroly v prípade, ak boli počas kontroly zistené nedostat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zálohových plat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boli v rámci kontroly zistené nedostatky je projektový manažér SO povinný vypracovať návrh správy z kontroly s určením lehoty na podanie námieto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má na podanie námietok lehotu 5 pracovných dní odo dňa doručenia návrhu správy z kontroly prijímateľovi. V prípade, ak SO neakceptuje námietky podané prijímateľom, resp. prijímateľ v stanovenej lehote nedoručí námietky, resp. ak prijímateľ doručí oznámenie, že nemá námietky k návrhu správy z kontroly, SO vypracuje správu z kontroly ŽoP a zašle správu z kontroly písomne s doručenkou alebo elektronicky e-mailom s potvrdením doručenia a prečítania prijímateľovi. Momentom ukončenia kontroly je zaslanie správy z kontro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Ak SO úplne alebo sčasti akceptuje námietky podané prijímateľom, zapracuje námietky do správy z kontroly. SO vypracuje správu z kontroly a zašle správu z kontroly písomne s doručenkou. Za moment ukončenia kontroly je v takomto prípade považovaný moment zaslania tejto správy z kontroly prijímateľov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Systém zálohových platie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V prípade, ak kontrolou neboli zistené nedostatky, vypracuje SO správu z kontroly a zašle správu z kontroly písomne s doručenkou. Momentom ukončenia kontroly je zaslanie správy prijímateľov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SO predloží spracovanú žiadosť o zálohovú platbu na platobnú jednotku, ktorá zašle prijímateľovi finančné prostriedk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je povinný poskytnutú zálohovú platbu </a:t>
            </a:r>
            <a:r>
              <a:rPr b="1" lang="sk-SK" sz="1800" spc="-1" strike="noStrike">
                <a:solidFill>
                  <a:srgbClr val="ff0000"/>
                </a:solidFill>
                <a:latin typeface="Calibri"/>
              </a:rPr>
              <a:t>priebežne zúčtovávať</a:t>
            </a: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, pričom najneskôr do 12 mesiacov odo dňa jej pripísania na účet prijímateľa je prijímateľ povinný zúčtovať 100 % poskytnutej zálohovej plat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0000"/>
                </a:solidFill>
                <a:latin typeface="Calibri"/>
              </a:rPr>
              <a:t>Žiadosť o zúčtovanie zálohovej plat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v rámci zúčtovania zálohovej platby predkladá žiadosť o platbu (zúčtovanie zálohovej platby) sprostredkovateľskému orgánu elektronicky prostredníctvom ITMS2014+ a aj písomne. Prijímateľ predkladá spolu so žiadosťou o platbu (zúčtovanie zálohovej platby) aj účtovné doklady (preukazujúce úhradu výdavku deklarovaného v žiadosti o platbu) a relevantnú podpornú dokumentáciu, ktorej minimálny rozsah stanovuje Systém riadenia európskych štrukturálnych a investičných fondov na programové obdobie 2014 – 2020 a Príručka pre prijímateľ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b050"/>
                </a:solidFill>
                <a:latin typeface="Calibri"/>
              </a:rPr>
              <a:t>Prijímateľ počas spracovania žiadosti o zúčtovanie zálohovej platby nahrá v systéme ITMS 2014+ účtovné doklady v časti „účtovné doklady“ a v časti „deklarované výdavky“ priradí výdavok ku konkrétnej rozpočtovej položke – číslu rozpočtovej položky zo schváleného rozpočtu. Zároveň vypíše požadovanú výšku deklarovaného výdav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Knotková Marcela</cp:lastModifiedBy>
  <dcterms:modified xsi:type="dcterms:W3CDTF">2019-09-16T13:26:16Z</dcterms:modified>
  <cp:revision>188</cp:revision>
  <dc:subject/>
  <dc:title>Snímka 1</dc:title>
</cp:coreProperties>
</file>