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C617-E8EE-406C-9071-0D26529411F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objekt pre číslo snímky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506F-B4D8-4FFB-A3CD-E6205119725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83C-0EAE-46D5-B085-54BC138C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C31-0FED-4A19-9D45-4E80861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D5B-77CD-4DF7-B379-B82E4989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FE-0B94-47F3-AA66-30E0552A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262-386A-4075-A58F-40169D2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067-488A-486A-B678-8883804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AD4-C3F5-4F6C-ABDE-3ECFE11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724-5DB7-46DB-A6E1-0CD4A53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821-1CF5-4E65-ADFA-EB21FFA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341-08A9-4893-91CF-CC128CF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9DB-3547-47D4-935F-54F1A003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454-C400-40BB-907E-E6E53CA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E97-9240-4545-BDCF-D7C4B6457D3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inedu.sk/usmernenie-k-ssjn-vzdelavanie-pedagogickych-a-odbornych-zamestnancov-&#8211;-zoznam-absolventov-vzdelavania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250920" y="5769000"/>
            <a:ext cx="3240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Informačné seminá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8/DOP/1.1.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Čitateľská, matematická a prírodovedná gramotnosť na gymnáziu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covanie činnosti a aktivít  pedagogických klub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pedagogických kluboch (ďalej aj „klub“) sa stretávajú a vymieňajú si skúsenosti vybrané kategórie pedagogických zamestnancov, ktorí vo svojom voľnom čase majú záujem vzdelávať sa a získavať nové poznatky a vymieňať si navzájom skúse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hlavným účelom týchto klubov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skytnúť platformu pre aktívne sieťovanie a spoločnú spoluprácu pedagogických zamestnancov na spoločných témach a pre medzigeneračnú výmenu medzi mladými a staršími/skúsenejšími pedagogickými zamestnancam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10,60 EUR/1 hodina/pedagogický zamestnane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íprava a účasť na stretnutiach klubu za účelom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a best practice z vlastnej vyučovacej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eskumno-analytickej a tvorivej činnosti týkajúca sa výchovy a vzdelávania a vedúca k jej zlepšeniu a identifikácii osvedčených pedagogických skúsen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pri využívaní  moderných vyučovacích postupov a metód podporujúcich inovácie vo vzdeláva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u skúseností v oblasti medzipredmetových vzťah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é zameranie klubu závisí od zloženia resp. zastúpenia jeho členov a/alebo od ich vyučovacích predmetov. 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definovaní svojej činnosti si každý klub musí vybrať minimálne jednu tému, ktorá je tematicky v súlade s obsahom výzvy na predkladanie projektov. 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Činnosť aktivít klubu sa musí zameriavať na témy ako sú výsledky medzinárodných meraní PISA a možné spôsoby/cesty pre ich zlepšenie, implementovanie medzipredmetových vzťahov vo vzdelávacom procese, identifikovanie problémov vo vzdelávaní a možné spôsoby ich riešenia, výmena skúsenosti s aplikovaním nových progresívnych metód a foriem práce, výmena skúsenosti s využívaním didaktických postupov a metód orientovaných na rozvoj kľúčových kompetencií žiakov, výmena skúseností  s využívaním nových progresívnych a moderných nástrojov a didaktickej techniky – IKT, na prevenciu závislostí, rasizmu, násilia a iných foriem/druhov extrémneho spr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. 3 hodiny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si vypracuje plán svojej prác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objekt pre obsah 4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Plánu práce/pracovných činností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riadok bude vyplnený v zmysle výz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o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o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– uvedie sa 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čet členov pedagogického klubu -  uvedie sa počet členov klubu (min.3 a max.1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kolský polrok -  výber z dvoch možnosti: vypĺňa sa za každý polrok zvláš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eptember RRRR – január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ebruár RRRR – jún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pis/zameranie a zdôvodnenie činností klubu –  vychádza zo zmluvy o NFP – predmetu podpor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Rámcový program a termíny a dĺžka trvania jednotlivých stretnutí – uvedie sa konkrétny program/hlavné témy na jednotlivé plánované stretnutia v danom školskom polroku; termín realizácie zasadnutí klubu a ich trvanie. Klub sa stretáva maximálne dvakrát mesačne. Dĺžka jedného stretnutia klubu je max. 3 hodin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, ktorá plán práce klubu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plánu práce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lán práce klubu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plán práce klubu schválila (/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plán práce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lán práce klubu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ZŠ 11, 7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SŠ  12, 3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ozsah extra hodín na školu a školský rok je stanovený ma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. stupeň max. 12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I. stupeň max. 15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 SŠ max. 33 hodín týždenne 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ástupný objekt pre obsah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Správy o činnosti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jímateľ vypracuje správu ku každému stretnutiu pedagogického klubu samostatne. Prílohou správy je prezenčná listina účastníkov stretnutia pedagogického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uvedie sa v zmysle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 – uvedie sa 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stretnutia/zasadnutia klubu -  uvedie sa aktuálny dátum stretnutia daného klubu učiteľov, ktorý je totožný s dátumom na prezenčnej list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iesto stretnutia  pedagogického klubu - uvedie sa miesto stretnutia daného klubu učiteľov, ktorý je totožný s miestom konania na prezenčnej list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eno koordinátora pedagogického klubu – uvedie sa celé meno a priezvisko koordinátor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dkaz na webové sídlo zverejnenej správy – uvedie sa odkaz / link na webovú stránku, kde je správa zverejn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 Manažérske zhrnutie – uvedú sa kľúčové slová a stručné zhrnutie stretnuti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Hlavné body, témy stretnutia, zhrnutie priebehu stretnutia -  uvedú sa v bodoch hlavné témy, ktoré boli predmetom stretnutia. Zároveň sa stručne a výstižne popíše priebeh stretnuti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Závery o odporúčania –  uvedú sa závery a odporúčania k témam, ktoré boli predmetom stretnut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, ktorá správu o činnosti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správy o 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správu o činnosti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správu schválila (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správy o 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správu o činnosti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ástupný objekt pre obsah 7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ástupný objekt pre obsah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II.</a:t>
            </a:r>
            <a:r>
              <a:rPr b="0" lang="sk-SK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 vyplneniu Písomného výstupu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zahrňuje napr. osvedčenú pedagogickú prax, analýzu s odporúčaniami, správu s odporúčaniami. Vypracováva sa jeden písomný výstup za polrok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riadok bude vyplnený v zmysle zmluvy o poskytnutí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 – uvedie sa  celý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eno koordinátora pedagogického klubu – uvedie sa celé meno a priezvisko koordinátor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kolský polrok -  výber z dvoch možnosti – vypracuje sa za každý polrok zvláš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eptember RRRR – január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ebruár RRRR – jún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dkaz na webové sídlo zverejnenej správy – uvedie sa odkaz / link na webovú stránku, kde je písomný výstup zverejnen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tabuľkách Úvod ,Jadro a Záver sa popíše výstup v požadovanej štruktú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/osôb (členov klubu), ktorá písomný výstup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písomného výstup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/osoby, ktorá písomný výstup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písomný výstup schválila (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písomného výstup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ísomný výstup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ástupný objekt pre obsah 4" descr=""/>
          <p:cNvPicPr/>
          <p:nvPr/>
        </p:nvPicPr>
        <p:blipFill>
          <a:blip r:embed="rId1"/>
          <a:stretch/>
        </p:blipFill>
        <p:spPr>
          <a:xfrm>
            <a:off x="457200" y="2038320"/>
            <a:ext cx="8229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kyn k vyplneni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vedie sa názov pedagogického klubu - do zoznamu sa uvedú všetky pedagogické kluby, ktoré prijímateľ realizu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vedie sa zdroj financovania pedagogického klubu - napr. OPĽZ - názov projektu + ITMS kód projektu; názov národného projektu + ITMS kód projektu;  iný projekt, štátny rozpočet, súkromné zdroje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"Meno a podpis štatutárneho orgánu prijímateľa" uvedie sa meno a vlasnoručný podpis štatutárného orgánu prijímateľ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"Dátum vypracovania" uvedie sa dátum vypracovania zoznamu vo formáte DD.MM.RRRR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pĺňa sa pri využívaní štandardnej stupnice jednotkových nákladov pedagogické kluby - Hodina účasti pedagogického zamestnanca na aktivitách pedagogického klubu -  http://www.minedu.sk/zjednodusene-vykazovanie-vydavkov/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ástupný objekt pre obsah 6" descr="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výšený počet hodín nad rámec hodín financovaných zo štátneho rozpočtu môže škola využiť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rozširujú a prehlbujú obsah predmetov zaradených do štátne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si škola sama zvolí a sama si pripraví ich obsah, vrátane predmetov vytvárajúcich profiláciu školy a experimentálne overených inovačných programov zavedených do vyučovacej prax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ých obsah je doplnením vyučovacieho predmetu pre žiakov so špeciálnymi výchovno-vzdelávacími potrebami, ktorí nemôžu napredovať v rámci bežných vyučovacích hodín a ktorí postupujú podľa individuálnych vzdelávacích progra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pecifické vyučovacie predmety pre žiakov so špeciálnymi výchovno-vzdelávacími potreb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poru gramotnosti v oblasti IKT a cudzích jazykov a ďalších vzdelávacích aktivít vyplývajúcich zo školské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ZOZNAM ČLENOV PEDAGOGICKÉHO KLUBU " sa uvedie názov pedagogického klubu (ďalej aj "klub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členov klubu učiteľov predložené na preplatenie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oordinátor pedagogického klubu" uvedie sa meno člena klubu - pedagogického zamestnanca, ktorý bol určený za koordinátora klubu, koordinátor klubu je zodpovedný za vyplnenie  zoznamu členov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Dátum vyhotovenia" uvedie sa dátum, kedy bol zoznam za uplynulé obdobie vyhotoven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od 3 do 10 (minimálny až maximálny počet členov klubu, vrátane koordinátora klubu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 "Názov pedagogického klubu" uvedie sa celá názov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C a D  "Priezvisko a Meno" uvedie sa celé priezvisko a meno člena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E  "Aprobácia učiteľa" uvedie sa aprobácia príslušného člen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, G, H, I a J   "Počet hodín" uvedie sa samostatne za každý mesiac samostatne celkový  počet hodín stretnutí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K  "Spolu" sumár za pol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a každý pedagogický klub sa vypĺňa samostatný zozn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pĺňa sa pri využívaní štandardnej stupnice jednotkových nákladov pedagogické kluby - Hodina účasti pedagogického zamestnanca na aktivitách pedagogického klubu -  http://www.minedu.sk/zjednodusene-vykazovanie-vydavkov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aktivity reálne vykonávajú v deklarovanom rozsahu v projekte. Finančná  kontrola na mieste sa bude vykonávať primárne ako neohlásená finančná kontrola na mieste. Pri plánovaní neohlásenej finančnej kontrole na mieste sa bude vychádzať z Plánu práce klubu, ktorý je Prijímateľ povinný zaslať Poskytovateľovi najmenej 7 dní vopred pred uskutočnením aktivity. Prípadné zmeiny v konaní aktivity je Prijímateľ povinný poskytovateľovi oznámi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i aktivit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kontroly bude aj overenie, či realizácia aktivít prebieha v súlade so schváleným projekt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zdelávanie pedagogických zamestnancov (PZ) a odborných zamestnancov (OZ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á sa o akreditované kontinuálne vzdelávanie (ďalej len „KV“)  ako aj o neakreditované vzdelávanie. Ide o vzdelávanie poskytované prijímateľom (t.j. jeho zamestnancami – internými a/alebo externými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otková cena sa nevzťahuje na vzdelávanie poskytovaného externými spoločnosťami (t.j. vzdelávanie zabezpečované/realizované prostredníctvom verejného obstarávan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Štandardná stupnica jednotkových nákladov j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20 účastníkmi: 10,10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12 účastníkmi (IKT a jazykové vzdelávanie): 10,65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128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Akreditované vzdelávan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ľa zákona č. 138/2019 Z.z o pedagogických a odborných zamestnancov  účinného od 1.9.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 a/alebo zvýšeniu kvalifikácie a/alebo profesijných kompetencií a zručností PZ a OZ, a/alebo vedúce k ich osobnostnému ras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 je 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ednotková cena (ďalej aj „JC“) bude preplatená iba v prípade, ak sa PZ/OZ zúčastní  min. 80% prezenčného vzdelávan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Neakreditované vzdeláv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/rozvoju kvalifikácie a/alebo profesijných kompetencií a zručností PZ a OZ, a/alebo vedúce k ich osobnostnému rastu.  </a:t>
            </a: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Výstupom vzdelávania je certifikát o absolvovaní vzdelávani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je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C bude preplatená iba v prípade, ak sa PZ/OZ zúčastní  min. 80% prezenč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 prípade neakreditovaného vzdelávania sa počet prípustných hodín na trvanie vzdelávania v priebehu roka stanovuje na min. 10  hodín a na max.  55 hod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ijímateľ je povinný predložiť na MŠVVaŠ SR ako SO min. 7 dní pred začatím vzdelávania informáciu o konaní vzdelávania (miesto, čas konania vzdelávania, názov vzdelávan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ednotková cena nepokrýva všetky výdavky spojené s operáciou. Bude kombinovaná s ďalšími výdavkami – reálnymi výdavkami zahŕňajúcimi ubytovanie a nájom priestorov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– t.j. bude kombinovaná s reálnymi výdavkami - ide o výdavky na nájom priestorov a ubytovanie lektorov a frekventa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Overovanie v rámci kontroly žiadosti o platb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finančné prostriedky budú uhradené prijímateľovi po ukončení vzdelávania 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(akreditovaného, neakreditovaného), t.j. až po absolvovaní vzdelávania frekventantom. Finančné prostriedky sú uhrádzané prijímateľovi na základe predloženia  potvrdenia o absolvovaní vzdelávania (napr. certifikát, osvedčeni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C bude preplatená iba v prípade, ak sa PZ/OZ zúčastní  min. 80% prezenčného vzdelá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mienky preplatenia  JC – doklady potrebné pre preplatenie jednotkovej ceny po absolvovaní vzdelávan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osvedčenie o ukončení kontinuálneho vzdelávania v prípade 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certifikát o absolvovaní vzdelávania v prípade ne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zoznam absolventov vzdelávania (meno a priezvisko, názov vzdelávania, rozsah vzdelávania, projekt, prijímateľ; miesto konania vzdelávania, adresa školy absolventa; počet hodín vzdelávania, ktorých sa absolvent zúčastnil) – usmernenie </a:t>
            </a:r>
            <a:r>
              <a:rPr b="0" lang="sk-SK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edu.sk/usmernenie-k-ssjn-vzdelavanie-pedagogickych-a-odbornych-zamestnancov-–-zoznam-absolventov-vzdelavania/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zenčné listiny účastníkov vzdelávania v prípade neakreditova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Súčasťou overovania žiadosti o platbu budú aj nasledovné skutoč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ovanie duplicít účasti frekventantov na tom istom vzdelávaní – overovanie duplicít bude prebiehať prostredníctvom databázy absolventov vzdelávania, ktorá bude obsahovať všetky projekty, v ktorých sa realizovalo vzdelávanie; databáza vzdelávania bude vytvorená na základe údajov uvedených v zozname absolventov, ktorý predkladá prijímateľ  ako doklad/podmienku pre preplatenie jednotkovej c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enie, či frekventant absolvoval 80% prezenčného vzdelávania – na základe údajov uvedených v zozname absolve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e sa, že školenia sa vykonávajú v deklarovanom rozsahu. Kontrola na mieste sa bude vykonávať primárne ako neohlásená kontrola na mieste. Predmetom kontroly bude overenie konania aktivity, overenie počtu osôb, prípadne rozhovor s účastníkmi za účelom overenia si konania aktivity, prípadne spokojnosti s realizovaným školením. V prípade akreditovaných vzdelávacích programov budú predmetom overovania aj prezenčné listiny účastníkov vzdeláva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3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ýdavkov – jednotkovej ceny bude prebiehať v 3 etap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konania žiadosti o NFP (t.j. v rámci hodnotiaceho procesu žiadosti o NF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administratívnej finančnej kontroly žiadosti o 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čas finančnej kontroly na mies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plácané na polročnej báz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; prijímateľ preukáže, že sa jedná o extra hodiny, ktoré nie sú financované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 relevantné, dokumenty preukazujúce výšku školného plateného rodičmi pred a počas realizácie projektu; v prípade, ak je školné počas implementácie projektu vyššie, musí prijímateľ poskytnúť zdôvodnenie jeho zvýšenia, vrátane potrebnej podpornej dokument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extra hodiny reálne vykonávajú v deklarovanom rozsahu stanovenom v projekte. Finančná  kontrola na mieste sa bude vykonávať primárne ako neohlásená finančná kontrola na mieste. Pri plánovaní neohlásenej finančnej kontroly na mieste sa bude vychádzať z rozvrhu hodín predloženého ako súčasť Ž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 aktivity. Okrem toho bude overovaná pedagogická dokumentácia súvisiaca s extra hodinami (napr. triedna kniha, dochádzka žiak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9-16T12:44:31Z</cp:lastPrinted>
  <dcterms:modified xsi:type="dcterms:W3CDTF">2019-09-16T12:55:06Z</dcterms:modified>
  <cp:revision>207</cp:revision>
  <dc:subject/>
  <dc:title>Snímka 1</dc:title>
</cp:coreProperties>
</file>