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31480-41DC-4751-8F80-D5DFB9C4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3F262-EFB2-4210-AFE3-DDA971B49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EE510-E24D-4F4B-A3A2-861C8A3ED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4B262-BC95-4C92-B35D-F83C20EA7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0CC9-73AD-4C8B-917E-94A28300F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136AA-6BE9-4BF9-86B8-D48468A8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259E-B753-4A2A-9AC3-46DE7E48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B7B6-C5E0-4737-A0A3-3E2DE382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862E-8AEC-4BC6-AAD4-498D9B0F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4EDE-B975-4936-9E93-94FD3C24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B013-A950-4CD4-A1B0-51C15A8AB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E5E7-2118-48A6-99CB-C8F4BD176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4415-D120-42A5-9C8C-16602A6E1E62}"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žiadosť o platbu zamietne bezodkladne, najneskôr však v lehote 25 pracovných dní od prijatia žiadosti o platbu.</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SO je možné považovať aj doručenie návrhu správy z kontroly v prípade, ak boli počas kontroly zistené nedostatky.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a:t>
            </a:r>
            <a:endParaRPr b="0" lang="en-US" sz="3600" spc="-1" strike="noStrike">
              <a:solidFill>
                <a:srgbClr val="000000"/>
              </a:solidFill>
              <a:latin typeface="Calibri"/>
            </a:endParaRPr>
          </a:p>
        </p:txBody>
      </p:sp>
      <p:sp>
        <p:nvSpPr>
          <p:cNvPr id="75"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výzvy boli stanovené za oprávnen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910 - Jednotkov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jednodušené vykazovanie výdavkov (SCO) – nasledovné štandardné stupnice jednotkových nákladov:</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pedagogický asistent </a:t>
            </a:r>
            <a:r>
              <a:rPr b="1" lang="sk-SK" sz="1800" spc="-1" strike="noStrike">
                <a:solidFill>
                  <a:srgbClr val="00b05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inkluzívny tím </a:t>
            </a:r>
            <a:r>
              <a:rPr b="1" lang="sk-SK" sz="1800" spc="-1" strike="noStrike">
                <a:solidFill>
                  <a:srgbClr val="00b05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asistent učiteľa </a:t>
            </a:r>
            <a:r>
              <a:rPr b="1" lang="sk-SK" sz="1800" spc="-1" strike="noStrike">
                <a:solidFill>
                  <a:srgbClr val="00b050"/>
                </a:solidFill>
                <a:latin typeface="Calibri"/>
              </a:rPr>
              <a:t>- vytvorenie a obsadenie miesta asistenta učiteľ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77"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štandardná stupnica jednotkových nákladov </a:t>
            </a:r>
            <a:r>
              <a:rPr b="1" lang="sk-SK" sz="1600" spc="-1" strike="noStrike">
                <a:solidFill>
                  <a:srgbClr val="00b050"/>
                </a:solidFill>
                <a:latin typeface="Calibri"/>
              </a:rPr>
              <a:t>pre pedagogického asistenta je        1 005,- Eur mesačne</a:t>
            </a:r>
            <a:endParaRPr b="0" lang="en-US" sz="16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právnenými</a:t>
            </a:r>
            <a:r>
              <a:rPr b="1" lang="sk-SK" sz="1800" spc="-1" strike="noStrike">
                <a:solidFill>
                  <a:srgbClr val="00b050"/>
                </a:solidFill>
                <a:latin typeface="Calibri"/>
              </a:rPr>
              <a:t> na preplatenie v rámci jednotkovej ceny sú aj dovolenky a PN, aj mzdy pedagogických asistentov počas prázdnin</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tkový náklad </a:t>
            </a:r>
            <a:r>
              <a:rPr b="1" lang="sk-SK" sz="1800" spc="-1" strike="noStrike">
                <a:solidFill>
                  <a:srgbClr val="00b050"/>
                </a:solidFill>
                <a:latin typeface="Calibri"/>
              </a:rPr>
              <a:t>na tohto PA bude alikvotne prepočítaný v prípade kratšieho prac. pomeru ako aj v prípade PA bude pracovať menej ako mesiac (napr. nástup v polovici mesiaca)</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hodnotiaceho procesu žiadosti o nenávratný finančný príspevok (t.j. projektu) – odbor posudzovania projektov – už sa uskutočnilo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kontroly žiadosti o platb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kontroly na mieste</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pedagogický asistent </a:t>
            </a:r>
            <a:r>
              <a:rPr b="0" lang="sk-SK" sz="2000" spc="-1" strike="noStrike">
                <a:solidFill>
                  <a:srgbClr val="ff0000"/>
                </a:solidFill>
                <a:latin typeface="Calibri"/>
              </a:rPr>
              <a:t>- mesačné náklady na novovytvorené miesto pedagogického asistenta v materských a v základných školách III</a:t>
            </a:r>
            <a:r>
              <a:rPr b="0" lang="sk-SK" sz="2000" spc="-1" strike="noStrike">
                <a:solidFill>
                  <a:srgbClr val="e46c0a"/>
                </a:solidFill>
                <a:latin typeface="Calibri"/>
              </a:rPr>
              <a:t>.</a:t>
            </a:r>
            <a:endParaRPr b="0" lang="en-US" sz="2000" spc="-1" strike="noStrike">
              <a:solidFill>
                <a:srgbClr val="000000"/>
              </a:solidFill>
              <a:latin typeface="Calibri"/>
            </a:endParaRPr>
          </a:p>
        </p:txBody>
      </p:sp>
      <p:sp>
        <p:nvSpPr>
          <p:cNvPr id="79" name=""/>
          <p:cNvSpPr txBox="1"/>
          <p:nvPr/>
        </p:nvSpPr>
        <p:spPr>
          <a:xfrm>
            <a:off x="499680" y="1125360"/>
            <a:ext cx="8186760" cy="4803840"/>
          </a:xfrm>
          <a:prstGeom prst="rect">
            <a:avLst/>
          </a:prstGeom>
          <a:noFill/>
          <a:ln w="0">
            <a:noFill/>
          </a:ln>
        </p:spPr>
        <p:txBody>
          <a:bodyPr anchor="t">
            <a:normAutofit fontScale="95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dokladovania skutočne zamestnaných PA, ktorých mzdy sú hradené na mesačnej báze</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okumenty predkladané ako súčasť ŽoP:</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ff0000"/>
                </a:solidFill>
                <a:latin typeface="Calibri"/>
              </a:rPr>
              <a:t>raz ročne </a:t>
            </a:r>
            <a:r>
              <a:rPr b="1" lang="sk-SK" sz="1800" spc="-1" strike="noStrike">
                <a:solidFill>
                  <a:srgbClr val="00b050"/>
                </a:solidFill>
                <a:latin typeface="Calibri"/>
              </a:rPr>
              <a:t>- čestné prehlásenie štatutára/riaditeľa školy o celkovom počte žiakov ZŠ/veľkosti MŠ </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raz ročne a okamžite pri každej zmene - platná pracovná zmluva resp. jej dodatky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ávnenosť výdavkov začína plynúť dňom účinnosti zmluvy o poskytnutí NFP + začiatok realizácie projektu uvedený v zmluve o NFP – čl. 2 (bod 2.2);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81" name=""/>
          <p:cNvSpPr txBox="1"/>
          <p:nvPr/>
        </p:nvSpPr>
        <p:spPr>
          <a:xfrm>
            <a:off x="499680" y="1628640"/>
            <a:ext cx="8186760" cy="4321440"/>
          </a:xfrm>
          <a:prstGeom prst="rect">
            <a:avLst/>
          </a:prstGeom>
          <a:noFill/>
          <a:ln w="0">
            <a:noFill/>
          </a:ln>
        </p:spPr>
        <p:txBody>
          <a:bodyPr anchor="t">
            <a:normAutofit fontScale="96000"/>
          </a:bodyPr>
          <a:p>
            <a:pPr marL="329040" indent="-329040" algn="just">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vrťročne </a:t>
            </a:r>
            <a:r>
              <a:rPr b="1" lang="sk-SK" sz="1800" spc="-1" strike="noStrike">
                <a:solidFill>
                  <a:srgbClr val="00b050"/>
                </a:solidFill>
                <a:latin typeface="Calibri"/>
              </a:rPr>
              <a:t>- </a:t>
            </a:r>
            <a:r>
              <a:rPr b="0" lang="sk-SK" sz="1800" spc="-1" strike="noStrike">
                <a:solidFill>
                  <a:srgbClr val="00b050"/>
                </a:solidFill>
                <a:latin typeface="Calibri"/>
              </a:rPr>
              <a:t>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ý školský rok, v ktorom projekt začal</a:t>
            </a:r>
            <a:endParaRPr b="0" lang="en-US" sz="18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nností deklarovaných v náplni práce ako aj kvalifikačných predpokladov</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marL="329040" indent="-3290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 </a:t>
            </a:r>
            <a:r>
              <a:rPr b="1" lang="sk-SK" sz="2000" spc="-1" strike="noStrike">
                <a:solidFill>
                  <a:srgbClr val="ff0000"/>
                </a:solidFill>
                <a:latin typeface="Calibri"/>
              </a:rPr>
              <a:t>inkluzívny tím </a:t>
            </a:r>
            <a:r>
              <a:rPr b="0" lang="sk-SK" sz="2000" spc="-1" strike="noStrike">
                <a:solidFill>
                  <a:srgbClr val="ff0000"/>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83" name=""/>
          <p:cNvSpPr txBox="1"/>
          <p:nvPr/>
        </p:nvSpPr>
        <p:spPr>
          <a:xfrm>
            <a:off x="468000" y="1413000"/>
            <a:ext cx="8186760" cy="4752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inkluzívne tímy sú tvorené špeciálnym pedagógom a/alebo školským psychológom a/alebo sociálnym pedagógom</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evzťahuje sa na špeciálne školy</a:t>
            </a:r>
            <a:endParaRPr b="0" lang="en-US" sz="1500" spc="-1" strike="noStrike">
              <a:solidFill>
                <a:srgbClr val="000000"/>
              </a:solidFill>
              <a:latin typeface="Calibri"/>
            </a:endParaRPr>
          </a:p>
          <a:p>
            <a:pPr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novovytvorené pracovné miesta </a:t>
            </a:r>
            <a:r>
              <a:rPr b="0" lang="sk-SK" sz="1500" spc="-1" strike="noStrike">
                <a:solidFill>
                  <a:srgbClr val="00b050"/>
                </a:solidFill>
                <a:latin typeface="Calibri"/>
              </a:rPr>
              <a:t>nad rámec existujúcich miest v školách </a:t>
            </a:r>
            <a:endParaRPr b="0" lang="en-US" sz="1500" spc="-1" strike="noStrike">
              <a:solidFill>
                <a:srgbClr val="000000"/>
              </a:solidFill>
              <a:latin typeface="Calibri"/>
            </a:endParaRPr>
          </a:p>
          <a:p>
            <a:pPr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definované kvalifikačné predpoklady </a:t>
            </a:r>
            <a:r>
              <a:rPr b="0" lang="sk-SK" sz="1500" spc="-1" strike="noStrike">
                <a:solidFill>
                  <a:srgbClr val="00b050"/>
                </a:solidFill>
                <a:latin typeface="Calibri"/>
              </a:rPr>
              <a:t>+ činnosti oprávnené pre financované v rámci SCO (príloha č. 4 výzvy zoznam oprávnených a neoprávnených výdavkov)</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kľúč prideľovania  členov inkluzívneho tímu (úväzkov) – v závislosti od veľkosti ZŠ - zloženie členov inkluzívneho tímu vychádza z potrieb školy a rozhoduje o ňom škola.  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Štandardná stupnica jednotkových nákladov je  </a:t>
            </a:r>
            <a:r>
              <a:rPr b="0" lang="en-GB" sz="1500" spc="-1" strike="noStrike">
                <a:solidFill>
                  <a:srgbClr val="ff0000"/>
                </a:solidFill>
                <a:latin typeface="Calibri"/>
              </a:rPr>
              <a:t>školský </a:t>
            </a:r>
            <a:r>
              <a:rPr b="0" lang="sk-SK" sz="1500" spc="-1" strike="noStrike">
                <a:solidFill>
                  <a:srgbClr val="ff0000"/>
                </a:solidFill>
                <a:latin typeface="Calibri"/>
              </a:rPr>
              <a:t> </a:t>
            </a:r>
            <a:r>
              <a:rPr b="0" lang="en-GB" sz="1500" spc="-1" strike="noStrike">
                <a:solidFill>
                  <a:srgbClr val="ff0000"/>
                </a:solidFill>
                <a:latin typeface="Calibri"/>
              </a:rPr>
              <a:t>psychológ -   1 </a:t>
            </a:r>
            <a:r>
              <a:rPr b="0" lang="sk-SK" sz="1500" spc="-1" strike="noStrike">
                <a:solidFill>
                  <a:srgbClr val="ff0000"/>
                </a:solidFill>
                <a:latin typeface="Calibri"/>
              </a:rPr>
              <a:t>235,- </a:t>
            </a:r>
            <a:r>
              <a:rPr b="0" lang="en-GB" sz="1500" spc="-1" strike="noStrike">
                <a:solidFill>
                  <a:srgbClr val="ff0000"/>
                </a:solidFill>
                <a:latin typeface="Calibri"/>
              </a:rPr>
              <a:t>E</a:t>
            </a:r>
            <a:r>
              <a:rPr b="0" lang="sk-SK" sz="1500" spc="-1" strike="noStrike">
                <a:solidFill>
                  <a:srgbClr val="ff0000"/>
                </a:solidFill>
                <a:latin typeface="Calibri"/>
              </a:rPr>
              <a:t>ur  </a:t>
            </a:r>
            <a:r>
              <a:rPr b="0" lang="en-GB" sz="1500" spc="-1" strike="noStrike">
                <a:solidFill>
                  <a:srgbClr val="ff0000"/>
                </a:solidFill>
                <a:latin typeface="Calibri"/>
              </a:rPr>
              <a:t>mesačne</a:t>
            </a:r>
            <a:r>
              <a:rPr b="0" lang="sk-SK" sz="1500" spc="-1" strike="noStrike">
                <a:solidFill>
                  <a:srgbClr val="ff0000"/>
                </a:solidFill>
                <a:latin typeface="Calibri"/>
              </a:rPr>
              <a:t> a </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        </a:t>
            </a:r>
            <a:r>
              <a:rPr b="0" lang="sk-SK" sz="1500" spc="-1" strike="noStrike">
                <a:solidFill>
                  <a:srgbClr val="ff0000"/>
                </a:solidFill>
                <a:latin typeface="Calibri"/>
              </a:rPr>
              <a:t>špeciály pedagóg/sociálny pedagóg –  1 440,- Eur mesačne</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85"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oprávnenými</a:t>
            </a:r>
            <a:r>
              <a:rPr b="0" lang="sk-SK" sz="1500" spc="-1" strike="noStrike">
                <a:solidFill>
                  <a:srgbClr val="00b050"/>
                </a:solidFill>
                <a:latin typeface="Calibri"/>
              </a:rPr>
              <a:t> na preplatenie v rámci jednotkovej ceny sú aj dovolenky a PN, aj mzdy členov inkluzívneho tímu počas prázdnin; </a:t>
            </a:r>
            <a:endParaRPr b="0" lang="en-US" sz="15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člena  IT bude alikvotne prepočítaný v prípade kratšieho prac. pomeru ako aj v prípade, že člen IT bude pracovať menej ako mesiac (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87"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dokladovanie skutočne zamestnaných členov inkluzívneho tímu, ktorých mzdy sú hradené na mesačnej báze</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y predkladané ako súčasť ŽoP:</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1" lang="sk-SK" sz="1500" spc="-1" strike="noStrike">
                <a:solidFill>
                  <a:srgbClr val="00b050"/>
                </a:solidFill>
                <a:latin typeface="Calibri"/>
              </a:rPr>
              <a:t>raz ročne </a:t>
            </a:r>
            <a:r>
              <a:rPr b="0" lang="sk-SK" sz="1500" spc="-1" strike="noStrike">
                <a:solidFill>
                  <a:srgbClr val="00b050"/>
                </a:solidFill>
                <a:latin typeface="Calibri"/>
              </a:rPr>
              <a:t>-  čestné prehlásenie štatutára/riaditeľa školy o celkovom počte žiakov ZŠ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t>
            </a:r>
            <a:r>
              <a:rPr b="0" lang="sk-SK" sz="1500" spc="-1" strike="noStrike">
                <a:solidFill>
                  <a:srgbClr val="00b050"/>
                </a:solidFill>
                <a:latin typeface="Calibri"/>
              </a:rPr>
              <a:t>a okamžite pri každej zmene - 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500" spc="-1" strike="noStrike">
              <a:solidFill>
                <a:srgbClr val="000000"/>
              </a:solidFill>
              <a:latin typeface="Calibri"/>
            </a:endParaRPr>
          </a:p>
          <a:p>
            <a:pPr algn="just">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89" name=""/>
          <p:cNvSpPr txBox="1"/>
          <p:nvPr/>
        </p:nvSpPr>
        <p:spPr>
          <a:xfrm>
            <a:off x="499680" y="1483920"/>
            <a:ext cx="8186760" cy="453708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štvrťročne </a:t>
            </a:r>
            <a:r>
              <a:rPr b="0" lang="sk-SK" sz="1500" spc="-1" strike="noStrike">
                <a:solidFill>
                  <a:srgbClr val="00b05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MŠVVaŠ SR ako SO overí údaje z čestného vyhlásenia o celkovom  počte žiakov z údajov Eduzber a z</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eho Štvrťročného výkazu o práci v školstve Škol (MŠVVŠ SR) 1-04. Predmetom overovania bude</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j splnenie kvalifikačných predpokladov na základe platnej slovenskej legislatívy.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členov  IT vytvorené na základe dočasných podporných programov zamestnávania (vzhľadom na ich dočasný charakter – napr. ÚPSVAR). Nárast pozícii – t.j. či ide o novovytvorené pozície  sa bude overovať aj z porovnania údajov o počte členov inkluzívneho tímu z Edu-zberu a z aktuálneho Štvrťročného výkazu o práci v školstve Škol (MŠVVŠ SR) 1-04. Kontrolovaný subjekt predloží zoznam pedagogických asistentov pred začatím projektu a po jeho spustení.  Do úvahy bude vzatý školský rok, v ktorom projekt začal.</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nností deklarovaných v náplni práce ako aj overenie kvalifikačných predpokladov</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a:t>
            </a:r>
            <a:r>
              <a:rPr b="1" lang="sk-SK" sz="2200" spc="-1" strike="noStrike">
                <a:solidFill>
                  <a:srgbClr val="ff0000"/>
                </a:solidFill>
                <a:latin typeface="Calibri"/>
              </a:rPr>
              <a:t>- asistent učiteľa </a:t>
            </a:r>
            <a:r>
              <a:rPr b="0" lang="sk-SK" sz="2200" spc="-1" strike="noStrike">
                <a:solidFill>
                  <a:srgbClr val="ff0000"/>
                </a:solidFill>
                <a:latin typeface="Calibri"/>
              </a:rPr>
              <a:t>- vytvorenie a obsadenie miesta asistenta učiteľa  I.</a:t>
            </a:r>
            <a:endParaRPr b="0" lang="en-US" sz="2200" spc="-1" strike="noStrike">
              <a:solidFill>
                <a:srgbClr val="000000"/>
              </a:solidFill>
              <a:latin typeface="Calibri"/>
            </a:endParaRPr>
          </a:p>
        </p:txBody>
      </p:sp>
      <p:sp>
        <p:nvSpPr>
          <p:cNvPr id="91"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966,- Eur mesačne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právnenými na preplatenie v rámci jednotkovej ceny sú aj dovolenky a PN, aj mzdy pedagogických asistentov počas prázdnin;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AU bude alikvotne prepočítaný v prípade kratšieho prac. pomeru ako aj v prípade AU bude </a:t>
            </a:r>
            <a:r>
              <a:rPr b="1" lang="sk-SK" sz="1500" spc="-1" strike="noStrike">
                <a:solidFill>
                  <a:srgbClr val="ff0000"/>
                </a:solidFill>
                <a:latin typeface="Calibri"/>
              </a:rPr>
              <a:t>pracovať menej ako mesiac </a:t>
            </a:r>
            <a:r>
              <a:rPr b="0" lang="sk-SK" sz="1500" spc="-1" strike="noStrike">
                <a:solidFill>
                  <a:srgbClr val="00b05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a:t>
            </a:r>
            <a:endParaRPr b="0" lang="en-US" sz="2000" spc="-1" strike="noStrike">
              <a:solidFill>
                <a:srgbClr val="000000"/>
              </a:solidFill>
              <a:latin typeface="Calibri"/>
            </a:endParaRPr>
          </a:p>
        </p:txBody>
      </p:sp>
      <p:sp>
        <p:nvSpPr>
          <p:cNvPr id="93" name=""/>
          <p:cNvSpPr txBox="1"/>
          <p:nvPr/>
        </p:nvSpPr>
        <p:spPr>
          <a:xfrm>
            <a:off x="610920" y="1197000"/>
            <a:ext cx="8186760" cy="4751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Finančné prostriedky sú uhrádzané prijímateľovi na základe zdokladovania skutočne zamestnaných AU, ktorých mzdy sú hradené na mesačnej báze.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Raz ročne: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odporúčanie</a:t>
            </a:r>
            <a:r>
              <a:rPr b="0" lang="sk-SK" sz="1400" spc="-1" strike="noStrike">
                <a:solidFill>
                  <a:srgbClr val="00b050"/>
                </a:solidFill>
                <a:latin typeface="Calibri"/>
              </a:rPr>
              <a:t>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http://www.minedu.sk/15170-sk/metodicky-pokyn-c-662015-k-postupu-pri-predkladani-poziadaviek-na-financne-prostriedky-na-osobne-naklady-asistenta-ucitela-pre-ziakov-so-zdravotnym-znevyhodneni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I.</a:t>
            </a:r>
            <a:endParaRPr b="0" lang="en-US" sz="2000" spc="-1" strike="noStrike">
              <a:solidFill>
                <a:srgbClr val="000000"/>
              </a:solidFill>
              <a:latin typeface="Calibri"/>
            </a:endParaRPr>
          </a:p>
        </p:txBody>
      </p:sp>
      <p:sp>
        <p:nvSpPr>
          <p:cNvPr id="95" name=""/>
          <p:cNvSpPr txBox="1"/>
          <p:nvPr/>
        </p:nvSpPr>
        <p:spPr>
          <a:xfrm>
            <a:off x="539640" y="1268280"/>
            <a:ext cx="8229600" cy="5400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 okamžite pri každej zmene: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latná pracovná zmluva resp. jej dodatky asistenta učiteľa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dokumenty preukazujúce/potvrdzujúce kvalifikáciu AU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tutárom školy potvrdený menný zoznam asistentov učiteľa a veľkosť úväzku jednotlivých asistentov učiteľa, ktorých mzda v danom mesiaci je financovaná prostredníctvom JC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Štvrťročn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vrťročné správy o činnosti s výstupmi práce A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Pri každej ŽoP: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oznam žiakov, ktorí využívajú AU financovaného z projektu a zoznam žiakov, ktorí využívajú AU financovaného zo štátneho rozpočt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97"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a kontrole na mieste bude musieť kontrolovaný subjekt predložiť zoznam asistentov učiteľa pred začatím projektu a po jeho spustení. Do úvahy bude vzatý školský rok, v ktorom projekt začal.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edmetom kontroly bude aj na overenie činností deklarovaných v náplni práce ako aj overenie kvalifikačných predpokladov.  </a:t>
            </a:r>
            <a:endParaRPr b="0" lang="en-US" sz="15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Neoprávnené výdavky</a:t>
            </a:r>
            <a:endParaRPr b="0" lang="en-US" sz="4400" spc="-1" strike="noStrike">
              <a:solidFill>
                <a:srgbClr val="000000"/>
              </a:solidFill>
              <a:latin typeface="Calibri"/>
            </a:endParaRPr>
          </a:p>
        </p:txBody>
      </p:sp>
      <p:sp>
        <p:nvSpPr>
          <p:cNvPr id="99"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b05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 a teším sa na implementáciu Vašich projektov.</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systém zálohových platieb;</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pre konkrétnych prijímateľov je zadefinovaný v Zmluve o poskytnutí nenávratného finančného príspevku.</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V základnej škole úspešnejš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vždy k 15. dňu nasledujúceho mesiaca po skončení štvrťroka, t.j. raz za tri mesiace.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Žiadosť o zálohovú platbu 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priebežne zúčtovávať, pričom najneskôr do 12 mesiacov odo dňa jej pripísania na účet prijímateľa je prijímateľ povinný zúčtovať 100 % poskytnutej zálohovej platby.</a:t>
            </a: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zúčtovanie zálohovej platby)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Feková Eva</cp:lastModifiedBy>
  <dcterms:modified xsi:type="dcterms:W3CDTF">2019-09-11T11:58:11Z</dcterms:modified>
  <cp:revision>169</cp:revision>
  <dc:subject/>
  <dc:title>Snímka 1</dc:title>
</cp:coreProperties>
</file>