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6828-FC89-4DF8-9CAC-EDB42C95D79C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530D-57EE-4F85-9B37-7452288E348C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9332-E5ED-4480-96DE-64CD4E95D6BC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8389-6DF8-4A1B-85B8-23C7CA9E8AED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3F3D-73BD-4CB5-91D6-D861F5B6416C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A4E6-CCDB-485E-8FBF-0999C7299B7B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6D55-D37D-4D08-BDA2-AC4B8E23F950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čísla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8ED4-19FF-4110-B1F8-3E4D44D47E9B}" type="slidenum">
              <a:rPr b="0" lang="sk-SK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2002-C876-4122-BDE2-05FB78D5A680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7245-FD01-4CD6-8C50-CB5354EDDBD7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D5BB-CD13-4A35-834C-BC004063F46B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BF8C-08AD-4EAE-91E6-95AEED7F999D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F359-52BC-4841-8148-E508EB89EC1C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899C-2BED-487A-AE1D-816BB33E1B26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5707-47E4-4076-853C-16FB35249BF3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C1DD-1175-4E4C-ADBB-D308ACB281C4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DCF3-3D47-4B8B-92E9-6F4749D811AF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83C1-8C5F-4A57-890B-C65ABC729616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9E1-99E7-4EC7-BC35-6D1BA93A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32E-3812-4D4C-84C2-6A10BF2C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4A1C-EC57-437C-AC65-7D25B73B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A8E1-299A-44CA-A7F8-8D2CCC5A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E69-8FC1-40AA-8F7C-EFAEEEB0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B939-8341-4D80-94EF-9A39C0E3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EA1-782D-489D-AB75-ECE14757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6954-1DB1-4A8E-9CD6-CFA99D12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FCB-E9C0-47BA-8B31-85417619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123-5029-499D-9092-AB17A26A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D5D0-A06B-4A17-8186-3F4DE142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F0DD-E682-4ABD-AE36-558A4E1F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576B-D0A0-47C0-AA6E-DEDF7FB6C399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Finančná časť - implementá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28720" y="5516640"/>
            <a:ext cx="4257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oprávnené a neoprávnené výdavk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financovanie projektu/projekto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BlokTextu 5"/>
          <p:cNvSpPr/>
          <p:nvPr/>
        </p:nvSpPr>
        <p:spPr>
          <a:xfrm>
            <a:off x="539640" y="5805360"/>
            <a:ext cx="324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               </a:t>
            </a: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nformačné seminá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výzva </a:t>
            </a: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č.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OPLZ-PO1/2016/DOP/1.1.1-0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„</a:t>
            </a: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V základnej škole úspešnejší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3 – riadok 0131 pod písmenom A je súčtový a uvádza kumulatívne všetkých pedagogických asistentov (B1) a členov inkluzívneho tímu (B2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právne vyplnené uvedené údaje sú nevyhnutné pre potreby dokladovania oprávnenosti výdavkov v rámci projektu. Zvyšné údaje v Štvrťročnom výkaze o práci v školstve (Škol MŠVVaŠ SR 1-04) je povinný subjekt vyplniť v zmysle pokynov Ministerstva školstva, vedy, výskumu a športu SR platné pre dané vykazovani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46c0a"/>
                </a:solidFill>
                <a:latin typeface="Calibri"/>
              </a:rPr>
              <a:t>Najčastejšie chyby pri vypĺňaní štvrťročného výkazu o práci v školst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Prijímateľ nesprávne uvedie  zamestnancov v rámci projektu v štvrťročnom výkaze o práci v školstve – nie v riadku 01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Pri zmene počtu pedagogických a/alebo odborných zamestnancov školy nie je schopný zdôvodniť pokles v rámci jednotlivých štvrťročných výkazo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Nesprávne uvádza fyzický a prepočítaný stav  zamestnancov v rámci školy a/alebo projektu, nie je možné identifikovať nárast pracovného mies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Usmernenie pre prijímateľov k predkladaniu Štvrťročnej správy o činnosti v rámci štandardnej stupnice jednotkových nákladov pre pracovné pozície - pedagogický asistent, inkluzívny tím a asistent učiteľa pre žiakov so zdravotným znevýhodnením  (</a:t>
            </a:r>
            <a:r>
              <a:rPr b="1" lang="sk-SK" sz="1800" spc="-1" strike="noStrike">
                <a:solidFill>
                  <a:srgbClr val="0070c0"/>
                </a:solidFill>
                <a:latin typeface="Calibri"/>
              </a:rPr>
              <a:t>http://www.minedu.sk/usmernenie-pre-prijimatelov-k-predkladaniu-stvrtrocnej-spravy-o-cinnosti/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rijímateľ je povinný zasielať na Sprostredkovateľský orgán Ministerstvo školstva, vedy, výskumu a športu Slovenskej republiky raz za štvrťrok Štvrťročnú správu o činnosti. Štvrťročnú správu o činnosti predkladá prijímateľ v tlačenej forme ku každej žiadosti o platbu, v ktorej sú nárokované výdavky formou štandardnej stupnice jednotkových nákladov pedagogického asistenta, asistenta učiteľa a členov inkluzívneho tímu, ktorá je predložená na SO na zúčtovanie po uplynutí štvrťročného obdobia. V žiadostiach o platbu, ktoré sú predložené na SO mimo uvedeného obdobia Štvrťročnú správu o činnosti prijímateľ nepredkladá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Štvrťročnej správe o činnosti sú uvedené všetky činnosti, ktoré zamestnanec vykonával v danom štvrťroku za každý príslušný mesiac samostatne, popíše sa najmä práca s cieľovou skupinou. Ak relevantné ku každej činnosti sa priradí výstup formou samostatnej prílohy. Opis činnosti musí byť v súlade s činnosťami oprávnenými pre financovanie uvedenými v štandardnej stupnici jednotkových nákladov a s opisom pracovnej činnosti zamestnanc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Na základe predložených Štvrťročných správ o činnosti vykoná SO kontrolu oprávnenosti výdavkov, v prípade zistenia nezrovnalostí aj spätne za celé vykazované štvrťročné obdobi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528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Objekt 24"/>
          <p:cNvGraphicFramePr/>
          <p:nvPr/>
        </p:nvGraphicFramePr>
        <p:xfrm>
          <a:off x="2987640" y="1052640"/>
          <a:ext cx="3255840" cy="48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k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052640"/>
                    <a:ext cx="3255840" cy="4898880"/>
                  </a:xfrm>
                  <a:prstGeom prst="rect">
                    <a:avLst/>
                  </a:prstGeom>
                  <a:ln w="9360">
                    <a:solidFill>
                      <a:srgbClr val="4f81bd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kyny k vyplneniu Štvrťročnej správy o čin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1. V riadku Prijímateľ - uvedie sa názov prijímateľa podľa zmluvy o poskytnutí nenávratného finančného príspevku (ďalej len "zmluva o NFP"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2. V riadku Názov projektu - uvedie sa úplný názov projektu podľa zmluvy NFP, nepoužíva sa skrátený názov projekt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3. V riadku Kód ITMS ŽoP - uvedie sa kód ŽoP podľa ITMS2014+ - vyplní prijímate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4. V riadku Meno a priezvisko zamestnanca – uvedie sa meno a priezvisko fyzickej osoby, ktorá predmetnú činnosť vykonáva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5. V riadku Názov a číslo rozpočtovej položky projektu - uvedie sa názov a číslo rozpočtovej položky podľa zmluvy o NF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6. V riadku Obdobie vykonávania činnosti – uvedie sa obdobie, za ktoré sa štvrťročná správa o činnosti predkladá. Obdobie sa uvádza v nasledovnom formáte DD.MM.RRRR – DD.MM.RRR, ( napr.01.01.2017 – 31.03.2017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7. V riadku Správa o činnosti - uvedú a popíšu sa činnosti, ktoré zamestnanec vykonával v danom štvrťroku, popíše sa najmä prácu s cieľovou skupinou. Ak relevantné, ku každej činnosti sa priradí výstup. Opis činností musí byť v súlade s činnosťami oprávnenými pre financovanie uvedenými v štandardnej stupnici jednotkových nákladov a s opisom pracovnej činnosti zamestnanc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8. V riadku Zoznam výstupov činnosti – uvedie sa zoznam výstupov, ktoré zamestnanec priloží ako prílohy správy. Príklady výstupov : príloha č. 1 - prezentácie a fotodokumentácia z otvorených hodín; príloha č. 2 – pedagogická dokumentácia. Zoznam príloh musí byť v súlade s popisom uvedeným v časti „Správa o činnosti“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9. V riadku Vypracoval – uvedie sa celé meno a priezvisko zamestnanca, ktorý štvrťročnú správu o činnosti vypracoval a dátum vypracovania štvrťročnej správy o čin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10. V riadku Podpis – zamestnanec, ktorý štvrťročnú správu o činnosti vypracoval sa vlastnoručne podpíše, (nie je možné použiť faximile pečiatk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11. V riadku Schválil - uvedie sa celé meno a priezvisko zamestnanca, ktorý štvrťročnú správu schválil (štatutárny zástupca školy) a dátum schválenia štvrťročnej správy o čin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12. V riadku Podpis – zamestnanec, ktorý štvrťročnú správu o činnosti schválil sa vlastnoručne podpíše, (nie je možné použiť faximile pečiatky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 súvislosti  s využívaním  štandardnej stupnice jednotkových nákladov pre pracovné pozície - pedagogický asistent, inkluzívny tím a asistent učiteľa pre žiakov so zdravotným znevýhodnení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slúži aj ako podklad pri overovaní novovytvoreného pracovného miesta na škole zapojenej do projektu. Ide o preukazovanie novovytvoreného pracovného miesta  pre pracovné pozície pedagogického asistenta, asistenta učiteľa pre žiakov so zdravotným znevýhodnením a členov inkluzívneho tímu (školský psychológ, špeciálny pedagóg, sociálny pedagóg) v rámci projektov OP Ľudské zdro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rijímateľ novovytvorené pracovné pozície vo výkaze vypĺňa v riadku 0131. Overovanie bude uskutočnené porovnaním počtu uvedených pracovných pozícií pred začatím realizácie projektu a počtu pracovných pozícií po jeho spustení, t.j. budú predkladané a overované dva štvrťročné výkazy o práci v školstve výkaz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správne vyplnenie štvrťročného výkazu o práci v školstve je základným dokladom  pre priznanie nárokovaného výdavku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eva.fekova\Desktop\s.png"/>
          <p:cNvPicPr/>
          <p:nvPr/>
        </p:nvPicPr>
        <p:blipFill>
          <a:blip r:embed="rId1"/>
          <a:stretch/>
        </p:blipFill>
        <p:spPr>
          <a:xfrm>
            <a:off x="468360" y="1341360"/>
            <a:ext cx="7920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4978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77040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850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567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č. 1 - údaje o pedagogickom asistentovi, asistentovi učiteľa pre žiakov so zdravotným znevýhodnením a členoch inkluzívneho tímu (špeciálny pedagóg, sociálny pedagóg školský psychológ) sa uvádzajú do riadku 0131 „EŠIF z RK MŠVVaŠ SR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č. 1 - údaje o pedagogickom asistentovi, asistentovi učiteľa pre žiakov so zdravotným znevýhodnením a členoch inkluzívneho tímu (špeciálny pedagóg, sociálny pedagóg školský psychológ) sa uvádzajú do stĺpca (priemerný evidenčný počet zamestnancov“ (t.j. zahrnú sa do prepočítaného stavu) - pedagogický asistent, asistent učiteľa pre žiakov so zdravotným znevýhodnením sa uvedú medzi pedagogických zamestnancov; členia inkluzívneho tímu (špeciálny pedagóg, sociálny pedagóg školský psychológ) sa uvedú medzi odborných zamestnancov (relevantný stĺpec č. 1,2,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č. 1 údaje o pedagogickom asistentovi, asistentovi učiteľa pre žiakov so zdravotným znevýhodnením a členoch inkluzívneho tímu (špeciálny pedagóg, sociálny pedagóg školský psychológ) sa uvádzajú do stĺpca „evidenčný počet zamestnancov k poslednú dňu štvrťroka“  - uvedie sa počet fyzický osôb spolu (stĺpec č. 1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1 - zmeny vykonané v riadku č. 0131 musia byť viditeľné aj v riadku č. 01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3 údaje o pedagogickom asistentovi a o  asistentovi učiteľa pre žiakov so zdravotným znevýhodnením sa uvedú do časti „EŠIF z RK MŠVVaŠ SR“ (0131)  pod písmeno B1 – pedagogickí zamestnanci (relevantný stĺpec 1,2 a 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3 údaje o  členoch inkluzívneho tímu (špeciálny pedagóg, sociálny pedagóg školský psychológ) sa uvedú do časti „EŠIF z RK MŠVVaŠ SR“ (0131)    pod písmeno B2 – odborní zamestnanci  (relevantný stĺpec 1,2 a 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Feková Eva</cp:lastModifiedBy>
  <cp:lastPrinted>2018-09-04T08:39:03Z</cp:lastPrinted>
  <dcterms:modified xsi:type="dcterms:W3CDTF">2019-09-11T11:09:25Z</dcterms:modified>
  <cp:revision>155</cp:revision>
  <dc:subject/>
  <dc:title>Snímka 1</dc:title>
</cp:coreProperties>
</file>