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1FA-BC0B-4E9C-925A-7D764F32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D66-A81F-4341-80E7-85A1F818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A87-90AB-4A00-87D3-06D29372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4E-5BE8-48D7-9EF0-D62F4D30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A87-7094-4DF7-B3B6-E2A2F723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1E7-765E-4190-898D-4D5DF9AA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ECB-69B0-432B-978B-65AA1D6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A6B-4C81-4F97-8501-5C0CEC7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52A-982F-4A20-AD1E-BACA3F7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DA9-5DE4-4770-8241-3124B36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6F-2D9A-495B-97A9-66D061E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E5C-D014-4F8E-B962-4C2FB78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440A-EEF6-4CFD-A122-30574BF5914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usmernenie-k-ssjn-vzdelavanie-pedagogickych-a-odbornych-zamestnancov-&#8211;-zoznam-absolventov-vzdelavania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Informačné seminá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8/DOP/1.1.1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Čitateľská, matematická a prírodovedná gramotnosť v základnej škole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covanie činnosti a aktivít  pedagogických klub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pedagogických kluboch (ďalej aj „klub“) sa stretávajú a vymieňajú si skúsenosti vybrané kategórie pedagogických zamestnancov, ktorí vo svojom voľnom čase majú záujem vzdelávať sa a získavať nové poznatky a vymieňať si navzájom skúse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hlavným účelom týchto klubov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skytnúť platformu pre aktívne sieťovanie a spoločnú spoluprácu pedagogických zamestnancov na spoločných témach a pre medzigeneračnú výmenu medzi mladými a staršími/skúsenejšími pedagogickými zamestnancam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10,60 EUR/1 hodina/pedagogický zamestnane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íprava a účasť na stretnutiach klubu za účelom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a best practice z vlastnej vyučovacej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eskumno-analytickej a tvorivej činnosti týkajúca sa výchovy a vzdelávania a vedúca k jej zlepšeniu a identifikácii osvedčených pedagogických skúsen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pri využívaní  moderných vyučovacích postupov a metód podporujúcich inovácie vo vzdeláva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u skúseností v oblasti medzipredmetových vzťah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é zameranie klubu závisí od zloženia resp. zastúpenia jeho členov a/alebo od ich vyučovacích predmetov. 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definovaní svojej činnosti si každý klub musí vybrať minimálne jednu tému, ktorá je tematicky v súlade s obsahom výzvy na predkladanie projektov. 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Činnosť aktivít klubu sa musí zameriavať na témy ako sú výsledky medzinárodných meraní PISA a možné spôsoby/cesty pre ich zlepšenie, implementovanie medzipredmetových vzťahov vo vzdelávacom procese, identifikovanie problémov vo vzdelávaní a možné spôsoby ich riešenia, výmena skúsenosti s aplikovaním nových progresívnych metód a foriem práce, výmena skúsenosti s využívaním didaktických postupov a metód orientovaných na rozvoj kľúčových kompetencií žiakov, výmena skúseností  s využívaním nových progresívnych a moderných nástrojov a didaktickej techniky – IKT, na prevenciu závislostí, rasizmu, násilia a iných foriem/druhov extrémneho spr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. 3 hodiny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si vypracuje plán svojej prác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aktivity reálne vykonávajú v deklarovanom rozsahu v projekte. Finančná  kontrola na mieste sa bude vykonávať primárne ako neohlásená finančná kontrola na mieste. Pri plánovaní neohlásenej finančnej kontrole na mieste sa bude vychádzať z Plánu práce klubu, ktorý je Prijímateľ povinný zaslať Poskytovateľovi najmenej 7 dní vopred pred uskutočnením aktivity. Prípadné zmeiny v konaní aktivity je Prijímateľ povinný poskytovateľovi oznámi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i aktivit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kontroly bude aj overenie, či realizácia aktivít prebieha v súlade so schváleným projekt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zdelávanie pedagogických zamestnancov (PZ) a odborných zamestnancov (OZ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á sa o akreditované kontinuálne vzdelávanie (ďalej len „KV“)  ako aj o neakreditované vzdelávanie. Ide o vzdelávanie poskytované prijímateľom (t.j. jeho zamestnancami – internými a/alebo externými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otková cena sa nevzťahuje na vzdelávanie poskytovaného externými spoločnosťami (t.j. vzdelávanie zabezpečované/realizované prostredníctvom verejného obstarávan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Štandardná stupnica jednotkových nákladov j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20 účastníkmi: 10,10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12 účastníkmi (IKT a jazykové vzdelávanie): 10,65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ZŠ 11, 7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ozsah extra hodín na školu a školský rok je stanovený ma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. stupeň max. 12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I. stupeň max. 15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Akreditované vzdelávan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ľa zákona č. 317/2009 Z.z o pedagogických a odborných zamestnanco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 a/alebo zvýšeniu kvalifikácie a/alebo profesijných kompetencií a zručností PZ a OZ, a/alebo vedúce k ich osobnostnému ras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 je 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ednotková cena (ďalej aj „JC“) bude preplatená iba v prípade, ak sa PZ/OZ zúčastní  min. 80% prezenčného vzdelávan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Neakreditované vzdeláv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/rozvoju kvalifikácie a/alebo profesijných kompetencií a zručností PZ a OZ, a/alebo vedúce k ich osobnostnému rastu.  </a:t>
            </a: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Výstupom vzdelávania je certifikát o absolvovaní vzdelávani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je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C bude preplatená iba v prípade, ak sa PZ/OZ zúčastní  min. 80% prezenč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 prípade neakreditovaného vzdelávania sa počet prípustných hodín na trvanie vzdelávania v priebehu roka stanovuje na min. 10  hodín a na max.  55 hod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ijímateľ je povinný predložiť na MŠVVaŠ SR ako SO min. 7 dní pred začatím vzdelávania informáciu o konaní vzdelávania (miesto, čas konania vzdelávania, názov vzdelávan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ednotková cena nepokrýva všetky výdavky spojené s operáciou. Bude kombinovaná s ďalšími výdavkami – reálnymi výdavkami zahŕňajúcimi ubytovanie a nájom priestorov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– t.j. bude kombinovaná s reálnymi výdavkami - ide o výdavky na nájom priestorov a ubytovanie lektorov a frekventa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Overovanie v rámci kontroly žiadosti o platb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finančné prostriedky budú uhradené prijímateľovi po ukončení vzdelávania 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(akreditovaného, neakreditovaného), t.j. až po absolvovaní vzdelávania frekventantom. Finančné prostriedky sú uhrádzané prijímateľovi na základe predloženia  potvrdenia o absolvovaní vzdelávania (napr. certifikát, osvedčeni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C bude preplatená iba v prípade, ak sa PZ/OZ zúčastní  min. 80% prezenčného vzdelá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mienky preplatenia  JC – doklady potrebné pre preplatenie jednotkovej ceny po absolvovaní vzdelávan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osvedčenie o ukončení kontinuálneho vzdelávania v prípade 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certifikát o absolvovaní vzdelávania v prípade ne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zoznam absolventov vzdelávania (meno a priezvisko, názov vzdelávania, rozsah vzdelávania, projekt, prijímateľ; miesto konania vzdelávania, adresa školy absolventa; počet hodín vzdelávania, ktorých sa absolvent zúčastnil) – usmernenie </a:t>
            </a:r>
            <a:r>
              <a:rPr b="0" lang="sk-SK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edu.sk/usmernenie-k-ssjn-vzdelavanie-pedagogickych-a-odbornych-zamestnancov-–-zoznam-absolventov-vzdelavania/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zenčné listiny účastníkov vzdelávania v prípade neakreditova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Súčasťou overovania žiadosti o platbu budú aj nasledovné skutoč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ovanie duplicít účasti frekventantov na tom istom vzdelávaní – overovanie duplicít bude prebiehať prostredníctvom databázy absolventov vzdelávania, ktorá bude obsahovať všetky projekty, v ktorých sa realizovalo vzdelávanie; databáza vzdelávania bude vytvorená na základe údajov uvedených v zozname absolventov, ktorý predkladá prijímateľ  ako doklad/podmienku pre preplatenie jednotkovej c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enie, či frekventant absolvoval 80% prezenčného vzdelávania – na základe údajov uvedených v zozname absolve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e sa, že školenia sa vykonávajú v deklarovanom rozsahu. Kontrola na mieste sa bude vykonávať primárne ako neohlásená kontrola na mieste. Predmetom kontroly bude overenie konania aktivity, overenie počtu osôb, prípadne rozhovor s účastníkmi za účelom overenia si konania aktivity, prípadne spokojnosti s realizovaným školením. V prípade akreditovaných vzdelávacích programov budú predmetom overovania aj prezenčné listiny účastníkov vzdeláva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výšený počet hodín nad rámec hodín financovaných zo štátneho rozpočtu môže škola využiť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rozširujú a prehlbujú obsah predmetov zaradených do štátne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si škola sama zvolí a sama si pripraví ich obsah, vrátane predmetov vytvárajúcich profiláciu školy a experimentálne overených inovačných programov zavedených do vyučovacej prax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ých obsah je doplnením vyučovacieho predmetu pre žiakov so špeciálnymi výchovno-vzdelávacími potrebami, ktorí nemôžu napredovať v rámci bežných vyučovacích hodín a ktorí postupujú podľa individuálnych vzdelávacích progra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pecifické vyučovacie predmety pre žiakov so špeciálnymi výchovno-vzdelávacími potreb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poru gramotnosti v oblasti IKT a cudzích jazykov a ďalších vzdelávacích aktivít vyplývajúcich zo školské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ýdavkov – jednotkovej ceny bude prebiehať v 3 etap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konania žiadosti o NFP (t.j. v rámci hodnotiaceho procesu žiadosti o NF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administratívnej finančnej kontroly žiadosti o 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čas finančnej kontroly na mies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; prijímateľ preukáže, že sa jedná o extra hodiny, ktoré nie sú financované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 relevantné, dokumenty preukazujúce výšku školného plateného rodičmi pred a počas realizácie projektu; v prípade, ak je školné počas implementácie projektu vyššie, musí prijímateľ poskytnúť zdôvodnenie jeho zvýšenia, vrátane potrebnej podpornej dokument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extra hodiny reálne vykonávajú v deklarovanom rozsahu stanovenom v projekte. Finančná  kontrola na mieste sa bude vykonávať primárne ako neohlásená finančná kontrola na mieste. Pri plánovaní neohlásenej finančnej kontroly na mieste sa bude vychádzať z rozvrhu hodín predloženého ako súčasť Ž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 aktivity. Okrem toho bude overovaná pedagogická dokumentácia súvisiaca s extra hodinami (napr. triedna kniha, dochádzka žiak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V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19-03-05T11:59:26Z</dcterms:modified>
  <cp:revision>185</cp:revision>
  <dc:subject/>
  <dc:title>Snímka 1</dc:title>
</cp:coreProperties>
</file>