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933E-9B0C-4667-A69A-A432923F82B1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166F-145F-487E-9DEE-EFD769932DD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CE1A-9937-4F9B-9F76-2203A9E7599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6B06-C341-491F-BB83-DD47E3C6CC62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060B-F961-4015-AB89-CAA7537AD167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B951-08A5-4206-8C8E-7883B749819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1CEB-59A6-4186-A7D6-E5058DDBC994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ástupný symbol čísla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DCF5-0E57-408F-B02B-952030975EAC}" type="slidenum">
              <a:rPr b="0" lang="sk-SK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7252-7C3A-4413-A1AC-10929723240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6DFD-FC67-4AA4-A4BD-19845F95AF9B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1CA3-BFFB-4C04-A124-6D50BFF71E01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59C5-4C1D-48E4-A798-A331B9C6C21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7C7E-402B-4AC8-8BC9-BED64592AB1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EA52-4F29-440F-AA9E-0A65EE515C5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BBA0-34FC-4AEB-8B08-5513F70AC2C4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CC4E-93F5-4F19-A93B-7E8EFFBC434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8221-CCF6-4CE2-AFBB-238B3506607B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32BD-EDBD-4896-BFCA-736D0E776B9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EBD-9A8A-4CB0-853B-22A68CAF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DD2-AA55-4BF2-A6E5-B75B518D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DE7-38BD-4A98-B2D0-276C9CD4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527-97D2-4018-8D95-5692529B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8A6-2670-41FA-B4D9-020F93CC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02F-472B-473E-A6C5-A91E7FCB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37F-9030-475B-A821-D39DC886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32E-5570-4D31-A917-7A3A4D28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771-8CCD-42B0-9A5D-ED08743B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DC3-AE61-411E-90C7-C06BBF66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F5E-3542-4D89-94F7-EE9024DD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6E0-23FB-4C1F-B60C-CEB6221D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E59B-43A2-43D7-A05C-86D78BA56171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 - implementá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projekto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BlokTextu 5"/>
          <p:cNvSpPr/>
          <p:nvPr/>
        </p:nvSpPr>
        <p:spPr>
          <a:xfrm>
            <a:off x="539640" y="5805360"/>
            <a:ext cx="324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               </a:t>
            </a: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nformačné seminá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výzva </a:t>
            </a: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č.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OPLZ-PO1/2016/DOP/1.1.1-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„</a:t>
            </a: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V základnej škole úspešnejší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– riadok 0131 pod písmenom A je súčtový a uvádza kumulatívne všetkých pedagogických asistentov (B1) a členov inkluzívneho tímu (B2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právne vyplnené uvedené údaje sú nevyhnutné pre potreby dokladovania oprávnenosti výdavkov v rámci projektu. Zvyšné údaje v Štvrťročnom výkaze o práci v školstve (Škol MŠVVaŠ SR 1-04) je povinný subjekt vyplniť v zmysle pokynov Ministerstva školstva, vedy, výskumu a športu SR platné pre dané vykazovan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Usmernenie pre prijímateľov k predkladaniu Štvrťročnej správy o činnosti v rámci štandardnej stupnice jednotkových nákladov pre pracovné pozície - pedagogický asistent, inkluzívny tím a asistent učiteľa pre žiakov so zdravotným znevýhodnením  (</a:t>
            </a:r>
            <a:r>
              <a:rPr b="1" lang="sk-SK" sz="1800" spc="-1" strike="noStrike">
                <a:solidFill>
                  <a:srgbClr val="0070c0"/>
                </a:solidFill>
                <a:latin typeface="Calibri"/>
              </a:rPr>
              <a:t>http://www.minedu.sk/usmernenie-pre-prijimatelov-k-predkladaniu-stvrtrocnej-spravy-o-cinnosti/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ijímateľ je povinný zasielať na Sprostredkovateľský orgán Ministerstvo školstva, vedy, výskumu a športu Slovenskej republiky raz za štvrťrok Štvrťročnú správu o činnosti. Štvrťročnú správu o činnosti predkladá prijímateľ v tlačenej forme ku každej žiadosti o platbu, v ktorej sú nárokované výdavky formou štandardnej stupnice jednotkových nákladov pedagogického asistenta, asistenta učiteľa a členov inkluzívneho tímu, ktorá je predložená na SO na zúčtovanie po uplynutí štvrťročného obdobia. V žiadostiach o platbu, ktoré sú predložené na SO mimo uvedeného obdobia Štvrťročnú správu o činnosti prijímateľ nepredkladá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Štvrťročnej správe o činnosti sú uvedené všetky činnosti, ktoré zamestnanec vykonával v danom štvrťroku za každý príslušný mesiac samostatne, popíše sa najmä práca s cieľovou skupinou. Ak relevantné ku každej činnosti sa priradí výstup formou samostatnej prílohy. Opis činnosti musí byť v súlade s činnosťami oprávnenými pre financovanie uvedenými v štandardnej stupnici jednotkových nákladov a s opisom pracovnej činnosti zamestnanc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Na základe predložených Štvrťročných správ o činnosti vykoná SO kontrolu oprávnenosti výdavkov, v prípade zistenia nezrovnalostí aj spätne za celé vykazované štvrťročné obdob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kt 24"/>
          <p:cNvGraphicFramePr/>
          <p:nvPr/>
        </p:nvGraphicFramePr>
        <p:xfrm>
          <a:off x="2987640" y="1052640"/>
          <a:ext cx="3255840" cy="48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k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052640"/>
                    <a:ext cx="3255840" cy="4898880"/>
                  </a:xfrm>
                  <a:prstGeom prst="rect">
                    <a:avLst/>
                  </a:prstGeom>
                  <a:ln w="936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kyny k vyplneniu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. V riadku Prijímateľ - uvedie sa názov prijímateľa podľa zmluvy o poskytnutí nenávratného finančného príspevku (ďalej len "zmluva o NFP"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2. V riadku Názov projektu - uvedie sa úplný názov projektu podľa zmluvy NFP, nepoužíva sa skrátený názov projekt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3. V riadku Kód ITMS ŽoP - uvedie sa kód ŽoP podľa ITMS2014+ - vyplní prijímate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4. V riadku Meno a priezvisko zamestnanca – uvedie sa meno a priezvisko fyzickej osoby, ktorá predmetnú činnosť vykonáva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5. V riadku Názov a číslo rozpočtovej položky projektu - uvedie sa názov a číslo rozpočtovej položky podľa zmluvy o NF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6. V riadku Obdobie vykonávania činnosti – uvedie sa obdobie, za ktoré sa štvrťročná správa o činnosti predkladá. Obdobie sa uvádza v nasledovnom formáte DD.MM.RRRR – DD.MM.RRR, ( napr.01.01.2017 – 31.03.201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7. V riadku Správa o činnosti - uvedú a popíšu sa činnosti, ktoré zamestnanec vykonával v danom štvrťroku, popíše sa najmä prácu s cieľovou skupinou. Ak relevantné, ku každej činnosti sa priradí výstup. Opis činností musí byť v súlade s činnosťami oprávnenými pre financovanie uvedenými v štandardnej stupnici jednotkových nákladov a s opisom pracovnej činnosti zamestnanc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8. V riadku Zoznam výstupov činnosti – uvedie sa zoznam výstupov, ktoré zamestnanec priloží ako prílohy správy. Príklady výstupov : príloha č. 1 - prezentácie a fotodokumentácia z otvorených hodín; príloha č. 2 – pedagogická dokumentácia. Zoznam príloh musí byť v súlade s popisom uvedeným v časti „Správa o činnosti“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9. V riadku Vypracoval – uvedie sa celé meno a priezvisko zamestnanca, ktorý štvrťročnú správu o činnosti vypracoval a dátum vypracovania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0. V riadku Podpis – zamestnanec, ktorý štvrťročnú správu o činnosti vypracoval sa vlastnoručne podpíše, (nie je možné použiť faximile pečiatk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1. V riadku Schválil - uvedie sa celé meno a priezvisko zamestnanca, ktorý štvrťročnú správu schválil (štatutárny zástupca školy) a dátum schválenia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2. V riadku Podpis – zamestnanec, ktorý štvrťročnú správu o činnosti schválil sa vlastnoručne podpíše, (nie je možné použiť faximile pečiatky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 súvislosti  s využívaním  štandardnej stupnice jednotkových nákladov pre pracovné pozície - pedagogický asistent, inkluzívny tím a asistent učiteľa pre žiakov so zdravotným znevýhodnení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slúži aj ako podklad pri overovaní novovytvoreného pracovného miesta na škole zapojenej do projektu. Ide o preukazovanie novovytvoreného pracovného miesta  pre pracovné pozície pedagogického asistenta, asistenta učiteľa pre žiakov so zdravotným znevýhodnením a členov inkluzívneho tímu (školský psychológ, špeciálny pedagóg, sociálny pedagóg) v rámci projektov OP Ľudské zd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ijímateľ novovytvorené pracovné pozície vo výkaze vypĺňa v riadku 0131. Overovanie bude uskutočnené porovnaním počtu uvedených pracovných pozícií pred začatím realizácie projektu a počtu pracovných pozícií po jeho spustení, t.j. budú predkladané a overované dva štvrťročné výkazy o práci v školstve výkaz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správne vyplnenie štvrťročného výkazu o práci v školstve je základným dokladom  pre priznanie nárokovaného výdavku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eva.fekova\Desktop\s.png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4978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77040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850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56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- údaje o pedagogickom asistentovi, asistentovi učiteľa pre žiakov so zdravotným znevýhodnením a členoch inkluzívneho tímu (špeciálny pedagóg, sociálny pedagóg školský psychológ) sa uvádzajú do riadku 0131 „EŠIF z RK MŠVVaŠ S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- údaje o pedagogickom asistentovi, asistentovi učiteľa pre žiakov so zdravotným znevýhodnením a členoch inkluzívneho tímu (špeciálny pedagóg, sociálny pedagóg školský psychológ) sa uvádzajú do stĺpca (priemerný evidenčný počet zamestnancov“ (t.j. zahrnú sa do prepočítaného stavu) - pedagogický asistent, asistent učiteľa pre žiakov so zdravotným znevýhodnením sa uvedú medzi pedagogických zamestnancov; členia inkluzívneho tímu (špeciálny pedagóg, sociálny pedagóg školský psychológ) sa uvedú medzi odborných zamestnancov (relevantný stĺpec č. 1,2,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údaje o pedagogickom asistentovi, asistentovi učiteľa pre žiakov so zdravotným znevýhodnením a členoch inkluzívneho tímu (špeciálny pedagóg, sociálny pedagóg školský psychológ) sa uvádzajú do stĺpca „evidenčný počet zamestnancov k poslednú dňu štvrťroka“  - uvedie sa počet fyzický osôb spolu (stĺpec č. 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1 - zmeny vykonané v riadku č. 0131 musia byť viditeľné aj v riadku č. 01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údaje o pedagogickom asistentovi a o  asistentovi učiteľa pre žiakov so zdravotným znevýhodnením sa uvedú do časti „EŠIF z RK MŠVVaŠ SR“ (0131)  pod písmeno B1 – pedagogickí zamestnanci (relevantný stĺpec 1,2 a 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údaje o  členoch inkluzívneho tímu (špeciálny pedagóg, sociálny pedagóg školský psychológ) sa uvedú do časti „EŠIF z RK MŠVVaŠ SR“ (0131)    pod písmeno B2 – odborní zamestnanci  (relevantný stĺpec 1,2 a 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8-09-04T08:39:03Z</cp:lastPrinted>
  <dcterms:modified xsi:type="dcterms:W3CDTF">2018-09-04T08:45:53Z</dcterms:modified>
  <cp:revision>152</cp:revision>
  <dc:subject/>
  <dc:title>Snímka 1</dc:title>
</cp:coreProperties>
</file>