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36673-94D1-4F6A-9F4B-5FAE189BB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E8AC3-7876-4775-8766-D71B12D52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6B6D6-42A7-4685-AED2-641BF00FE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01609-66AC-4ECA-9BBA-CC86F5EC5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653C1-71BE-4C1E-AA23-12CBFA771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CC07E-331D-4ABB-BC19-5008530E6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FF1EA-5E15-49A9-A359-0C5A39F62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801B9-A238-4E65-ADA6-C29A53419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7D317-16F7-4554-8250-7FEA1F5B6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A65EC-35A5-4DC6-BC72-28535FD22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1AC83-B190-44C1-8EDC-0F2A655B4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ACF56-262F-483D-9F48-DCB470AF0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C4CB-796F-42B1-BB54-80777FA8ED94}"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projektov</a:t>
            </a:r>
            <a:endParaRPr b="0" lang="en-US" sz="1500" spc="-1" strike="noStrike">
              <a:solidFill>
                <a:srgbClr val="000000"/>
              </a:solidFill>
              <a:latin typeface="Calibri"/>
            </a:endParaRPr>
          </a:p>
        </p:txBody>
      </p:sp>
      <p:sp>
        <p:nvSpPr>
          <p:cNvPr id="43" name="BlokTextu 5"/>
          <p:cNvSpPr/>
          <p:nvPr/>
        </p:nvSpPr>
        <p:spPr>
          <a:xfrm>
            <a:off x="539640" y="5805360"/>
            <a:ext cx="324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               </a:t>
            </a:r>
            <a:r>
              <a:rPr b="1" lang="sk-SK" sz="1400" spc="-1" strike="noStrike">
                <a:solidFill>
                  <a:srgbClr val="7f7f7f"/>
                </a:solidFill>
                <a:latin typeface="Calibri"/>
              </a:rPr>
              <a:t>Informačné seminá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výzva </a:t>
            </a:r>
            <a:r>
              <a:rPr b="0" lang="sk-SK" sz="1400" spc="-1" strike="noStrike">
                <a:solidFill>
                  <a:srgbClr val="7f7f7f"/>
                </a:solidFill>
                <a:latin typeface="Calibri"/>
              </a:rPr>
              <a:t>č.</a:t>
            </a:r>
            <a:r>
              <a:rPr b="0" lang="sk-SK" sz="1400" spc="-1" strike="noStrike">
                <a:solidFill>
                  <a:srgbClr val="000000"/>
                </a:solidFill>
                <a:latin typeface="Arial"/>
              </a:rPr>
              <a:t> </a:t>
            </a:r>
            <a:r>
              <a:rPr b="0" lang="sk-SK" sz="1400" spc="-1" strike="noStrike">
                <a:solidFill>
                  <a:srgbClr val="7f7f7f"/>
                </a:solidFill>
                <a:latin typeface="Calibri"/>
              </a:rPr>
              <a:t>OPLZ-PO1/2016/DOP/1.1.1-01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a:t>
            </a:r>
            <a:r>
              <a:rPr b="1" lang="sk-SK" sz="1400" spc="-1" strike="noStrike">
                <a:solidFill>
                  <a:srgbClr val="7f7f7f"/>
                </a:solidFill>
                <a:latin typeface="Calibri"/>
              </a:rPr>
              <a:t>V základnej škole úspešnejš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použitia systému zálohových platieb sa úhrada uskutočňuje z prostriedkov poskytnutej zálohovej platby. Žiadosť o zálohovú platbu prijímateľ vystaví v systéme IMS 2014+ vo verejnej časti. Prijímateľ vypracuje žiadosť o zálohovú platbu – v elektronickej a písomnej podobe. Písomnú podobu ŽoP prijímateľ predloží na SO. ŽoP pozostáva z vyplneného formuláru (definované v Systéme finančného riadenia štrukturálnych fondov a Kohézneho fondu na programové obdobie 2014-2020). Písomnú ŽoP podpísanú štatutárom prijímateľ zašle na SO, ktoré ŽoP spracuje a postúpi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písomne s doručenkou alebo elektronicky e-mailom s potvrdením doručenia a prečítania vyzve prijímateľa, aby v stanovenej lehote doplnil / zmenil žiadosť o platbu. Za vyzvanie sprostredkovateľským orgánom je možné považovať aj doručenie návrhu správy z kontroly v prípade, ak boli počas kontroly zistené nedostatk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projektový manažér SO povinný vypracovať návrh správy z kontroly s určením lehoty na podanie námietok.</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ŽoP a zašle správu z kontroly písomne s doručenkou alebo elektronicky e-mailom s potvrdením doručenia a prečítania prijímateľovi. Momentom ukončenia kontroly je zaslanie správy z kontroly.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úplne alebo sčasti akceptuje námietky podané prijímateľom,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redloží spracovanú žiadosť o zálohovú platbu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je povinný poskytnutú zálohovú platbu zúčtovať do 9 mesiacov od poskytnutia.</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v rámci zúčtovania zálohovej platby predkladá žiadosť o platbu (zúčtovanie zálohovej platby) sprostredkovateľskému orgánu elektronicky prostredníctvom ITMS2014+ aj písomne. Prijímateľ predkladá spolu so žiadosťou o platbu (zúčtovanie zálohovej platby) aj účtovné doklady (preukazujúce úhradu výdavku deklarovaného v žiadosti o platbu) a relevantnú podpornú dokumentáciu, ktorej minimálny rozsah stanovuje Systém riadenia európskych štrukturálnych a investičných fondov na programové obdobie 2014 – 2020 a Príručka pre prijímateľa.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počas spracovania žiadosti o zúčtovanie zálohovej platby nahrá v systéme ITMS 2014+ účtovné doklady v časti „účtovné doklady“ a v časti „deklarované výdavky“ priradí výdavok ku konkrétnej rozpočtovej položke – číslu rozpočtovej položky zo schváleného rozpočtu. Zároveň vypíše požadovanú výšku deklarovaného výdavk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ojektový  manažér SO vo vzťahu k žiadosti o platbu (zúčtovanie zálohovej platby) postupuje obdobne ako pri etape poskytnutia zálohovej platby. </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vykonaní administratívnej finančnej kontroly žiadosti o platbu SO žiadosť o platbu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chváli (schváli deklarované výdavky v plnej výške),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ť o platbu schváli v zníženej sume (schváli deklarované výdavky vo výške zníženej o sumu neoprávnených výdavkov),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ť o platbu schváli v zníženej sume (schváli deklarované výdavky bez deklarovaných výdavkov, ktoré sú predmetom samostatnej kontroly, resp. schváli deklarované výdavky, ktoré sú predmetom samostatnej kontroly),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lebo žiadosť o platbu zamietne bezodkladne, najneskôr však v lehote 25 pracovných dní od prijatia žiadosti o platbu od prijímateľa SO.</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vyzve písomne s doručenkou alebo elektronicky        e-mailom s potvrdením doručenia a prečítania prijímateľa, aby v stanovenej lehote doplnil / zmenil žiadosť o platbu. Za vyzvanie riadiacim orgánom je možné považovať aj doručenie návrhu správy z kontroly v prípade, ak boli počas kontroly zistené nedostatky. </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výkonu administratívnej finančnej kontroly žiadosti o platbu vykonáva v prípade potreby aj samostatnú kontrolu vyčlenenej časti deklarovaných výdavkov z predloženej žiadosti o platbu. V prípade výkonu samostatnej kontroly SO schváli deklarované výdavky, ktoré boli predmetom samostatnej kontroly v plnej výške, schváli deklarované výdavky, ktoré boli predmetom samostatnej kontroly vo výške zníženej o sumu neoprávnených výdavkov, schváli deklarované výdavky, ktoré boli predmetom samostatnej kontroly vo výške zníženej o sumu deklarovaných výdavkov, ktoré sú predmetom ďalšej samostatnej kontroly, schvaľovanie pozastaví alebo zamietne bezodkladne, najneskôr však v lehote 25 pracovných dní od prijatia žiadosti o platbu od prijímateľa.</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každom z uvedených prípadov predkladá projektový manažér SO platobnej jednotke príslušnú časť formulára žiadosti o platbu, v ktorej sa uvádza výška schválených výdavkov.</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SO povinné vypracovať návrh správy z kontroly s určením lehoty na podanie námietok. Návrh správy z kontroly  je SO povinné doručiť návrh správy z kontroly prijímateľovi (písomne s doručenkou alebo elektronicky e-mailom s potvrdením doručenia a prečítan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a zašle správu z kontroly </a:t>
            </a:r>
            <a:r>
              <a:rPr b="1" lang="cs-CZ" sz="1800" spc="-1" strike="noStrike">
                <a:solidFill>
                  <a:srgbClr val="00b050"/>
                </a:solidFill>
                <a:latin typeface="Calibri"/>
              </a:rPr>
              <a:t>písomne s doručenkou alebo elektronicky e-mailom s potvrdením doručenia a prečítania</a:t>
            </a:r>
            <a:r>
              <a:rPr b="1" lang="sk-SK" sz="1800" spc="-1" strike="noStrike">
                <a:solidFill>
                  <a:srgbClr val="00b050"/>
                </a:solidFill>
                <a:latin typeface="Calibri"/>
              </a:rPr>
              <a:t> prijímateľovi. Momentom ukončenia kontroly je zaslanie správy z kontrol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akceptuje námietky podané prijímateľom, je povinný zohľadniť opodstatnenosť týchto námietok v správe z kontroly, t.j.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doručení správy od prijímateľa SO predloží žiadosť o zúčtovanie zálohovej platby na platobnú jednotku.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naložený výdavok je v súlade s platnými všeobecne záväznými právnymi predpismi (napr. zákon  č. 18/1996 Z. z. o cenách v znení neskorších predpisov, Zákonník práce, Občiansky zákonník);</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ky sú vynaložené v súlade s cieľom prioritnej osi č. 1 Vzdelávanie OP ĽZ, na aktivitu v súlade s obsahovou stránkou projektu a sú plne v súlade s cieľmi projektu, výdavky prispievajú k dosiahnutiu plánovaných aktivít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právnenosť výdavkov začína plynúť dňom účinnosti zmluvy o poskytnutí NFP + začiatok realizácie projektu uvedený v zmluve o NFP – čl. 2 (bod 2.2);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refundácie</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ostupuje obdobne ako pri etape zúčtovania zálohovej platby.</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188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Oprávnené výdavky</a:t>
            </a:r>
            <a:endParaRPr b="0" lang="en-US" sz="3600" spc="-1" strike="noStrike">
              <a:solidFill>
                <a:srgbClr val="000000"/>
              </a:solidFill>
              <a:latin typeface="Calibri"/>
            </a:endParaRPr>
          </a:p>
        </p:txBody>
      </p:sp>
      <p:sp>
        <p:nvSpPr>
          <p:cNvPr id="83" name=""/>
          <p:cNvSpPr txBox="1"/>
          <p:nvPr/>
        </p:nvSpPr>
        <p:spPr>
          <a:xfrm>
            <a:off x="499680" y="119700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výzvy boli stanovené za oprávnené výdavky:</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910 - Jednotkové výdavky</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zjednodušené vykazovanie výdavkov (SCO) – nasledovné štandardné stupnice jednotkových nákladov:</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pedagogický asistent </a:t>
            </a:r>
            <a:r>
              <a:rPr b="1" lang="sk-SK" sz="1800" spc="-1" strike="noStrike">
                <a:solidFill>
                  <a:srgbClr val="00b050"/>
                </a:solidFill>
                <a:latin typeface="Calibri"/>
              </a:rPr>
              <a:t>- mesačné náklady na novovytvorené miesto pedagogického asistenta v materských a v základných školách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inkluzívny tím </a:t>
            </a:r>
            <a:r>
              <a:rPr b="1" lang="sk-SK" sz="1800" spc="-1" strike="noStrike">
                <a:solidFill>
                  <a:srgbClr val="00b050"/>
                </a:solidFill>
                <a:latin typeface="Calibri"/>
              </a:rPr>
              <a:t>- mesačné náklady na novovytvorené miesto školského psychológa/špeciálneho pedagóga/sociálneho pedagóga v základných školách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asistent učiteľa </a:t>
            </a:r>
            <a:r>
              <a:rPr b="1" lang="sk-SK" sz="1800" spc="-1" strike="noStrike">
                <a:solidFill>
                  <a:srgbClr val="00b050"/>
                </a:solidFill>
                <a:latin typeface="Calibri"/>
              </a:rPr>
              <a:t>- vytvorenie a obsadenie miesta asistenta učiteľa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štandardná stupnica jednotkových nákladov -</a:t>
            </a:r>
            <a:r>
              <a:rPr b="1" lang="sk-SK" sz="2400" spc="-1" strike="noStrike">
                <a:solidFill>
                  <a:srgbClr val="ff0000"/>
                </a:solidFill>
                <a:latin typeface="Calibri"/>
              </a:rPr>
              <a:t> pedagogický asistent </a:t>
            </a:r>
            <a:r>
              <a:rPr b="0" lang="sk-SK" sz="2400" spc="-1" strike="noStrike">
                <a:solidFill>
                  <a:srgbClr val="ff0000"/>
                </a:solidFill>
                <a:latin typeface="Calibri"/>
              </a:rPr>
              <a:t>- mesačné náklady na novovytvorené miesto pedagogického asistenta v materských a v základných školách II.</a:t>
            </a:r>
            <a:endParaRPr b="0" lang="en-US" sz="2400" spc="-1" strike="noStrike">
              <a:solidFill>
                <a:srgbClr val="000000"/>
              </a:solidFill>
              <a:latin typeface="Calibri"/>
            </a:endParaRPr>
          </a:p>
        </p:txBody>
      </p:sp>
      <p:sp>
        <p:nvSpPr>
          <p:cNvPr id="85" name=""/>
          <p:cNvSpPr txBox="1"/>
          <p:nvPr/>
        </p:nvSpPr>
        <p:spPr>
          <a:xfrm>
            <a:off x="499680" y="1628640"/>
            <a:ext cx="8186760" cy="43005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oprávnenými</a:t>
            </a:r>
            <a:r>
              <a:rPr b="1" lang="sk-SK" sz="1800" spc="-1" strike="noStrike">
                <a:solidFill>
                  <a:srgbClr val="00b050"/>
                </a:solidFill>
                <a:latin typeface="Calibri"/>
              </a:rPr>
              <a:t> na preplatenie v rámci jednotkovej ceny sú aj dovolenky a PN, aj mzdy pedagogických asistentov počas prázdnin</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jednotkový náklad </a:t>
            </a:r>
            <a:r>
              <a:rPr b="1" lang="sk-SK" sz="1800" spc="-1" strike="noStrike">
                <a:solidFill>
                  <a:srgbClr val="00b050"/>
                </a:solidFill>
                <a:latin typeface="Calibri"/>
              </a:rPr>
              <a:t>na tohto PA bude alikvotne prepočítaný v prípade kratšieho prac. pomeru ako aj v prípade PA bude pracovať menej ako mesiac (napr. nástup v polovici mesiaca)</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hodnotiaceho procesu žiadosti o nenávratný finančný príspevok (t.j. projektu) – odbor posudzovania projektov – už sa uskutočnilo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kontroly žiadosti o platbu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kontroly na mieste</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74320"/>
            <a:ext cx="81867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pedagogický asistent </a:t>
            </a:r>
            <a:r>
              <a:rPr b="0" lang="sk-SK" sz="2000" spc="-1" strike="noStrike">
                <a:solidFill>
                  <a:srgbClr val="ff0000"/>
                </a:solidFill>
                <a:latin typeface="Calibri"/>
              </a:rPr>
              <a:t>- mesačné náklady na novovytvorené miesto pedagogického asistenta v materských a v základných školách III</a:t>
            </a:r>
            <a:r>
              <a:rPr b="0" lang="sk-SK" sz="2000" spc="-1" strike="noStrike">
                <a:solidFill>
                  <a:srgbClr val="e46c0a"/>
                </a:solidFill>
                <a:latin typeface="Calibri"/>
              </a:rPr>
              <a:t>.</a:t>
            </a:r>
            <a:endParaRPr b="0" lang="en-US" sz="2000" spc="-1" strike="noStrike">
              <a:solidFill>
                <a:srgbClr val="000000"/>
              </a:solidFill>
              <a:latin typeface="Calibri"/>
            </a:endParaRPr>
          </a:p>
        </p:txBody>
      </p:sp>
      <p:sp>
        <p:nvSpPr>
          <p:cNvPr id="87" name=""/>
          <p:cNvSpPr txBox="1"/>
          <p:nvPr/>
        </p:nvSpPr>
        <p:spPr>
          <a:xfrm>
            <a:off x="499680" y="1125360"/>
            <a:ext cx="8186760" cy="480384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zdokladovania skutočne zamestnaných PA, ktorých mzdy sú hradené na mesačnej báze</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okumenty predkladané ako súčasť ŽoP:</a:t>
            </a:r>
            <a:endParaRPr b="0" lang="en-US" sz="1800" spc="-1" strike="noStrike">
              <a:solidFill>
                <a:srgbClr val="000000"/>
              </a:solidFill>
              <a:latin typeface="Calibri"/>
            </a:endParaRPr>
          </a:p>
          <a:p>
            <a:pPr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r>
              <a:rPr b="1" lang="sk-SK" sz="1800" spc="-1" strike="noStrike">
                <a:solidFill>
                  <a:srgbClr val="00b050"/>
                </a:solidFill>
                <a:latin typeface="Calibri"/>
              </a:rPr>
              <a:t>raz ročne - čestné prehlásenie štatutára/riaditeľa školy o celkovom počte žiakov ZŠ/veľkosti MŠ </a:t>
            </a:r>
            <a:endParaRPr b="0" lang="en-US" sz="1800" spc="-1" strike="noStrike">
              <a:solidFill>
                <a:srgbClr val="000000"/>
              </a:solidFill>
              <a:latin typeface="Calibri"/>
            </a:endParaRPr>
          </a:p>
          <a:p>
            <a:pPr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raz ročne a okamžite pri každej zmene - platná pracovná zmluva resp. jej dodatky člena pedagogického asistenta; dokument/dokumenty preukazujúce/potvrdzujúce kvalifikáciu PA; štatutárom školy potvrdený menný zoznam pedagogických asistentov a veľkosť úväzku jednotlivých pedagogických asistentov,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endParaRPr b="0" lang="en-US" sz="13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štandardná stupnica jednotkových nákladov -</a:t>
            </a:r>
            <a:r>
              <a:rPr b="1" lang="sk-SK" sz="2400" spc="-1" strike="noStrike">
                <a:solidFill>
                  <a:srgbClr val="ff0000"/>
                </a:solidFill>
                <a:latin typeface="Calibri"/>
              </a:rPr>
              <a:t> pedagogický asistent </a:t>
            </a:r>
            <a:r>
              <a:rPr b="0" lang="sk-SK" sz="2400" spc="-1" strike="noStrike">
                <a:solidFill>
                  <a:srgbClr val="ff0000"/>
                </a:solidFill>
                <a:latin typeface="Calibri"/>
              </a:rPr>
              <a:t>- mesačné náklady na novovytvorené miesto pedagogického asistenta v materských a v základných školách IV. </a:t>
            </a:r>
            <a:endParaRPr b="0" lang="en-US" sz="2400" spc="-1" strike="noStrike">
              <a:solidFill>
                <a:srgbClr val="000000"/>
              </a:solidFill>
              <a:latin typeface="Calibri"/>
            </a:endParaRPr>
          </a:p>
        </p:txBody>
      </p:sp>
      <p:sp>
        <p:nvSpPr>
          <p:cNvPr id="89" name=""/>
          <p:cNvSpPr txBox="1"/>
          <p:nvPr/>
        </p:nvSpPr>
        <p:spPr>
          <a:xfrm>
            <a:off x="499680" y="1628640"/>
            <a:ext cx="8186760" cy="4321440"/>
          </a:xfrm>
          <a:prstGeom prst="rect">
            <a:avLst/>
          </a:prstGeom>
          <a:noFill/>
          <a:ln w="0">
            <a:noFill/>
          </a:ln>
        </p:spPr>
        <p:txBody>
          <a:bodyPr anchor="t">
            <a:normAutofit fontScale="96000"/>
          </a:bodyPr>
          <a:p>
            <a:pPr marL="329040" indent="-329040" algn="just">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štvrťročne </a:t>
            </a:r>
            <a:r>
              <a:rPr b="1" lang="sk-SK" sz="1800" spc="-1" strike="noStrike">
                <a:solidFill>
                  <a:srgbClr val="00b050"/>
                </a:solidFill>
                <a:latin typeface="Calibri"/>
              </a:rPr>
              <a:t>- </a:t>
            </a:r>
            <a:r>
              <a:rPr b="0" lang="sk-SK" sz="1800" spc="-1" strike="noStrike">
                <a:solidFill>
                  <a:srgbClr val="00b050"/>
                </a:solidFill>
                <a:latin typeface="Calibri"/>
              </a:rPr>
              <a:t>štvrťročné správy o činnosti s výstupmi práce PA ; aktuálny Štvrťročný výkaz o práci v školstve Škol (MŠVVŠ SR) 1-04, ktorý zabezpečuje štatistické zisťovanie o zamestnanosti a čerpaní mzdových prostriedkov za oblasť regionálneho školstva</a:t>
            </a:r>
            <a:endParaRPr b="0" lang="en-US" sz="1800" spc="-1" strike="noStrike">
              <a:solidFill>
                <a:srgbClr val="000000"/>
              </a:solidFill>
              <a:latin typeface="Calibri"/>
            </a:endParaRPr>
          </a:p>
          <a:p>
            <a:pPr marL="329040" indent="-3290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Overovanie v rámci kontroly na mieste</a:t>
            </a:r>
            <a:endParaRPr b="0" lang="en-US" sz="1500" spc="-1" strike="noStrike">
              <a:solidFill>
                <a:srgbClr val="000000"/>
              </a:solidFill>
              <a:latin typeface="Calibri"/>
            </a:endParaRPr>
          </a:p>
          <a:p>
            <a:pPr marL="329040" indent="-32904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kontrolovaný subjekt predloží zoznam pedagogických asistentov pred začatím projektu a po jeho spustení.  Do úvahy bude vzatý školský rok, v ktorom projekt začal</a:t>
            </a:r>
            <a:endParaRPr b="0" lang="en-US" sz="1800" spc="-1" strike="noStrike">
              <a:solidFill>
                <a:srgbClr val="000000"/>
              </a:solidFill>
              <a:latin typeface="Calibri"/>
            </a:endParaRPr>
          </a:p>
          <a:p>
            <a:pPr marL="329040" indent="-32904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overenie činností deklarovaných v náplni práce ako aj kvalifikačných predpokladov</a:t>
            </a:r>
            <a:endParaRPr b="0" lang="en-US" sz="1800" spc="-1" strike="noStrike">
              <a:solidFill>
                <a:srgbClr val="000000"/>
              </a:solidFill>
              <a:latin typeface="Calibri"/>
            </a:endParaRPr>
          </a:p>
          <a:p>
            <a:pPr marL="329040" indent="-3290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 </a:t>
            </a:r>
            <a:endParaRPr b="0" lang="en-US" sz="1500" spc="-1" strike="noStrike">
              <a:solidFill>
                <a:srgbClr val="000000"/>
              </a:solidFill>
              <a:latin typeface="Calibri"/>
            </a:endParaRPr>
          </a:p>
          <a:p>
            <a:pPr marL="329040" indent="-3290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2599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 </a:t>
            </a:r>
            <a:r>
              <a:rPr b="1" lang="sk-SK" sz="2000" spc="-1" strike="noStrike">
                <a:solidFill>
                  <a:srgbClr val="ff0000"/>
                </a:solidFill>
                <a:latin typeface="Calibri"/>
              </a:rPr>
              <a:t>inkluzívny tím </a:t>
            </a:r>
            <a:r>
              <a:rPr b="0" lang="sk-SK" sz="2000" spc="-1" strike="noStrike">
                <a:solidFill>
                  <a:srgbClr val="ff0000"/>
                </a:solidFill>
                <a:latin typeface="Calibri"/>
              </a:rPr>
              <a:t>- mesačné náklady na novovytvorené miesto školského psychológa/špeciálneho pedagóga/sociálneho pedagóga   v základných školách I.</a:t>
            </a:r>
            <a:endParaRPr b="0" lang="en-US" sz="2000" spc="-1" strike="noStrike">
              <a:solidFill>
                <a:srgbClr val="000000"/>
              </a:solidFill>
              <a:latin typeface="Calibri"/>
            </a:endParaRPr>
          </a:p>
        </p:txBody>
      </p:sp>
      <p:sp>
        <p:nvSpPr>
          <p:cNvPr id="91" name=""/>
          <p:cNvSpPr txBox="1"/>
          <p:nvPr/>
        </p:nvSpPr>
        <p:spPr>
          <a:xfrm>
            <a:off x="468000" y="1413000"/>
            <a:ext cx="8186760" cy="4752720"/>
          </a:xfrm>
          <a:prstGeom prst="rect">
            <a:avLst/>
          </a:prstGeom>
          <a:noFill/>
          <a:ln w="0">
            <a:noFill/>
          </a:ln>
        </p:spPr>
        <p:txBody>
          <a:bodyPr anchor="t">
            <a:normAutofit/>
          </a:bodyPr>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avedenie jednotkových nákladov na inkluzívny tím ako nástoj podpory inklúzie v  základných školách, vrátane základných škôl so špeciálnymi triedami, s dôrazom na žiakov z marginalizovaných rómskych komunít a na žiakov zo sociálne znevýhodneného prostredia</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nevzťahuje sa na špeciálne školy</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inkluzívne tímy sú tvorené špeciálnym pedagógom a/alebo školským psychológom a/alebo sociálnym pedagógom</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novovytvorené pracovné miesta </a:t>
            </a:r>
            <a:r>
              <a:rPr b="0" lang="sk-SK" sz="1500" spc="-1" strike="noStrike">
                <a:solidFill>
                  <a:srgbClr val="00b050"/>
                </a:solidFill>
                <a:latin typeface="Calibri"/>
              </a:rPr>
              <a:t>nad rámec existujúcich miest v školách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definované kvalifikačné predpoklady </a:t>
            </a:r>
            <a:r>
              <a:rPr b="0" lang="sk-SK" sz="1500" spc="-1" strike="noStrike">
                <a:solidFill>
                  <a:srgbClr val="00b050"/>
                </a:solidFill>
                <a:latin typeface="Calibri"/>
              </a:rPr>
              <a:t>+ činnosti oprávnené pre financované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kľúč prideľovania  členov inkluzívneho tímu (úväzkov) – v závislosti od veľkosti ZŠ - zloženie členov inkluzívneho tímu vychádza z potrieb školy a rozhoduje o ňom škola.  V školách s väčším počtom OZ môže byť max. 1 úväzok školského psychológa, a to aj vtedy keď počet členov inluzívneho tímu je dva a viac.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Štandardná stupnica jednotkových nákladov je  </a:t>
            </a:r>
            <a:r>
              <a:rPr b="0" lang="en-GB" sz="1500" spc="-1" strike="noStrike">
                <a:solidFill>
                  <a:srgbClr val="ff0000"/>
                </a:solidFill>
                <a:latin typeface="Calibri"/>
              </a:rPr>
              <a:t>školský psychológ -   1 235 EUR/mesačne</a:t>
            </a:r>
            <a:r>
              <a:rPr b="0" lang="sk-SK" sz="1500" spc="-1" strike="noStrike">
                <a:solidFill>
                  <a:srgbClr val="ff0000"/>
                </a:solidFill>
                <a:latin typeface="Calibri"/>
              </a:rPr>
              <a:t> a </a:t>
            </a:r>
            <a:endParaRPr b="0" lang="en-US" sz="1500" spc="-1" strike="noStrike">
              <a:solidFill>
                <a:srgbClr val="000000"/>
              </a:solidFill>
              <a:latin typeface="Calibri"/>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        </a:t>
            </a:r>
            <a:r>
              <a:rPr b="0" lang="sk-SK" sz="1500" spc="-1" strike="noStrike">
                <a:solidFill>
                  <a:srgbClr val="ff0000"/>
                </a:solidFill>
                <a:latin typeface="Calibri"/>
              </a:rPr>
              <a:t>špeciály pedagóg/sociálny pedagóg –  1 440 EUR/mesačne</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ndardné stupnice jednotkových nákladov sú tvorené personálnymi výdavkami (mesačná suma hrubá mzda; odvody zamestnávateľa) a 15 % paušálnou sadzbou na nepriame výdavky z priamych personálnych výdavkov - v zmysle čl. 68 ods. 1b nariadenia č. 1303/2013.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I.</a:t>
            </a:r>
            <a:endParaRPr b="0" lang="en-US" sz="2200" spc="-1" strike="noStrike">
              <a:solidFill>
                <a:srgbClr val="000000"/>
              </a:solidFill>
              <a:latin typeface="Calibri"/>
            </a:endParaRPr>
          </a:p>
        </p:txBody>
      </p:sp>
      <p:sp>
        <p:nvSpPr>
          <p:cNvPr id="93" name=""/>
          <p:cNvSpPr txBox="1"/>
          <p:nvPr/>
        </p:nvSpPr>
        <p:spPr>
          <a:xfrm>
            <a:off x="499680" y="1599840"/>
            <a:ext cx="8186760" cy="43498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oprávnenými</a:t>
            </a:r>
            <a:r>
              <a:rPr b="0" lang="sk-SK" sz="1500" spc="-1" strike="noStrike">
                <a:solidFill>
                  <a:srgbClr val="00b050"/>
                </a:solidFill>
                <a:latin typeface="Calibri"/>
              </a:rPr>
              <a:t> na preplatenie v rámci jednotkovej ceny sú aj dovolenky a PN, aj mzdy pedagogických asistentov počas prázdnin; </a:t>
            </a:r>
            <a:endParaRPr b="0" lang="en-US" sz="1500" spc="-1" strike="noStrike">
              <a:solidFill>
                <a:srgbClr val="000000"/>
              </a:solidFill>
              <a:latin typeface="Calibri"/>
            </a:endParaRPr>
          </a:p>
          <a:p>
            <a:pPr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jednotkový náklad </a:t>
            </a:r>
            <a:r>
              <a:rPr b="0" lang="sk-SK" sz="1500" spc="-1" strike="noStrike">
                <a:solidFill>
                  <a:srgbClr val="00b050"/>
                </a:solidFill>
                <a:latin typeface="Calibri"/>
              </a:rPr>
              <a:t>na tohto PA bude alikvotne prepočítaný v prípade kratšieho prac. pomeru ako aj v prípade PA bude pracovať menej ako mesiac (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hodnotiaceho procesu žiadosti o nenávratný finančný príspevok (t.j. projektu) – odbor posudzovania projektov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kontroly žiadosti o platbu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II.</a:t>
            </a:r>
            <a:endParaRPr b="0" lang="en-US" sz="2200" spc="-1" strike="noStrike">
              <a:solidFill>
                <a:srgbClr val="000000"/>
              </a:solidFill>
              <a:latin typeface="Calibri"/>
            </a:endParaRPr>
          </a:p>
        </p:txBody>
      </p:sp>
      <p:sp>
        <p:nvSpPr>
          <p:cNvPr id="95" name=""/>
          <p:cNvSpPr txBox="1"/>
          <p:nvPr/>
        </p:nvSpPr>
        <p:spPr>
          <a:xfrm>
            <a:off x="499680" y="1413000"/>
            <a:ext cx="8186760" cy="4680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dokladovanie skutočne zamestnaných členov inkluzívneho tímu, ktorých mzdy sú hradené na mesačnej báze</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dokumenty predkladané ako súčasť ŽoP:</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 </a:t>
            </a:r>
            <a:r>
              <a:rPr b="1" lang="sk-SK" sz="1500" spc="-1" strike="noStrike">
                <a:solidFill>
                  <a:srgbClr val="00b050"/>
                </a:solidFill>
                <a:latin typeface="Calibri"/>
              </a:rPr>
              <a:t>raz ročne </a:t>
            </a:r>
            <a:r>
              <a:rPr b="0" lang="sk-SK" sz="1500" spc="-1" strike="noStrike">
                <a:solidFill>
                  <a:srgbClr val="00b050"/>
                </a:solidFill>
                <a:latin typeface="Calibri"/>
              </a:rPr>
              <a:t>-  čestné prehlásenie štatutára/riaditeľa školy o celkovom počte žiakov ZŠ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raz ročne </a:t>
            </a:r>
            <a:r>
              <a:rPr b="0" lang="sk-SK" sz="1500" spc="-1" strike="noStrike">
                <a:solidFill>
                  <a:srgbClr val="00b050"/>
                </a:solidFill>
                <a:latin typeface="Calibri"/>
              </a:rPr>
              <a:t>a okamžite pri každej zmene - platná pracovná zmluva resp. jej dodatky člena inkluzívneho tímu; dokument/dokumenty preukazujúce/potvrdzujúce kvalifikáciu člena/členov inkluzívneho tímu; štatutárom školy potvrdený menný zoznam členov inkluzívneho tímu a veľkosť  úväzku jednotlivých členov inkluzívneho tímu,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500" spc="-1" strike="noStrike">
              <a:solidFill>
                <a:srgbClr val="000000"/>
              </a:solidFill>
              <a:latin typeface="Calibri"/>
            </a:endParaRPr>
          </a:p>
          <a:p>
            <a:pPr algn="just">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V.</a:t>
            </a:r>
            <a:endParaRPr b="0" lang="en-US" sz="2200" spc="-1" strike="noStrike">
              <a:solidFill>
                <a:srgbClr val="000000"/>
              </a:solidFill>
              <a:latin typeface="Calibri"/>
            </a:endParaRPr>
          </a:p>
        </p:txBody>
      </p:sp>
      <p:sp>
        <p:nvSpPr>
          <p:cNvPr id="97" name=""/>
          <p:cNvSpPr txBox="1"/>
          <p:nvPr/>
        </p:nvSpPr>
        <p:spPr>
          <a:xfrm>
            <a:off x="499680" y="1483920"/>
            <a:ext cx="8186760" cy="453708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štvrťročne </a:t>
            </a:r>
            <a:r>
              <a:rPr b="0" lang="sk-SK" sz="1500" spc="-1" strike="noStrike">
                <a:solidFill>
                  <a:srgbClr val="00b050"/>
                </a:solidFill>
                <a:latin typeface="Calibri"/>
              </a:rPr>
              <a:t>- štvrťročné správy o činnosti s výstupmi práce člena/členov inkluzívneho tímu ; aktuálny Štvrťročný výkaz o práci v školstve Škol (MŠVVŠ SR) 1-04, ktorý zabezpečuje štatistické zisťovanie o zamestnanosti a čerpaní mzdových prostriedkov za oblasť regionálneho školstva</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MŠVVaŠ SR ako SO overí údaje z čestného vyhlásenia o celkovom  počte žiakov z údajov Eduzber a z</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tuálneho Štvrťročného výkazu o práci v školstve Škol (MŠVVŠ SR) 1-04. Predmetom overovania bude</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j splnenie kvalifikačných predpokladov na základe platnej slovenskej legislatívy. </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na mieste</a:t>
            </a: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Nárast pozícii – t.j. či ide o novovytvorené pozície  sa bude overovať aj z porovnania údajov o počte členov inkluzívneho tímu z Edu-zberu a z aktuálneho Štvrťročného výkazu o práci v školstve Škol (MŠVVŠ SR) 1-04 . kontrolovaný subjekt predloží zoznam pedagogických asistentov pred začatím projektu a po jeho spustení.  Do úvahy bude vzatí školský rok, v ktorom projekt začal.</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verenie činností deklarovaných v náplni práce ako aj overenie kvalifikačných predpokladov</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a:t>
            </a:r>
            <a:r>
              <a:rPr b="1" lang="sk-SK" sz="2200" spc="-1" strike="noStrike">
                <a:solidFill>
                  <a:srgbClr val="ff0000"/>
                </a:solidFill>
                <a:latin typeface="Calibri"/>
              </a:rPr>
              <a:t>- asistent učiteľa </a:t>
            </a:r>
            <a:r>
              <a:rPr b="0" lang="sk-SK" sz="2200" spc="-1" strike="noStrike">
                <a:solidFill>
                  <a:srgbClr val="ff0000"/>
                </a:solidFill>
                <a:latin typeface="Calibri"/>
              </a:rPr>
              <a:t>- vytvorenie a obsadenie miesta asistenta učiteľa  I.</a:t>
            </a:r>
            <a:endParaRPr b="0" lang="en-US" sz="2200" spc="-1" strike="noStrike">
              <a:solidFill>
                <a:srgbClr val="000000"/>
              </a:solidFill>
              <a:latin typeface="Calibri"/>
            </a:endParaRPr>
          </a:p>
        </p:txBody>
      </p:sp>
      <p:sp>
        <p:nvSpPr>
          <p:cNvPr id="99" name=""/>
          <p:cNvSpPr txBox="1"/>
          <p:nvPr/>
        </p:nvSpPr>
        <p:spPr>
          <a:xfrm>
            <a:off x="499680" y="1268280"/>
            <a:ext cx="8186760" cy="4608720"/>
          </a:xfrm>
          <a:prstGeom prst="rect">
            <a:avLst/>
          </a:prstGeom>
          <a:noFill/>
          <a:ln w="0">
            <a:noFill/>
          </a:ln>
        </p:spPr>
        <p:txBody>
          <a:bodyPr anchor="t">
            <a:normAutofit/>
          </a:bodyPr>
          <a:p>
            <a:pPr marL="343080" indent="-343080" algn="just">
              <a:lnSpc>
                <a:spcPct val="150000"/>
              </a:lnSpc>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avedenie jednotkových nákladov na asistentov učiteľa (ďalej “AU”) ako nástoja integrácie žiakov so zdravotným znevýhodnením do hlavného prúdu vzdelávacieho procesu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novovytvorené pracovné miesta </a:t>
            </a:r>
            <a:r>
              <a:rPr b="0" lang="sk-SK" sz="1500" spc="-1" strike="noStrike">
                <a:solidFill>
                  <a:srgbClr val="ff0000"/>
                </a:solidFill>
                <a:latin typeface="Calibri"/>
              </a:rPr>
              <a:t>nad rámec existujúcich miest v školách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definované kvalifikačné predpoklady + činnosti oprávnené pre financované</a:t>
            </a:r>
            <a:r>
              <a:rPr b="0" lang="sk-SK" sz="1500" spc="-1" strike="noStrike">
                <a:solidFill>
                  <a:srgbClr val="ff0000"/>
                </a:solidFill>
                <a:latin typeface="Calibri"/>
              </a:rPr>
              <a:t>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kľúč prideľovania  členov inkluzívneho tímu (úväzkov) – v závislosti od veľkosti ZŠ</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kľúč prideľovania AU (úväzkov AU)</a:t>
            </a:r>
            <a:r>
              <a:rPr b="0" lang="sk-SK" sz="1500" spc="-1" strike="noStrike">
                <a:solidFill>
                  <a:srgbClr val="000000"/>
                </a:solidFill>
                <a:latin typeface="Calibri"/>
              </a:rPr>
              <a:t> na jednotlivé školy (ZŠ) – v závislosti od veľkosti školy (ZŠ)</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štandardná stupnica jednotkových nákladov je 865 EUR/mesačne </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ndardná stupnica jednotkových nákladov je normatívom na personálne výdavky asistenta učiteľa a 15 % paušálnou sadzbou na nepriame výdavky z priamych personálnych výdavkov - v zmysle čl. 68 ods. 1b nariadenia č. 1303/2013. </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právnenými na preplatenie v rámci jednotkovej ceny sú aj dovolenky a PN, aj mzdy pedagogických asistentov počas prázdnin;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jednotkový náklad </a:t>
            </a:r>
            <a:r>
              <a:rPr b="0" lang="sk-SK" sz="1500" spc="-1" strike="noStrike">
                <a:solidFill>
                  <a:srgbClr val="00b050"/>
                </a:solidFill>
                <a:latin typeface="Calibri"/>
              </a:rPr>
              <a:t>na tohto PA bude alikvotne prepočítaný v prípade kratšieho prac. pomeru ako aj v prípade PA bude </a:t>
            </a:r>
            <a:r>
              <a:rPr b="1" lang="sk-SK" sz="1500" spc="-1" strike="noStrike">
                <a:solidFill>
                  <a:srgbClr val="ff0000"/>
                </a:solidFill>
                <a:latin typeface="Calibri"/>
              </a:rPr>
              <a:t>pracovať menej ako mesiac </a:t>
            </a:r>
            <a:r>
              <a:rPr b="0" lang="sk-SK" sz="1500" spc="-1" strike="noStrike">
                <a:solidFill>
                  <a:srgbClr val="00b050"/>
                </a:solidFill>
                <a:latin typeface="Calibri"/>
              </a:rPr>
              <a:t>(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realizovaný na oprávnenom území;</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primeraný, t.j. zodpovedá obvyklým cenám v danom mieste a čase a zodpovedá potrebám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ĺňa podmienky hospodárnosti, efektívnosti a účelnos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asistent učiteľa </a:t>
            </a:r>
            <a:r>
              <a:rPr b="0" lang="sk-SK" sz="2000" spc="-1" strike="noStrike">
                <a:solidFill>
                  <a:srgbClr val="ff0000"/>
                </a:solidFill>
                <a:latin typeface="Calibri"/>
              </a:rPr>
              <a:t>- vytvorenie a obsadenie miesta asistenta učiteľa  II.</a:t>
            </a:r>
            <a:endParaRPr b="0" lang="en-US" sz="2000" spc="-1" strike="noStrike">
              <a:solidFill>
                <a:srgbClr val="000000"/>
              </a:solidFill>
              <a:latin typeface="Calibri"/>
            </a:endParaRPr>
          </a:p>
        </p:txBody>
      </p:sp>
      <p:sp>
        <p:nvSpPr>
          <p:cNvPr id="101" name=""/>
          <p:cNvSpPr txBox="1"/>
          <p:nvPr/>
        </p:nvSpPr>
        <p:spPr>
          <a:xfrm>
            <a:off x="610920" y="1197000"/>
            <a:ext cx="8186760" cy="4751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ýdavkov – bude prebiehať v 3 troch etapách</a:t>
            </a:r>
            <a:r>
              <a:rPr b="1" lang="sk-SK" sz="1400" spc="-1" strike="noStrike">
                <a:solidFill>
                  <a:srgbClr val="ff0000"/>
                </a:solidFill>
                <a:latin typeface="Calibri"/>
              </a:rPr>
              <a:t>:</a:t>
            </a:r>
            <a:endParaRPr b="0" lang="en-US" sz="14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hodnotiaceho procesu žiadosti o nenávratný finančný príspevok (t.j. projektu) – odbor posudzovania projektov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kontroly žiadosti o platbu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iadosti o platbu </a:t>
            </a: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Finančné prostriedky sú uhrádzané prijímateľovi na základe zdokladovania skutočne zamestnaných AU, ktorých mzdy sú hradené na mesačnej báze. </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rijímatelia budú ako súčasť/prílohu žiadosti o platbu predkladať – uvedené predstavuje </a:t>
            </a:r>
            <a:r>
              <a:rPr b="0" lang="sk-SK" sz="1500" spc="-1" strike="noStrike">
                <a:solidFill>
                  <a:srgbClr val="ff0000"/>
                </a:solidFill>
                <a:latin typeface="Calibri"/>
              </a:rPr>
              <a:t>podmienky preplatenia JC: </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b050"/>
                </a:solidFill>
                <a:latin typeface="Calibri"/>
              </a:rPr>
              <a:t>Raz ročne: </a:t>
            </a:r>
            <a:endParaRPr b="0" lang="en-US" sz="1400" spc="-1" strike="noStrike">
              <a:solidFill>
                <a:srgbClr val="000000"/>
              </a:solidFill>
              <a:latin typeface="Calibri"/>
            </a:endParaRPr>
          </a:p>
          <a:p>
            <a:pPr algn="just">
              <a:spcBef>
                <a:spcPts val="3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b05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lgn="just">
              <a:spcBef>
                <a:spcPts val="3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b050"/>
                </a:solidFill>
                <a:latin typeface="Calibri"/>
              </a:rPr>
              <a:t>odporúčanie centra špeciálno-pedagogického poradenstva a/alebo centra pedagogicko-psychologického poradenstva a prevencie podľa čl. 3 Metodického pokynu č. 66/2015 k postupu pri predkladaní požiadaviek na finančné prostriedky na osobné náklady asistenta učiteľa pre žiakov so zdravotným znevýhodnením (http://www.minedu.sk/15170-sk/metodicky-pokyn-c-662015-k-postupu-pri-predkladani-poziadaviek-na-financne-prostriedky-na-osobne-naklady-asistenta-ucitela-pre-ziakov-so-zdravotnym-znevyhodneni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asistent učiteľa </a:t>
            </a:r>
            <a:r>
              <a:rPr b="0" lang="sk-SK" sz="2000" spc="-1" strike="noStrike">
                <a:solidFill>
                  <a:srgbClr val="ff0000"/>
                </a:solidFill>
                <a:latin typeface="Calibri"/>
              </a:rPr>
              <a:t>- vytvorenie a obsadenie miesta asistenta učiteľa  III.</a:t>
            </a:r>
            <a:endParaRPr b="0" lang="en-US" sz="2000" spc="-1" strike="noStrike">
              <a:solidFill>
                <a:srgbClr val="000000"/>
              </a:solidFill>
              <a:latin typeface="Calibri"/>
            </a:endParaRPr>
          </a:p>
        </p:txBody>
      </p:sp>
      <p:sp>
        <p:nvSpPr>
          <p:cNvPr id="103" name=""/>
          <p:cNvSpPr txBox="1"/>
          <p:nvPr/>
        </p:nvSpPr>
        <p:spPr>
          <a:xfrm>
            <a:off x="539640" y="1268280"/>
            <a:ext cx="8229600" cy="540072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Raz ročne a okamžite pri každej zmene: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latná pracovná zmluva resp. jej dodatky asistenta učiteľa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dokument/dokumenty preukazujúce/potvrdzujúce kvalifikáciu AU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tutárom školy potvrdený menný zoznam asistentov učiteľa a veľkosť úväzku jednotlivých asistentov učiteľa, ktorých mzda v danom mesiaci je financovaná prostredníctvom JC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 </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Štvrťročne: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vrťročné správy o činnosti s výstupmi práce AU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tuálny Štvrťročný výkaz o práci v školstve Škol (MŠVVŠ SR) 1-04, ktorý zabezpečuje štatistické zisťovanie o zamestnanosti a čerpaní mzdových prostriedkov za oblasť regionálneho školstva. </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Pri každej ŽoP: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oznam žiakov, ktorí využívajú AU financovaného z projektu a zoznam žiakov, ktorí využívajú AU financovaného zo štátneho rozpočtu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asistent učiteľa </a:t>
            </a:r>
            <a:r>
              <a:rPr b="0" lang="sk-SK" sz="2000" spc="-1" strike="noStrike">
                <a:solidFill>
                  <a:srgbClr val="e46c0a"/>
                </a:solidFill>
                <a:latin typeface="Calibri"/>
              </a:rPr>
              <a:t>- vytvorenie a obsadenie miesta asistenta učiteľa  IV.</a:t>
            </a:r>
            <a:endParaRPr b="0" lang="en-US" sz="2000" spc="-1" strike="noStrike">
              <a:solidFill>
                <a:srgbClr val="000000"/>
              </a:solidFill>
              <a:latin typeface="Calibri"/>
            </a:endParaRPr>
          </a:p>
        </p:txBody>
      </p:sp>
      <p:sp>
        <p:nvSpPr>
          <p:cNvPr id="105" name="PlaceHolder 2"/>
          <p:cNvSpPr>
            <a:spLocks noGrp="1"/>
          </p:cNvSpPr>
          <p:nvPr>
            <p:ph/>
          </p:nvPr>
        </p:nvSpPr>
        <p:spPr>
          <a:xfrm>
            <a:off x="324000" y="1196640"/>
            <a:ext cx="8362800" cy="52563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Calibri"/>
              </a:rPr>
              <a:t>Overovanie počas kontroly na mieste </a:t>
            </a:r>
            <a:endParaRPr b="0" lang="en-US" sz="16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 bude overované či ide o novovytvorené pracovné miesta na škole – t.j. porovnanie bude uskutočnené na základe stavu v školskom roku v ktorom projekt začal s prihliadnutím na pozície financované na základe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skytnutých normatívnych resp. nenormatívnych finančných prostriedkov štátneho rozpočtu. Do porovnania nebudú zahrnuté pracovné pozície AU vytvorené na základe dočasných podporných programov zamestnávania (vzhľadom na ich dočasný charakter – napr. ÚPSVAR).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Na kontrole na mieste bude musieť kontrolovaný subjekt predložiť zoznam asistentov učiteľa pred začatím projektu a po jeho spustení. Do úvahy bude vzatý školský rok, v ktorom projekt začal.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redmetom kontroly bude aj na overenie činností deklarovaných v náplni práce ako aj overenie kvalifikačných predpokladov.  </a:t>
            </a:r>
            <a:endParaRPr b="0" lang="en-US" sz="1500" spc="-1" strike="noStrike">
              <a:solidFill>
                <a:srgbClr val="000000"/>
              </a:solidFill>
              <a:latin typeface="Calibri"/>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ff0000"/>
                </a:solidFill>
                <a:latin typeface="Calibri"/>
              </a:rPr>
              <a:t>Neoprávnené výdavky</a:t>
            </a:r>
            <a:endParaRPr b="0" lang="en-US" sz="4400" spc="-1" strike="noStrike">
              <a:solidFill>
                <a:srgbClr val="000000"/>
              </a:solidFill>
              <a:latin typeface="Calibri"/>
            </a:endParaRPr>
          </a:p>
        </p:txBody>
      </p:sp>
      <p:sp>
        <p:nvSpPr>
          <p:cNvPr id="107"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b050"/>
                </a:solidFill>
                <a:latin typeface="Calibri"/>
              </a:rPr>
              <a:t>všetky ostatné výdavky, ktoré nie sú uvedené v časti oprávnené výdavky – </a:t>
            </a:r>
            <a:r>
              <a:rPr b="0" lang="sk-SK" sz="2800" spc="-1" strike="noStrike">
                <a:solidFill>
                  <a:srgbClr val="ff0000"/>
                </a:solidFill>
                <a:latin typeface="Calibri"/>
              </a:rPr>
              <a:t>všetky ostatné výdavky okrem troch štandardných stupníc jednotkových nákladov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pôsob financovania</a:t>
            </a:r>
            <a:endParaRPr b="0" lang="en-US" sz="36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r>
              <a:rPr b="1" lang="sk-SK" sz="1800" spc="-1" strike="noStrike">
                <a:solidFill>
                  <a:srgbClr val="00b050"/>
                </a:solidFill>
                <a:latin typeface="Calibri"/>
              </a:rPr>
              <a:t>Prijímateľ môže použiť pri implementácii projektu systém refundácie – úhrada z vlastných finančných prostriedkov a následné nárokovanie výdavku na MŠVVaŠ SR  ako sprostredkovateľský orgán OP ĽZ (ďalej „SO“)</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lebo systém zálohových platieb.</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ôsob financovania bol pre konkrétnych prijímateľov zadefinovaný v Zmluve o poskytnutí nenávratného finančného príspevku.</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komunikuje s SO prostredníctvom systému ITMS 2014+, verejná časť.</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stup do ITMS 2014+ má každý prijímateľ, ktorému bol poskytnutý nenávratný finančný príspevok a má podpísanú Zmluvu o poskytnutí NFP k výzve „V základnej škole úspešnejší“.</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 Žiadosti o zálohovú platbu predkladá prijímateľ na SO v elektronickej a písomnej podobe vždy podľa potreby a nároku vzniku na zálohovú platbu.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zúčtovanie zálohovej platby, resp. priebežnú platbu  – prijímateľ predkladá na SO v elektronickej a písomnej podobe vždy k 15. dňu nasledujúceho mesiaca po dvojmesačnom intervale kedy má prijímateľ predložiť ŽoP.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pracovanie žiadosti o platbu je podrobne uvedené v ITMS 2014+ v časti „e-lerning“. Sú zadefinované jednotlivé kroky, ktoré je nutné urobiť, aby mohol prijímateľ vystaviť žiadosť o platbu. Súbor je zvukový, ale pre nepočujúcich je aj písomný.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Žiadosť o platbu (ŽoP) – verejná časť ITMS2014+ je prioritne určený pre prijímateľov finančných prostriedkov z Európskych štrukturálnych a investičných fondov (EŠIF). Kurz simuluje prácu v aplikácii ITMS2014+ a prevedie vás krokmi nutnými pre vypracovanie jednotlivých typov žiadosti o platbu (ŽoP).</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 </a:t>
            </a:r>
            <a:r>
              <a:rPr b="1" lang="sk-SK" sz="1800" spc="-1" strike="noStrike">
                <a:solidFill>
                  <a:srgbClr val="00b050"/>
                </a:solidFill>
                <a:latin typeface="Calibri"/>
              </a:rPr>
              <a:t>Interaktívny kurz je možné spustiť v internetových prehliadačoch Microsoft Internet Explorer, Google Chrome a Safari. Pokiaľ využívate iný prehliadač, môžete mať so spustením kurzu problém.</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Inštruktáž o ovládacích prvkoch kurzu spustíte prostredníctvom znaku  „i“  v pravom hornom rohu videa.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sun medzi jednotlivými snímkami kurzu je možný rozkliknutím tlačidla „Menu“ v pravom hornom rohu videa alebo kliknutím na znak  &gt;&gt;  v ľavom hornom rohu vide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účasťou videa je zvukový komentár, preto je potrebné mať počas jeho sledovania zapnutý zvuk. V rámci kurzu  je v pravom hornom rohu videa dostupné tlačidlo „Prepis zvukovej stopy“, ktoré slúži na zobrazenie prepisu hovoreného text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pozostáva z 9 samostatných častí, v nasledovnom odporúčanom poradí a v uvedenom trvaní:</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riebežná platba (čas trvania 25:47)</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 Predfinancovanie (čas trvania 25:31)</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oskytnutie zálohovej platby (čas trvania 26:00)</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Zúčtovanie predfinancovania (čas trvania 23:1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 Zúčtovanie zálohovej platby (čas trvania 23:37)</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Účtovné doklady (čas trvania 17:22)</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eklarované výdavky (čas trvania 19:51)</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Monitorovacie údaje (čas trvania 06:19)</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ontrola a odoslanie žiadosti (čas trvania 04:1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8-09-05T12:18:22Z</dcterms:modified>
  <cp:revision>156</cp:revision>
  <dc:subject/>
  <dc:title>Snímka 1</dc:title>
</cp:coreProperties>
</file>