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E241-36A8-4A6E-AE9B-37FD396CA9D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2641-FF01-441E-A3D6-92C989645A6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1A5A-B6EC-48C0-8C7D-39FB8F1F4A2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B49D-B83A-4C15-A03B-8816475195E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4211-1574-4CEB-84CF-80F6C426FC8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2C4B-DF1F-4868-9E89-8BC3B40241B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24E4-EACD-4088-B584-48440C628DC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čísla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9D62-324C-41D1-9493-092E01D64406}" type="slidenum">
              <a:rPr b="0" lang="sk-SK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51B4-1821-49AD-8D7B-CE0E047A031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404A-9FC6-42BB-B8C3-213E8C05376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D944-A464-4D06-98F4-EC4D431D016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8786-C05D-4015-95DF-0B665999F51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6D47-F192-4EB4-8C2E-3E70B64D072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F12E-15BA-4DAD-A71C-544320A6766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CF6D-3B9A-4825-BFBF-9FC3B062550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0197-188E-4E5B-9977-EAC08E11296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A8A6-3B52-4199-A4FC-3B67C1BB708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6B4-2348-445F-B3EF-7B741AF0FC7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56C-E371-4EAD-9B6D-C6B9F1CC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83E-3798-485A-8F75-0DB19E4B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9F4-9F86-4617-9254-2DB00F31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770-63C4-4354-BC84-DB4F2E02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266-4FD7-4BFC-9A83-243FFF37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5E7-DD94-4B19-B953-5BBC5D87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012-78CF-4770-9004-07A9EFB0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BC6-03C9-4DB4-8E5F-F20BF401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E50-A9C2-4C60-AD44-0266EB12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90F-2D5E-4070-88AB-189C8F63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597-3361-43D9-B7FC-5C97FB2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957-7A92-4A79-9A3A-2740EEDC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F8C3-4F2A-46AC-AF72-769892D32B5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 - implementá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projekto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BlokTextu 5"/>
          <p:cNvSpPr/>
          <p:nvPr/>
        </p:nvSpPr>
        <p:spPr>
          <a:xfrm>
            <a:off x="539640" y="5805360"/>
            <a:ext cx="32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               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nformačné seminá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ýzva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č.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OPLZ-PO1/2016/DOP/1.1.1-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„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 základnej škole úspešnejš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– riadok 0131 pod písmenom A je súčtový a uvádza kumulatívne všetkých pedagogických asistentov (B1) a členov inkluzívneho tímu (B2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právne vyplnené uvedené údaje sú nevyhnutné pre potreby dokladovania oprávnenosti výdavkov v rámci projektu. Zvyšné údaje v Štvrťročnom výkaze o práci v školstve (Škol MŠVVaŠ SR 1-04) je povinný subjekt vyplniť v zmysle pokynov Ministerstva školstva, vedy, výskumu a športu SR platné pre dané vykazovan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Usmernenie pre prijímateľov k predkladaniu Štvrťročnej správy o činnosti v rámci štandardnej stupnice jednotkových nákladov pre pracovné pozície - pedagogický asistent, inkluzívny tím a asistent učiteľa pre žiakov so zdravotným znevýhodnením  (</a:t>
            </a:r>
            <a:r>
              <a:rPr b="1" lang="sk-SK" sz="1800" spc="-1" strike="noStrike">
                <a:solidFill>
                  <a:srgbClr val="0070c0"/>
                </a:solidFill>
                <a:latin typeface="Calibri"/>
              </a:rPr>
              <a:t>http://www.minedu.sk/usmernenie-pre-prijimatelov-k-predkladaniu-stvrtrocnej-spravy-o-cinnosti/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je povinný zasielať na Sprostredkovateľský orgán Ministerstvo školstva, vedy, výskumu a športu Slovenskej republiky raz za štvrťrok Štvrťročnú správu o činnosti. Štvrťročnú správu o činnosti predkladá prijímateľ v tlačenej forme ku každej žiadosti o platbu, v ktorej sú nárokované výdavky formou štandardnej stupnice jednotkových nákladov pedagogického asistenta, asistenta učiteľa a členov inkluzívneho tímu, ktorá je predložená na SO na zúčtovanie po uplynutí štvrťročného obdobia. V žiadostiach o platbu, ktoré sú predložené na SO mimo uvedeného obdobia Štvrťročnú správu o činnosti prijímateľ nepredkladá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Štvrťročnej správe o činnosti sú uvedené všetky činnosti, ktoré zamestnanec vykonával v danom štvrťroku za každý príslušný mesiac samostatne, popíše sa najmä práca s cieľovou skupinou. Ak relevantné ku každej činnosti sa priradí výstup formou samostatnej prílohy. Opis činnosti musí byť v súlade s činnosťami oprávnenými pre financovanie uvedenými v štandardnej stupnici jednotkových nákladov a s opisom pracovnej činnosti zamestnan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a základe predložených Štvrťročných správ o činnosti vykoná SO kontrolu oprávnenosti výdavkov, v prípade zistenia nezrovnalostí aj spätne za celé vykazované štvrťročné obdob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kt 24"/>
          <p:cNvGraphicFramePr/>
          <p:nvPr/>
        </p:nvGraphicFramePr>
        <p:xfrm>
          <a:off x="2987640" y="1052640"/>
          <a:ext cx="3255840" cy="48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k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052640"/>
                    <a:ext cx="3255840" cy="489888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kyny k vyplneniu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4. V riadku Meno a priezvisko zamestnanca – uvedie sa meno a priezvisko fyzickej osoby, ktorá predmetnú činnosť vykonáv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5. V riadku Názov a číslo rozpočtovej položky projektu - uvedie sa názov a číslo rozpočtovej položky podľa zmluvy o NF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6. V riadku Obdobie vykonávania činnosti – uvedie sa obdobie, za ktoré sa štvrťročná správa o činnosti predkladá. Obdobie sa uvádza v nasledovnom formáte DD.MM.RRRR – DD.MM.RRR, ( napr.01.01.2017 – 31.03.201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7. V riadku Správa o činnosti - uvedú a popíšu sa činnosti, ktoré zamestnanec vykonával v danom štvrťroku, popíše sa najmä prácu s cieľovou skupinou. Ak relevantné, ku každej činnosti sa priradí výstup. Opis činností musí byť v súlade s činnosťami oprávnenými pre financovanie uvedenými v štandardnej stupnici jednotkových nákladov a s opisom pracovnej činnosti zamestnan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8. V riadku Zoznam výstupov činnosti – uvedie sa zoznam výstupov, ktoré zamestnanec priloží ako prílohy správy. Príklady výstupov : príloha č. 1 - prezentácie a fotodokumentácia z otvorených hodín; príloha č. 2 – pedagogická dokumentácia. Zoznam príloh musí byť v súlade s popisom uvedeným v časti „Správa o činnosti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 súvislosti  s využívaním  štandardnej stupnice jednotkových nákladov pre pracovné pozície - pedagogický asistent, inkluzívny tím a asistent učiteľa pre žiakov so zdravotným znevýhodnení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lúži aj ako podklad pri overovaní novovytvoreného pracovného miesta na škole zapojenej do projektu. Ide o preukazovanie novovytvoreného pracovného miesta  pre pracovné pozície pedagogického asistenta, asistenta učiteľa pre žiakov so zdravotným znevýhodnením a členov inkluzívneho tímu (školský psychológ, špeciálny pedagóg, sociálny pedagóg) v rámci projektov OP Ľudské zd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novovytvorené pracovné pozície vo výkaze vypĺňa v riadku 0131. Overovanie bude uskutočnené porovnaním počtu uvedených pracovných pozícií pred začatím realizácie projektu a počtu pracovných pozícií po jeho spustení, t.j. budú predkladané a overované dva štvrťročné výkazy o práci v školstve výkaz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právne vyplnenie štvrťročného výkazu o práci v školstve je základným dokladom  pre priznanie nárokovaného výdavku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eva.fekova\Desktop\s.png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978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7704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56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riadku 0131 „EŠIF z RK MŠVVaŠ S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stĺpca (priemerný evidenčný počet zamestnancov“ (t.j. zahrnú sa do prepočítaného stavu) - pedagogický asistent, asistent učiteľa pre žiakov so zdravotným znevýhodnením sa uvedú medzi pedagogických zamestnancov; členia inkluzívneho tímu (špeciálny pedagóg, sociálny pedagóg školský psychológ) sa uvedú medzi odborných zamestnancov (relevantný stĺpec č. 1,2,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údaje o pedagogickom asistentovi, asistentovi učiteľa pre žiakov so zdravotným znevýhodnením a členoch inkluzívneho tímu (špeciálny pedagóg, sociálny pedagóg školský psychológ) sa uvádzajú do stĺpca „evidenčný počet zamestnancov k poslednú dňu štvrťroka“  - uvedie sa počet fyzický osôb spolu (stĺpec č. 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1 - zmeny vykonané v riadku č. 0131 musia byť viditeľné aj v riadku č. 01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pedagogickom asistentovi a o  asistentovi učiteľa pre žiakov so zdravotným znevýhodnením sa uvedú do časti „EŠIF z RK MŠVVaŠ SR“ (0131)  pod písmeno B1 – pedagogickí zamestnanci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 členoch inkluzívneho tímu (špeciálny pedagóg, sociálny pedagóg školský psychológ) sa uvedú do časti „EŠIF z RK MŠVVaŠ SR“ (0131)    pod písmeno B2 – odborní zamestnanci 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8-09-04T08:39:03Z</cp:lastPrinted>
  <dcterms:modified xsi:type="dcterms:W3CDTF">2018-09-04T08:45:53Z</dcterms:modified>
  <cp:revision>152</cp:revision>
  <dc:subject/>
  <dc:title>Snímka 1</dc:title>
</cp:coreProperties>
</file>