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5534-28F9-431A-9FCD-D5F865C26FE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ástupný objekt pre číslo snímky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F068-8C23-4CC0-93FC-30B68BA3EDA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7C8-9EF4-4658-BB0E-4B42CCB5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C29-3BAA-4781-ADC2-612CDCCA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C48-520D-4028-AFF0-6D20B7B0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FD3-A21D-4EBB-9364-CBBD5AF6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02D-6978-4E26-9CAF-7F2FAB56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0C2-282A-4377-B431-B1BB22E8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9C1-0433-49FA-9E52-0F1F73C5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F72-FAD4-4DEB-95A8-4BF1ED09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EAB-F3F7-47B2-AADE-570D827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F9C-CA58-48D8-A509-96F39CE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6DC-D8E5-4590-AF8F-89925C40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867-E386-4274-B1EC-6601257C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1F57-4A55-4BF6-9C60-67C77A270F27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BlokTextu 5"/>
          <p:cNvSpPr/>
          <p:nvPr/>
        </p:nvSpPr>
        <p:spPr>
          <a:xfrm>
            <a:off x="250920" y="5769000"/>
            <a:ext cx="32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Výzva "Podpora zlepšovania študijných výsledkov a kompetencií žiakov" - OPLZ-PO1/2019/DOP/1.1.1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Oprávnené výdavky prijímateľ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ersonálne výdavky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– výdavky  vzniknuté na základe pracovnoprávnych vzťahov alebo obdobných vzťahov (napr. zákonník práce, zákon o štátnej službe.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) koordinačné čin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b) odborné čin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2.   Paušálna sadzba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a pokrytie zostávajúcich oprávnených nákladov na  operáciu/projekt 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o výške 40 % oprávnených priamych nákladov na zamestnancov.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riamymi personálnymi výdavkami sú interné personálne výdavky (t.j. ekon. klasifikácia 610620 – pracovný pomer; ekon. klasifikácia 637027 – dohody zamestnancov mimo pracovného pomeru a    k nim súvisiace/prislúchajúce odvody – ekon. klasifikácia 610620 resp. zo skupiny výdavkov 521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Preukazovanie oprávnenosti výdavkov – personálne výdavk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žadovaná dokumentácia v zmysle Príručky pre prijímateľ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racovná zmluva, resp. vymenovanie do štátnej služby spolu s náplňou práce/dohoda o vykonaní práce, resp. iná dohoda v zmysle Zákonníka prá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racovný výkaz a kumulatívny mesačný výkaz práce (prílohy č. 3a a 3b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zdový list, resp. výplatná pás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pôsob výpočtu oprávnenej výšky výdavku (ak relevantn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bankový výp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umárny prehľad (príloha č. 11a, 11b a 11c – podľa typu organizáci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Preukazovanie oprávnenosti výdavkov – paušálna sadz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aušálna sadzba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– prijímateľ si v každej žiadosti o platbu nárokuje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40%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z predložených priamych personálnych výdavko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aušálnu sadzbu prijímateľ nedokladuje žiadnymi dokladmi. Výdavky, realizované z paušálnej sadzby musia byť v súlade s aktivitami projektu, ale nepodliehajú kontrole zo stany SO/OI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 prípade krátenia predložených výdavkov v rámci administratívnej kontroly žiadosti o platbu  je nadväzne na výsledky krátenia znížená aj nárokovaná výška paušálnej sadzb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Uzatvorenie pracovného pomeru – pracovný pomer 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/ dohoda o práci vykonávanej mimo pracovného pome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558ed5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ávisí od ekonomickej klasifikácie stanovenej v rozpočte projektu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10620 – pracovná zmlu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37027 + 610620 – dohoda o pracovnej činnosti/dohoda o vykonaní prá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atutárny zástupca školy/organizácie – projektový manažé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rozšírenie pracovnej náplne – nakoľko ide pri pracovnej pozícii projektový manažér o rovnak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. V uvedenom prípade nie je možná žiadna dohoda o práci vykonávaná mimo pracovného pomeru</a:t>
            </a: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o všeobecnosti platí, že rozšírenie pracovnej náplne je možné len v tom prípade, ak zamestnan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ykonáva rovnaký druh práce v pracovnom pomere aj práce pre projekt. V prípade, ak ide o in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, zamestnávateľ môže so zamestnancom dohodnúť niekoľko pracovných pomer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Výpočet oprávnenej mzdy pri rozšírenej pracovnej nápl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Refundácia časti mzdy zamestnanca, pri ktorej nie sú oprávnené všetky zložky mzdy, napr. dovolenka, PN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OČR apod. Oprávnený rozsah práce len podľa skutočne odpracovaných hodín pre projek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Je príprava na lektorovanie oprávnenou činnosťo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ba v prípade zamestnancov, ktorí vykonávajú vzdelávaciu činnosť v pracovnom pomer (pracovná zmluva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rozsah prípravy na vyučovanie nemôže presiahnuť polovicu hodinovej výmery vyučovania aleb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ednášania ako oprávnenej aktiv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4.     Jednotková cena stanovená v rozpočte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Jednotková cena stanovená v rozpočte projektu pri každej rozpočtovej položke je maximálna a musí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byť primeraná jednotkovej cene v organizácii. Z uvedeného dôvodu dochádza ku kráteniu mzdy aj v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ípade, ak jednotková cena stanovená v rozpočte projektu nebola prekročená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Zmena spôsobu realizácie odbornej aktiv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 odôvodnených prípadoch, vzhľadom na mimoriadnu situáciu, prijímateľ je oprávnený požiadať 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menu zmluvy o NFP a realizovať vzdelávanie aj online formou. Uvedená zmena je významnejšia zmen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ojektu a po jej schválení musí byť vypracovaný a podpísaný Dodatok k zmluve o NFP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3-05T11:31:17Z</cp:lastPrinted>
  <dcterms:modified xsi:type="dcterms:W3CDTF">2021-01-18T16:49:03Z</dcterms:modified>
  <cp:revision>205</cp:revision>
  <dc:subject/>
  <dc:title>Snímka 1</dc:title>
</cp:coreProperties>
</file>