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A22-ABBA-4999-BFC6-98C4E5D2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B4B-02F2-434A-8F2E-21CA902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35F-FD02-4515-A3BD-2AAEBFA7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2E5-F6F5-4452-B6E4-5B6BB4EB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D5BD-94A4-471F-AA73-579659EA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D48-B36E-4EF1-9A3B-B9A6300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3EE-7537-47A7-8994-236050B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650-ED51-4922-9FD6-A818307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492F-129B-4349-AE5D-4D1716A4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AE3-5554-40E4-BC8C-063B96CB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E47E-A579-4560-8389-BAD89519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FE8-FFC3-4418-B217-FE1BD4E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DF07-129C-43D0-B40A-F7B6D56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B266-A0EA-4F08-8352-ED327EF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765-3C5E-4CF6-9FFF-EE5EB548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D757-7888-466B-ACF4-5FD923B5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1BC3-5046-4498-8727-A9DE5E3D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455-77CB-45EA-8C26-A36BC249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A6C-6537-4CE0-A73E-7B0FE1E1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E5A-DA61-43C6-B4DC-13EE3EB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E93-B3EF-4EEA-AB4D-C4231DA3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EB9-095D-4344-AD90-F409C4AA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BCB-504B-4590-8BFC-6707147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613-B897-4F7D-A262-3664B60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9BBB-B218-4EF7-B9F6-F3EA5A9BBC1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2EC7-43D6-4EDB-9EF7-0C6D65C3B3CA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0000"/>
                </a:solidFill>
                <a:latin typeface="Calibri"/>
              </a:rPr>
              <a:t>Čitateľská, matematická, prírodovedná a finančná gramotnosť na gymnáz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BlokTextu 5"/>
          <p:cNvSpPr/>
          <p:nvPr/>
        </p:nvSpPr>
        <p:spPr>
          <a:xfrm>
            <a:off x="539640" y="580536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23.11.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-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íloha č. 6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redloženie aktuálneho ŠkVP školy a rámcového učebného plánu a plánovaného ŠkVP školy a rámcového učebného plá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 – na ktorú sa neuplatňuje vzdelávací poukaz a ktorá nie je realizovaná v rámci výchovného programu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pora rozvoja kľúčových kompetencií pedagogických a odborných zamestnancov vrátane oblasti jazykových a IKT zručností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finančnej gramo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Z/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amostatná aktivita Riadenie/Koordinác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Vzdelávanie OP Ľudské zd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9/11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1/1/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8/2/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elé územie Sloven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20 mil. EUR (z toho pre BSK 1,5 mil. E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na projekt 100 001 EUR- 3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ĺžka trvania projektov od 18 do 36 mesiac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ačné semináre pre žiadateľov v Bratislave (23/11/2018), Banskej Bystrici (26/11/2018), Košiciach (27/11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sobne/poštou/kurié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ožnosť využiť elektronickú schrá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škôl (potvrd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rozpočet, prieskum trhu, ŽoNFP, plán práce pedagogických klubov, životopis, doplňujúce informácie k administratívnej a prevádzkovej kapac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4.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iadenie projektu – vytypované pozície – náplň činnosti a kvalifikačné predpokla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 – hodinová sadzba učiteľa/učiteľov podľa kategórie škôl (ZŠ, SŠ) - počet hodín strávených vzdelávacími aktivitami („extra hodiny“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 – pedagogické kluby - Hodina účasti pedagogického zamestnanca na aktivitách pedagogického klub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 - vzdelávanie pedagogických a odborných zamestnancov - výdavky na 1 hodinu účasti na kontinuálnom vzdelávaní pedagogického a odborného zamestnan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eračného programu Ľudské zdroje a metodika ich uplatňova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 v zmysle čl. 105a a nasl. nariadenia Európskeho parlamentu a Rady (EÚ, Euratom) 1929/2015 z 28. októbra 2015, ktorým sa mení nariadenie (EÚ, Euratom) č. 966/2012 o rozpočtových pravidlách, ktoré sa vzťahujú na všeobecný rozpočet Ú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907920"/>
            <a:ext cx="8404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Žiadate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gymnáziá v zmysle §27 ods. 2 písm. c) zákona č. 245/2008 Z. z o výchove a vzdelávaní (školský zákon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é športové školy – študijný odbor 7451 J športové gymnázium podľa § 27 ods. 2 písm. e) zákona č. 245/2008 Z. z. o výchove a vzdelávaní (školský zák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, že je škola zaradená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ároveň nesmie byť financovaný prevažne zo súkromných zdrojov, t. j. súkromné zdroje nepredstavujú 50% a via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(príloha 1h žiadosti o NFP) – relevantné pre žiadateľov zo súkromného sektora- novovzniknuté subjekty, ktorí nemajú ukončený fiškálny ro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edloženie dokladu preukazujúceho finančné prostriedky na spolufinancova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907920"/>
            <a:ext cx="8404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Cieľové skup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ci vrátane žiakov so ŠV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a odborní zamestna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Obe cieľové skupiny sú pov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šetky aktivity vo výzve povinné (3) – aktivita na žiakov, aktivita na PZ a riadenie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asť 7 formulára žiadosti o NFP – 7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1.aktiv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, prírodovedných, matematických, environmentálnych, jazykových, IKT zručností vrátane finančnej gramotnosti vrátane podnikateľských vedomostí a ekonomického myslenia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, matematických zručností a finančnej gramo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8-12-11T07:17:02Z</dcterms:modified>
  <cp:revision>134</cp:revision>
  <dc:subject/>
  <dc:title>Snímka 1</dc:title>
</cp:coreProperties>
</file>