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3A5-83CE-4190-93A3-AB6F47D4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5F0-F148-45B1-9574-B5B0A73C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581-2864-46F8-8274-FB009B4E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FE6-32C4-4063-81AF-9E283E9A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41AA-3D9A-4B19-8E39-C91A43DA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D50B-10BE-4AE2-8B5D-F1AAACEC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F1A3-0269-47A2-A278-3E0B8A04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821F-0B8F-4344-9164-B6653789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C202-4425-4017-ADA3-F9470BE4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9CA6-6ACE-43F2-A505-A922C2C1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17B4-CC2D-4CC1-BAA3-26F49597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DEE-C0CD-479F-B8B4-622F0C25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51DC-DA58-4C86-85E5-D9AB4A45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6483-C717-497A-985C-05AFAB3F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6EE9-7C3B-49F8-9A05-40E055B7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9222-CB96-4D4B-8441-684FD0A4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322E-9E04-4510-AFF9-35CC6002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08F-9708-4C1D-ADF1-7560A653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94E-8DE7-488A-97F4-E70F4EBA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458-B94D-4E9B-BA57-980172AF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1CA-D918-4219-97BC-645D3A20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26A-F16D-4E5D-9A64-5D44D12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E96-9C64-446A-A881-21C055E7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CA0-1C95-4210-B105-FB8CD777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6319-7C31-4124-A2EE-812B5CD68E8E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B63C-DE5E-40A9-99E5-BF77CEEC5B1D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Čitateľská, matematická a prírodovedná gramotnosť v Z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BlokTextu 5"/>
          <p:cNvSpPr/>
          <p:nvPr/>
        </p:nvSpPr>
        <p:spPr>
          <a:xfrm>
            <a:off x="539640" y="580536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Starý Smokovec, 15. máj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1125360"/>
            <a:ext cx="83311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Vzdelávanie OP Ľudské zdr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7/6/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9/7/2018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(BSK – viac rozvinutý región) 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0/7/2018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(mimo BSK – menej rozvinuté regióny)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/8/2018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3.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/9/2018,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4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2/10/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Celé územie Sloven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15 mil. EUR (z toho pre BSK 1,5 mil. EU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na projekt 50 000 EUR-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Dĺžka trvania projektov od 12 do 24 mesiac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ačné semináre pre žiadateľov v Bratislave (8/6/2018), Žiline (11/6/2018), Prešove (12/6/2018), Banskej Bystrici (15/6/2018), Bratislave (22/8/2018), Žiline (23/8/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sobne/poštou/kurié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ožnosť využiť elektronickú schrá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škôl (potvrd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 a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1196640"/>
            <a:ext cx="8331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Žiadate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ákladné ško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riaďovateľ len v prípade, že ZŠ nemá právnu subjektiv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mienka, že je škola zaradená do siete škôl a školských zariad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olufinancovanie – predkladá sa formulár 1b žiadosti o N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úkromné školy – vydané Rozhodnutie o schválení s podmienkou – predloženie výkazu ziskov a strá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Cieľové skup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ci ZŠ vrátane žiakov so ŠV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í a odborní zamestna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Obe cieľové skupiny sú povin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125360"/>
            <a:ext cx="83311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šetky aktivity vo výzve povinné (3) – aktivita na žiakov, aktivita na PZ a riadenie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asť 7 formulára žiadosti o NFP – 7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1.aktiv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tvorba, inovácia, realizácia vzdelávacích programov zameraných na zvýšenie, prírodovedných, matematických, environmentálnych, jazykových, IKT zručností vrátane finančnej gramotnosti vrátane podnikateľských vedomostí a ekonomického myslenia –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 účely výzvy budú oprávnené len aktivity, ktoré sú zamerané na zvyšovanie čitateľských, prírodovedných  a matematických zručností a gramot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a/ale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vzdelávacia čin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- </a:t>
            </a: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príloha č. 6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dôvodnenie rozsahu a obsahu extra hodín, predloženie aktuálneho ŠkVP školy a rámcového učebného plánu a plánovaného ŠkVP školy a rámcového učebného plán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vzdelávacia činnosť – na ktorú sa neuplatňuje vzdelávací poukaz a ktorá nie je realizovaná v rámci výchovného programu školy (napr. školský klub det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pora rozvoja kľúčových kompetencií pedagogických a odborných zamestnancov vrátane oblasti jazykových a IKT zručností –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 účely výzvy budú oprávnené len aktivity, ktoré sú zamerané na zvyšovanie čitateľských, prírodovedných  a matematických zručností a gramot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zdelávanie PZ/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é klu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samostatná aktivita Riadenie/Koordinác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uzivatel</cp:lastModifiedBy>
  <dcterms:modified xsi:type="dcterms:W3CDTF">2018-08-22T06:41:54Z</dcterms:modified>
  <cp:revision>131</cp:revision>
  <dc:subject/>
  <dc:title>Snímka 1</dc:title>
</cp:coreProperties>
</file>