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B1AA-5B84-46D6-9F1F-2B8F5CB69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E89E-9F33-4197-B59A-C91A7C289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E5DA-69E6-4EFA-B857-0B839430D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A5D7-D391-44DF-9604-E44CC54AD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28A0A-42AA-493E-8359-63F2351BF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35CC7-18E2-456B-9E23-D9BF6AAA2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80FF5-B61C-4EAE-B8E1-33D9B3648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A8B6D-6DFB-48C2-A8BD-6401984F4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60745-8B96-4113-828C-29FF6F985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E15DC-E823-42B0-B032-9880EFA44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31AD9-D3ED-4A9A-AAAF-18F50B54F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2F43-86D9-4026-8A05-58E8181CD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5C8E7-C1EC-4C94-83F4-8BE539BFB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C0BF7-00BD-457F-A437-EA0ED0241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89DEB-52F5-4224-A95C-389AB0843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7D9B1-7789-44B2-9297-C4F5E493A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36254-04D6-4F44-8864-EB905D783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AE15-4006-4963-8F2C-D6C47F803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8D53-FCBE-485D-AC31-98ED9F608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7463-9298-471C-ABC7-527514648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0CB2-9DF4-45B8-9550-EF72163D8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2251-5998-482C-A486-BD09AA8A1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C623-34D9-40C0-BE76-5BE0E9AD3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3821-9BD0-47F0-8D88-9CD9D454B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DDAEF-7321-41D1-A0FA-321BCE6BD044}" type="slidenum">
              <a:rPr b="0" lang="sk-SK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8AAD7-F46A-42A5-948D-39672E1028A9}" type="slidenum">
              <a:rPr b="0" lang="sk-SK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428720" y="4071960"/>
            <a:ext cx="4272120" cy="137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e46c0a"/>
                </a:solidFill>
                <a:latin typeface="Calibri"/>
              </a:rPr>
              <a:t>Čitateľská, matematická a prírodovedná gramotnosť v Z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428720" y="5516640"/>
            <a:ext cx="425772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30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BlokTextu 5"/>
          <p:cNvSpPr/>
          <p:nvPr/>
        </p:nvSpPr>
        <p:spPr>
          <a:xfrm>
            <a:off x="539640" y="5805360"/>
            <a:ext cx="324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7f7f7f"/>
                </a:solidFill>
                <a:latin typeface="Calibri"/>
              </a:rPr>
              <a:t>Starý Smokovec, 15. máj 20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99680" y="274320"/>
            <a:ext cx="81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e46c0a"/>
                </a:solidFill>
                <a:latin typeface="Calibri"/>
              </a:rPr>
              <a:t>Všeobecné informáci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324000" y="1125360"/>
            <a:ext cx="833112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Výzva v rámci prioritnej osi Vzdelávanie OP Ľudské zdro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Vyhlásenie výzvy dňa 7/6/201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Otvorená výzva (systém hodnotiacich kôl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Uzávierka 1. hodnotiaceho kola </a:t>
            </a:r>
            <a:r>
              <a:rPr b="1" lang="sk-SK" sz="2400" spc="-1" strike="noStrike">
                <a:solidFill>
                  <a:srgbClr val="000000"/>
                </a:solidFill>
                <a:latin typeface="Calibri"/>
              </a:rPr>
              <a:t>9/7/2018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 (BSK – viac rozvinutý región) a </a:t>
            </a:r>
            <a:r>
              <a:rPr b="1" lang="sk-SK" sz="2400" spc="-1" strike="noStrike">
                <a:solidFill>
                  <a:srgbClr val="000000"/>
                </a:solidFill>
                <a:latin typeface="Calibri"/>
              </a:rPr>
              <a:t>10/7/2018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 (mimo BSK – menej rozvinuté regióny), 2. kolo </a:t>
            </a:r>
            <a:r>
              <a:rPr b="1" lang="sk-SK" sz="2400" spc="-1" strike="noStrike">
                <a:solidFill>
                  <a:srgbClr val="000000"/>
                </a:solidFill>
                <a:latin typeface="Calibri"/>
              </a:rPr>
              <a:t>13/8/2018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, 3.kolo </a:t>
            </a:r>
            <a:r>
              <a:rPr b="1" lang="sk-SK" sz="2400" spc="-1" strike="noStrike">
                <a:solidFill>
                  <a:srgbClr val="000000"/>
                </a:solidFill>
                <a:latin typeface="Calibri"/>
              </a:rPr>
              <a:t>13/9/2018,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4. kolo </a:t>
            </a:r>
            <a:r>
              <a:rPr b="1" lang="sk-SK" sz="2400" spc="-1" strike="noStrike">
                <a:solidFill>
                  <a:srgbClr val="000000"/>
                </a:solidFill>
                <a:latin typeface="Calibri"/>
              </a:rPr>
              <a:t>12/10/201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Celé územie Slovensk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Alokácia 15 mil. EUR (z toho pre BSK 1,5 mil. EU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Alokácia na projekt 50 000 EUR- 2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Dĺžka trvania projektov od 12 do 24 mesiaco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formačné semináre pre žiadateľov v Bratislave (8/6/2018), Žiline (11/6/2018), Prešove (12/6/2018), Banskej Bystrici (15/6/2018), Bratislave (22/8/2018), Žiline (23/8/2018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99680" y="274320"/>
            <a:ext cx="81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e46c0a"/>
                </a:solidFill>
                <a:latin typeface="Calibri"/>
              </a:rPr>
              <a:t>Predkladanie projektov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24000" y="1267920"/>
            <a:ext cx="83311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Predkladanie projektov – MŠVVaŠ SR (nie Výskumná agentúra/ASFEU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Projekty sa predkladajú cez ITMS2014+ (neplatia prístupy z minulosti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osobne/poštou/kuriér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možnosť využiť elektronickú schránk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Minimalizovanie počtu predkladaných dokumentov zo strany škôl (potvrdeni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Po predložení projektu administratívna kontrola (možnosť zaslať výzvu na doplnenie chýbajúcich náležitostí/klarifikáciu), odborné hodnotenie, vydanie Rozhodnutí o schválení/neschválení ŽoNFP, v Rozhodnutí môžu byť podmienky, uzavretie Zmluvy o poskytnutí NF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99680" y="274320"/>
            <a:ext cx="81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e46c0a"/>
                </a:solidFill>
                <a:latin typeface="Calibri"/>
              </a:rPr>
              <a:t>Oprávnení žiadatelia a cieľové skupin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24000" y="1196640"/>
            <a:ext cx="83311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 u="sng">
                <a:solidFill>
                  <a:srgbClr val="000000"/>
                </a:solidFill>
                <a:uFillTx/>
                <a:latin typeface="Calibri"/>
              </a:rPr>
              <a:t>Žiadatel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Základné škol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Zriaďovateľ len v prípade, že ZŠ nemá právnu subjektivit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Podmienka, že je škola zaradená do siete škôl a školských zariade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Spolufinancovanie – predkladá sa formulár 1b žiadosti o NF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Súkromné školy – vydané Rozhodnutie o schválení s podmienkou – predloženie výkazu ziskov a strá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 u="sng">
                <a:solidFill>
                  <a:srgbClr val="000000"/>
                </a:solidFill>
                <a:uFillTx/>
                <a:latin typeface="Calibri"/>
              </a:rPr>
              <a:t>Cieľové skupin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Žiaci ZŠ vrátane žiakov so ŠVV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Pedagogickí a odborní zamestnanc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0000"/>
                </a:solidFill>
                <a:latin typeface="Calibri"/>
              </a:rPr>
              <a:t>Obe cieľové skupiny sú povinn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99680" y="274320"/>
            <a:ext cx="81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e46c0a"/>
                </a:solidFill>
                <a:latin typeface="Calibri"/>
              </a:rPr>
              <a:t>Oprávnené aktivit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24000" y="1125360"/>
            <a:ext cx="833112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všetky aktivity vo výzve povinné (3) – aktivita na žiakov, aktivita na PZ a riadenie projekt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Časť 7 formulára žiadosti o NFP – 7.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 u="sng">
                <a:solidFill>
                  <a:srgbClr val="000000"/>
                </a:solidFill>
                <a:uFillTx/>
                <a:latin typeface="Calibri"/>
              </a:rPr>
              <a:t>1.aktivi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tvorba, inovácia, realizácia vzdelávacích programov zameraných na zvýšenie, prírodovedných, matematických, environmentálnych, jazykových, IKT zručností vrátane finančnej gramotnosti vrátane podnikateľských vedomostí a ekonomického myslenia – </a:t>
            </a:r>
            <a:r>
              <a:rPr b="1" lang="sk-SK" sz="2400" spc="-1" strike="noStrike">
                <a:solidFill>
                  <a:srgbClr val="000000"/>
                </a:solidFill>
                <a:latin typeface="Calibri"/>
              </a:rPr>
              <a:t>pre účely výzvy budú oprávnené len aktivity, ktoré sú zamerané na zvyšovanie čitateľských, prírodovedných  a matematických zručností a gramotnost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Extra hodin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0000"/>
                </a:solidFill>
                <a:latin typeface="Calibri"/>
              </a:rPr>
              <a:t>a/aleb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Mimoškolská vzdelávacia činnos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99680" y="274320"/>
            <a:ext cx="81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e46c0a"/>
                </a:solidFill>
                <a:latin typeface="Calibri"/>
              </a:rPr>
              <a:t>Oprávnené aktivit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68000" y="1483920"/>
            <a:ext cx="81867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Extra hodiny- </a:t>
            </a:r>
            <a:r>
              <a:rPr b="0" lang="sk-SK" sz="2400" spc="-1" strike="noStrike">
                <a:solidFill>
                  <a:srgbClr val="ff0000"/>
                </a:solidFill>
                <a:latin typeface="Calibri"/>
              </a:rPr>
              <a:t>príloha č. 6 výzv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Zdôvodnenie rozsahu a obsahu extra hodín, predloženie aktuálneho ŠkVP školy a rámcového učebného plánu a plánovaného ŠkVP školy a rámcového učebného plánu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Mimoškolská vzdelávacia činnosť – na ktorú sa neuplatňuje vzdelávací poukaz a ktorá nie je realizovaná v rámci výchovného programu školy (napr. školský klub detí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99680" y="274320"/>
            <a:ext cx="81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e46c0a"/>
                </a:solidFill>
                <a:latin typeface="Calibri"/>
              </a:rPr>
              <a:t>Oprávnené aktivit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8000" y="1483920"/>
            <a:ext cx="81867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podpora rozvoja kľúčových kompetencií pedagogických a odborných zamestnancov vrátane oblasti jazykových a IKT zručností – </a:t>
            </a:r>
            <a:r>
              <a:rPr b="1" lang="sk-SK" sz="2400" spc="-1" strike="noStrike">
                <a:solidFill>
                  <a:srgbClr val="000000"/>
                </a:solidFill>
                <a:latin typeface="Calibri"/>
              </a:rPr>
              <a:t>pre účely výzvy budú oprávnené len aktivity, ktoré sú zamerané na zvyšovanie čitateľských, prírodovedných  a matematických zručností a gramotnost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vzdelávanie PZ/O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pedagogické klub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Calibri"/>
              </a:rPr>
              <a:t>samostatná aktivita Riadenie/Koordinácia projekt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99680" y="2420640"/>
            <a:ext cx="81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e46c0a"/>
                </a:solidFill>
                <a:latin typeface="Calibri"/>
              </a:rPr>
              <a:t>Ďakujem za pozornosť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03T20:40:01Z</dcterms:created>
  <dc:creator>paul sly</dc:creator>
  <dc:description/>
  <dc:language>en-US</dc:language>
  <cp:lastModifiedBy>uzivatel</cp:lastModifiedBy>
  <dcterms:modified xsi:type="dcterms:W3CDTF">2018-08-22T06:41:54Z</dcterms:modified>
  <cp:revision>131</cp:revision>
  <dc:subject/>
  <dc:title>Snímka 1</dc:title>
</cp:coreProperties>
</file>