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1A3-DEDF-46B2-B75D-E8141FA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749-6846-4FA5-87FE-1F406CE8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CFE-8965-42A1-B270-5BB59186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4E6-E7AC-4CB5-8737-937E59F0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811E-BCD6-4265-A962-6FA976C2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F1D0-94F1-44E1-8689-B9CE124D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35D-825D-4625-A060-FD4FC59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633E-C0C8-47CB-939B-936E011D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6FD-0F0D-4EBB-9473-9566AAA8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C397-123E-4935-8A17-465FC1F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538-01D0-4573-8842-65E72DD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C27-3C65-4F0C-99A1-E51A1576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41C8-418E-4DF7-8A9B-DAFF6B4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4F1-B216-4A8A-9AA4-2EBF539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3F53-964A-4DAD-9D90-8E694EED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7FF4-D8B5-4B8A-86C6-5646ACAF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5114-9BD2-4C77-AF01-2695C719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620-3CED-4BDE-A247-36A39C6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4AF-776A-43AF-92A4-BF47C26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927-5D3B-4544-82A6-BC43388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0BB-091B-447B-A8E0-A86B78BD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592-C0FC-4E20-8EAD-AB7CD82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AC3-D26B-4A3B-A149-6CCAD31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9CC-7134-43A9-A617-0ED3B0B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BBB-EDFC-4BC9-BB05-47C5B306FAE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D520-687C-4F88-9022-AF5614E2588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inedu.sk/03052017-dodatok-c-2-kscheme-pomoci-de-minimis-na-podporuvzdelavania-schema-dm-32016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semp.kti2dc.sk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odpora zlepšovania študijných výsledkov a kompetencií žiakov„ kód OPLZ-PO1/2019/DOP/1.1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- Finančná situácia žiadateľa (účtovná závier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Príloha 1g formulára Žo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menej rozvinutého regiónu, t. j. všetky kraje s výnimkou BSK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rofesijných a dobrovoľných pracovníkoch s mládežou je rozhodujúce územie kraja, v rámci kt. sú zamestnaní/kraja, na ktorý sa viaže ich výkon čin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Informácie potrebné k vyhodnoteniu doplňujúceho kritéria uvedie žiadateľ vo formulári ŽoNFP (bod 7.2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1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inkluzívnosť a rovnaký prístup ku kvalitnému vzdelávaniu a zlepšiť výsledky a kompetencie detí a žia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26.07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cez schému pomoci de minimis na podporu vzdelá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9.11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 mil.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 výnimkou B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je podmienená Schémou pomoci de minimis na podporu vzdelávania (v aktuálnom znení)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nedu.sk/03052017-dodatok-c-2-kscheme-pomoci-de-minimis-na-podporuvzdelavania-schema-dm-3201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č. 9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 poskytnutia príspevku musí byť splnená v deň/dátum nadobudnutia účinnosti zmluvy o poskytnutí NFP, t. j. pomoc sa považuje za poskytnutú v okamihu, kedy prijímateľ nadobudne právny nárok na poskytnutie pomoci - deň/dátum nadobudnutia účinnosti zmluvy o poskytnutí NFP s prijímateľom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o poskytnutej pomoci de minimis - doklad preukazujúci nepresiahnutie maximálnej výšky pomoci v prípade poskytovania pomoci de minimis (príloha č. 10 výzvy), ITMS2014+ /účtovná závierka (príloha 1b ŽoNFP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S pre evidenciu a monitorovanie pomoci (IS SEMP)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semp.kti2dc.sk/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lnenie podmienok Schémy pomoci de minimis na podporu vzdelávania v aktuálnom znení (príloha č. 9 výzvy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, formulár žiadosti o výpis z registra trest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iadenie projektu 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chéma pomoci de minimis na podporu vzdelávania (v aktuálnom zne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žiadateľa o poskytnuje pomoci de mini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ezisková organizácia poskytujúca všeobecne prospešné služb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á v zmysle zákona č. 213/1997 Z. z. o neziskových organizáciách poskytujúcich všeobecne prospešné služby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občianske združeni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é v zmysle zákona č. 83/1990 Z. z. o združovaní občanov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adáci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založená v zmysle zákona č. 34/2002 Z. z. o nadáciách a o zmene Občianskeho zákonníka v znení neskorších predpisov), zapísaná v Registri zapísaná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účelové zariadenia cirkv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ľa zákona č. 308/1991 Zb. o slobode náboženskej viery a postavení cirkví a náboženských spoločností, registrované Ministerstvom kultúry Slovenskej republ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Ďalšie podmienky oprávne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deň vyhlásenia výzvy na predkladanie ŽoNFP právoplatne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zaregistrovaný aspoň 2 rok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príslušnom registri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dmet činnosti je v súlade s oprávnenými aktivitami tejto výzv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e realizátorom projektu a nebude vystupovať len ako sprostredkovate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zriaďovateľom, resp. školou a/alebo školským zariadením zaradeným do Siete škôl a školských zariadení S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ávoplatné rozhodnutie obvodného úradu v sídle kraja o registrácii spolu s predloženou zakladacou listinou vrátane štatútu, alebo nadačná listina s dňom zápisu nadácie do registra nadácií vyznačeným Ministerstvom vnútra SR, alebo stanovy s dňom registrácie vyznačeným Ministerstvom vnútra SR, alebo iné obdobné pre subjekt záväzné dokumen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Š a SŠ vrátane žiakov so ŠVV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edagogickí a odborní zamestnanci v zmysle platnej legislatív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ofesijní a dobrovoľní pracovníci s mládežou, pre účely tejto výzvy sa nimi rozumejú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ladý vedúci, mládežnícky vedúci, pracovník s mládežou, podľa zákona č. 282/2008 Z. z. o podpore práce s mládežou a o zmene a doplnení zákona č. 131/2002 Z. z. o vysokých školách a o zmene a doplnení niektorých zákonov v znení neskorších predpisov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aktivity zamerané na zlepšenie školskej úspešnosti žiakov vrátane žiakov so špeciálnymi výchovno-vzdelávacími potre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aktivity zamerané na zlepšenie školskej úspešnosti žiakov vrátane žiakov so špeciálnymi výchovno-vzdelávacími potrebami“ 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ovinná ako samostatná podaktivita bez ohľadu na to, ktoré činnosti/podaktivity bude žiadateľ realizova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8-06T06:38:17Z</dcterms:modified>
  <cp:revision>182</cp:revision>
  <dc:subject/>
  <dc:title>Snímka 1</dc:title>
</cp:coreProperties>
</file>