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A628F-942D-4975-BF36-9EE1E5D6A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A2CD8-230D-4A89-9ED9-C4392F81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CCEAF-5F11-46DC-A1CC-6125BB0CD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32301-8AD7-4DD6-8DBB-29EC0F86A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D9F7-6295-4542-8980-EED1BD89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8BF0-77E8-447C-B009-52C846E5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54CC-5847-4D2E-9E3A-0391C4A83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9914C-F5C8-4877-8FFA-20A8F649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B223D-77F5-4FD1-9A08-AAC95BEC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7E88-714C-4CAD-8532-4FEC28DFE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A079-EBAC-4711-8D30-890F9024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B4E3-73C8-4987-BF4C-893052791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973E-85C6-4D85-940C-F7F6582D4E8E}"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1.1.-01 „Podpora zlepšovania študijných výsledkov a kompetencií žiak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a:t>
            </a:r>
            <a:r>
              <a:rPr b="1" lang="sk-SK" sz="1600" spc="-1" strike="noStrike">
                <a:solidFill>
                  <a:srgbClr val="000000"/>
                </a:solidFill>
                <a:latin typeface="Calibri"/>
              </a:rPr>
              <a:t>– 0%</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zva je vyhlásená v rámci </a:t>
            </a:r>
            <a:r>
              <a:rPr b="1" lang="pl-PL" sz="1600" spc="-1" strike="noStrike">
                <a:solidFill>
                  <a:srgbClr val="000000"/>
                </a:solidFill>
                <a:latin typeface="Calibri"/>
              </a:rPr>
              <a:t>Schémy pomoci de minimis na podporu vzdelávan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umulácia minimálnej pomoci – u všetkých poskytovateľov za posledné 3 fiškálne roky nesmie prekročiť 200 000 EUR</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600" spc="-1" strike="noStrike">
                <a:solidFill>
                  <a:srgbClr val="000000"/>
                </a:solidFill>
                <a:latin typeface="Calibri"/>
              </a:rPr>
              <a:t>nesmú tvoriť podstatnú časť rozpočtu</a:t>
            </a:r>
            <a:r>
              <a:rPr b="0" lang="sk-SK" sz="1600" spc="-1" strike="noStrike">
                <a:solidFill>
                  <a:srgbClr val="000000"/>
                </a:solidFill>
                <a:latin typeface="Calibri"/>
              </a:rPr>
              <a:t>;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 </a:t>
            </a:r>
            <a:r>
              <a:rPr b="1" lang="sk-SK" sz="1600" spc="-1" strike="noStrike">
                <a:solidFill>
                  <a:srgbClr val="000000"/>
                </a:solidFill>
                <a:latin typeface="Calibri"/>
              </a:rPr>
              <a:t>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6T05:31:09Z</dcterms:modified>
  <cp:revision>144</cp:revision>
  <dc:subject/>
  <dc:title>Snímka 1</dc:title>
</cp:coreProperties>
</file>