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7E1-8FFC-46D9-85C5-BD293154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3DA-E7BC-4417-A92F-23C0BF2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214-1E79-434D-96F4-78843C61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22E-432E-4A11-AD6F-CFE97D01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A085-342B-4320-B3B8-CC7B4A0D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6A4D-4E5C-49FE-8B28-572D9F1D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8E06-C440-4341-94AD-93AD6D02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733C-0D65-4EF5-94D1-5D45D5C7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256D-BA0C-441F-9B26-4D6289BE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B618-8AD7-4C31-9F68-EAF7731D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5557-4CA3-4EFC-9B8B-12AB23D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09F-8B78-499F-83B7-EDEFBA20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226-8070-47BF-B8B2-C9091F1D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B5CC-9C17-4F3C-898B-99629953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BB2-11B4-4C8A-8ADD-DA46A76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F610-3A62-4014-BB2D-7A5D4B5B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C53B-2E65-4E44-BEF7-CE812F1D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278-0EE2-46B9-A86A-D33E8A35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0C8-421B-41A4-AD9D-2758940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48F-DFED-46F3-A6C8-2ABF6BA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433-22CA-4A02-B190-9A8578E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848-B6D6-419A-A33B-D9E5540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EF5-1BF0-4488-87C5-2C6D6B3A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746-A915-4179-B6EF-B34A83E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8012-560B-4629-803E-125EB25C952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0F2F-FA02-4A55-BE8C-C71B1ED42E1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inedu.sk/03052017-dodatok-c-2-kscheme-pomoci-de-minimis-na-podporuvzdelavania-schema-dm-32016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semp.kti2dc.sk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Výzva na predkladanie žiadostí o NFP "Podpora zlepšovania študijných výsledkov a kompetencií žiakov„ kód OPLZ-PO1/2019/DOP/1.1.1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BlokTextu 5"/>
          <p:cNvSpPr/>
          <p:nvPr/>
        </p:nvSpPr>
        <p:spPr>
          <a:xfrm>
            <a:off x="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5.08.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196640"/>
            <a:ext cx="815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mienka oprávnenosti žiadateľa (právna f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4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ánkom 71 všeobecného nariad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ôsob overenia: 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1b Doplňujúce informácie k časti 7.4 žiadosti o NFP- Finančná situácia žiadateľa (účtovná závier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ďalej len „TČ“) korupcie, TČ poškodzovania finančných záujmov Európskej únie, TČ legalizácie príjmu z trestnej činnosti, TČ založenia, zosnovania a podporovania zločineckej skupiny alebo TČ machinácie pri verejnom obstarávaní a verejnej dražb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Príloha 1g formulára ŽoN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. Podmienka, že voči žiadateľovi ktorým je právnická osoba, nemá právoplatným rozsudkom uložený trest zákazu prijímať dotácie alebo subvencie, trest zákazu prijímať pomoc a podporu poskytovanú z fondov EÚ alebo trest zákazu činnosti vo verejnom obstarávaní podľa osobitného pred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mienka oprávnenosti cieľovej skupiny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8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. Podmienka, že výdavky projektu sú oprávnené a nárokovaná výška výdavkov je oprávnená na financovanie z OP Ľ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- samostatná ppt k podmienke (výdav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4. Podmienka, že projekt je realizovaný na oprávnenom ú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právneným miestom realizácie aktivít projek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 všetky kraje menej rozvinutého regiónu, t. j. všetky kraje s výnimkou BSK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Geografická oprávnenosť žiadateľa (oprávnené miesto realizácie projektu) sa určuje prostredníctvom toho, z ktorého regiónu Slovenskej republiky pochádza cieľová skupina v projekt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žiakoch sa za rozhodujúce považuje sídlo školy, ktorej sú žiak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edagogických a odborných zamestnancoch je rozhodujúce územie kraja, v rámci ktorého sú zamestna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rofesijných a dobrovoľných pracovníkoch s mládežou je rozhodujúce územie kraja, v rámci kt. sú zamestnaní/kraja, na ktorý sa viaže ich výkon čin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5 a 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oNFP musí splniť kritériá pre výber projektov, ktoré boli schválené prostredníctvom monitorovacieho výboru pre OP ĽZ a sú prílohou č. 6 výzv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Informácie potrebné k vyhodnoteniu doplňujúceho kritéria uvedie žiadateľ vo formulári ŽoNFP (bod 7.2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2440" y="1458720"/>
            <a:ext cx="83311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č. 1 Vzdelávanie OP Ľudské zdroje, špecifický cieľ 1.1.1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Zvýšiť inkluzívnosť a rovnaký prístup ku kvalitnému vzdelávaniu a zlepšiť výsledky a kompetencie detí a žia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26.07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cez schému pomoci de minimis na podporu vzdelá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5.10.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9.11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 mil.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určená pre všetky kraje s výnimkou B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6. Podmienka relevantného spôsobu financov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tejto výzvy sa uplatňuje spôsob financovania prostredníctvom: refundácie, formou zálohových platieb, a/alebo formou kombinácie zálohových platieb a refundácie v súlade s platným Systémom finančného riadenia EŠI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oskytovaného príspevku: nenávratný finančný príspev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Táto podmienka nie je predmetom preukázania splnenia zo strany žiadateľa pri predložení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7. Podmienka neporušenia zákazu nelegálneho zamestnávania štátneho príslušníka tretej krajiny žiadateľom za obdobie 5 rokov predchádzajúcich podaniu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Čestné vyhlásenie Formulár ŽoNFP časť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je podmienená Schémou pomoci de minimis na podporu vzdelávania (v aktuálnom znení)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nedu.sk/03052017-dodatok-c-2-kscheme-pomoci-de-minimis-na-podporuvzdelavania-schema-dm-3201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č. 9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 poskytnutia príspevku musí byť splnená v deň/dátum nadobudnutia účinnosti zmluvy o poskytnutí NFP, t. j. pomoc sa považuje za poskytnutú v okamihu, kedy prijímateľ nadobudne právny nárok na poskytnutie pomoci - deň/dátum nadobudnutia účinnosti zmluvy o poskytnutí NFP s prijímateľom pomo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o poskytnutej pomoci de minimis - doklad preukazujúci nepresiahnutie maximálnej výšky pomoci v prípade poskytovania pomoci de minimis (príloha č. 10 výzvy), ITMS2014+ /účtovná závierka (príloha 1b ŽoNFP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S pre evidenciu a monitorovanie pomoci (IS SEMP)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semp.kti2dc.sk/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lnenie podmienok Schémy pomoci de minimis na podporu vzdelávania v aktuálnom znení (príloha č. 9 výzvy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9. Oprávnenosť z hľadiska súladu s 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, musí byť v súlade s horizontálnymi princípmi rovnosť mužov a žien a nediskriminácia a udržateľný rozvoj na roky 2014 – 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5 a časť 7.2) a Čestné vyhlásenie žiadateľa v ŽoNFP (bod 1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súladu s HP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0. Minimálna a maximálna výška príspev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je 2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Žiadateľ je povinný plniť podmienku minimálnej výšky príspevku do momentu poskytnutia súčinnosti podľa § 25 ods. 4 zákona o príspevku z EŠIF v prípade vydania rozhodnutia o schválení ŽoNF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11) a Rozpočet projektu s podrobným komentárom (Príloha č. 1a ŽoNF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1. Časová oprávnenosť realizácie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dĺžka na realizáciu aktivít projektu – 12 mesiac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dĺžka na realizáciu aktivít projektu je 30 mesiac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2. Podmienky poskytnutia príspevku z hľadiska definovania merateľných ukazovateľov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pre túto výzvu sú definované v prílohe č. 3 Zoznam povinných merateľných ukazovateľov projektu merateľných ukazovateľov (ďalej „MU“), vrátane ukazovateľov relevantných k HP a iných údajov tejto výzv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body 9, 10.1 a 10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3. Podmienka zákazu predloženia viacero ŽoNFP vo vzťahu k prebiehajúcemu alebo ukončenému schvaľovaciemu procesu Žo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ie je oprávnený predložiť viacero ŽoNFP v rámci tejto výzvy resp. hodnotiaceho kola tejto výzvy pre rovnaké aktivity a zároveň rovnakú cieľovú skupinu ak konanie o predmetnej ŽoNFP stále trvá resp. bolo vydané Rozhodnutie o schválení ŽoNF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o NFP v časti 15 žiadosti o 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8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052640"/>
            <a:ext cx="8331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ŽoNFP, rozpočet, doplňujúce informácie k administratívnej a prevádzkovej kapacite, prieskum trhu, plnomocenstvo, životopis, čestné vyhlásenie, formulár žiadosti o výpis z registra trest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6.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iadenie projektu – vytypované pozície – náplň činnosti a kvalifikačné pr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, ktorá je zverejnená na webovom sídle http://www.olaf.vlada.gov.sk/system-vcasneho-odhalovania-rizika-a-vylucenia-ed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chéma pomoci de minimis na podporu vzdelávania (v aktuálnom zne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žiadateľa o poskytnuje pomoci de mini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5680" y="1052640"/>
            <a:ext cx="8331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ísomná verzia osobne/poštou/kuriér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elektronická verzia – možnosť využiť elektronickú schránk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ezisková organizácia poskytujúca všeobecne prospešné služb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á v zmysle zákona č. 213/1997 Z. z. o neziskových organizáciách poskytujúcich všeobecne prospešné služby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občianske združeni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é v zmysle zákona č. 83/1990 Z. z. o združovaní občanov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adáci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založená v zmysle zákona č. 34/2002 Z. z. o nadáciách a o zmene Občianskeho zákonníka v znení neskorších predpisov), zapísaná v Registri zapísaná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účelové zariadenia cirkvi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ľa zákona č. 308/1991 Zb. o slobode náboženskej viery a postavení cirkví a náboženských spoločností, registrované Ministerstvom kultúry Slovenskej republ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Ďalšie podmienky oprávne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deň vyhlásenia výzvy na predkladanie ŽoNFP právoplatne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zaregistrovaný aspoň 2 rok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príslušnom registri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dmet činnosti je v súlade s oprávnenými aktivitami tejto výzv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e realizátorom projektu a nebude vystupovať len ako sprostredkovate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ie je zriaďovateľom, resp. školou a/alebo školským zariadením zaradeným do Siete škôl a školských zariadení S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ávoplatné rozhodnutie obvodného úradu v sídle kraja o registrácii spolu s predloženou zakladacou listinou vrátane štatútu, alebo nadačná listina s dňom zápisu nadácie do registra nadácií vyznačeným Ministerstvom vnútra SR, alebo stanovy s dňom registrácie vyznačeným Ministerstvom vnútra SR, alebo iné obdobné pre subjekt záväzné dokumen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404640"/>
            <a:ext cx="8331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Povin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ci ZŠ a SŠ vrátane žiakov so ŠVV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a/aleb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edagogickí a odborní zamestnanci v zmysle platnej legislatív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liteľ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ofesijní a dobrovoľní pracovníci s mládežou, pre účely tejto výzvy sa nimi rozumejú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ladý vedúci, mládežnícky vedúci, pracovník s mládežou, podľa zákona č. 282/2008 Z. z. o podpore práce s mládežou a o zmene a doplnení zákona č. 131/2002 Z. z. o vysokých školách a o zmene a doplnení niektorých zákonov v znení neskorších predpisov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textu OPĽZ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aktivity zamerané na zlepšenie školskej úspešnosti žiakov vrátane žiakov so špeciálnymi výchovno-vzdelávacími potre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 žiadosti o NF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adefinuje v časti 9 jednu hlavnú aktivitu priradenú k typu aktivity „aktivity zamerané na zlepšenie školskej úspešnosti žiakov vrátane žiakov so špeciálnymi výchovno-vzdelávacími potrebami“ a v časti 7.2 popíše činnosti/podaktivity v rámci hlavnej ak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052640"/>
            <a:ext cx="8259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Riadenie/koordinácia projektu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ovinná ako samostatná podaktivita bez ohľadu na to, ktoré činnosti/podaktivity bude žiadateľ realizova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môže predložiť viacero žiadostí o NFP s rovnakými oprávnenými aktivitami a súčasne rovnakou cieľovou skupinou. V prípade, ak žiadateľ predloží viacero žiadostí o NFP, ktoré porušia čo i len jednu z uvedených podmienok, budú tieto žiadosti o NFP vylúčené zo schvaľovacieho proces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9-08-06T06:38:17Z</dcterms:modified>
  <cp:revision>182</cp:revision>
  <dc:subject/>
  <dc:title>Snímka 1</dc:title>
</cp:coreProperties>
</file>