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863-6118-4502-A620-77217480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618-FD23-4F4E-A51B-84A8CAC1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226-1F79-4934-AF1E-1A235004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FB5-9557-4A74-AED5-30863B07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2F1-9E69-4683-B68A-0AD4014E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9CDB-F61D-4475-AD05-097B058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E49F-6B19-4E47-A317-326A5D87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9C5A-C250-40E4-B05B-A626019B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5C22-9198-497F-BC06-7BF8B06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F18-DB02-4E87-8E23-23D8E74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A04-F1BE-48F7-BDB8-DCA475A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2AE-7036-417E-B1CA-DDEDE36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DD9-09F8-4464-9932-D367EBB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1C3-3340-46BB-94C9-CEDD7A9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D97-5B69-4D51-8E6E-72DDA83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D33-C6C3-4D33-9CB3-9911F064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8EA-035B-4964-B7AC-76ECDE5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E72-3CF9-4EEC-85C3-21A89B6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8E8-44F8-4A8B-A753-ACCCF15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433-A9CC-47EB-9B77-67A5CB8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33D-79DA-4053-9CF7-910BB66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8FB-9039-4C0A-AD12-E135511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0EE-2C74-4A73-9346-517BEB2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D50-2A0C-4E0E-8D23-1221ECA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DAE6-F9AA-44E6-9931-02136DE2475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D7D1-92F5-4109-9CC3-9CF25706710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03052017-dodatok-c-2-kscheme-pomoci-de-minimis-na-podporuvzdelavania-schema-dm-32016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semp.kti2dc.sk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odpora zlepšovania študijných výsledkov a kompetencií žiakov„ kód OPLZ-PO1/2019/DOP/1.1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- Finančná situácia žiadateľa (účtovná závier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ríloha 1g formulára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menej rozvinutého regiónu, t. j. všetky kraje s výnimkou BSK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rofesijných a dobrovoľných pracovníkoch s mládežou je rozhodujúce územie kraja, v rámci kt. sú zamestnaní/kraja, na ktorý sa viaže ich výkon čin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Informácie potrebné k vyhodnoteniu doplňujúceho kritéria uvedie žiadateľ vo formulári ŽoNFP (bod 7.2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1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inkluzívnosť a rovnaký prístup ku kvalitnému vzdelávaniu a zlepšiť výsledky a kompetencie detí a žia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26.07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cez schému pomoci de minimis na podporu vzdelá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9.11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 mil.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 výnimkou B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je podmienená Schémou pomoci de minimis na podporu vzdelávania (v aktuálnom znení)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nedu.sk/03052017-dodatok-c-2-kscheme-pomoci-de-minimis-na-podporuvzdelavania-schema-dm-3201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č. 9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 poskytnutia príspevku musí byť splnená v deň/dátum nadobudnutia účinnosti zmluvy o poskytnutí NFP, t. j. pomoc sa považuje za poskytnutú v okamihu, kedy prijímateľ nadobudne právny nárok na poskytnutie pomoci - deň/dátum nadobudnutia účinnosti zmluvy o poskytnutí NFP s prijímateľom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o poskytnutej pomoci de minimis - doklad preukazujúci nepresiahnutie maximálnej výšky pomoci v prípade poskytovania pomoci de minimis (príloha č. 10 výzvy), ITMS2014+ /účtovná závierka (príloha 1b ŽoNFP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S pre evidenciu a monitorovanie pomoci (IS SEMP)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semp.kti2dc.sk/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lnenie podmienok Schémy pomoci de minimis na podporu vzdelávania v aktuálnom znení (príloha č. 9 výzv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, formulár žiadosti o výpis z registra trest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chéma pomoci de minimis na podporu vzdelávania (v aktuálnom zn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žiadateľa o poskytnuje pomoci de mini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ezisková organizácia poskytujúca všeobecne prospešné služb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á v zmysle zákona č. 213/1997 Z. z. o neziskových organizáciách poskytujúcich všeobecne prospešné služby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občianske združeni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é v zmysle zákona č. 83/1990 Z. z. o združovaní občanov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adáci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založená v zmysle zákona č. 34/2002 Z. z. o nadáciách a o zmene Občianskeho zákonníka v znení neskorších predpisov), zapísaná v Registri zapísaná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účelové zariadenia cirkv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ľa zákona č. 308/1991 Zb. o slobode náboženskej viery a postavení cirkví a náboženských spoločností, registrované Ministerstvom kultúry Slovenskej republ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Ďalšie podmienky oprávne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deň vyhlásenia výzvy na predkladanie ŽoNFP právoplatne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aregistrovaný aspoň 2 rok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príslušnom registri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dmet činnosti je v súlade s oprávnenými aktivitami tejto výzv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e realizátorom projektu a nebude vystupovať len ako sprostredkovate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zriaďovateľom, resp. školou a/alebo školským zariadením zaradeným do Siete škôl a školských zariadení S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ávoplatné rozhodnutie obvodného úradu v sídle kraja o registrácii spolu s predloženou zakladacou listinou vrátane štatútu, alebo nadačná listina s dňom zápisu nadácie do registra nadácií vyznačeným Ministerstvom vnútra SR, alebo stanovy s dňom registrácie vyznačeným Ministerstvom vnútra SR, alebo iné obdobné pre subjekt záväzné dokumen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Š a SŠ vrátane žiakov so ŠVV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edagogickí a odborní zamestnanci v zmysle platnej legislatív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ofesijní a dobrovoľní pracovníci s mládežou, pre účely tejto výzvy sa nimi rozumejú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ladý vedúci, mládežnícky vedúci, pracovník s mládežou, podľa zákona č. 282/2008 Z. z. o podpore práce s mládežou a o zmene a doplnení zákona č. 131/2002 Z. z. o vysokých školách a o zmene a doplnení niektorých zákonov v znení neskorších predpis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aktivity zamerané na zlepšenie školskej úspešnosti žiakov vrátane žiakov so špeciálnymi výchovno-vzdelávacími potre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aktivity zamerané na zlepšenie školskej úspešnosti žiakov vrátane žiakov so špeciálnymi výchovno-vzdelávacími potrebami“ 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ovinná ako samostatná podaktivita bez ohľadu na to, ktoré činnosti/podaktivity bude žiadateľ realizova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8-06T06:38:17Z</dcterms:modified>
  <cp:revision>182</cp:revision>
  <dc:subject/>
  <dc:title>Snímka 1</dc:title>
</cp:coreProperties>
</file>