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52DEA-0AD2-47DC-AC7E-ABA0569EE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F5704-F991-4C97-BFE7-D068F7FCC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94B4F-B68B-4BBB-8C54-101DC82A5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4C0B7-E7F6-45B9-A66E-F057440DA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8E93E-D81F-4BFA-8983-91159D22E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E3C4B-6EB0-43FB-B384-3452883E2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7FA0F-EC80-4F07-A151-371255205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00A58-5FB1-40D4-B327-498AEA6A9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6E378-CEEB-441C-A42B-85CF2D1F7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B748E-B0D8-4983-BD14-4A7AE9D1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CB18-8975-484C-A4A9-73CEC4EFD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A6EB5-EE08-4A8F-A63C-D19597162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9083-DC4D-4157-849C-510B3CC6232D}"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eks.sk/"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é seminá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9/DOP/1.2.1-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a:t>
            </a:r>
            <a:r>
              <a:rPr b="1" lang="sk-SK" sz="1200" spc="-1" strike="noStrike">
                <a:solidFill>
                  <a:srgbClr val="a6a6a6"/>
                </a:solidFill>
                <a:latin typeface="Arial"/>
              </a:rPr>
              <a:t>Prepojenie stredoškolského vzdelávania s praxo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I.</a:t>
            </a:r>
            <a:endParaRPr b="0" lang="en-US" sz="3600" spc="-1" strike="noStrike">
              <a:solidFill>
                <a:srgbClr val="000000"/>
              </a:solidFill>
              <a:latin typeface="Calibri"/>
            </a:endParaRPr>
          </a:p>
        </p:txBody>
      </p:sp>
      <p:sp>
        <p:nvSpPr>
          <p:cNvPr id="61" name=""/>
          <p:cNvSpPr txBox="1"/>
          <p:nvPr/>
        </p:nvSpPr>
        <p:spPr>
          <a:xfrm>
            <a:off x="499680" y="1052280"/>
            <a:ext cx="8186760" cy="5113080"/>
          </a:xfrm>
          <a:prstGeom prst="rect">
            <a:avLst/>
          </a:prstGeom>
          <a:noFill/>
          <a:ln w="0">
            <a:noFill/>
          </a:ln>
        </p:spPr>
        <p:txBody>
          <a:bodyPr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63" name=""/>
          <p:cNvSpPr txBox="1"/>
          <p:nvPr/>
        </p:nvSpPr>
        <p:spPr>
          <a:xfrm>
            <a:off x="468000" y="1268280"/>
            <a:ext cx="8186760" cy="489744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dávky na priame výdavky projektu - realizácia vzdelávacích a iných hlavných aktivít projektu (napr. tvorba metodík, učebných osnov) prostredníctvom vzťahov, ktoré majú odberateľsko-dodávateľský charakter – vo výške viac ako max. 10% z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taranie zariadenia/vybavenia a didaktických prostriedkov </a:t>
            </a:r>
            <a:r>
              <a:rPr b="0" lang="sk-SK" sz="1200" spc="-1" strike="noStrike" baseline="30000">
                <a:solidFill>
                  <a:srgbClr val="000000"/>
                </a:solidFill>
                <a:latin typeface="Calibri"/>
              </a:rPr>
              <a:t> </a:t>
            </a:r>
            <a:r>
              <a:rPr b="0" lang="sk-SK" sz="1200" spc="-1" strike="noStrike">
                <a:solidFill>
                  <a:srgbClr val="000000"/>
                </a:solidFill>
                <a:latin typeface="Calibri"/>
              </a:rPr>
              <a:t>(vrátane nehmotného majetku) pre hlavné aktivity projektu, ktoré presiahnu maximálne povolenú hranicu 30% z oprávnených priamych výdavkov rozpočtu (nezapočítava sa riziková prirážka);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úroky z úverov a pôžičiek;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estne poplatky, ktoré nemajú priamu väzbu na projekt;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nákup infraštruktúry, pozemku a nehnuteľ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iziková prirážka rozpočtovaná vo výške viac ako 5% oprávnených výdavkov (priamych a nepriamych výdavkov projekt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poplat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ebetné úro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záru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ratná daň z pridanej hodnot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taranie, odpisy dopravných prostriedkov (aj použitých);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ýdavky, ktoré presiahnu percentuálne výšky určené v písomnom vyzvaní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vorba sociálneho fond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euvedené v zozname oprávnených výdavko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65"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8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0" lang="sk-SK" sz="1600" spc="-1" strike="noStrike">
                <a:solidFill>
                  <a:srgbClr val="000000"/>
                </a:solidFill>
                <a:latin typeface="Calibri"/>
              </a:rPr>
              <a:t>určené na základe nákladov na zamestnancov (nariadenie 1303/2013, čl. 68 ods. 1, písm. b)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hodinová sadzba učiteľa podľa kategórie škôl (ZŠ, SŠ) – zvýšené hodiny strávené vzdelávacími aktivitami“</a:t>
            </a:r>
            <a:r>
              <a:rPr b="0" lang="sk-SK" sz="1600" spc="-1" strike="noStrike">
                <a:solidFill>
                  <a:srgbClr val="000000"/>
                </a:solidFill>
                <a:latin typeface="Calibri"/>
              </a:rPr>
              <a:t> </a:t>
            </a:r>
            <a:r>
              <a:rPr b="1" lang="sk-SK" sz="1600" spc="-1" strike="noStrike">
                <a:solidFill>
                  <a:srgbClr val="000000"/>
                </a:solidFill>
                <a:latin typeface="Calibri"/>
              </a:rPr>
              <a:t>(extra hodiny)</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pedagogické kluby</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67" name=""/>
          <p:cNvSpPr txBox="1"/>
          <p:nvPr/>
        </p:nvSpPr>
        <p:spPr>
          <a:xfrm>
            <a:off x="499680" y="1125000"/>
            <a:ext cx="8186760" cy="5472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ozpočte projektu </a:t>
            </a:r>
            <a:r>
              <a:rPr b="1" lang="sk-SK" sz="1400" spc="-1" strike="noStrike">
                <a:solidFill>
                  <a:srgbClr val="000000"/>
                </a:solidFill>
                <a:latin typeface="Calibri"/>
              </a:rPr>
              <a:t>sú dodržané základné percentuálne limity</a:t>
            </a:r>
            <a:r>
              <a:rPr b="0" lang="sk-SK" sz="1400" spc="-1" strike="noStrike">
                <a:solidFill>
                  <a:srgbClr val="000000"/>
                </a:solidFill>
                <a:latin typeface="Calibri"/>
              </a:rPr>
              <a:t> rozpočtu – t.j. limity na nepriame výdavky (15% z priamych personálnych výdavkov), riziková prirážka (do 5% oprávnených výdavkov), limit na nákup hmotného a nehmotného majetku (max. 30% z priamych výdavkov), limit na </a:t>
            </a:r>
            <a:r>
              <a:rPr b="0" lang="pl-PL" sz="1400" spc="-1" strike="noStrike">
                <a:solidFill>
                  <a:srgbClr val="000000"/>
                </a:solidFill>
                <a:latin typeface="Calibri"/>
              </a:rPr>
              <a:t>dodávky na priame výdavky projektu (max. </a:t>
            </a:r>
            <a:r>
              <a:rPr b="0" lang="sk-SK" sz="1400" spc="-1" strike="noStrike">
                <a:solidFill>
                  <a:srgbClr val="000000"/>
                </a:solidFill>
                <a:latin typeface="Calibri"/>
              </a:rPr>
              <a:t>10% z priamych výdavkov)</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9" name=""/>
          <p:cNvSpPr txBox="1"/>
          <p:nvPr/>
        </p:nvSpPr>
        <p:spPr>
          <a:xfrm>
            <a:off x="539640" y="1125360"/>
            <a:ext cx="8229600" cy="573264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iame personálne výdavky na riadenie projektu</a:t>
            </a:r>
            <a:r>
              <a:rPr b="0" lang="sk-SK" sz="1400" spc="-1" strike="noStrike">
                <a:solidFill>
                  <a:srgbClr val="000000"/>
                </a:solidFill>
                <a:latin typeface="Calibri"/>
              </a:rPr>
              <a:t> – hlavný manažér projektu (spravidla štatutárny zástupca organizácie), manažér pre publicitu, koordinátor aktivity, pracovník pre verejné obstarávanie, ekonomický personál (napr. účtovník, rozpočtár, personalista)  - zaradené </a:t>
            </a:r>
            <a:r>
              <a:rPr b="1" lang="sk-SK" sz="1400" spc="-1" strike="noStrike">
                <a:solidFill>
                  <a:srgbClr val="000000"/>
                </a:solidFill>
                <a:latin typeface="Calibri"/>
              </a:rPr>
              <a:t>do 15% paušálnej sadzby v rozpočte v časti 1 Nepriame výdavky</a:t>
            </a:r>
            <a:r>
              <a:rPr b="0" lang="sk-SK" sz="1400" spc="-1" strike="noStrike">
                <a:solidFill>
                  <a:srgbClr val="000000"/>
                </a:solidFill>
                <a:latin typeface="Calibri"/>
              </a:rPr>
              <a:t> – neuvádzajú sa v ŽoNFP v časti Administratívna a prevádzková kapacita žiadateľa zo žiadosti o NFP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hlavnou aktivitou v časti Spôsob realizácie aktivít projektu ŽoNFP </a:t>
            </a:r>
            <a:r>
              <a:rPr b="0" lang="sk-SK" sz="1400" spc="-1" strike="noStrike">
                <a:solidFill>
                  <a:srgbClr val="000000"/>
                </a:solidFill>
                <a:latin typeface="Calibri"/>
              </a:rPr>
              <a:t>(ak viac aktivít);  priradiť všetky merateľné ukazovatel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Zariadenie a vybavenie</a:t>
            </a:r>
            <a:endParaRPr b="0" lang="en-US" sz="4400" spc="-1" strike="noStrike">
              <a:solidFill>
                <a:srgbClr val="000000"/>
              </a:solidFill>
              <a:latin typeface="Calibri"/>
            </a:endParaRPr>
          </a:p>
        </p:txBody>
      </p:sp>
      <p:sp>
        <p:nvSpPr>
          <p:cNvPr id="71" name="PlaceHolder 2"/>
          <p:cNvSpPr>
            <a:spLocks noGrp="1"/>
          </p:cNvSpPr>
          <p:nvPr>
            <p:ph/>
          </p:nvPr>
        </p:nvSpPr>
        <p:spPr>
          <a:xfrm>
            <a:off x="324000" y="1052280"/>
            <a:ext cx="8362800" cy="5616360"/>
          </a:xfrm>
          <a:prstGeom prst="rect">
            <a:avLst/>
          </a:prstGeom>
          <a:noFill/>
          <a:ln w="0">
            <a:noFill/>
          </a:ln>
        </p:spPr>
        <p:txBody>
          <a:bodyPr anchor="t">
            <a:norm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je možné zaradiť vybavenie, zariadenie, výpočtovú techniku, prístroje, stroje, nehmotný majetok (napr. software, licencie), dotykové pomôcky</a:t>
            </a:r>
            <a:r>
              <a:rPr b="0" i="1" lang="sk-SK" sz="1600" spc="-1" strike="noStrike">
                <a:solidFill>
                  <a:srgbClr val="000000"/>
                </a:solidFill>
                <a:latin typeface="Calibri"/>
              </a:rPr>
              <a:t>, mapy,</a:t>
            </a:r>
            <a:r>
              <a:rPr b="0" lang="sk-SK" sz="1600" spc="-1" strike="noStrike">
                <a:solidFill>
                  <a:srgbClr val="000000"/>
                </a:solidFill>
                <a:latin typeface="Calibri"/>
              </a:rPr>
              <a:t> kostry, obrazy, nákresy, tabule, modely (trojrozmerné pomôcky, zväčšené, zmenšené, statické, dynamické), zobrazenia – plošné pomôcky (fotografie, obrazy, mapy), špeciálne pomôcky (slúžia na znázornenie javov), multimediálne pomôcky a podobne  - </a:t>
            </a:r>
            <a:r>
              <a:rPr b="1" lang="sk-SK" sz="1600" spc="-1" strike="noStrike">
                <a:solidFill>
                  <a:srgbClr val="000000"/>
                </a:solidFill>
                <a:latin typeface="Calibri"/>
              </a:rPr>
              <a:t>nevyhnutnosť pre realizáciu projektu spolufinancovaného z ESF (previazanosť na aktivity – zdôvodnenie nákupu v časti Spôsob realizácie aktivít projektu ŽoNFP)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hmotný majetok, ako napr. softvéry a IT systémy nespadajú pod definíciu infraštruktúry, považujú sa za zariadenie a vybavenie</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ardware, nábytok – zariadenie, oprávnené pre financovanie z ESF</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abeláž – považuje sa za infraštruktúru, ak sa stane stálou súčasťou zariadenia;  nie je oprávnené z ESF</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ko súčasť výdavkov súvisiacich s implementáciou projektu, ktoré musia byť v súlade so zákonom NR SR č. 595/2003 Z. z. o daniach z príjmov v znení neskorších predpisov -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statné výdavky</a:t>
            </a:r>
            <a:endParaRPr b="0" lang="en-US" sz="4400" spc="-1" strike="noStrike">
              <a:solidFill>
                <a:srgbClr val="000000"/>
              </a:solidFill>
              <a:latin typeface="Calibri"/>
            </a:endParaRPr>
          </a:p>
        </p:txBody>
      </p:sp>
      <p:sp>
        <p:nvSpPr>
          <p:cNvPr id="73"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cestovné náhrady</a:t>
            </a:r>
            <a:r>
              <a:rPr b="0" lang="sk-SK" sz="1300" spc="-1" strike="noStrike">
                <a:solidFill>
                  <a:srgbClr val="000000"/>
                </a:solidFill>
                <a:latin typeface="Calibri"/>
              </a:rPr>
              <a:t> 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300" spc="-1" strike="noStrike">
                <a:solidFill>
                  <a:srgbClr val="000000"/>
                </a:solidFill>
                <a:latin typeface="Calibri"/>
              </a:rPr>
              <a:t>spotreby pohonných hmôt</a:t>
            </a:r>
            <a:r>
              <a:rPr b="0" lang="sk-SK" sz="1300" spc="-1" strike="noStrike">
                <a:solidFill>
                  <a:srgbClr val="000000"/>
                </a:solidFill>
                <a:latin typeface="Calibri"/>
              </a:rPr>
              <a:t>, pri použití súkromného motorového vozidla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pri použití prostriedku verejnej dopravy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a:t>
            </a:r>
            <a:r>
              <a:rPr b="1" lang="sk-SK" sz="1300" spc="-1" strike="noStrike">
                <a:solidFill>
                  <a:srgbClr val="000000"/>
                </a:solidFill>
                <a:latin typeface="Calibri"/>
              </a:rPr>
              <a:t>V</a:t>
            </a:r>
            <a:r>
              <a:rPr b="0" lang="sk-SK" sz="1300" spc="-1" strike="noStrike">
                <a:solidFill>
                  <a:srgbClr val="000000"/>
                </a:solidFill>
                <a:latin typeface="Calibri"/>
              </a:rPr>
              <a:t> prípade ubytovania bude akceptovaná cena </a:t>
            </a:r>
            <a:r>
              <a:rPr b="1" lang="sk-SK" sz="1300" spc="-1" strike="noStrike">
                <a:solidFill>
                  <a:srgbClr val="000000"/>
                </a:solidFill>
                <a:latin typeface="Calibri"/>
              </a:rPr>
              <a:t>max. do výšky 60 EUR/noc/osoba za podmienky</a:t>
            </a:r>
            <a:r>
              <a:rPr b="0" lang="sk-SK" sz="1300" spc="-1" strike="noStrike">
                <a:solidFill>
                  <a:srgbClr val="000000"/>
                </a:solidFill>
                <a:latin typeface="Calibri"/>
              </a:rPr>
              <a:t>,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r>
              <a:rPr b="1" lang="sk-SK" sz="1300" spc="-1" strike="noStrike">
                <a:solidFill>
                  <a:srgbClr val="000000"/>
                </a:solidFill>
                <a:latin typeface="Calibri"/>
              </a:rPr>
              <a:t>Dodávka služieb - personálne výdavky (odborné činnosti)“</a:t>
            </a:r>
            <a:r>
              <a:rPr b="0" lang="sk-SK" sz="1300" spc="-1" strike="noStrike">
                <a:solidFill>
                  <a:srgbClr val="000000"/>
                </a:solidFill>
                <a:latin typeface="Calibri"/>
              </a:rPr>
              <a:t> –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300"/>
            </a:br>
            <a:r>
              <a:rPr b="0" lang="sk-SK" sz="1300" spc="-1" strike="noStrike">
                <a:solidFill>
                  <a:srgbClr val="000000"/>
                </a:solidFill>
                <a:latin typeface="Calibri"/>
              </a:rPr>
              <a:t>Zabezpečené napríklad dodávateľsky – dodržať zákon o VO; Uvedené činnosti zvyšujú </a:t>
            </a:r>
            <a:r>
              <a:rPr b="1" lang="sk-SK" sz="1300" spc="-1" strike="noStrike">
                <a:solidFill>
                  <a:srgbClr val="000000"/>
                </a:solidFill>
                <a:latin typeface="Calibri"/>
              </a:rPr>
              <a:t>pridanú hodnotu projektu</a:t>
            </a:r>
            <a:r>
              <a:rPr b="0" lang="sk-SK" sz="1300" spc="-1" strike="noStrike">
                <a:solidFill>
                  <a:srgbClr val="000000"/>
                </a:solidFill>
                <a:latin typeface="Calibri"/>
              </a:rPr>
              <a:t>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Ostatné výdavky</a:t>
            </a:r>
            <a:r>
              <a:rPr b="0" lang="sk-SK" sz="1300" spc="-1" strike="noStrike">
                <a:solidFill>
                  <a:srgbClr val="000000"/>
                </a:solidFill>
                <a:latin typeface="Calibri"/>
              </a:rPr>
              <a:t> </a:t>
            </a:r>
            <a:r>
              <a:rPr b="1" lang="sk-SK" sz="1300" spc="-1" strike="noStrike">
                <a:solidFill>
                  <a:srgbClr val="000000"/>
                </a:solidFill>
                <a:latin typeface="Calibri"/>
              </a:rPr>
              <a:t>– priame</a:t>
            </a:r>
            <a:r>
              <a:rPr b="0" lang="sk-SK" sz="1300" spc="-1" strike="noStrike">
                <a:solidFill>
                  <a:srgbClr val="000000"/>
                </a:solidFill>
                <a:latin typeface="Calibri"/>
              </a:rPr>
              <a:t> 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3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Podpora frekventantov</a:t>
            </a:r>
            <a:r>
              <a:rPr b="0" lang="sk-SK" sz="1300" spc="-1" strike="noStrike">
                <a:solidFill>
                  <a:srgbClr val="000000"/>
                </a:solidFill>
                <a:latin typeface="Calibri"/>
              </a:rPr>
              <a:t> - zahŕňa výdavky na stravovanie, ubytovanie vrátane internátneho ubytovania, cestovné, výdavky na školiaci materiál a iné. </a:t>
            </a:r>
            <a:r>
              <a:rPr b="1" lang="sk-SK" sz="1300" spc="-1" strike="noStrike">
                <a:solidFill>
                  <a:srgbClr val="000000"/>
                </a:solidFill>
                <a:latin typeface="Calibri"/>
              </a:rPr>
              <a:t>príspevky pre frekventantov</a:t>
            </a:r>
            <a:r>
              <a:rPr b="0" lang="sk-SK" sz="1300" spc="-1" strike="noStrike">
                <a:solidFill>
                  <a:srgbClr val="000000"/>
                </a:solidFill>
                <a:latin typeface="Calibri"/>
              </a:rPr>
              <a:t>  - o finančné alebo vecné príspevky cieľovej skupine možné zahrnúť aj náhradu mzdy vrátane odvodov zamestnávateľa zúčastnených osôb (frekventantov) </a:t>
            </a:r>
            <a:r>
              <a:rPr b="0" lang="sk-SK" sz="1400" spc="-1" strike="noStrike">
                <a:solidFill>
                  <a:srgbClr val="ff0000"/>
                </a:solidFill>
                <a:latin typeface="Calibri"/>
              </a:rPr>
              <a:t>– v prípade „suplovania“,</a:t>
            </a:r>
            <a:r>
              <a:rPr b="0" lang="sk-SK" sz="1400" spc="-1" strike="noStrike">
                <a:solidFill>
                  <a:srgbClr val="000000"/>
                </a:solidFill>
                <a:latin typeface="Calibri"/>
              </a:rPr>
              <a:t> </a:t>
            </a:r>
            <a:r>
              <a:rPr b="0" lang="sk-SK" sz="1400" spc="-1" strike="noStrike">
                <a:solidFill>
                  <a:srgbClr val="ff0000"/>
                </a:solidFill>
                <a:latin typeface="Calibri"/>
              </a:rPr>
              <a:t>úhrada za účasť frekventanta na vzdelávaní nie je oprávnená</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 </a:t>
            </a:r>
            <a:endParaRPr b="0" lang="en-US" sz="3200" spc="-1" strike="noStrike">
              <a:solidFill>
                <a:srgbClr val="000000"/>
              </a:solidFill>
              <a:latin typeface="Calibri"/>
            </a:endParaRPr>
          </a:p>
        </p:txBody>
      </p:sp>
      <p:sp>
        <p:nvSpPr>
          <p:cNvPr id="75" name=""/>
          <p:cNvSpPr txBox="1"/>
          <p:nvPr/>
        </p:nvSpPr>
        <p:spPr>
          <a:xfrm>
            <a:off x="457200" y="1341000"/>
            <a:ext cx="8229600" cy="478476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íloha č. 6 výzvy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avedenie jednotkových nákladov na zvýšenie počtu hodín školského vzdelávacieho programu resp. učebného plánu nad rámec hodín povinne stanovených a financovaných zo štátneho rozpočtu.</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Výška štandardnej stupnice jednotkových nákladov j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učiteľ ZŠ – 12,45 EUR/extra hodina (60 minút)</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učiteľ SŠ – 13,20 EUR/extra hodina (60 minút)</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ŠSJN pokrýva priame výdavky na mzdy a nepriame výdavky spojené s realizáciou extra hodín</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ška štandardnej stupnice jednotkových nákladov (ŠSJN) sa počas implementácie projektu môže meniť v prípade, ak dôjde k automatickej úprave výšky ŠSJN v dôsledku zmien na národnej úrovni majúcich vplyv na výšku ŠSJN;  úprava výšky ŠSJN nemá vplyv na schválenú výšku NFP v zmluve o NPF (t. j. výška NFP sa  v dôsledku úpravy ŠSJN nezvyšuje)</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Rozsah extra hodín na školu a školský rok je stanovený max.</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 ZŠ I. stupeň max. 12 hodín</a:t>
            </a:r>
            <a:r>
              <a:rPr b="0" lang="sk-SK" sz="1200" spc="-1" strike="noStrike">
                <a:solidFill>
                  <a:srgbClr val="000000"/>
                </a:solidFill>
                <a:latin typeface="Calibri"/>
              </a:rPr>
              <a:t> týždenne</a:t>
            </a:r>
            <a:r>
              <a:rPr b="0" lang="en-GB" sz="1200" spc="-1" strike="noStrike">
                <a:solidFill>
                  <a:srgbClr val="000000"/>
                </a:solidFill>
                <a:latin typeface="Calibri"/>
              </a:rPr>
              <a:t> (45 minútových);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 ZŠ II. stupeň max. 15 hodín</a:t>
            </a:r>
            <a:r>
              <a:rPr b="0" lang="sk-SK" sz="1200" spc="-1" strike="noStrike">
                <a:solidFill>
                  <a:srgbClr val="000000"/>
                </a:solidFill>
                <a:latin typeface="Calibri"/>
              </a:rPr>
              <a:t> týždenne</a:t>
            </a:r>
            <a:r>
              <a:rPr b="0" lang="en-GB" sz="1200" spc="-1" strike="noStrike">
                <a:solidFill>
                  <a:srgbClr val="000000"/>
                </a:solidFill>
                <a:latin typeface="Calibri"/>
              </a:rPr>
              <a:t> ( (45 minútových)</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 SŠ max. 33 hodín. </a:t>
            </a:r>
            <a:r>
              <a:rPr b="0" lang="sk-SK" sz="1200" spc="-1" strike="noStrike">
                <a:solidFill>
                  <a:srgbClr val="000000"/>
                </a:solidFill>
                <a:latin typeface="Calibri"/>
              </a:rPr>
              <a:t>týždenne</a:t>
            </a:r>
            <a:r>
              <a:rPr b="0" lang="en-GB" sz="1200" spc="-1" strike="noStrike">
                <a:solidFill>
                  <a:srgbClr val="000000"/>
                </a:solidFill>
                <a:latin typeface="Calibri"/>
              </a:rPr>
              <a:t> ((45 minútových)</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ozhodnutie o obsahu extra hodín je na rozhodnutí školy, podľa svojho zamerania a potrieb, pričom extra hodiny musia byť v súlade so štátnym a/alebo školským vzdelávacím programom</a:t>
            </a:r>
            <a:endParaRPr b="0" lang="en-US" sz="1200" spc="-1" strike="noStrike">
              <a:solidFill>
                <a:srgbClr val="000000"/>
              </a:solidFill>
              <a:latin typeface="Calibri"/>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 </a:t>
            </a:r>
            <a:endParaRPr b="0" lang="en-US" sz="3200" spc="-1" strike="noStrike">
              <a:solidFill>
                <a:srgbClr val="000000"/>
              </a:solidFill>
              <a:latin typeface="Calibri"/>
            </a:endParaRPr>
          </a:p>
        </p:txBody>
      </p:sp>
      <p:sp>
        <p:nvSpPr>
          <p:cNvPr id="77"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výšený počet hodín nad rámec hodín financovaných zo štátneho rozpočtu môže škola využiť na</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rozširujú a prehlbujú obsah predmetov zaradených do štátneho vzdelávacieho program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si škola sama zvolí a sama si pripraví ich obsah, vrátane predmetov vytvárajúcich profiláciu školy a experimentálne overených inovačných programov zavedených do vyučovacej prax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ých obsah je doplnením vyučovacieho predmetu pre žiakov so špeciálnymi výchovno-vzdelávacími potrebami, ktorí nemôžu napredovať v rámci bežných vyučovacích hodín a ktorí postupujú podľa individuálnych vzdelávacích programov;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pecifické vyučovacie predmety pre žiakov so špeciálnymi výchovno-vzdelávacími potrebami;</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poru gramotnosti v oblasti IKT a cudzích jazykov a ďalších vzdelávacích aktivít vyplývajúcich zo školského vzdelávacieho program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I. </a:t>
            </a:r>
            <a:endParaRPr b="0" lang="en-US" sz="3200" spc="-1" strike="noStrike">
              <a:solidFill>
                <a:srgbClr val="000000"/>
              </a:solidFill>
              <a:latin typeface="Calibri"/>
            </a:endParaRPr>
          </a:p>
        </p:txBody>
      </p:sp>
      <p:sp>
        <p:nvSpPr>
          <p:cNvPr id="79" name=""/>
          <p:cNvSpPr txBox="1"/>
          <p:nvPr/>
        </p:nvSpPr>
        <p:spPr>
          <a:xfrm>
            <a:off x="457200" y="1341000"/>
            <a:ext cx="8229600" cy="47847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verovanie v rámci konania žiadosti o NFP (t.j. v rámci hodnotiaceho procesu žiadosti o NFP)</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r>
              <a:rPr b="0" lang="sk-SK" sz="1600" spc="-1" strike="noStrike">
                <a:solidFill>
                  <a:srgbClr val="000000"/>
                </a:solidFill>
                <a:latin typeface="Calibri"/>
              </a:rPr>
              <a:t>Predmetom overovania bude skutočnosť, či sa jedná o extra hodiny financované nad rámec štátneho rozpočtu, vrátane overenia rozsahu a obsahu týchto hodín.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Žiadateľ je povinný predložiť ako súčasť žiadosti o NFP</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časti 7.2 žiadosti o NFP </a:t>
            </a:r>
            <a:r>
              <a:rPr b="1" lang="en-GB" sz="1600" spc="-1" strike="noStrike">
                <a:solidFill>
                  <a:srgbClr val="000000"/>
                </a:solidFill>
                <a:latin typeface="Calibri"/>
              </a:rPr>
              <a:t>zdôvodnenie rozsahu a obsahu extra hodín, popísanie  súladu extra hodín so štátnym a/alebo školským vzdelávacím programo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amostatnú prílohu </a:t>
            </a:r>
            <a:r>
              <a:rPr b="0" lang="en-GB" sz="1600" spc="-1" strike="noStrike">
                <a:solidFill>
                  <a:srgbClr val="000000"/>
                </a:solidFill>
                <a:latin typeface="Calibri"/>
              </a:rPr>
              <a:t>– </a:t>
            </a:r>
            <a:r>
              <a:rPr b="1" lang="en-GB" sz="1600" spc="-1" strike="noStrike">
                <a:solidFill>
                  <a:srgbClr val="000000"/>
                </a:solidFill>
                <a:latin typeface="Calibri"/>
              </a:rPr>
              <a:t>aktuálny školský vzdelávací program</a:t>
            </a:r>
            <a:r>
              <a:rPr b="0" lang="en-GB" sz="1600" spc="-1" strike="noStrike">
                <a:solidFill>
                  <a:srgbClr val="000000"/>
                </a:solidFill>
                <a:latin typeface="Calibri"/>
              </a:rPr>
              <a:t>, vrátane rámcového učebného plánu a </a:t>
            </a:r>
            <a:r>
              <a:rPr b="1" lang="en-GB" sz="1600" spc="-1" strike="noStrike">
                <a:solidFill>
                  <a:srgbClr val="000000"/>
                </a:solidFill>
                <a:latin typeface="Calibri"/>
              </a:rPr>
              <a:t>plánovaný  školský vzdelávací program</a:t>
            </a:r>
            <a:r>
              <a:rPr b="0" lang="en-GB" sz="1600" spc="-1" strike="noStrike">
                <a:solidFill>
                  <a:srgbClr val="000000"/>
                </a:solidFill>
                <a:latin typeface="Calibri"/>
              </a:rPr>
              <a:t>, vrátane rámcového učebného plánu resp. iného dokumentu obsahujúci extra hodiny, ktoré majú byť financované v rámci projektu;  vyznačí, ktoré extra hodiny budú financované z projektu</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MŠVVaŠ SR ako SO OPĽZ overí na základe predloženej dokumentácie, či sa jedná o extra hodiny. Odborní hodnotitelia posúdia rozsah a obsah extra hodín, vrátane ich súladu so štátnym a/alebo školským vzdelávacím programom.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V. </a:t>
            </a:r>
            <a:endParaRPr b="0" lang="en-US" sz="3200" spc="-1" strike="noStrike">
              <a:solidFill>
                <a:srgbClr val="000000"/>
              </a:solidFill>
              <a:latin typeface="Calibri"/>
            </a:endParaRPr>
          </a:p>
        </p:txBody>
      </p:sp>
      <p:sp>
        <p:nvSpPr>
          <p:cNvPr id="81"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administratívnej finančnej kontroly žiadosti o platb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a:t>
            </a:r>
            <a:r>
              <a:rPr b="1" lang="sk-SK" sz="1400" spc="-1" strike="noStrike">
                <a:solidFill>
                  <a:srgbClr val="000000"/>
                </a:solidFill>
                <a:latin typeface="Calibri"/>
              </a:rPr>
              <a:t>preplácané na štvrťročnej báze</a:t>
            </a:r>
            <a:r>
              <a:rPr b="0" lang="sk-SK" sz="1400" spc="-1" strike="noStrike">
                <a:solidFill>
                  <a:srgbClr val="000000"/>
                </a:solidFill>
                <a:latin typeface="Calibri"/>
              </a:rPr>
              <a:t>.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finančné prostriedky sú uhrádzané prijímateľovi na základe zdokladovania skutočne realizovaných zvýšených hodín vzdelávacích aktiví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mienky preplatenia JC - JC bude preplácaný na základe nasledovných  dokladov, ktoré predloží prijímateľ:</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 pri každej zmen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učebný plán resp. školský vzdelávací program zahrňujúci zvýšené hodiny nad rámec hodín financovaných zo štátneho rozpočtu resp. iný dokument stanovujúci rozsah hodín; v dokumentoch budú jasne vyznačené extra hodiny financované v rámci projektu; prijímateľ preukáže, že sa jedná o extra hodiny, ktoré nie sú financované zo štátneho rozpoč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vrh hodín s vyznačením extra hodín financovaných z projek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atná pracovná zmluva pedagogického zamestnanc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každej ŽoP:</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atutárom školy potvrdený menný zoznam učiteľov a počet hodín jednotlivých učiteľov, ktorí zabezpečovali/realizovali zvýšené hodiny vzdelávacích aktivít</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vrťročné správy o činnosti PZ podľa jednotlivých škôl, vrátane popisu extra hodín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V. </a:t>
            </a:r>
            <a:endParaRPr b="0" lang="en-US" sz="32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finančnej kontroly na miest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sa  extra hodiny reálne vykonávajú v deklarovanom rozsahu v projekte. Finančná  kontrola na mieste sa bude vykonávať primárne ako neohlásená finančná kontrola na mieste. Pri plánovaní neohlásenej finančnej kontrole na mieste sa bude vychádzať z rozvrhu hodín predloženého ako súčasť ŽoP.</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tejto kontroly bude overenie konania aktivity, overenie počtu osôb, prípadne rozhovor s účastníkmi za účelom overenia si konania aktivity, prípadne spokojnosti s realizovaným aktivity. Okrem toho bude overovaná pedagogická dokumentácia súvisiaca s extra hodinami (napr. triedna kniha, dochádzka žiakov).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Na každom dopytovo-orientovanom projekte musí byť vykonaná min. 1 finančná kontrola na mieste počas jeho realizáci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 </a:t>
            </a:r>
            <a:endParaRPr b="0" lang="en-US" sz="3200" spc="-1" strike="noStrike">
              <a:solidFill>
                <a:srgbClr val="000000"/>
              </a:solidFill>
              <a:latin typeface="Calibri"/>
            </a:endParaRPr>
          </a:p>
        </p:txBody>
      </p:sp>
      <p:sp>
        <p:nvSpPr>
          <p:cNvPr id="85" name=""/>
          <p:cNvSpPr txBox="1"/>
          <p:nvPr/>
        </p:nvSpPr>
        <p:spPr>
          <a:xfrm>
            <a:off x="457200" y="1341360"/>
            <a:ext cx="8229600" cy="518328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íloha č. 7 výzvy</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financovanie činnosti a aktivít  pedagogických klubov</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 pedagogických kluboch (ďalej aj „klub“) sa stretávajú a vymieňajú si skúsenosti vybrané kategórie pedagogických zamestnancov, ktorí vo svojom voľnom čase majú záujem vzdelávať sa a získavať nové poznatky a vymieňať si navzájom skúse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účasť v pedagogických kluboch </a:t>
            </a:r>
            <a:r>
              <a:rPr b="1" lang="sk-SK" sz="1200" spc="-1" strike="noStrike" u="sng">
                <a:solidFill>
                  <a:srgbClr val="000000"/>
                </a:solidFill>
                <a:uFillTx/>
                <a:latin typeface="Calibri"/>
              </a:rPr>
              <a:t>je výlučne určená </a:t>
            </a:r>
            <a:r>
              <a:rPr b="1" lang="sk-SK" sz="1200" spc="-1" strike="noStrike">
                <a:solidFill>
                  <a:srgbClr val="000000"/>
                </a:solidFill>
                <a:latin typeface="Calibri"/>
              </a:rPr>
              <a:t>pre nasledovné kategórie pedagogických zamestnancov: učitelia, pedagogickí asistenti, vychovávatelia a majstri odborného výcvik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hlavným účelom týchto klubov je </a:t>
            </a:r>
            <a:r>
              <a:rPr b="1" lang="sk-SK" sz="1200" spc="-1" strike="noStrike">
                <a:solidFill>
                  <a:srgbClr val="000000"/>
                </a:solidFill>
                <a:latin typeface="Calibri"/>
              </a:rPr>
              <a:t>poskytnúť platformu pre aktívne sieťovanie a spoločnú spoluprácu pedagogických zamestnancov na spoločných témach a pre medzigeneračnú výmenu medzi mladými a staršími/skúsenejšími pedagogickými zamestnancam</a:t>
            </a:r>
            <a:r>
              <a:rPr b="0" lang="sk-SK" sz="1200" spc="-1" strike="noStrike">
                <a:solidFill>
                  <a:srgbClr val="000000"/>
                </a:solidFill>
                <a:latin typeface="Calibri"/>
              </a:rPr>
              <a:t>i</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000000"/>
                </a:solidFill>
                <a:uFillTx/>
                <a:latin typeface="Calibri"/>
              </a:rPr>
              <a:t> </a:t>
            </a:r>
            <a:r>
              <a:rPr b="1" lang="sk-SK" sz="1200" spc="-1" strike="noStrike" u="sng">
                <a:solidFill>
                  <a:srgbClr val="000000"/>
                </a:solidFill>
                <a:uFillTx/>
                <a:latin typeface="Calibri"/>
              </a:rPr>
              <a:t>Výška štandardnej stupnice jednotkových nákladov je 10,60/11,20 EUR/hodina/pedagogický zamestnanec.</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ŠSJN pokrýva priame výdavky na mzdy a nepriame výdavky spojené s účasťou pedagogických zamestnancoch na aktivitách pedagogického klub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ška štandardnej stupnice jednotkových nákladov (ŠSJN) sa počas implementácie projektu môže meniť v prípade, ak dôjde k automatickej úprave výšky ŠSJN v dôsledku zmien na národnej úrovni majúcich vplyv na výšku ŠSJN;  úprava výšky ŠSJN nemá vplyv na schválenú výšku NFP v zmluve o NPF (t. j. výška NFP sa  v dôsledku úpravy ŠSJN nezvyšuj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íprava a účasť na stretnutiach klubu za účelom:</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meny skúseností a best practice z vlastnej vyučovacej činnosti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ieskumno-analytickej a tvorivej činnosti týkajúca sa výchovy a vzdelávania a vedúca k jej zlepšeniu a identifikácii osvedčených pedagogických skúseností</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meny skúseností pri využívaní  moderných vyučovacích postupov a metód podporujúcich inovácie vo vzdelávaní</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menu skúseností v oblasti medzipredmetových vzťahov.</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200" spc="-1" strike="noStrike">
              <a:solidFill>
                <a:srgbClr val="000000"/>
              </a:solidFill>
              <a:latin typeface="Calibri"/>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 </a:t>
            </a:r>
            <a:endParaRPr b="0" lang="en-US" sz="3200" spc="-1" strike="noStrike">
              <a:solidFill>
                <a:srgbClr val="000000"/>
              </a:solidFill>
              <a:latin typeface="Calibri"/>
            </a:endParaRPr>
          </a:p>
        </p:txBody>
      </p:sp>
      <p:sp>
        <p:nvSpPr>
          <p:cNvPr id="87" name=""/>
          <p:cNvSpPr txBox="1"/>
          <p:nvPr/>
        </p:nvSpPr>
        <p:spPr>
          <a:xfrm>
            <a:off x="457200" y="1341000"/>
            <a:ext cx="8229600" cy="478476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definovaní svojej činnosti si každý klub musí vybrať minimálne jednu tému, ktorá je tematicky v súlade s obsahom výzvy na predkladanie projektov.  </a:t>
            </a:r>
            <a:r>
              <a:rPr b="0" lang="sk-SK" sz="1400" spc="-1" strike="noStrike">
                <a:solidFill>
                  <a:srgbClr val="000000"/>
                </a:solidFill>
                <a:latin typeface="Calibri"/>
              </a:rPr>
              <a:t>Činnosť aktivít klubu sa musí zameriavať na témy ako na výsledky medzinárodných meraní PISA a možné spôsoby/cesty pre ich zlepšenie, implementovanie medzipredmetových vzťahov vo vzdelávacom procese, identifikovanie problémov vo vzdelávaní a možné spôsoby ich riešenia, výmena skúsenosti s aplikovaním nových progresívnych metód a foriem práce, výmena skúsenosti s využívaním didaktických postupov a metód orientovaných na rozvoj kľúčových kompetencií žiakov, výmena skúseností  s využívaním nových progresívnych a moderných nástrojov a didaktickej techniky – IKT, na prevenciu závislostí, rasizmu, násilia a iných foriem/druhov extrémneho sprá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min. počet členov klubu je 3 učitelia a max. 10 učiteľov</a:t>
            </a:r>
            <a:r>
              <a:rPr b="0" lang="sk-SK" sz="1400" spc="-1" strike="noStrike">
                <a:solidFill>
                  <a:srgbClr val="000000"/>
                </a:solidFill>
                <a:latin typeface="Calibri"/>
              </a:rPr>
              <a:t>. Klub môžu tvoriť učitelia z jednej školy ale aj/alebo učitelia z viacerých škôl v okrese resp. v kraji. Na základe spoločného rozhodnutia členov klubu je  jeden z pedagogických zamestnancov vymenovaný/určený za koordinátora klubu, ktorý organizuje a koordinuje činnosť klub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lub sa stretáva </a:t>
            </a:r>
            <a:r>
              <a:rPr b="1" lang="sk-SK" sz="1400" spc="-1" strike="noStrike">
                <a:solidFill>
                  <a:srgbClr val="000000"/>
                </a:solidFill>
                <a:latin typeface="Calibri"/>
              </a:rPr>
              <a:t>maximálne dvakrát mesačne</a:t>
            </a:r>
            <a:r>
              <a:rPr b="0" lang="sk-SK" sz="1400" spc="-1" strike="noStrike">
                <a:solidFill>
                  <a:srgbClr val="000000"/>
                </a:solidFill>
                <a:latin typeface="Calibri"/>
              </a:rPr>
              <a:t>. </a:t>
            </a:r>
            <a:r>
              <a:rPr b="1" lang="sk-SK" sz="1400" spc="-1" strike="noStrike">
                <a:solidFill>
                  <a:srgbClr val="000000"/>
                </a:solidFill>
                <a:latin typeface="Calibri"/>
              </a:rPr>
              <a:t>Dĺžka jedného stretnutia </a:t>
            </a:r>
            <a:r>
              <a:rPr b="0" lang="sk-SK" sz="1400" spc="-1" strike="noStrike">
                <a:solidFill>
                  <a:srgbClr val="000000"/>
                </a:solidFill>
                <a:latin typeface="Calibri"/>
              </a:rPr>
              <a:t>klubu je </a:t>
            </a:r>
            <a:r>
              <a:rPr b="1" lang="sk-SK" sz="1400" spc="-1" strike="noStrike">
                <a:solidFill>
                  <a:srgbClr val="000000"/>
                </a:solidFill>
                <a:latin typeface="Calibri"/>
              </a:rPr>
              <a:t>max. 3 hodin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každý klub si vypracuje plán svojej práce</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án práce klubu</a:t>
            </a:r>
            <a:r>
              <a:rPr b="1" lang="sk-SK" sz="1400" spc="-1" strike="noStrike">
                <a:solidFill>
                  <a:srgbClr val="000000"/>
                </a:solidFill>
                <a:latin typeface="Calibri"/>
              </a:rPr>
              <a:t> </a:t>
            </a:r>
            <a:r>
              <a:rPr b="0" lang="sk-SK" sz="1400" spc="-1" strike="noStrike">
                <a:solidFill>
                  <a:srgbClr val="000000"/>
                </a:solidFill>
                <a:latin typeface="Calibri"/>
              </a:rPr>
              <a:t>musí</a:t>
            </a:r>
            <a:r>
              <a:rPr b="1" lang="sk-SK" sz="1400" spc="-1" strike="noStrike">
                <a:solidFill>
                  <a:srgbClr val="000000"/>
                </a:solidFill>
                <a:latin typeface="Calibri"/>
              </a:rPr>
              <a:t> </a:t>
            </a:r>
            <a:r>
              <a:rPr b="0" lang="sk-SK" sz="1400" spc="-1" strike="noStrike">
                <a:solidFill>
                  <a:srgbClr val="000000"/>
                </a:solidFill>
                <a:latin typeface="Calibri"/>
              </a:rPr>
              <a:t>obsahovať opis a zdôvodnenie plánovanej činnosti, rámcový program stretnutí, ich trvanie (dobu trvania), predbežné termíny realizácie činnosti a počet členov klubu.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I. </a:t>
            </a:r>
            <a:endParaRPr b="0" lang="en-US" sz="3200" spc="-1" strike="noStrike">
              <a:solidFill>
                <a:srgbClr val="000000"/>
              </a:solidFill>
              <a:latin typeface="Calibri"/>
            </a:endParaRPr>
          </a:p>
        </p:txBody>
      </p:sp>
      <p:sp>
        <p:nvSpPr>
          <p:cNvPr id="89" name=""/>
          <p:cNvSpPr txBox="1"/>
          <p:nvPr/>
        </p:nvSpPr>
        <p:spPr>
          <a:xfrm>
            <a:off x="457200" y="1341000"/>
            <a:ext cx="8229600" cy="5040360"/>
          </a:xfrm>
          <a:prstGeom prst="rect">
            <a:avLst/>
          </a:prstGeom>
          <a:noFill/>
          <a:ln w="0">
            <a:noFill/>
          </a:ln>
        </p:spPr>
        <p:txBody>
          <a:bodyPr anchor="t">
            <a:normAutofit fontScale="93000"/>
          </a:bodyPr>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každý klub musí zverejňovať dosiahnuté výsledky a výstupy svojej činnosti </a:t>
            </a:r>
            <a:r>
              <a:rPr b="0" lang="sk-SK" sz="1200" spc="-1" strike="noStrike">
                <a:solidFill>
                  <a:srgbClr val="000000"/>
                </a:solidFill>
                <a:latin typeface="Calibri"/>
              </a:rPr>
              <a:t>na webovom sídle prijímateľa resp. projektu. Okrem toho výsledky a výstupy práce klubu musia byť zverejnené a dostupné pre všetkých pedagogických zamestnancov a pre zainteresovanú verejnosť, .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za výsledky a výstupy klubu sa považujú </a:t>
            </a:r>
            <a:r>
              <a:rPr b="0" lang="sk-SK" sz="1200" spc="-1" strike="noStrike">
                <a:solidFill>
                  <a:srgbClr val="000000"/>
                </a:solidFill>
                <a:latin typeface="Calibri"/>
              </a:rPr>
              <a:t>správy o činnosti  klubu (t.j. správy zo zasadnutí klubov) a písomné výstupy klubu (napr. osvedčená pedagogická prax, analýza s odporúčaniami, správa s odporúčaniami). </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Štruktúra činnosti klubu – 2 varianty/typy klubov:</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bez písomného výstupu</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s písomným výstupom</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 navyše bude za každý školský polrok písomný výstup práce klubu - napr. osvedčenú pedagogickú prax, analýzu s odporúčaniami, správu s odporúčaniami. Max. počet hodín na tvorbu tohto výstupu je 50 hodín na jeden klub na jeden školský polrok.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 a 50 hodín na 1 klub na tvorbu písomného výstupu klubu.</a:t>
            </a:r>
            <a:endParaRPr b="0" lang="en-US" sz="1200" spc="-1" strike="noStrike">
              <a:solidFill>
                <a:srgbClr val="000000"/>
              </a:solidFill>
              <a:latin typeface="Calibri"/>
            </a:endParaRPr>
          </a:p>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000000"/>
                </a:solidFill>
                <a:uFillTx/>
                <a:latin typeface="Calibri"/>
              </a:rPr>
              <a:t> </a:t>
            </a:r>
            <a:r>
              <a:rPr b="1" lang="sk-SK" sz="1200" spc="-1" strike="noStrike" u="sng">
                <a:solidFill>
                  <a:srgbClr val="000000"/>
                </a:solidFill>
                <a:uFillTx/>
                <a:latin typeface="Calibri"/>
              </a:rPr>
              <a:t>Nie je možné kombinovať tieto 2 varianty v rámci jedného klubu. Klub/žiadateľ si vyberie jeden z vyššie uvedených variantov/typov pri tvorbe projektu (v rámci žiadosti o NFP).</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školu platia nasledovné limity:</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každá škola môže mať na  len jeden klub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len jedného klubu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vo viacerých kluboch s rôznymi/rozdielnymi vyučovacími predmetmi a  prierezovými témami.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V. </a:t>
            </a:r>
            <a:endParaRPr b="0" lang="en-US" sz="3200" spc="-1" strike="noStrike">
              <a:solidFill>
                <a:srgbClr val="000000"/>
              </a:solidFill>
              <a:latin typeface="Calibri"/>
            </a:endParaRPr>
          </a:p>
        </p:txBody>
      </p:sp>
      <p:sp>
        <p:nvSpPr>
          <p:cNvPr id="91" name=""/>
          <p:cNvSpPr txBox="1"/>
          <p:nvPr/>
        </p:nvSpPr>
        <p:spPr>
          <a:xfrm>
            <a:off x="457200" y="1341000"/>
            <a:ext cx="8229600" cy="5040360"/>
          </a:xfrm>
          <a:prstGeom prst="rect">
            <a:avLst/>
          </a:prstGeom>
          <a:noFill/>
          <a:ln w="0">
            <a:noFill/>
          </a:ln>
        </p:spPr>
        <p:txBody>
          <a:bodyPr anchor="t">
            <a:normAutofit fontScale="95000"/>
          </a:bodyPr>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 každého zasadnutia/stretnutia klubu bude vyhotovená správa o činnosti klubu</a:t>
            </a:r>
            <a:r>
              <a:rPr b="0" lang="sk-SK" sz="1400" spc="-1" strike="noStrike">
                <a:solidFill>
                  <a:srgbClr val="000000"/>
                </a:solidFill>
                <a:latin typeface="Calibri"/>
              </a:rPr>
              <a:t>. Uvedené sa týka oboch variantov/typov klubov. </a:t>
            </a:r>
            <a:r>
              <a:rPr b="1" lang="sk-SK" sz="1400" spc="-1" strike="noStrike">
                <a:solidFill>
                  <a:srgbClr val="000000"/>
                </a:solidFill>
                <a:latin typeface="Calibri"/>
              </a:rPr>
              <a:t>Správa</a:t>
            </a:r>
            <a:r>
              <a:rPr b="0" lang="sk-SK" sz="1400" spc="-1" strike="noStrike">
                <a:solidFill>
                  <a:srgbClr val="000000"/>
                </a:solidFill>
                <a:latin typeface="Calibri"/>
              </a:rPr>
              <a:t> bude obsahovať  stručný zhrnutie stretnutia klubu – témy, ktoré boli predmetom stretnutia, závery a odporúčania zo stretnutia. Prílohou správy bude prezenčná listina podpísaná účastníkmi klubu, ktorí sa daného zasadnutia zúčastnili.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1" lang="sk-SK" sz="1400" spc="-1" strike="noStrike">
                <a:solidFill>
                  <a:srgbClr val="000000"/>
                </a:solidFill>
                <a:latin typeface="Calibri"/>
              </a:rPr>
              <a:t>štruktúra písomného výstupu klubu </a:t>
            </a:r>
            <a:r>
              <a:rPr b="0" lang="sk-SK" sz="1400" spc="-1" strike="noStrike">
                <a:solidFill>
                  <a:srgbClr val="000000"/>
                </a:solidFill>
                <a:latin typeface="Calibri"/>
              </a:rPr>
              <a:t>– úvod (stručná anotácia, kľúčové slová, zámer a priblíženie témy písomného výstupu), jadro (popis témy/problém), záver (zhrnutie a odporúčania pre činnosť pedagogických zamestnancov).</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asledovné formuláre sú zverejnené ako súčasť výzvy</a:t>
            </a:r>
            <a:r>
              <a:rPr b="0" lang="sk-SK" sz="1400" spc="-1" strike="noStrike">
                <a:solidFill>
                  <a:srgbClr val="000000"/>
                </a:solidFill>
                <a:latin typeface="Calibri"/>
              </a:rPr>
              <a:t>: 1) plán práce klubu; 2) správa o činnosti klubu; 3) písomný výstup klubu</a:t>
            </a:r>
            <a:endParaRPr b="0" lang="en-US" sz="14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konania o žiadosti o NFP (t.j. v rámci hodnotiaceho proces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Predmetom overovania bude skutočnosť týkajúce sa obsahu klubovej činnosti/aktivít.</a:t>
            </a: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je povinný predložiť ako súčasť žiadosti o NFP:</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  časti 7.2 žiadosti o NFP </a:t>
            </a:r>
            <a:r>
              <a:rPr b="0" lang="en-GB" sz="1400" spc="-1" strike="noStrike">
                <a:solidFill>
                  <a:srgbClr val="000000"/>
                </a:solidFill>
                <a:latin typeface="Calibri"/>
              </a:rPr>
              <a:t>zdôvodnenie výberu jedného z dvoch variantov klubu; zdôvodnenie zloženia, rozsahu a obsahového zamerania klubu učiteľov, vrátane zdôvodnenia počtu stretnutí klubu a počtu členov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mostatnú prílohu žiadosti o NFP – plán práce klubu</a:t>
            </a:r>
            <a:r>
              <a:rPr b="1" lang="sk-SK" sz="1400" spc="-1" strike="noStrike">
                <a:solidFill>
                  <a:srgbClr val="000000"/>
                </a:solidFill>
                <a:latin typeface="Calibri"/>
              </a:rPr>
              <a:t> (PREDPÍSANÝ FORMULÁR je zverejnený ako súčasť výzvy)</a:t>
            </a:r>
            <a:r>
              <a:rPr b="0" lang="en-GB" sz="1400" spc="-1" strike="noStrike">
                <a:solidFill>
                  <a:srgbClr val="000000"/>
                </a:solidFill>
                <a:latin typeface="Calibri"/>
              </a:rPr>
              <a:t>, ktorý</a:t>
            </a:r>
            <a:r>
              <a:rPr b="1" lang="en-GB" sz="1400" spc="-1" strike="noStrike">
                <a:solidFill>
                  <a:srgbClr val="000000"/>
                </a:solidFill>
                <a:latin typeface="Calibri"/>
              </a:rPr>
              <a:t> </a:t>
            </a:r>
            <a:r>
              <a:rPr b="0" lang="en-GB" sz="1400" spc="-1" strike="noStrike">
                <a:solidFill>
                  <a:srgbClr val="000000"/>
                </a:solidFill>
                <a:latin typeface="Calibri"/>
              </a:rPr>
              <a:t>musí</a:t>
            </a:r>
            <a:r>
              <a:rPr b="1" lang="en-GB" sz="1400" spc="-1" strike="noStrike">
                <a:solidFill>
                  <a:srgbClr val="000000"/>
                </a:solidFill>
                <a:latin typeface="Calibri"/>
              </a:rPr>
              <a:t> </a:t>
            </a:r>
            <a:r>
              <a:rPr b="0" lang="en-GB" sz="1400" spc="-1" strike="noStrike">
                <a:solidFill>
                  <a:srgbClr val="000000"/>
                </a:solidFill>
                <a:latin typeface="Calibri"/>
              </a:rPr>
              <a:t>obsahovať opis a zdôvodnenie plánovanej činnosti, rámcový program stretnutí, ich trvanie (dobu trvania), predbežné termíny realizácie činnosti/aktivít a počet členov klub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í hodnotitelia posúdia rozsah a obsah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044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V. </a:t>
            </a:r>
            <a:endParaRPr b="0" lang="en-US" sz="3200" spc="-1" strike="noStrike">
              <a:solidFill>
                <a:srgbClr val="000000"/>
              </a:solidFill>
              <a:latin typeface="Calibri"/>
            </a:endParaRPr>
          </a:p>
        </p:txBody>
      </p:sp>
      <p:sp>
        <p:nvSpPr>
          <p:cNvPr id="93" name=""/>
          <p:cNvSpPr txBox="1"/>
          <p:nvPr/>
        </p:nvSpPr>
        <p:spPr>
          <a:xfrm>
            <a:off x="457200" y="1341000"/>
            <a:ext cx="8229600" cy="5040360"/>
          </a:xfrm>
          <a:prstGeom prst="rect">
            <a:avLst/>
          </a:prstGeom>
          <a:noFill/>
          <a:ln w="0">
            <a:noFill/>
          </a:ln>
        </p:spPr>
        <p:txBody>
          <a:bodyPr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administratívnej finančnej kontroly žiadosti o platbu </a:t>
            </a:r>
            <a:endParaRPr b="0" lang="en-US" sz="12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finančné prostriedky sú uhrádzané prijímateľovi na základe zdokladovania skutočných hodín, ktoré venoval učiteľ aktivitám v klube. </a:t>
            </a:r>
            <a:r>
              <a:rPr b="1" lang="sk-SK" sz="1200" spc="-1" strike="noStrike">
                <a:solidFill>
                  <a:srgbClr val="000000"/>
                </a:solidFill>
                <a:latin typeface="Calibri"/>
              </a:rPr>
              <a:t>JC bude preplatená raz za školský polrok (t.j. po ukončení školského polroku). </a:t>
            </a:r>
            <a:r>
              <a:rPr b="0" lang="sk-SK" sz="1200" spc="-1" strike="noStrike">
                <a:solidFill>
                  <a:srgbClr val="000000"/>
                </a:solidFill>
                <a:latin typeface="Calibri"/>
              </a:rPr>
              <a:t> Prvým školským polrok je obdobie od septembra do januára (t.j. 5 mesiacov). Druhým školským polrokom je obdobie od februára do júna (t.j. 5 mesiacov). Počas letných prázdnin (júl, august) sa kluby učiteľov nerealizujú.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JC bude preplácaný na základe nasledovných  dokladov, ktoré predloží prijímateľ:</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i každej ŽoP </a:t>
            </a:r>
            <a:r>
              <a:rPr b="0" lang="sk-SK" sz="1200" spc="-1" strike="noStrike">
                <a:solidFill>
                  <a:srgbClr val="000000"/>
                </a:solidFill>
                <a:latin typeface="Calibri"/>
              </a:rPr>
              <a:t>:</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án práce klubu</a:t>
            </a:r>
            <a:r>
              <a:rPr b="0" lang="sk-SK" sz="1200" spc="-1" strike="noStrike">
                <a:solidFill>
                  <a:srgbClr val="000000"/>
                </a:solidFill>
                <a:latin typeface="Calibri"/>
              </a:rPr>
              <a:t> a harmonogram činnosti klubu na príslušný školský polrok členený na mesiace (miesto a termíny konania zasadnutí klubov)</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enný zoznam učiteľov ako členov klubu učiteľov, v zozname je vyznačený koordinátor klubu; zoznam bude obsahovať najmä tieto údaje – názov klubu, meno a priezvisko účastníka klubu, aprobácia učiteľa, počet hodín, ktorých sa zúčastnil na zasadnutiach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zdrojov financovania klubu učiteľov (napr. NP, DOP, iné zdroj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právy o činnosti klubu, vrátane prezenčných listín (za každé stretnutie klubu zvlášť); odkaz na webové sídlo, kde sú správy zverejnené; správy je potrebné predložiť aj v papierovej aj v elektronickej forme (napr. na CD nosiči)</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ísomný výstup (ak relevantné) odkaz na webové sídlo, kde sú písomné výstupy zverejnené; je potrebné ich predložiť aj v papierovej aj v elektronickej forme (napr. na CD nosiči).</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počas finančnej kontroly na miest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uistenia sa, že sa aktivity reálne vykonávajú v deklarovanom rozsahu v projekte. Finančná kontrola na mieste sa bude vykonávať primárne ako neohlásená kontrola na mieste. Pri plánovaní neohlásenej finančnej kontrole na mieste sa bude vychádzať aj z plánu práce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 kontroly bude overenie konania aktivity, overenie počtu osôb, prípadne rozhovor s účastníkmi za účelom overenia si konania aktivity, prípadne spokojnosti s realizovaným aktivity. Na každom dopytovo-orientovanom projekte musí byť vykonaná min. 1 finančná kontrola na mieste počas jeho realizácie. </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95"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a:t>
            </a:r>
            <a:endParaRPr b="0" lang="en-US" sz="4000" spc="-1" strike="noStrike">
              <a:solidFill>
                <a:srgbClr val="000000"/>
              </a:solidFill>
              <a:latin typeface="Calibri"/>
            </a:endParaRPr>
          </a:p>
        </p:txBody>
      </p:sp>
      <p:sp>
        <p:nvSpPr>
          <p:cNvPr id="9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ukazovanie splnenia min. kvalifikačných a odborných požiadaviek </a:t>
            </a:r>
            <a:r>
              <a:rPr b="0" lang="sk-SK" sz="16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ealizáciu aktivít projektu v rámci žiadosti o NFP nie je možné súbežne financovať z iných zdrojov </a:t>
            </a:r>
            <a:r>
              <a:rPr b="0" lang="sk-SK" sz="16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kladovanie hospodárnosti a efektívnosti</a:t>
            </a:r>
            <a:r>
              <a:rPr b="0" lang="sk-SK" sz="1600" spc="-1" strike="noStrike">
                <a:solidFill>
                  <a:srgbClr val="000000"/>
                </a:solidFill>
                <a:latin typeface="Calibri"/>
              </a:rPr>
              <a:t>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o sa týka preukazovania oprávnenosti personálnych výdavkov (ekon. klasifikácie 610620, 637027), tieto musia zodpovedať cenám práce primeraným v organizácii. </a:t>
            </a:r>
            <a:r>
              <a:rPr b="0" lang="sk-SK" sz="1600" spc="-1" strike="noStrike">
                <a:solidFill>
                  <a:srgbClr val="000000"/>
                </a:solidFill>
                <a:latin typeface="Calibri"/>
              </a:rPr>
              <a:t>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 </a:t>
            </a:r>
            <a:endParaRPr b="0" lang="en-US" sz="4000" spc="-1" strike="noStrike">
              <a:solidFill>
                <a:srgbClr val="000000"/>
              </a:solidFill>
              <a:latin typeface="Calibri"/>
            </a:endParaRPr>
          </a:p>
        </p:txBody>
      </p:sp>
      <p:sp>
        <p:nvSpPr>
          <p:cNvPr id="99" name="PlaceHolder 2"/>
          <p:cNvSpPr>
            <a:spLocks noGrp="1"/>
          </p:cNvSpPr>
          <p:nvPr>
            <p:ph/>
          </p:nvPr>
        </p:nvSpPr>
        <p:spPr>
          <a:xfrm>
            <a:off x="457200" y="1413000"/>
            <a:ext cx="8229600" cy="5400720"/>
          </a:xfrm>
          <a:prstGeom prst="rect">
            <a:avLst/>
          </a:prstGeom>
          <a:noFill/>
          <a:ln w="0">
            <a:noFill/>
          </a:ln>
        </p:spPr>
        <p:txBody>
          <a:bodyPr anchor="t">
            <a:normAutofit fontScale="99000"/>
          </a:bodyPr>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Tovary, služby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a:t>
            </a:r>
            <a:r>
              <a:rPr b="1" lang="sk-SK" sz="1600" spc="-1" strike="noStrike">
                <a:solidFill>
                  <a:srgbClr val="000000"/>
                </a:solidFill>
                <a:latin typeface="Calibri"/>
              </a:rPr>
              <a:t>povinný preukázať efektívnosť a hospodárnosť cien/výdavkov uvedených v rozpočte projektu</a:t>
            </a:r>
            <a:r>
              <a:rPr b="0" lang="sk-SK" sz="1600" spc="-1" strike="noStrike">
                <a:solidFill>
                  <a:srgbClr val="000000"/>
                </a:solidFill>
                <a:latin typeface="Calibri"/>
              </a:rPr>
              <a:t>, t.j. je povinný </a:t>
            </a:r>
            <a:r>
              <a:rPr b="1" lang="sk-SK" sz="1600" spc="-1" strike="noStrike" u="sng">
                <a:solidFill>
                  <a:srgbClr val="000000"/>
                </a:solidFill>
                <a:uFillTx/>
                <a:latin typeface="Calibri"/>
              </a:rPr>
              <a:t>vykonať prieskum trhu </a:t>
            </a:r>
            <a:r>
              <a:rPr b="0" lang="sk-SK" sz="1600" spc="-1" strike="noStrike">
                <a:solidFill>
                  <a:srgbClr val="000000"/>
                </a:solidFill>
                <a:latin typeface="Calibri"/>
              </a:rPr>
              <a:t>na položky – tovary, práce a služby – spadajúce pod verejné obstarávanie a ako aj mimo verejného obstarávania (tzv. výnimky</a:t>
            </a:r>
            <a:r>
              <a:rPr b="0" lang="en-US" sz="1600" spc="-1" strike="noStrike">
                <a:solidFill>
                  <a:srgbClr val="000000"/>
                </a:solidFill>
                <a:latin typeface="Calibri"/>
              </a:rPr>
              <a:t> </a:t>
            </a:r>
            <a:r>
              <a:rPr b="0" lang="sk-SK" sz="1600" spc="-1" strike="noStrike">
                <a:solidFill>
                  <a:srgbClr val="000000"/>
                </a:solidFill>
                <a:latin typeface="Calibri"/>
              </a:rPr>
              <a:t>definované v §1 ods. 2 až ods. 5 zákona č. 343/2015 Z. z. o VO), Uvedené sa vzťahuje aj na autorské zmluvy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každá položka resp. súbor položiek</a:t>
            </a:r>
            <a:r>
              <a:rPr b="0" lang="sk-SK" sz="1600" spc="-1" strike="noStrike">
                <a:solidFill>
                  <a:srgbClr val="000000"/>
                </a:solidFill>
                <a:latin typeface="Calibri"/>
              </a:rPr>
              <a:t> (ak charakter tovaru, práce a služby umožňuje spájanie do väčších celkov) </a:t>
            </a:r>
            <a:r>
              <a:rPr b="1" lang="sk-SK" sz="1600" spc="-1" strike="noStrike">
                <a:solidFill>
                  <a:srgbClr val="000000"/>
                </a:solidFill>
                <a:latin typeface="Calibri"/>
              </a:rPr>
              <a:t>musí mať samostatný prieskum trhu</a:t>
            </a:r>
            <a:r>
              <a:rPr b="0" lang="sk-SK" sz="1600" spc="-1" strike="noStrike">
                <a:solidFill>
                  <a:srgbClr val="000000"/>
                </a:solidFill>
                <a:latin typeface="Calibri"/>
              </a:rPr>
              <a:t> podľa prílohy č. 4 Príručky pre žiadateľa </a:t>
            </a:r>
            <a:endParaRPr b="0" lang="en-US" sz="1600" spc="-1" strike="noStrike">
              <a:solidFill>
                <a:srgbClr val="000000"/>
              </a:solidFill>
              <a:latin typeface="Calibri"/>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ásady výkonu prieskumu trhu: </a:t>
            </a:r>
            <a:endParaRPr b="0" lang="en-US" sz="1600" spc="-1" strike="noStrike">
              <a:solidFill>
                <a:srgbClr val="000000"/>
              </a:solidFill>
              <a:latin typeface="Calibri"/>
            </a:endParaRPr>
          </a:p>
          <a:p>
            <a:pPr marL="339480" indent="-339480" algn="just">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definované vo výzve v PPP č. 13 </a:t>
            </a:r>
            <a:r>
              <a:rPr b="0" lang="sk-SK" sz="1600" spc="-1" strike="noStrike">
                <a:solidFill>
                  <a:srgbClr val="ff0000"/>
                </a:solidFill>
                <a:latin typeface="Calibri"/>
              </a:rPr>
              <a:t>„Podmienka, že výdavky projektu sú oprávnené a nárokovaná výška výdavkov je oprávnená na financovanie z OP“</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ieskum trhu </a:t>
            </a:r>
            <a:r>
              <a:rPr b="1" lang="sk-SK" sz="1600" spc="-1" strike="noStrike">
                <a:solidFill>
                  <a:srgbClr val="000000"/>
                </a:solidFill>
                <a:latin typeface="Calibri"/>
              </a:rPr>
              <a:t>nie je možné realizovať telefonicky</a:t>
            </a:r>
            <a:r>
              <a:rPr b="0" lang="sk-SK"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eskum trhu musí byť vyhodnotený na základe min. 3 ponúk (t.j. je potrebné osloviť viacero subjektov, aby cena mohla byť vyhodnotená na základe min. 3 ponúk);</a:t>
            </a:r>
            <a:r>
              <a:rPr b="0" lang="sk-SK" sz="1600" spc="-1" strike="noStrike">
                <a:solidFill>
                  <a:srgbClr val="000000"/>
                </a:solidFill>
                <a:latin typeface="Calibri"/>
              </a:rPr>
              <a:t> výnimku tvoria tovary, práce a služby, pri ktorých nie je preukázateľne možné predložiť min. 3 ponuky na základe riadne zdokumentovaných objektívnych skutočností (čo žiadateľ musí zdôvodniť a objektívne preukázať)</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ieskum trhu s 1 ponukou resp. s 2 ponukami, nebude akceptovaný ako relevantný v prípade ak žiadateľ nepreukáže na základe riadne zdokumentovaných objektívnych skutočností, že nie je možné predložiť viac ponúk</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eskum trhu  ako internetový prieskum – je potrebné doložiť všetky relevantné printscreeny</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dložiť </a:t>
            </a:r>
            <a:r>
              <a:rPr b="1" lang="sk-SK" sz="1600" spc="-1" strike="noStrike">
                <a:solidFill>
                  <a:srgbClr val="000000"/>
                </a:solidFill>
                <a:latin typeface="Calibri"/>
              </a:rPr>
              <a:t>kompletný prieskum trhu ako súčasť ŽoNFP </a:t>
            </a:r>
            <a:r>
              <a:rPr b="0" lang="sk-SK" sz="1600" spc="-1" strike="noStrike">
                <a:solidFill>
                  <a:srgbClr val="000000"/>
                </a:solidFill>
                <a:latin typeface="Calibri"/>
              </a:rPr>
              <a:t>(oslovenie subjektov – výzva, predložené ponuky, vyhodnotenie prieskumu – príloha č.4 Príručky pre žiadateľ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neziskový a súkromný sektor</a:t>
            </a:r>
            <a:r>
              <a:rPr b="0" lang="sk-SK" sz="1600" spc="-1" strike="noStrike">
                <a:solidFill>
                  <a:srgbClr val="000000"/>
                </a:solidFill>
                <a:latin typeface="Calibri"/>
              </a:rPr>
              <a:t> – </a:t>
            </a:r>
            <a:r>
              <a:rPr b="1" lang="sk-SK" sz="1600" spc="-1" strike="noStrike">
                <a:solidFill>
                  <a:srgbClr val="000000"/>
                </a:solidFill>
                <a:latin typeface="Calibri"/>
              </a:rPr>
              <a:t>10%;</a:t>
            </a:r>
            <a:r>
              <a:rPr b="0" lang="sk-SK" sz="1600" spc="-1" strike="noStrike">
                <a:solidFill>
                  <a:srgbClr val="000000"/>
                </a:solidFill>
                <a:latin typeface="Calibri"/>
              </a:rPr>
              <a:t> </a:t>
            </a:r>
            <a:r>
              <a:rPr b="1" lang="sk-SK" sz="1600" spc="-1" strike="noStrike">
                <a:solidFill>
                  <a:srgbClr val="000000"/>
                </a:solidFill>
                <a:latin typeface="Calibri"/>
              </a:rPr>
              <a:t>štátny sektor – 0%</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úspešní žiadatelia/prijímatelia  </a:t>
            </a:r>
            <a:r>
              <a:rPr b="1" lang="sk-SK" sz="1600" spc="-1" strike="noStrike">
                <a:solidFill>
                  <a:srgbClr val="000000"/>
                </a:solidFill>
                <a:latin typeface="Calibri"/>
              </a:rPr>
              <a:t>budú povinní v prvej polovici dĺžky realizácie projektu predložiť prostredníctvom žiadostí o platbu (žiadosti o priebežnú platbu/zúčtovanie zálohovej platby) výdavky </a:t>
            </a:r>
            <a:r>
              <a:rPr b="1" lang="sk-SK" sz="1600" spc="-1" strike="noStrike" u="sng">
                <a:solidFill>
                  <a:srgbClr val="000000"/>
                </a:solidFill>
                <a:uFillTx/>
                <a:latin typeface="Calibri"/>
              </a:rPr>
              <a:t>v minimálnej výške 20 %</a:t>
            </a:r>
            <a:r>
              <a:rPr b="1" lang="sk-SK" sz="1600" spc="-1" strike="noStrike">
                <a:solidFill>
                  <a:srgbClr val="000000"/>
                </a:solidFill>
                <a:latin typeface="Calibri"/>
              </a:rPr>
              <a:t> z celkových oprávnených výdavkov projektu uvedených v zmluve o NFP</a:t>
            </a:r>
            <a:r>
              <a:rPr b="0" lang="sk-SK" sz="1600" spc="-1" strike="noStrike">
                <a:solidFill>
                  <a:srgbClr val="000000"/>
                </a:solidFill>
                <a:latin typeface="Calibri"/>
              </a:rPr>
              <a:t>. Nesplnenie tejto  zmluvnej podmienky bude automaticky považované za závažné porušenie zmluvy o  NFP s možnosťou poskytovateľa odstúpiť od zmluvy o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1 EUR               </a:t>
            </a:r>
            <a:r>
              <a:rPr b="1" lang="sk-SK" sz="1600" spc="-1" strike="noStrike">
                <a:solidFill>
                  <a:srgbClr val="000000"/>
                </a:solidFill>
                <a:latin typeface="Calibri"/>
              </a:rPr>
              <a:t>Max. výška NFP</a:t>
            </a:r>
            <a:r>
              <a:rPr b="0" lang="sk-SK" sz="1600" spc="-1" strike="noStrike">
                <a:solidFill>
                  <a:srgbClr val="000000"/>
                </a:solidFill>
                <a:latin typeface="Calibri"/>
              </a:rPr>
              <a:t>: 2 000 000 EUR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I.</a:t>
            </a:r>
            <a:endParaRPr b="0" lang="en-US" sz="40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na základe údajov z Elektronického kontraktačného systému</a:t>
            </a:r>
            <a:r>
              <a:rPr b="0" lang="sk-SK" sz="1800" spc="-1" strike="noStrike">
                <a:solidFill>
                  <a:srgbClr val="000000"/>
                </a:solidFill>
                <a:latin typeface="Calibri"/>
              </a:rPr>
              <a:t> (</a:t>
            </a:r>
            <a:r>
              <a:rPr b="0" lang="sk-SK" sz="1800" spc="-1" strike="noStrike" u="sng">
                <a:solidFill>
                  <a:srgbClr val="0000ff"/>
                </a:solidFill>
                <a:uFillTx/>
                <a:latin typeface="Calibri"/>
                <a:hlinkClick r:id="rId1"/>
              </a:rPr>
              <a:t>www.eks.sk</a:t>
            </a:r>
            <a:r>
              <a:rPr b="0" lang="sk-SK" sz="1800" spc="-1" strike="noStrike">
                <a:solidFill>
                  <a:srgbClr val="000000"/>
                </a:solidFill>
                <a:latin typeface="Calibri"/>
              </a:rPr>
              <a:t>) v prípade odstupných tovarov a služieb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na základe údajov zo Štatistického úradu SR</a:t>
            </a:r>
            <a:r>
              <a:rPr b="0" lang="sk-SK" sz="1800" spc="-1" strike="noStrike">
                <a:solidFill>
                  <a:srgbClr val="000000"/>
                </a:solidFill>
                <a:latin typeface="Calibri"/>
              </a:rPr>
              <a:t> : ceny tovarov/služieb voľne dostupné v databáze SLOVSTAT; ceny tovarov/ služieb, ktoré nie sú voľne dostupné ale Štatistický úrad SR ich eviduje a je možné ich vyžiadať aj za predchádzajúce roky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ako oslovenie viacerých subjektov – musí byť uvedená detailná špecifikácia predmetu prieskumu trhu (detailná špecifikácia tovaru/prác/služby; počet tovarov/prác/služieb, súvisiace služby s predmetom prieskumu trhu ak relevantné); nie je možné do prieskumu trhu odkopírovať</a:t>
            </a:r>
            <a:r>
              <a:rPr b="0" lang="sk-SK" sz="1800" spc="-1" strike="noStrike">
                <a:solidFill>
                  <a:srgbClr val="000000"/>
                </a:solidFill>
                <a:latin typeface="Calibri"/>
              </a:rPr>
              <a:t> </a:t>
            </a:r>
            <a:r>
              <a:rPr b="1" lang="sk-SK" sz="1800" spc="-1" strike="noStrike">
                <a:solidFill>
                  <a:srgbClr val="000000"/>
                </a:solidFill>
                <a:latin typeface="Calibri"/>
              </a:rPr>
              <a:t>položku rozpočtu</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yužiť aj existujúce/aktuálne rámcové zmluvy na dodanie tovarov, prác a služieb, v prípade ak tieto zmluvy nie sú postihnuté žiadnou korekciou</a:t>
            </a:r>
            <a:r>
              <a:rPr b="0" lang="sk-SK" sz="1800" spc="-1" strike="noStrike">
                <a:solidFill>
                  <a:srgbClr val="000000"/>
                </a:solidFill>
                <a:latin typeface="Calibri"/>
              </a:rPr>
              <a:t> (t.j. v prípade, ak proces VO na výdavky realizované takýmito zmluvami nebol postihnutý korekciami z dôvodu pochybení v procese VO resp. kvôli iným pochybeniam – napr. primeranosť ceny).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ŽoNFP v časti Verejné obstarávanie je potrebné uviesť všetky VO plánované, okrem VO plánovaných výlučne v rámci 15%  paušálnej sadzby na nepriame výdavky resp. VO v rámci zjednodušeného vykazovania výdavko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a:t>
            </a:r>
            <a:endParaRPr b="0" lang="en-US" sz="4400" spc="-1" strike="noStrike">
              <a:solidFill>
                <a:srgbClr val="000000"/>
              </a:solidFill>
              <a:latin typeface="Calibri"/>
            </a:endParaRPr>
          </a:p>
        </p:txBody>
      </p:sp>
      <p:sp>
        <p:nvSpPr>
          <p:cNvPr id="49" name=""/>
          <p:cNvSpPr txBox="1"/>
          <p:nvPr/>
        </p:nvSpPr>
        <p:spPr>
          <a:xfrm>
            <a:off x="499680" y="1125360"/>
            <a:ext cx="8186760" cy="5328000"/>
          </a:xfrm>
          <a:prstGeom prst="rect">
            <a:avLst/>
          </a:prstGeom>
          <a:noFill/>
          <a:ln w="0">
            <a:noFill/>
          </a:ln>
        </p:spPr>
        <p:txBody>
          <a:bodyPr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02 - Dlhodobý hmotný majetok</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2 - Samostatné hnuteľné veci a súbory hnuteľných vecí</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9 - Ostatný dlhodobý hmotný majetok</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1 - Zásoby</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112 - Zásoby</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35 - Dotácie, príspevky a transfery</a:t>
            </a:r>
            <a:endParaRPr b="0" lang="en-US" sz="20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352 - Poskytnutie dotácií, príspevkov voči tretím osobám </a:t>
            </a:r>
            <a:r>
              <a:rPr b="0" i="1" lang="sk-SK" sz="1400" spc="-1" strike="noStrike">
                <a:solidFill>
                  <a:srgbClr val="000000"/>
                </a:solidFill>
                <a:latin typeface="Calibri"/>
              </a:rPr>
              <a:t>(musia mať charakter personálnych výdavkov (napr. refundáciu miezd pedagogických zamestnancov školy v prípade ak je žiadateľom VÚC ako zriaďovateľ); t.j. skupina výdavkov 352 môže obsahovať iba výdavky na mzdy a odvody zamestnancov)</a:t>
            </a:r>
            <a:endParaRPr b="0" lang="en-US" sz="1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0 - Spotreb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02 - Spotreba energie</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1 - Služby</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1 - Opravy a udržiavani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2 - Cestovné náhrady</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8 - Ostatné služb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I.</a:t>
            </a:r>
            <a:endParaRPr b="0" lang="en-US" sz="4400" spc="-1" strike="noStrike">
              <a:solidFill>
                <a:srgbClr val="000000"/>
              </a:solidFill>
              <a:latin typeface="Calibri"/>
            </a:endParaRPr>
          </a:p>
        </p:txBody>
      </p:sp>
      <p:sp>
        <p:nvSpPr>
          <p:cNvPr id="51" name=""/>
          <p:cNvSpPr txBox="1"/>
          <p:nvPr/>
        </p:nvSpPr>
        <p:spPr>
          <a:xfrm>
            <a:off x="499680" y="1197000"/>
            <a:ext cx="8186760" cy="48960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21 - Mzdové výdavky (vrátane odmien za prácu vykonávanú mimo pracovného pomeru, platov, povinných odvodov za zamestnávateľa a iných zákonných náhra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48 - Výdavky na prevádzkovú činnosť</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51 - Odpis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68 - Ostatné finančné výdavk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02 - Paušálna sadzba na nepriame výdavky </a:t>
            </a:r>
            <a:r>
              <a:rPr b="0" i="1" lang="sk-SK" sz="2000" spc="-1" strike="noStrike">
                <a:solidFill>
                  <a:srgbClr val="000000"/>
                </a:solidFill>
                <a:latin typeface="Calibri"/>
              </a:rPr>
              <a:t>určené na základe nákladov na zamestnancov (nariadenie 1303/2013, čl. 68 písm. b)</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10 - Jednotkové výdavk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30 - Rezerva na nepredvídané výdavk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3" name=""/>
          <p:cNvSpPr txBox="1"/>
          <p:nvPr/>
        </p:nvSpPr>
        <p:spPr>
          <a:xfrm>
            <a:off x="499680" y="1268280"/>
            <a:ext cx="8186760" cy="48247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na uskutočnenie činností preukázateľne priamo súvisiacich s konkrétnou činnosťo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 </a:t>
            </a:r>
            <a:r>
              <a:rPr b="0" lang="sk-SK" sz="1600" spc="-1" strike="noStrike">
                <a:solidFill>
                  <a:srgbClr val="000000"/>
                </a:solidFill>
                <a:latin typeface="Calibri"/>
              </a:rPr>
              <a:t>výdavky vzniknuté na základe pracovnoprávnych vzťahov alebo obdobných vzťahov (napr. zákonník práce, zákon o štátnej službe,...) - ide o pracovné činnosti uvedené v prílohe č.1a rozpočet v časti 3 „Koordinácia projektu“, 3.1 „Personálne výdavky interné - koordinačné činnosti</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 </a:t>
            </a:r>
            <a:r>
              <a:rPr b="0" lang="sk-SK" sz="1600" spc="-1" strike="noStrike">
                <a:solidFill>
                  <a:srgbClr val="000000"/>
                </a:solidFill>
                <a:latin typeface="Calibri"/>
              </a:rPr>
              <a:t>výdavky vzniknuté na základe pracovnoprávnych vzťahov alebo obdobných vzťahov (napr. zákonník práce, zákon o štátnej službe,...)</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školiaci materiál a potreby pre aktivity projektu </a:t>
            </a:r>
            <a:r>
              <a:rPr b="0" lang="sk-SK" sz="1600" spc="-1" strike="noStrike">
                <a:solidFill>
                  <a:srgbClr val="000000"/>
                </a:solidFill>
                <a:latin typeface="Calibri"/>
              </a:rPr>
              <a:t>(napr. učebnice, učebné texty, publikácie, časopisy, slovníky, pracovné zošity, drobné písanie a kresliace potreby);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vádzkové výdavky </a:t>
            </a:r>
            <a:r>
              <a:rPr b="0" lang="sk-SK" sz="1600" spc="-1" strike="noStrike">
                <a:solidFill>
                  <a:srgbClr val="000000"/>
                </a:solidFill>
                <a:latin typeface="Calibri"/>
              </a:rPr>
              <a:t>iba v rozsahu na uskutočnenie realizácie jednotlivých aktivít projektu (spotrebný tovar a prevádzkový materiál, voda, plyn, elektrická energia, poštovné, telekomunikačné poplatky, spojovacie siete,...);</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ákup hmotného a nehmotného majetku (okrem nehnuteľností) -  </a:t>
            </a:r>
            <a:r>
              <a:rPr b="1" lang="sk-SK" sz="1600" spc="-1" strike="noStrike">
                <a:solidFill>
                  <a:srgbClr val="000000"/>
                </a:solidFill>
                <a:latin typeface="Calibri"/>
              </a:rPr>
              <a:t>obstaranie zariadenia/vybavenia a didaktických prostriedkov pre hlavné aktivity projektu </a:t>
            </a:r>
            <a:r>
              <a:rPr b="0" lang="sk-SK" sz="1600" spc="-1" strike="noStrike">
                <a:solidFill>
                  <a:srgbClr val="000000"/>
                </a:solidFill>
                <a:latin typeface="Calibri"/>
              </a:rPr>
              <a:t>(vrátane nehmotného majetku) - max. </a:t>
            </a:r>
            <a:r>
              <a:rPr b="1" lang="sk-SK" sz="1600" spc="-1" strike="noStrike">
                <a:solidFill>
                  <a:srgbClr val="000000"/>
                </a:solidFill>
                <a:latin typeface="Calibri"/>
              </a:rPr>
              <a:t>30 %</a:t>
            </a:r>
            <a:r>
              <a:rPr b="0" lang="sk-SK" sz="1600" spc="-1" strike="noStrike">
                <a:solidFill>
                  <a:srgbClr val="000000"/>
                </a:solidFill>
                <a:latin typeface="Calibri"/>
              </a:rPr>
              <a:t> oprávnených priamych výdavkov rozpočtu - nezapočíta sa položka riziková prirážka</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5" name=""/>
          <p:cNvSpPr txBox="1"/>
          <p:nvPr/>
        </p:nvSpPr>
        <p:spPr>
          <a:xfrm>
            <a:off x="499680" y="907560"/>
            <a:ext cx="8186760" cy="547380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cestovné náhrady odborného personálu, expertov, školiteľov, lektorov – tuzemské a zahraničné pracovné cesty (úhrada cestovných náhrad ako oprávnený výdavok platí len pri uzatvorení pracovnoprávnych vzťahov s prijímateľom) – oprávnené iba pre mimoškolskú činnosť a pre vzdelávanie pedagogických a odborných zamestnancov zabezpečené dodávateľsky (t.j. neaplikuje sa/nevyužíva sa v prípade využitia štandardných stupníc jednotkových náklad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íspevok (finančného alebo nefinančného charakteru) pre frekventantov, ako aj náhrady mzdy vrátane odvodov zamestnávateľa zúčastnených osôb (frekventantov), výdavky spojené so stravovaním, ubytovaním, cestovným); odmena za účasť frekventanta na vzdelávaní je neoprávneným výdavkom</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radenské a konzultačné služby (napr. právne poradenstvo);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platok za vykonanie skúšky, získanie certifikátu (úhrada výdavkov frekventant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dávky na priame výdavky projektu </a:t>
            </a:r>
            <a:r>
              <a:rPr b="0" lang="sk-SK" sz="1600" spc="-1" strike="noStrike">
                <a:solidFill>
                  <a:srgbClr val="000000"/>
                </a:solidFill>
                <a:latin typeface="Calibri"/>
              </a:rPr>
              <a:t>- realizácia vzdelávacích a iných hlavných aktivít projektu (napr. tvorba metodík, učebných osnov) prostredníctvom vzťahov, ktoré majú odberateľsko-dodávateľský charakter – dodávky na priame výdavky projektu do výšky maximálne </a:t>
            </a:r>
            <a:r>
              <a:rPr b="1" lang="sk-SK" sz="1600" spc="-1" strike="noStrike">
                <a:solidFill>
                  <a:srgbClr val="000000"/>
                </a:solidFill>
                <a:latin typeface="Calibri"/>
              </a:rPr>
              <a:t>10  %</a:t>
            </a:r>
            <a:r>
              <a:rPr b="0" lang="sk-SK" sz="1600" spc="-1" strike="noStrike">
                <a:solidFill>
                  <a:srgbClr val="000000"/>
                </a:solidFill>
                <a:latin typeface="Calibri"/>
              </a:rPr>
              <a:t> oprávnených priamych výdavkov rozpočtu – nezapočítava sa riziková prirážka (dodávkou na priame výdavky projektu sa rozumie vykonávanie činností spojených s implementáciou projektu, t.j. odborných čin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7" name=""/>
          <p:cNvSpPr txBox="1"/>
          <p:nvPr/>
        </p:nvSpPr>
        <p:spPr>
          <a:xfrm>
            <a:off x="499680" y="907560"/>
            <a:ext cx="8186760" cy="547380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súvisiace s akreditáciou programu, certifikáciou (napr. získanie akreditácie MŠVVaŠ SR nezávislou certifikačnou autoritou);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 </a:t>
            </a:r>
            <a:r>
              <a:rPr b="0" lang="sk-SK" sz="1600" spc="-1" strike="noStrike">
                <a:solidFill>
                  <a:srgbClr val="000000"/>
                </a:solidFill>
                <a:latin typeface="Calibri"/>
              </a:rPr>
              <a:t>odpisy ak obstaraný odpisovaný majetok (hmotný/nehmotný majetok) nebol financovaný z akýchkoľvek verejných zdrojov (zdroje EÚ, štátny rozpočet, zdroje obce, VÚC a iné verejné zdroje); Odpisy dlhodobého hmotného a nehmotného majetku používaného na účely projektu sú oprávneným výdavkom počas realizácie projektu za predpokladu, že nákup takéhoto majetku nie je súčasťou oprávnených výdavkov na projekt. Prijímateľ si nesmie nárokovať na majetok jeho obstarávaciu cenu, t.j. obstaranie majetku a zároveň aj príslušné odpis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davateľská činnosť (príprava, výroba, tlač, distribúcia);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monitoring (monitorovacia správa, hodnoten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iziková prirážka </a:t>
            </a:r>
            <a:r>
              <a:rPr b="0" lang="sk-SK" sz="1600" spc="-1" strike="noStrike">
                <a:solidFill>
                  <a:srgbClr val="000000"/>
                </a:solidFill>
                <a:latin typeface="Calibri"/>
              </a:rPr>
              <a:t>rozpočtovaná vo výške do 5% oprávnených výdavkov (priamych a nepriamych výdavkov projekt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a:t>
            </a:r>
            <a:endParaRPr b="0" lang="en-US" sz="3600" spc="-1" strike="noStrike">
              <a:solidFill>
                <a:srgbClr val="000000"/>
              </a:solidFill>
              <a:latin typeface="Calibri"/>
            </a:endParaRPr>
          </a:p>
        </p:txBody>
      </p:sp>
      <p:sp>
        <p:nvSpPr>
          <p:cNvPr id="59" name=""/>
          <p:cNvSpPr txBox="1"/>
          <p:nvPr/>
        </p:nvSpPr>
        <p:spPr>
          <a:xfrm>
            <a:off x="499680" y="981000"/>
            <a:ext cx="8186760" cy="5184720"/>
          </a:xfrm>
          <a:prstGeom prst="rect">
            <a:avLst/>
          </a:prstGeom>
          <a:noFill/>
          <a:ln w="0">
            <a:noFill/>
          </a:ln>
        </p:spPr>
        <p:txBody>
          <a:bodyPr anchor="t">
            <a:normAutofit fontScale="99000"/>
          </a:bodyPr>
          <a:p>
            <a:pPr marL="339480" indent="-33948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100" spc="-1" strike="noStrike">
              <a:solidFill>
                <a:srgbClr val="000000"/>
              </a:solidFill>
              <a:latin typeface="Calibri"/>
            </a:endParaRPr>
          </a:p>
          <a:p>
            <a:pPr marL="339480" indent="-339480" algn="just">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a:t>
            </a:r>
            <a:r>
              <a:rPr b="0" lang="sk-SK" sz="1000" spc="-1" strike="noStrike">
                <a:solidFill>
                  <a:srgbClr val="000000"/>
                </a:solidFill>
                <a:latin typeface="Calibri"/>
              </a:rPr>
              <a:t>Priamymi personálnymi výdavkami na účely tejto výzvy sú interné personálne výdavky (t.j. ekon. klasifikácia 610620 – pracovný pomer; ekon. klasifikácia 637027 – dohody zamestnancov mimo pracovného pomeru a    k nim súvisiace/prislúchajúce odvody – ekon. klasifikácia 610620 resp. zo skupiny výdavkov 521 a zo skupiny výdavkov 352)</a:t>
            </a:r>
            <a:endParaRPr b="0" lang="en-US" sz="10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39480" indent="-339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39480" indent="-339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a:p>
            <a:pPr marL="339480" indent="-339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33948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9-06T08:40:38Z</dcterms:modified>
  <cp:revision>141</cp:revision>
  <dc:subject/>
  <dc:title>Snímka 1</dc:title>
</cp:coreProperties>
</file>