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17C-F8D0-4D12-8B98-B6A311CE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194-2AAC-4A93-B10C-6C0F9C1F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106-57A5-4B39-BD64-45F43ED6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271-E2C3-48E8-A313-F0517E48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8292-0CBF-4090-8295-7EAF8735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80C7-5569-43DE-8934-10602CE1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482C-0639-4D75-A827-D81F7ADC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8328-9127-4A57-AA48-0291844A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D103-55B1-4883-B84C-BF7B4D8E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9FD8-24EF-4471-B31D-03671793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7A93-C88A-4BF5-93E7-7841A53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AD5-640C-46DF-9E51-4179046B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4F9E-B025-4B52-8133-0EC5BD4F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269F-C07B-4362-A820-F4D61DAC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BA5E-F81C-4169-B9A4-18112F88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34DB-56F1-40F9-8C98-9284C2A2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0CD5-487B-40DD-9EF2-E5200033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B26-2C25-4F1B-AE91-4D9BF353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5C1-2D34-4BFF-A622-5FF74351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734-CF69-44CC-AC4D-BA35AE5F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579-8842-4ED8-B872-69609DF4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8CD-FB83-477C-BB60-01569555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921-8447-49A2-92CF-A596D3FC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0B1-D462-4D16-9DBD-C464F03C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8663-C5A9-4E57-A988-E9C360E8BD2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EB5D-B00E-490D-985A-F02033411467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upsvr.gov.sk/statistiky/zoznamnajmenej-rozvinutychokresov.html?page_id=561733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Calibri"/>
              </a:rPr>
              <a:t>Výzva na predkladanie žiadostí o NFP "Prepojenie stredoškolského vzdelávania s praxou„ kód OPLZ-PO1/2019/DOP/1.2.1-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BlokTextu 5"/>
          <p:cNvSpPr/>
          <p:nvPr/>
        </p:nvSpPr>
        <p:spPr>
          <a:xfrm>
            <a:off x="0" y="58770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05.08.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 v súlade s prílohou č. 6 výzvy, v takom prípade je žiadateľ povinný postupovať podľa štandardnej stupnice v prílohe č. 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A/ALEB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činnosť, na ktorú sa neuplatňuje vzdelávací poukaz a ktorá nie je realizovaná v rámci výchovného programu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Všetky činnosti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ované v rámci podaktivít projektu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musia prispievať k zvýšeniu kompetencií žiakov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povinnej cieľovej skupiny)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otrebných pre prispôsobenie vzdelávania požiadavkám trhu práce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žiadateľ popíše v časti 7.2 ŽoNFP ak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Voliteľná podaktivita pre voliteľnú cieľovú skupinu pedagogickí a odborní zamestnanci stredných škô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é kluby v súlade s prílohou č. 7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A/ALE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zdelávanie pedagogických a odborných zamestnancov zabezpečené dodávateľs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Riadenie/koordinácia projektu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– povinná ako samostatná podaktivita bez ohľadu na to, ktoré činnosti/podaktivity bude žiadateľ realizovať. Žiadateľ je oprávnený zvoliť si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výlučne pracovné pozície uvedené v prílohe č. 5 výzv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projektový manažér, finančný manažér, manažér pre monitorovania a administratívny zamestnan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1052640"/>
            <a:ext cx="8259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(bod 7.2 a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dôvodnenie rozsahu a obsahu extra hodín, popísanie súladu extra hodín so štátnym/školským vzdelávacím progra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ktuálny školský vzdelávací program vrátane Rámcového učebného plánu a návrh nového vzdelávacieho programu vrátane návrhu Rámcového učebného pl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lán práce klu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môže predložiť viacero žiadostí o NFP s rovnakými oprávnenými aktivitami a súčasne rovnakou cieľovou skupinou. V prípade, ak žiadateľ predloží viacero žiadostí o NFP, ktoré porušia čo i len jednu z uvedených podmienok, budú tieto žiadosti o NFP vylúčené zo schvaľovacieho proces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680" y="1196640"/>
            <a:ext cx="815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odmienka oprávnenosti žiadateľa (právna for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4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. Podmienka nebyť dlžníkom na dani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daniach u miestne príslušného správcu da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. Podmienka nebyť dlžníkom poistného na zdravot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poistného na zdravotnom poistení v žiadnej zdravotnej poisťovni poskytujúcej verejné zdravotné poistenie v S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4. Podmienka nebyť dlžníkom na sociál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sociálnom poist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5. Podmienka zákazu vedenia výkonu rozhodnutia voči žiadateľ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nesmie byť vedený výkon rozhodnutia ani vymáhacie konanie v súlade s článkom 71 všeobecného nariad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6. Podmienka, že voči žiadateľovi sa nenárokuje vrátenie pomoci na základe rozhodnutia EK, ktorým bola pomoc označená za neoprávnenú a nezlučiteľnú s vnútorným trh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nárokovať vrátenie pomoci na základe rozhodnutia Európskej komisie, ktorým bola pomoc označená za neoprávnenú a nezlučiteľnú so spoločným trh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ôsob overenia: 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7. Podmienka finančnej spôsobilosti spolufinancovan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musí byť finančne spôsobilý na spolufinancovanie projektu. Finančná spôsobilosť na spolufinancovanie projektu znamená, že žiadateľ má zabezpečené finančné prostriedky na spolufinancovanie oprávnených výdavkov projekt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ken relevantného dokumen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a 1b Doplňujúce informácie k časti 7.4 žiadosti o N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8. Podmienka, že žiadateľ ani jeho štatutárny orgán, ani žiadny člen štatutárneho orgánu, ani prokurista/i, ani osoba splnomocnená zastupovať žiadateľa v konaní o ŽoNFP neboli právoplatne odsúdení za trestný čin korupcie, za trestný čin poškodzovania finančných záujmov Európskej únie, za trestný čin legalizácie príjmu z trestnej činnosti, za trestný čin založenia, zosnovania a podporovania zločineckej skupiny, alebo za trestný čin machinácie pri verejnom obstarávaní a verejnej draž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dateľ, jeho štatutárny orgán, žiadny člen štatutárneho orgánu, prokurista/i ani osoba splnomocnená zastupovať žiadateľa v konaní o ŽoNFP neboli právoplatne odsúdení podľa Trestného zákona za trestný čin (ďalej len „TČ“) korupcie, TČ poškodzovania finančných záujmov Európskej únie, TČ legalizácie príjmu z trestnej činnosti, TČ založenia, zosnovania a podporovania zločineckej skupiny alebo TČ machinácie pri verejnom obstarávaní a verejnej dražb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9. Podmienka, že voči žiadateľovi nie je vedené konkurzné konanie, reštrukturalizačné konanie, nie je v konkurze ani v reštrukturalizác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0. Podmienka, že voči žiadateľovi ktorým je právnická osoba, nemá právoplatným rozsudkom uložený trest zákazu prijímať dotácie alebo subvencie, trest zákazu prijímať pomoc a podporu poskytovanú z fondov EÚ alebo trest zákazu činnosti vo verejnom obstarávaní podľa osobitného predpi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2440" y="1458720"/>
            <a:ext cx="83311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č. 1 Vzdelávanie OP Ľudské zdroje, špecifický cieľ 1.2.1 </a:t>
            </a: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Zvýšiť kvalitu odborného vzdelávania a prípravy reflektujúc potreby trhu prá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30.08.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8.10.2019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5.01.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0 mil. EUR (28,5 mil. EUR pre MRR a 1,5 mil. EUR pre VR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určená pre všetky kraje S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mienka oprávnenosti cieľovej skupiny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Formulár ŽoNFP (bod 7.2 a 8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2. Podmienka, že hlavné aktivity projektu sú vo vecnom súlade s oprávnenými aktivitami OP Ľ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8-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. Podmienka, že výdavky projektu sú oprávnené a nárokovaná výška výdavkov je oprávnená na financovanie z OP Ľ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- samostatná ppt k podmienke (výdavk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4. Podmienka, že projekt je realizovaný na oprávnenom územ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Oprávneným miestom realizácie aktivít projektu </a:t>
            </a: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sú všetky kraje S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Geografická oprávnenosť žiadateľa (oprávnené miesto realizácie projektu) sa určuje prostredníctvom toho, z ktorého regiónu Slovenskej republiky pochádza cieľová skupina v projekt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žiakoch sa za rozhodujúce považuje sídlo školy, ktorej sú žiakm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pedagogických a odborných zamestnancoch je rozhodujúce územie kraja, v rámci ktorého sú zamestna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bod 5 a 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5. Podmienka splnenia kritérií pre výber projekt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oNFP musí splniť kritériá pre výber projektov, ktoré boli schválené prostredníctvom monitorovacieho výboru pre OP ĽZ a sú prílohou č. 6 výzv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Vo výzve sa aplikuje kritérium: Prínos k podpore najmenej rozvinutých okresov. Ich zoznam je zverejnený na sídle: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upsvr.gov.sk/statistiky/zoznamnajmenej-rozvinutychokresov.html?page_id=561733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6. Podmienka relevantného spôsobu financov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 rámci tejto výzvy sa uplatňuje spôsob financovania prostredníctvom: refundácie, formou zálohových platieb, a/alebo formou kombinácie zálohových platieb a refundácie v súlade s platným Systémom finančného riadenia EŠI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oskytovaného príspevku: nenávratný finančný príspev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Táto podmienka nie je predmetom preukázania splnenia zo strany žiadateľa pri predložení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7. Podmienka neporušenia zákazu nelegálneho zamestnávania štátneho príslušníka tretej krajiny žiadateľom za obdobie 5 rokov predchádzajúcich podaniu ŽoNF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nesmie porušiť zákaz nelegálnej práce a nelegálneho zamestnávania podľa osobitného predpisu za obdobie 5 rokov predchádzajúcich predloženiu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Čestné vyhlásenie Formulár ŽoNFP časť 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8. Podmienky týkajúce sa štátnej pomoci a vyplývajúce zo schém štátnej pomoci/pomoci de minim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Nie je predmetom preukazovania zo strany žiadateľ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ktivity výzvy nie sú poskytovaním štátnej pomo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9. Oprávnenosť z hľadiska súladu s H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dložená ŽoNFP, musí byť v súlade s horizontálnymi princípmi rovnosť mužov a žien a nediskriminácia a udržateľný rozvoj na roky 2014 – 2020 a v čl. 7 a 8 všeobecného nariad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5 a časť 7.2) a Čestné vyhlásenie žiadateľa v ŽoNFP (bod 1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súladu s HP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0. Minimálna a maximálna výška príspev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výška príspevku na projekt je 100 001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výška príspevku na projekt je 2 000 000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Žiadateľ je povinný plniť podmienku minimálnej výšky príspevku do momentu poskytnutia súčinnosti podľa § 25 ods. 4 zákona o príspevku z EŠIF v prípade vydania rozhodnutia o schválení ŽoNF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11) a Rozpočet projektu s podrobným komentárom (Príloha č. 1a ŽoNF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1. Časová oprávnenosť realizácie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dĺžka na realizáciu aktivít projektu – 12 mesiacov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dĺžka na realizáciu aktivít projektu je 30 mesiac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9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2. Podmienky poskytnutia príspevku z hľadiska definovania merateľných ukazovateľov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erateľné ukazovatele projektu pre túto výzvu sú definované v prílohe č. 3 Zoznam povinných merateľných ukazovateľov projektu merateľných ukazovateľov (ďalej „MU“), vrátane ukazovateľov relevantných k HP a iných údajov tejto výzv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body 9, 10.1 a 10.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3. Podmienka zákazu predloženia viacero ŽoNFP vo vzťahu k prebiehajúcemu alebo ukončenému schvaľovaciemu procesu Žo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ie je oprávnený predložiť viacero ŽoNFP v rámci tejto výzvy resp. hodnotiaceho kola tejto výzvy pre rovnaké aktivity a zároveň rovnakú cieľovú skupinu ak konanie o predmetnej ŽoNFP stále trvá resp. bolo vydané Rozhodnutie o schválení ŽoNF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o NFP v časti 15 žiadosti o 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867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052640"/>
            <a:ext cx="8331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s prílohami (ŽoNFP, rozpočet, doplňujúce informácie k administratívnej a prevádzkovej kapacite, prieskum trhu, plnomocenstvo, životopis, čestné vyhlásen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učka pre žiadateľa pre prioritnú os 1 Vzdelávanie OP ĽZ, verzia 6.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povinných merateľných ukazovateľov, vrátane ukazovateľov relevantných k HP a iných údaj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oprávnených a neoprávnených výdavk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oordinačné činnosti– vytypované pozície – náplň činnosti a kvalifikačné pr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aldov- hodinová sadzba učiteľa/učiteľov podľa kategórie škôl- počet hodín strávených vzdelávacími aktivitami („extra hodiny“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ladov- pedagogické kluby – hodina účasti pedagogického zamestnanca na aktivitách pedagogického klu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ritériá pre výber projektov OP ĽZ a metodika ich uplatňo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ácia pre žiadateľov o nenávratný finančný príspevok, resp. o príspevok, ktorá je zverejnená na webovom sídle http://www.olaf.vlada.gov.sk/system-vcasneho-odhalovania-rizika-a-vylucenia-ed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Ďalšie podporné dokumenty a informácie (zoznam odkaz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5680" y="1052640"/>
            <a:ext cx="8331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ísomná verzia osobne/poštou/kuriéro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elektronická verzia – možnosť využiť elektronickú schránk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žiadateľov (potvrdeni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Stredné škol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zmysle § 32 písm. b), c), d) a e) a § 95 ods. 1 písm. c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tredná odborná šk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tredná športová škola (okrem študijného odboru 7451 J športové gymnázi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kola umeleckého priemys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onzervató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tredné školy pre žiakov so zdravotným znevýhodnení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Samosprávne kraje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ko zriaďovatelia stredných škôl uvedených vyšš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amosprávny kraj je oprávnený predložiť jednu alebo viacero ŽoNFP pre jednu školu alebo viac škôl, avšak tá istá škola môže byť predmetom podpory len v jednej ŽoNF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V prípade, ak v rámci niektorého zo samosprávnych krajov predloží ŽoNFP samosprávny kraj za školy vo svojej zriaďovateľskej pôsobnosti, nemôže v rámci výzvy predložiť samostatnú ŽoNFP ako žiadateľ škola, ktorej zriaďovateľom je tento samosprávny kraj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Forma preukáz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radenie do Siete škôl a školských zariad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(príloha 1h žiadosti o NFP) – relevantné pre žiadateľov zo súkromného sektora- novovzniknuté subjekty, ktorí nemajú ukončený fiškálny 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404640"/>
            <a:ext cx="83311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Povin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v ITMS2014+ 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ci základných a stredných škôl vrátane žiakov so ŠVVP vrátane marginalizovaných komunít ako sú napr. Rómov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žiaci stredných škôl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rátane žiakov so ŠVVP vrátane marginalizovaných komunít ako sú napr. Rómov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Voliteľ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í zamestnanci a odborní zamestnanci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stredných škôl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zmysle platnej legislatí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Forma preukázan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ulár ŽoNFP (bod 7.2 a 8), podmienka nie je preukazovaná zo strany žiadateľa samostatnou príloh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Znenie aktivity v ITMS2014+ (názov typu aktivity z textu OPĽZ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tvorba, inovácia, realizácia vzdelávacích programov zameraných na zvýšenie kompetencií potrebných pre prispôsobenie vzdelávania požiadavkám trhu práce (napr. jazykové, IKT zručnosti a finančná gramotnosť vrátane podnikateľských vedomostí a ekonomického mysl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V žiadosti o NF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zadefinuje v časti 9 jednu hlavnú aktivitu priradenú k typu aktivity „</a:t>
            </a: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tvorba, inovácia, realizácia vzdelávacích programov zameraných na zvýšenie kompetencií potrebných pre prispôsobenie vzdelávania požiadavkám trhu práce (napr. jazykové, IKT zručnosti a finančná gramotnosť vrátane podnikateľských vedomostí a ekonomického myslenia)“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 v časti 7.2 popíše činnosti/podaktivity v rámci hlavnej ak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Oprávnené podaktivity/činnosti vo vzťahu k cieľovej skupine žiaci, ktoré je potrebné podrobne popísať v časti 7.2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itateľská gramot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atematická gramot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odovedná gramot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inančná gramotnosť vrátane podnikateľských vedomostí a ekonomického mysl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Jazykové zru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KT zru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Paľková Veronika</cp:lastModifiedBy>
  <dcterms:modified xsi:type="dcterms:W3CDTF">2019-09-23T10:43:55Z</dcterms:modified>
  <cp:revision>189</cp:revision>
  <dc:subject/>
  <dc:title>Snímka 1</dc:title>
</cp:coreProperties>
</file>