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41709-FACB-48D1-A6D9-CF6E89884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4AAF5-2F8E-4349-888A-61FBAC869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77F5D-27ED-4F0C-B6DE-CE413C5B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E1DC0-CA3C-443B-B413-D0C2635BC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1A55-3A44-47B6-AFAC-BC6DE9DA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D7551-7D9F-4E6C-9682-566AD1D8B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01C1-76C1-4BFB-B31D-A1C1BE4B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51D7A-F2CB-48EF-A7F9-061B28ED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E702-5C61-42E7-A00E-7630484C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1949-11BE-46E6-AB13-098F232A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2577-C50A-4E1E-A9D3-F49A4AFE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7BBD-AF2A-43BF-8419-F3EC07FB2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4DDD-A106-4618-B257-DF46BA162504}"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minedu.sk/usmernenie-k-ssjn-pedagogicke-praxe-zoznam-studentov/" TargetMode="External"/><Relationship Id="rId3" Type="http://schemas.openxmlformats.org/officeDocument/2006/relationships/hyperlink" Target="https://www.minedu.sk/usmernenie-k-ssjn-pedagogicke-praxe-zoznam-studento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10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3.1-01 „Skvalitnenie prípravy budúcich pedagogických a odborných zamestnanc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 - ŠSJN</a:t>
            </a:r>
            <a:endParaRPr b="0" lang="en-US" sz="4400" spc="-1" strike="noStrike">
              <a:solidFill>
                <a:srgbClr val="000000"/>
              </a:solidFill>
              <a:latin typeface="Calibri"/>
            </a:endParaRPr>
          </a:p>
        </p:txBody>
      </p:sp>
      <p:sp>
        <p:nvSpPr>
          <p:cNvPr id="61" name=""/>
          <p:cNvSpPr txBox="1"/>
          <p:nvPr/>
        </p:nvSpPr>
        <p:spPr>
          <a:xfrm>
            <a:off x="499680" y="1267920"/>
            <a:ext cx="8186760" cy="4969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SCO sa budú financovať rozbory nasledovných </a:t>
            </a:r>
            <a:r>
              <a:rPr b="1" lang="sk-SK" sz="2000" spc="-1" strike="noStrike">
                <a:solidFill>
                  <a:srgbClr val="000000"/>
                </a:solidFill>
                <a:latin typeface="Calibri"/>
              </a:rPr>
              <a:t>3 druhy praxí</a:t>
            </a:r>
            <a:r>
              <a:rPr b="0" lang="sk-SK"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a) hospitačná - úvodná, náčuvová, klinická, pedagogické praktiku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b) výstupová/výučbová - priebežná, bloková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c) výstupová/výučbová – súvislá</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Rozbor sa robí na každú vyučovaciu/výchovnú jednotku odučenú študentom počas praxe. V prípade hospitačných praxí robí rozbor vlastnej odučenej vyučovacej/výchovnej jednotky cvičný učiteľ.</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Na jeden rozbor jednej vyučovacej/výchovnej jednotky je stanovená jedna 60 minútová hodina </a:t>
            </a:r>
            <a:r>
              <a:rPr b="0" lang="sk-SK" sz="2000" spc="-1" strike="noStrike">
                <a:solidFill>
                  <a:srgbClr val="000000"/>
                </a:solidFill>
                <a:latin typeface="Calibri"/>
              </a:rPr>
              <a:t>(v zmysle SR pravidie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bor vypracuje cvičný učiteľ </a:t>
            </a:r>
            <a:r>
              <a:rPr b="1" lang="sk-SK" sz="2000" spc="-1" strike="noStrike">
                <a:solidFill>
                  <a:srgbClr val="000000"/>
                </a:solidFill>
                <a:latin typeface="Calibri"/>
              </a:rPr>
              <a:t>v písomnej forme </a:t>
            </a:r>
            <a:r>
              <a:rPr b="0" lang="sk-SK" sz="2000" spc="-1" strike="noStrike">
                <a:solidFill>
                  <a:srgbClr val="000000"/>
                </a:solidFill>
                <a:latin typeface="Calibri"/>
              </a:rPr>
              <a:t>(písomný záznam), t.j. záznam dokumentujúci uvedené činnosti (obsah spätnej väzby), vrátane odporúčaní cvičného učiteľa pre študenta a záverečných stanovísk cvičného učiteľa a študen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 - ŠSJN</a:t>
            </a:r>
            <a:endParaRPr b="0" lang="en-US" sz="4400" spc="-1" strike="noStrike">
              <a:solidFill>
                <a:srgbClr val="000000"/>
              </a:solidFill>
              <a:latin typeface="Calibri"/>
            </a:endParaRPr>
          </a:p>
        </p:txBody>
      </p:sp>
      <p:sp>
        <p:nvSpPr>
          <p:cNvPr id="63" name=""/>
          <p:cNvSpPr txBox="1"/>
          <p:nvPr/>
        </p:nvSpPr>
        <p:spPr>
          <a:xfrm>
            <a:off x="499680" y="1125000"/>
            <a:ext cx="8186760" cy="5256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innosti cvičného učiteľa, ktoré budú financované v rámci štandardnej stupnice jednotkových nákladov</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ebareflexia (rozbor) vyučovacej/výchovnej jednotky, ktorú odučí cvičný učiteľ (supervízor) pre študentov, pri tých typoch praxí, v ktorých študenti pozorujú výchovno-vzdelávací proces. (t.j. len pozorujú, ale sami ešte nevyučujú – lebo nemajú dostatok teoretických vedomostí/praktických skúseností), t.j. spätná väzba na samostatnú prípravu študenta na priamu vyučovaciu alebo výchovnú činnosť, </a:t>
            </a:r>
            <a:r>
              <a:rPr b="0" lang="sk-SK" sz="1600" spc="-1" strike="noStrike">
                <a:solidFill>
                  <a:srgbClr val="000000"/>
                </a:solidFill>
                <a:latin typeface="Symbol"/>
                <a:ea typeface="Symbol"/>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na sebareflexiu študenta na vlastnú vyučovaciu alebo výchovnú činnosť,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samostatnú priamu vyučovaciu alebo výchovnú činnosť študenta</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rámci spätnej väzby na samostatnú prípravu študenta </a:t>
            </a:r>
            <a:r>
              <a:rPr b="0" lang="sk-SK" sz="1600" spc="-1" strike="noStrike">
                <a:solidFill>
                  <a:srgbClr val="000000"/>
                </a:solidFill>
                <a:latin typeface="Calibri"/>
              </a:rPr>
              <a:t>na priamu vyučovaciu alebo výchovnú činnosť a na sebareflexiu študenta sa v rozbore cvičný učiteľ zameria n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preberanom učiv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špecifikách triedy vo vzťahu k preberanému učivu (stav porozumenia učiva, porozumenie žiakov s individuálnymi vzdelávacími potrebami a podobn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odnotenie študentovho projektu/prípravy z pohľadu školského vzdelávacieho programu resp. školského výchovného programu, didaktického a výchovného aspektu, štruktúry, cieľov, motivácie a aktivizácie detí a žiakov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racovanie pripomienok a prezentácia odporúčaní a usmernení k projektu (príprave študenta).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 - ŠSJN</a:t>
            </a:r>
            <a:endParaRPr b="0" lang="en-US" sz="4400" spc="-1" strike="noStrike">
              <a:solidFill>
                <a:srgbClr val="000000"/>
              </a:solidFill>
              <a:latin typeface="Calibri"/>
            </a:endParaRPr>
          </a:p>
        </p:txBody>
      </p:sp>
      <p:sp>
        <p:nvSpPr>
          <p:cNvPr id="65"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 rámci spätnej väzby na študentovu priamu vyučovaciu alebo výchovnú č</a:t>
            </a:r>
            <a:r>
              <a:rPr b="0" lang="sk-SK" sz="1800" spc="-1" strike="noStrike">
                <a:solidFill>
                  <a:srgbClr val="000000"/>
                </a:solidFill>
                <a:latin typeface="Calibri"/>
              </a:rPr>
              <a:t>innosť sa v rozbore cvičný učiteľ zameria na: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hodnotenie študentovho výkonu z pohľadu cieľov, plnenia školského vzdelávacieho programu resp. školského výchovného programu , štruktúry vyučovacej alebo výchovnej jednotky, motivácie a aktivizácie detí a žiakov, hodnotenia detí a žiakov a pod.,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reakcie na pripomienky, spoločne a odlišne vnímané prvk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ulovanie odporúčaní pre ďalšiu činnosť a rozvoj študenta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Rozsah resp. strop praxí</a:t>
            </a:r>
            <a:r>
              <a:rPr b="1" lang="sk-SK" sz="1800" spc="-1" strike="noStrike">
                <a:solidFill>
                  <a:srgbClr val="000000"/>
                </a:solidFill>
                <a:latin typeface="Calibri"/>
              </a:rPr>
              <a:t> </a:t>
            </a:r>
            <a:r>
              <a:rPr b="0" lang="sk-SK" sz="1800" spc="-1" strike="noStrike">
                <a:solidFill>
                  <a:srgbClr val="000000"/>
                </a:solidFill>
                <a:latin typeface="Calibri"/>
              </a:rPr>
              <a:t>financovaných v rámci tejto jednotkovej ceny bude stanovený vo výzve/vyzvaní - Rozsah resp. strop pedagogických praxí financovaných v rámci štandardnej stupnice jednotkových nákladov je pre túto výzvu stanovený nasledovne – </a:t>
            </a:r>
            <a:r>
              <a:rPr b="1" lang="sk-SK" sz="1800" spc="-1" strike="noStrike">
                <a:solidFill>
                  <a:srgbClr val="e46c0a"/>
                </a:solidFill>
                <a:latin typeface="Calibri"/>
              </a:rPr>
              <a:t>max. 140 043 rozborov/projekt. </a:t>
            </a:r>
            <a:r>
              <a:rPr b="1" lang="sk-SK" sz="1800" spc="-1" strike="noStrike">
                <a:solidFill>
                  <a:srgbClr val="e46c0a"/>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výdavkov – ŠSJN bude prebiehať v 2 etapách:</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kontroly žiadosti o platbu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očas kontroly na mi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I. - ŠSJN</a:t>
            </a:r>
            <a:endParaRPr b="0" lang="en-US" sz="4400" spc="-1" strike="noStrike">
              <a:solidFill>
                <a:srgbClr val="000000"/>
              </a:solidFill>
              <a:latin typeface="Calibri"/>
            </a:endParaRPr>
          </a:p>
        </p:txBody>
      </p:sp>
      <p:sp>
        <p:nvSpPr>
          <p:cNvPr id="67" name=""/>
          <p:cNvSpPr txBox="1"/>
          <p:nvPr/>
        </p:nvSpPr>
        <p:spPr>
          <a:xfrm>
            <a:off x="499680" y="980640"/>
            <a:ext cx="8186760" cy="5256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uhrádzané prijímateľovi </a:t>
            </a:r>
            <a:r>
              <a:rPr b="1" lang="sk-SK" sz="1400" spc="-1" strike="noStrike">
                <a:solidFill>
                  <a:srgbClr val="000000"/>
                </a:solidFill>
                <a:latin typeface="Calibri"/>
              </a:rPr>
              <a:t>po ukončení semestra na základe zdokladovania skutočne realizovaných priamych rozborov inovovaných praxí, praxí podľa novej metodiky a zvýšeného rozsahu praxí</a:t>
            </a:r>
            <a:r>
              <a:rPr b="0" lang="sk-SK" sz="1400" spc="-1" strike="noStrike">
                <a:solidFill>
                  <a:srgbClr val="000000"/>
                </a:solidFill>
                <a:latin typeface="Calibri"/>
              </a:rPr>
              <a:t>. Podmienky preplatenia JC - JC bude preplácaný na základe nasledovných dokladov, ktoré predloží prijímateľ:</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odmienky preplatenia  ŠSJN </a:t>
            </a:r>
            <a:r>
              <a:rPr b="0" lang="sk-SK" sz="1400" spc="-1" strike="noStrike">
                <a:solidFill>
                  <a:srgbClr val="000000"/>
                </a:solidFill>
                <a:latin typeface="Calibri"/>
              </a:rPr>
              <a:t>– doklady potrebne pre preplatenie jednotkovej ceny po absolvovaní vzdelá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v rámci JC – ku každému študentovi priradený počet rozborov a počet realizovaných hodín rozborov, ktoré boli pre neho realizované a meno cvičného učiteľa, ktorý rozbor vykonal; zoznam bude poskytnutý učiteľskou fakultou; </a:t>
            </a:r>
            <a:r>
              <a:rPr b="0" lang="sk-SK" sz="1400" spc="-1" strike="noStrike" u="sng">
                <a:solidFill>
                  <a:srgbClr val="0000ff"/>
                </a:solidFill>
                <a:uFillTx/>
                <a:latin typeface="Calibri"/>
                <a:hlinkClick r:id="rId2"/>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z dotácie štátneho rozpočtu resp. z iných zdrojov (napr. dopytovo-orientované projekty); zoznam bude poskytnutý učiteľskou fakultou; </a:t>
            </a:r>
            <a:r>
              <a:rPr b="0" lang="sk-SK" sz="1400" spc="-1" strike="noStrike" u="sng">
                <a:solidFill>
                  <a:srgbClr val="0000ff"/>
                </a:solidFill>
                <a:uFillTx/>
                <a:latin typeface="Calibri"/>
                <a:hlinkClick r:id="rId3"/>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é rozbory v písomnej forme podpísané cvičnými učiteľmi.</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účasťou overovania žiadosti o platbu budú aj nasledovné skutočnosti</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vojitého financovania – zoznamy poskytnuté prijímateľom budú overované vo vzťahu s údajmi MŠVVaŠ SR týkajúcich sa financovania pedagogických praxí zo štátneho rozpočtu - údaj o objeme finančných prostriedkov poskytnutých VŠ na základe dotačnej zmluvy (vyúčtovanie dotácie VŠ v súlade s platnou legislatívou – k 30.6.) ako aj o počte realizovaných rozborov.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uplicitného financovania rozborov v rámci národných a dopytovoorientovaných projektoch - zoznamy poskytnuté prijímateľom budú overované vo vzťahu k zoznamom poskytnutých inými prijímateľmi/projekty, v ktorých sú financované pedagogické prax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X. - ŠSJN</a:t>
            </a:r>
            <a:endParaRPr b="0" lang="en-US" sz="4400" spc="-1" strike="noStrike">
              <a:solidFill>
                <a:srgbClr val="000000"/>
              </a:solidFill>
              <a:latin typeface="Calibri"/>
            </a:endParaRPr>
          </a:p>
        </p:txBody>
      </p:sp>
      <p:sp>
        <p:nvSpPr>
          <p:cNvPr id="69" name=""/>
          <p:cNvSpPr txBox="1"/>
          <p:nvPr/>
        </p:nvSpPr>
        <p:spPr>
          <a:xfrm>
            <a:off x="499680" y="105264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počas kontroly na miest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sa budú vykonávať za účelom uistenia sa, že sa rozbory reálne vykonávajú v deklarovanom rozsahu v projek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a na mieste sa bude vykonávať primárne ako neohlásená kontrola na mieste. Predmetom kontroly bude overenie konania aktivity, overenie počtu osôb, prípadne rozhovor s účastníkmi za účelom overenia si konania aktivity, prípadne spokojnosti s realizovaným aktivit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a každom dopytovo-orientovanom projekte musí byť vykonaná min. 1 kontrola na mieste počas jeho realizáci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šší počet kontrol na mieste sa uskutoční v prípade vyhodnotenia projektu ako rizikový (napr. na základe medializovaných káuz, podaných podnetov na SO).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budú vykonávané v súlade s harmonogramom kontrol na mieste na príslušný kalendárny rok, ktorý bude vychádzať z analýzy rizík. Predmetom kontroly na mieste bude overenie počtu a rozsahu pedagogických praxí. Predmetom kontroly bude overenie, či realizácia praxí prebehla v súlade s projekt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a:t>
            </a:r>
            <a:endParaRPr b="0" lang="en-US" sz="4400" spc="-1" strike="noStrike">
              <a:solidFill>
                <a:srgbClr val="000000"/>
              </a:solidFill>
              <a:latin typeface="Calibri"/>
            </a:endParaRPr>
          </a:p>
        </p:txBody>
      </p:sp>
      <p:sp>
        <p:nvSpPr>
          <p:cNvPr id="71" name=""/>
          <p:cNvSpPr txBox="1"/>
          <p:nvPr/>
        </p:nvSpPr>
        <p:spPr>
          <a:xfrm>
            <a:off x="499680" y="1052640"/>
            <a:ext cx="8186760" cy="5184720"/>
          </a:xfrm>
          <a:prstGeom prst="rect">
            <a:avLst/>
          </a:prstGeom>
          <a:noFill/>
          <a:ln w="0">
            <a:noFill/>
          </a:ln>
        </p:spPr>
        <p:txBody>
          <a:bodyPr anchor="t">
            <a:normAutofit/>
          </a:bodyPr>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I.</a:t>
            </a:r>
            <a:endParaRPr b="0" lang="en-US" sz="4400" spc="-1" strike="noStrike">
              <a:solidFill>
                <a:srgbClr val="000000"/>
              </a:solidFill>
              <a:latin typeface="Calibri"/>
            </a:endParaRPr>
          </a:p>
        </p:txBody>
      </p:sp>
      <p:sp>
        <p:nvSpPr>
          <p:cNvPr id="73" name=""/>
          <p:cNvSpPr txBox="1"/>
          <p:nvPr/>
        </p:nvSpPr>
        <p:spPr>
          <a:xfrm>
            <a:off x="499680" y="1052640"/>
            <a:ext cx="8186760" cy="5184720"/>
          </a:xfrm>
          <a:prstGeom prst="rect">
            <a:avLst/>
          </a:prstGeom>
          <a:noFill/>
          <a:ln w="0">
            <a:noFill/>
          </a:ln>
        </p:spPr>
        <p:txBody>
          <a:bodyPr anchor="t">
            <a:normAutofit/>
          </a:bodyPr>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7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7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a:t>
            </a:r>
            <a:r>
              <a:rPr b="1" lang="sk-SK" sz="1600" spc="-1" strike="noStrike">
                <a:solidFill>
                  <a:srgbClr val="000000"/>
                </a:solidFill>
                <a:latin typeface="Calibri"/>
              </a:rPr>
              <a:t>nepriame výdavky vo výške 15 % oprávnených priamych nákladov na zamestnancov </a:t>
            </a:r>
            <a:r>
              <a:rPr b="0" lang="sk-SK" sz="1600" spc="-1" strike="noStrike">
                <a:solidFill>
                  <a:srgbClr val="000000"/>
                </a:solidFill>
                <a:latin typeface="Calibri"/>
              </a:rPr>
              <a:t>(všeobecné nariadenie, čl. 68  písm. b)</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andardná stupnica jednotkových nákladov - prax študentov učiteľských fakúlt – prax budúcich učiteľov</a:t>
            </a:r>
            <a:r>
              <a:rPr b="0" lang="sk-SK" sz="1600" spc="-1" strike="noStrike">
                <a:solidFill>
                  <a:srgbClr val="000000"/>
                </a:solidFill>
                <a:latin typeface="Calibri"/>
              </a:rPr>
              <a:t> - hodina priameho rozboru  jednotky priamej vyučovacej činnosti (vyučovacia hodina v škole) alebo priamej výchovnej činnosti (školské zariadenie) študenta cvičným učiteľom</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7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8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5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Calibri"/>
              </a:rPr>
              <a:t>52 - Osobn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352 - Poskytnutie dotácií, príspevkov voči tretím osobám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10 - Jednotkov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03 - Paušálna sadzba na nepriame výdavky projektu ( nariadenie 1303/2013, čl. 68 písm.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a:t>
            </a:r>
            <a:endParaRPr b="0" lang="en-US" sz="4400" spc="-1" strike="noStrike">
              <a:solidFill>
                <a:srgbClr val="000000"/>
              </a:solidFill>
              <a:latin typeface="Calibri"/>
            </a:endParaRPr>
          </a:p>
        </p:txBody>
      </p:sp>
      <p:sp>
        <p:nvSpPr>
          <p:cNvPr id="53" name=""/>
          <p:cNvSpPr txBox="1"/>
          <p:nvPr/>
        </p:nvSpPr>
        <p:spPr>
          <a:xfrm>
            <a:off x="499680" y="1052640"/>
            <a:ext cx="8186760" cy="51847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koordinačné činnosti - </a:t>
            </a:r>
            <a:r>
              <a:rPr b="0" lang="sk-SK" sz="14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400" spc="-1" strike="noStrike">
                <a:solidFill>
                  <a:srgbClr val="000000"/>
                </a:solidFill>
                <a:latin typeface="Calibri"/>
              </a:rPr>
              <a:t>nesmú tvoriť podstatnú časť rozpočtu</a:t>
            </a:r>
            <a:r>
              <a:rPr b="0" lang="sk-SK" sz="1400" spc="-1" strike="noStrike">
                <a:solidFill>
                  <a:srgbClr val="000000"/>
                </a:solidFill>
                <a:latin typeface="Calibri"/>
              </a:rPr>
              <a:t>; musia byť primerané rozsahu, obsahu a náročnosti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 - </a:t>
            </a:r>
            <a:r>
              <a:rPr b="0" lang="sk-SK" sz="1400" spc="-1" strike="noStrike">
                <a:solidFill>
                  <a:srgbClr val="000000"/>
                </a:solidFill>
                <a:latin typeface="Calibri"/>
              </a:rPr>
              <a:t>výdavky vzniknuté na základe pracovnoprávnych vzťahov alebo obdobných vzťahov (napr. zákonník práce, zákon o štátnej službe,...) v prípade stáži pôjde o refundáciu mzdy pedagogického a odborného zamestnanca školy alebo školského zariadenia, v ktorom študent prax vykonáva;  v prípade tvorby metodických materiálov budú ich tvorcovia zamestnaní u prijímateľa na pracovnú zmluvu (napr. čiastočný úväzok)</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aušálna sadzba </a:t>
            </a:r>
            <a:r>
              <a:rPr b="0" lang="sk-SK" sz="1400" spc="-1" strike="noStrike">
                <a:solidFill>
                  <a:srgbClr val="000000"/>
                </a:solidFill>
                <a:latin typeface="Calibri"/>
              </a:rPr>
              <a:t>na </a:t>
            </a:r>
            <a:r>
              <a:rPr b="1" lang="sk-SK" sz="1400" spc="-1" strike="noStrike">
                <a:solidFill>
                  <a:srgbClr val="000000"/>
                </a:solidFill>
                <a:latin typeface="Calibri"/>
              </a:rPr>
              <a:t>nepriame výdavky vo výške 15 % oprávnených priamych nákladov na zamestnancov </a:t>
            </a:r>
            <a:r>
              <a:rPr b="0" lang="sk-SK" sz="1400" spc="-1" strike="noStrike">
                <a:solidFill>
                  <a:srgbClr val="000000"/>
                </a:solidFill>
                <a:latin typeface="Calibri"/>
              </a:rPr>
              <a:t>(všeobecné nariadenie, čl. 68  písm. b)</a:t>
            </a:r>
            <a:r>
              <a:rPr b="1" lang="sk-SK" sz="1400" spc="-1" strike="noStrike">
                <a:solidFill>
                  <a:srgbClr val="000000"/>
                </a:solidFill>
                <a:latin typeface="Calibri"/>
              </a:rPr>
              <a:t>. </a:t>
            </a:r>
            <a:r>
              <a:rPr b="0" lang="sk-SK" sz="1400" spc="-1" strike="noStrike">
                <a:solidFill>
                  <a:srgbClr val="000000"/>
                </a:solidFill>
                <a:latin typeface="Calibri"/>
              </a:rPr>
              <a:t>Priamymi personálnymi výdavkami sú interné personálne výdavky (t. j. ekon. klasifikácia 610620 – pracovný pomer; ekon. klasifikácia 637027 – dohody zamestnancov mimo pracovného pomeru a    k nim súvisiace/prislúchajúce odvody – ekon. klasifikácia 610620 resp. zo skupiny výdavkov 521 a zo skupiny výdavkov 352). Podľa dokumentu „Usmernenia týkajúce sa zjednodušených možností vykazovania nákladov: EŠIF“ dávky alebo výplaty vyplatené v prospech účastníkov projektu(ov) v rámci ESF sa nepovažujú za priame náklady(výdavky) na zamestnancov; </a:t>
            </a:r>
            <a:r>
              <a:rPr b="1" lang="sk-SK" sz="1400" spc="-1" strike="noStrike">
                <a:solidFill>
                  <a:srgbClr val="000000"/>
                </a:solidFill>
                <a:latin typeface="Calibri"/>
              </a:rPr>
              <a:t>do  základne pre výpočet paušálnej sadzby nie je možné zahrnúť štandardnú stupnicu jednotkových nákladov uvedenú nižšie v bode č. 4.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štandardná stupnica jednotkových nákladov - prax študentov učiteľských fakúlt – prax budúcich učiteľov</a:t>
            </a:r>
            <a:r>
              <a:rPr b="0" lang="sk-SK" sz="1400" spc="-1" strike="noStrike">
                <a:solidFill>
                  <a:srgbClr val="000000"/>
                </a:solidFill>
                <a:latin typeface="Calibri"/>
              </a:rPr>
              <a:t> - hodina priameho rozboru  jednotky priamej vyučovacej činnosti (vyučovacia hodina v škole) alebo priamej výchovnej činnosti (školské zariadenie) študenta cvičným učiteľom – týka sa projektov obsahujúcich pedagogické praxe – bližšie informácie sú uvedené v prílohe č. 6 výzv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 - ŠSJN</a:t>
            </a:r>
            <a:endParaRPr b="0" lang="en-US" sz="4400" spc="-1" strike="noStrike">
              <a:solidFill>
                <a:srgbClr val="000000"/>
              </a:solidFill>
              <a:latin typeface="Calibri"/>
            </a:endParaRPr>
          </a:p>
        </p:txBody>
      </p:sp>
      <p:sp>
        <p:nvSpPr>
          <p:cNvPr id="55" name=""/>
          <p:cNvSpPr txBox="1"/>
          <p:nvPr/>
        </p:nvSpPr>
        <p:spPr>
          <a:xfrm>
            <a:off x="493200" y="1197000"/>
            <a:ext cx="8186760" cy="4968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štandardná stupnica jednotkových nákladov - prax študentov učiteľských fakúlt – prax budúcich učiteľov - hodina priameho rozboru jednotky priamej vyučovacej činnosti (vyučovacia hodina v škole) alebo priamej výchovnej činnosti (školské zariadenie) študenta cvičným učiteľom</a:t>
            </a:r>
            <a:endParaRPr b="0" lang="en-US" sz="18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realizáciu praxe budúcich učiteľov verejných vysokých škôl </a:t>
            </a:r>
            <a:r>
              <a:rPr b="0" lang="sk-SK" sz="1600" spc="-1" strike="noStrike">
                <a:solidFill>
                  <a:srgbClr val="000000"/>
                </a:solidFill>
                <a:latin typeface="Calibri"/>
              </a:rPr>
              <a:t>(t.j. študentov učiteľských fakúlt), v projektoch, ktoré sa zameriavajú na zvýšenie kvality vysokoškolského vzdelávania- oblasť vzdelávania a prípravy budúcich učiteľov regionálneho školstva (MŠ, ZŠ, SŠ).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Učiteľskými fakultami sú fakulty pripravujúce na učiteľské povolanie (najmä fakulty pedagogické, filozofické, prírodovedecké, športu, teologické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edagogická prax sa týka </a:t>
            </a:r>
            <a:r>
              <a:rPr b="1" lang="sk-SK" sz="1600" spc="-1" strike="noStrike">
                <a:solidFill>
                  <a:srgbClr val="000000"/>
                </a:solidFill>
                <a:latin typeface="Calibri"/>
              </a:rPr>
              <a:t>študentov dennej formy štúdia v študijných odboroch učiteľstvo akademických predmetov, učiteľstvo profesijných predmetov a praktickej prípravy, učiteľstvo umelecko-výchovných a výchovných predmetov, pedagogika, predškolská a elementárna pedagogika a špeciálna pedagogika a liečebná pedagogika</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dotáciou na hodinu rozboru na študenta v súlade s Metodikou rozpisu dotácií zo štátneho rozpočtu verejným vysokým školá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I. - ŠSJN</a:t>
            </a:r>
            <a:endParaRPr b="0" lang="en-US" sz="4400" spc="-1" strike="noStrike">
              <a:solidFill>
                <a:srgbClr val="000000"/>
              </a:solidFill>
              <a:latin typeface="Calibri"/>
            </a:endParaRPr>
          </a:p>
        </p:txBody>
      </p:sp>
      <p:sp>
        <p:nvSpPr>
          <p:cNvPr id="57" name=""/>
          <p:cNvSpPr txBox="1"/>
          <p:nvPr/>
        </p:nvSpPr>
        <p:spPr>
          <a:xfrm>
            <a:off x="499680" y="1267920"/>
            <a:ext cx="8186760" cy="4969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Calibri"/>
              </a:rPr>
              <a:t>štandardná stupnica jednotkových nákladov je 10,63 EUR na hodinu priameho rozboru na študenta</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ieľom pedagogickej praxe, ako súčasti pedagogicko-profesijnej zložky učiteľského vzdelávania, je rozvoj profesijných kompetencií študentov a konfrontácia ich teoretických vedomostí, predmetných schopností a skúseností so školskou praxou.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á prax sa </a:t>
            </a:r>
            <a:r>
              <a:rPr b="1" lang="sk-SK" sz="1800" spc="-1" strike="noStrike">
                <a:solidFill>
                  <a:srgbClr val="000000"/>
                </a:solidFill>
                <a:latin typeface="Calibri"/>
              </a:rPr>
              <a:t>realizuje najmä v cvičných školách a cvičných školských zariadeniach </a:t>
            </a:r>
            <a:r>
              <a:rPr b="0" lang="sk-SK" sz="1800" spc="-1" strike="noStrike">
                <a:solidFill>
                  <a:srgbClr val="000000"/>
                </a:solidFill>
                <a:latin typeface="Calibri"/>
              </a:rPr>
              <a:t>uvedených v § 37 zákona č. 131/2002 Z. z. o vysokých školách a o zmene a doplnení niektorých zákonov v znení neskorších predpisov, ďalej len „cvičné školy“.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á škola alebo cvičné školské zariadenie je inštitúcia, s ktorou verejná vysoká škola uzatvára zmluvu o spolupráci (v zmysle § 37 ods. 2) zákona o vysokých školách.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ýber cvičných škôl a cvičných zariadení v projekte/projektoch musí byť transparentný.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ú prax študentov verejnej vysokej školy v cvičnej škole vedie cvičný učiteľ cvičnej školy alebo cvičného zariadenia.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V. - ŠSJN</a:t>
            </a:r>
            <a:endParaRPr b="0" lang="en-US" sz="4400" spc="-1" strike="noStrike">
              <a:solidFill>
                <a:srgbClr val="000000"/>
              </a:solidFill>
              <a:latin typeface="Calibri"/>
            </a:endParaRPr>
          </a:p>
        </p:txBody>
      </p:sp>
      <p:sp>
        <p:nvSpPr>
          <p:cNvPr id="59"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Jednotkové náklady sa týkajú </a:t>
            </a:r>
            <a:r>
              <a:rPr b="1" lang="sk-SK" sz="1800" spc="-1" strike="noStrike">
                <a:solidFill>
                  <a:srgbClr val="e46c0a"/>
                </a:solidFill>
                <a:latin typeface="Calibri"/>
              </a:rPr>
              <a:t>pedagogických praxí nad rámec ich financovania zo štátneho rozpočtu</a:t>
            </a:r>
            <a:r>
              <a:rPr b="0" lang="sk-SK"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inovované pedagogické praxe - inovácia a overenie existujúcich druhov pedagogických praxí v rámci študijných programov VŠ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ový model/typ pedagogických praxí - vytvorenie a overenie nového modelu pedagogických praxí,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výšený počet praxí nad rámec praxí definovaných v študijných programoch vysokých škôl - pedagogické praxe nad rámec súčasného rozsahu praxí realizovaných v študijných programoch VŠ</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štandardnej stupnice sa budú preplácať výdavky súvisiace s činnosťou cvičného učiteľa, ktorý vykonáva rozbor/analýzu každej priamej vyučovacej alebo priamej výchovnej činnosti študenta, ktorú priamo odučí počas prax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ý učiteľ realizuje rozbory mimo svojej pracovnej náplne, t.j, nad rámec svojho pracovnoprávneho pomeru v škole. Cvičný učiteľ vykonáva rozbory na základe dohody mimo pracovného pomeru (dohody o vykonaní prác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5T05:39:48Z</dcterms:modified>
  <cp:revision>149</cp:revision>
  <dc:subject/>
  <dc:title>Snímka 1</dc:title>
</cp:coreProperties>
</file>