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01831-B7E3-4779-B5E8-A50088746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7EBE9-13D5-4000-8A85-5E47259A2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D1585-5D08-4F86-8FA7-68F6E6CB8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3585D-8A47-45D3-B39E-5D3287194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D7739-3905-4F78-8FFD-3B1DABDEC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37E39-4532-40DC-8A88-194287FCF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6CF15-69FE-43B0-BB91-63F7ECA8A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35AAD-4CD0-4FB0-AA3E-389CA860F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490E4-FD46-4B25-A2FE-6402B5175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51E87-5921-4073-BC35-3C5D275EA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17834-FB9D-496E-81EB-08E34F607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1E733-9539-4629-A475-68BBA1847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C0C2-593E-4C61-9A5E-68D8F9735A58}"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www.minedu.sk/usmernenie-k-ssjn-pedagogicke-praxe-zoznam-studentov/" TargetMode="External"/><Relationship Id="rId3" Type="http://schemas.openxmlformats.org/officeDocument/2006/relationships/hyperlink" Target="https://www.minedu.sk/usmernenie-k-ssjn-pedagogicke-praxe-zoznam-studentov/"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10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ý seminá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č. OPLZ-PO1/2019/DOP/1.3.1-01 „Skvalitnenie prípravy budúcich pedagogických a odborných zamestnanco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V. - ŠSJN</a:t>
            </a:r>
            <a:endParaRPr b="0" lang="en-US" sz="4400" spc="-1" strike="noStrike">
              <a:solidFill>
                <a:srgbClr val="000000"/>
              </a:solidFill>
              <a:latin typeface="Calibri"/>
            </a:endParaRPr>
          </a:p>
        </p:txBody>
      </p:sp>
      <p:sp>
        <p:nvSpPr>
          <p:cNvPr id="61" name=""/>
          <p:cNvSpPr txBox="1"/>
          <p:nvPr/>
        </p:nvSpPr>
        <p:spPr>
          <a:xfrm>
            <a:off x="499680" y="1267920"/>
            <a:ext cx="8186760" cy="49690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V rámci SCO sa budú financovať rozbory nasledovných </a:t>
            </a:r>
            <a:r>
              <a:rPr b="1" lang="sk-SK" sz="2000" spc="-1" strike="noStrike">
                <a:solidFill>
                  <a:srgbClr val="000000"/>
                </a:solidFill>
                <a:latin typeface="Calibri"/>
              </a:rPr>
              <a:t>3 druhy praxí</a:t>
            </a:r>
            <a:r>
              <a:rPr b="0" lang="sk-SK" sz="2000" spc="-1" strike="noStrike">
                <a:solidFill>
                  <a:srgbClr val="000000"/>
                </a:solidFill>
                <a:latin typeface="Calibri"/>
              </a:rPr>
              <a:t>:</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       </a:t>
            </a:r>
            <a:r>
              <a:rPr b="0" lang="sk-SK" sz="2000" spc="-1" strike="noStrike">
                <a:solidFill>
                  <a:srgbClr val="000000"/>
                </a:solidFill>
                <a:latin typeface="Calibri"/>
              </a:rPr>
              <a:t>a) hospitačná - úvodná, náčuvová, klinická, pedagogické praktikum,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       </a:t>
            </a:r>
            <a:r>
              <a:rPr b="0" lang="sk-SK" sz="2000" spc="-1" strike="noStrike">
                <a:solidFill>
                  <a:srgbClr val="000000"/>
                </a:solidFill>
                <a:latin typeface="Calibri"/>
              </a:rPr>
              <a:t>b) výstupová/výučbová - priebežná, bloková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       </a:t>
            </a:r>
            <a:r>
              <a:rPr b="0" lang="sk-SK" sz="2000" spc="-1" strike="noStrike">
                <a:solidFill>
                  <a:srgbClr val="000000"/>
                </a:solidFill>
                <a:latin typeface="Calibri"/>
              </a:rPr>
              <a:t>c) výstupová/výučbová – súvislá</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Rozbor sa robí na každú vyučovaciu/výchovnú jednotku odučenú študentom počas praxe. V prípade hospitačných praxí robí rozbor vlastnej odučenej vyučovacej/výchovnej jednotky cvičný učiteľ.</a:t>
            </a:r>
            <a:r>
              <a:rPr b="0" lang="sk-SK" sz="2000" spc="-1" strike="noStrike">
                <a:solidFill>
                  <a:srgbClr val="000000"/>
                </a:solidFill>
                <a:latin typeface="Calibri"/>
              </a:rPr>
              <a:t>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Na jeden rozbor jednej vyučovacej/výchovnej jednotky je stanovená jedna 60 minútová hodina </a:t>
            </a:r>
            <a:r>
              <a:rPr b="0" lang="sk-SK" sz="2000" spc="-1" strike="noStrike">
                <a:solidFill>
                  <a:srgbClr val="000000"/>
                </a:solidFill>
                <a:latin typeface="Calibri"/>
              </a:rPr>
              <a:t>(v zmysle SR pravidiel).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Rozbor vypracuje cvičný učiteľ </a:t>
            </a:r>
            <a:r>
              <a:rPr b="1" lang="sk-SK" sz="2000" spc="-1" strike="noStrike">
                <a:solidFill>
                  <a:srgbClr val="000000"/>
                </a:solidFill>
                <a:latin typeface="Calibri"/>
              </a:rPr>
              <a:t>v písomnej forme </a:t>
            </a:r>
            <a:r>
              <a:rPr b="0" lang="sk-SK" sz="2000" spc="-1" strike="noStrike">
                <a:solidFill>
                  <a:srgbClr val="000000"/>
                </a:solidFill>
                <a:latin typeface="Calibri"/>
              </a:rPr>
              <a:t>(písomný záznam), t.j. záznam dokumentujúci uvedené činnosti (obsah spätnej väzby), vrátane odporúčaní cvičného učiteľa pre študenta a záverečných stanovísk cvičného učiteľa a študenta.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VI. - ŠSJN</a:t>
            </a:r>
            <a:endParaRPr b="0" lang="en-US" sz="4400" spc="-1" strike="noStrike">
              <a:solidFill>
                <a:srgbClr val="000000"/>
              </a:solidFill>
              <a:latin typeface="Calibri"/>
            </a:endParaRPr>
          </a:p>
        </p:txBody>
      </p:sp>
      <p:sp>
        <p:nvSpPr>
          <p:cNvPr id="63" name=""/>
          <p:cNvSpPr txBox="1"/>
          <p:nvPr/>
        </p:nvSpPr>
        <p:spPr>
          <a:xfrm>
            <a:off x="499680" y="1125000"/>
            <a:ext cx="8186760" cy="5256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innosti cvičného učiteľa, ktoré budú financované v rámci štandardnej stupnice jednotkových nákladov</a:t>
            </a:r>
            <a:r>
              <a:rPr b="0" lang="sk-SK"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ebareflexia (rozbor) vyučovacej/výchovnej jednotky, ktorú odučí cvičný učiteľ (supervízor) pre študentov, pri tých typoch praxí, v ktorých študenti pozorujú výchovno-vzdelávací proces. (t.j. len pozorujú, ale sami ešte nevyučujú – lebo nemajú dostatok teoretických vedomostí/praktických skúseností), t.j. spätná väzba na samostatnú prípravu študenta na priamu vyučovaciu alebo výchovnú činnosť, </a:t>
            </a:r>
            <a:r>
              <a:rPr b="0" lang="sk-SK" sz="1600" spc="-1" strike="noStrike">
                <a:solidFill>
                  <a:srgbClr val="000000"/>
                </a:solidFill>
                <a:latin typeface="Symbol"/>
                <a:ea typeface="Symbol"/>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ätná väzba na sebareflexiu študenta na vlastnú vyučovaciu alebo výchovnú činnosť,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ätná väzba samostatnú priamu vyučovaciu alebo výchovnú činnosť študenta</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 rámci spätnej väzby na samostatnú prípravu študenta </a:t>
            </a:r>
            <a:r>
              <a:rPr b="0" lang="sk-SK" sz="1600" spc="-1" strike="noStrike">
                <a:solidFill>
                  <a:srgbClr val="000000"/>
                </a:solidFill>
                <a:latin typeface="Calibri"/>
              </a:rPr>
              <a:t>na priamu vyučovaciu alebo výchovnú činnosť a na sebareflexiu študenta sa v rozbore cvičný učiteľ zameria na: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skytnutie informácií o preberanom učive,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skytnutie informácií o špecifikách triedy vo vzťahu k preberanému učivu (stav porozumenia učiva, porozumenie žiakov s individuálnymi vzdelávacími potrebami a podobne),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hodnotenie študentovho projektu/prípravy z pohľadu školského vzdelávacieho programu resp. školského výchovného programu, didaktického a výchovného aspektu, štruktúry, cieľov, motivácie a aktivizácie detí a žiakov a pod.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racovanie pripomienok a prezentácia odporúčaní a usmernení k projektu (príprave študenta).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VII. - ŠSJN</a:t>
            </a:r>
            <a:endParaRPr b="0" lang="en-US" sz="4400" spc="-1" strike="noStrike">
              <a:solidFill>
                <a:srgbClr val="000000"/>
              </a:solidFill>
              <a:latin typeface="Calibri"/>
            </a:endParaRPr>
          </a:p>
        </p:txBody>
      </p:sp>
      <p:sp>
        <p:nvSpPr>
          <p:cNvPr id="65" name=""/>
          <p:cNvSpPr txBox="1"/>
          <p:nvPr/>
        </p:nvSpPr>
        <p:spPr>
          <a:xfrm>
            <a:off x="499680" y="1267920"/>
            <a:ext cx="8186760" cy="49690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V rámci spätnej väzby na študentovu priamu vyučovaciu alebo výchovnú č</a:t>
            </a:r>
            <a:r>
              <a:rPr b="0" lang="sk-SK" sz="1800" spc="-1" strike="noStrike">
                <a:solidFill>
                  <a:srgbClr val="000000"/>
                </a:solidFill>
                <a:latin typeface="Calibri"/>
              </a:rPr>
              <a:t>innosť sa v rozbore cvičný učiteľ zameria na: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hodnotenie študentovho výkonu z pohľadu cieľov, plnenia školského vzdelávacieho programu resp. školského výchovného programu , štruktúry vyučovacej alebo výchovnej jednotky, motivácie a aktivizácie detí a žiakov, hodnotenia detí a žiakov a pod.,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reakcie na pripomienky, spoločne a odlišne vnímané prvky,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formulovanie odporúčaní pre ďalšiu činnosť a rozvoj študenta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e46c0a"/>
                </a:solidFill>
                <a:latin typeface="Calibri"/>
              </a:rPr>
              <a:t>Rozsah resp. strop praxí</a:t>
            </a:r>
            <a:r>
              <a:rPr b="1" lang="sk-SK" sz="1800" spc="-1" strike="noStrike">
                <a:solidFill>
                  <a:srgbClr val="000000"/>
                </a:solidFill>
                <a:latin typeface="Calibri"/>
              </a:rPr>
              <a:t> </a:t>
            </a:r>
            <a:r>
              <a:rPr b="0" lang="sk-SK" sz="1800" spc="-1" strike="noStrike">
                <a:solidFill>
                  <a:srgbClr val="000000"/>
                </a:solidFill>
                <a:latin typeface="Calibri"/>
              </a:rPr>
              <a:t>financovaných v rámci tejto jednotkovej ceny bude stanovený vo výzve/vyzvaní - Rozsah resp. strop pedagogických praxí financovaných v rámci štandardnej stupnice jednotkových nákladov je pre túto výzvu stanovený nasledovne – </a:t>
            </a:r>
            <a:r>
              <a:rPr b="1" lang="sk-SK" sz="1800" spc="-1" strike="noStrike">
                <a:solidFill>
                  <a:srgbClr val="e46c0a"/>
                </a:solidFill>
                <a:latin typeface="Calibri"/>
              </a:rPr>
              <a:t>max. 140 043 rozborov/projekt. </a:t>
            </a:r>
            <a:r>
              <a:rPr b="1" lang="sk-SK" sz="1800" spc="-1" strike="noStrike">
                <a:solidFill>
                  <a:srgbClr val="e46c0a"/>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Overovanie výdavkov – ŠSJN bude prebiehať v 2 etapách:</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rámci kontroly žiadosti o platbu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počas kontroly na mies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VIII. - ŠSJN</a:t>
            </a:r>
            <a:endParaRPr b="0" lang="en-US" sz="4400" spc="-1" strike="noStrike">
              <a:solidFill>
                <a:srgbClr val="000000"/>
              </a:solidFill>
              <a:latin typeface="Calibri"/>
            </a:endParaRPr>
          </a:p>
        </p:txBody>
      </p:sp>
      <p:sp>
        <p:nvSpPr>
          <p:cNvPr id="67" name=""/>
          <p:cNvSpPr txBox="1"/>
          <p:nvPr/>
        </p:nvSpPr>
        <p:spPr>
          <a:xfrm>
            <a:off x="499680" y="980640"/>
            <a:ext cx="8186760" cy="5256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čné prostriedky budú uhrádzané prijímateľovi </a:t>
            </a:r>
            <a:r>
              <a:rPr b="1" lang="sk-SK" sz="1400" spc="-1" strike="noStrike">
                <a:solidFill>
                  <a:srgbClr val="000000"/>
                </a:solidFill>
                <a:latin typeface="Calibri"/>
              </a:rPr>
              <a:t>po ukončení semestra na základe zdokladovania skutočne realizovaných priamych rozborov inovovaných praxí, praxí podľa novej metodiky a zvýšeného rozsahu praxí</a:t>
            </a:r>
            <a:r>
              <a:rPr b="0" lang="sk-SK" sz="1400" spc="-1" strike="noStrike">
                <a:solidFill>
                  <a:srgbClr val="000000"/>
                </a:solidFill>
                <a:latin typeface="Calibri"/>
              </a:rPr>
              <a:t>. Podmienky preplatenia JC - JC bude preplácaný na základe nasledovných dokladov, ktoré predloží prijímateľ:</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odmienky preplatenia  ŠSJN </a:t>
            </a:r>
            <a:r>
              <a:rPr b="0" lang="sk-SK" sz="1400" spc="-1" strike="noStrike">
                <a:solidFill>
                  <a:srgbClr val="000000"/>
                </a:solidFill>
                <a:latin typeface="Calibri"/>
              </a:rPr>
              <a:t>– doklady potrebne pre preplatenie jednotkovej ceny po absolvovaní vzdelávani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oznam študentov učiteľských fakúlt, ktorí absolvovali pedagogickú prax v danom semestri financovanú v rámci JC – ku každému študentovi priradený počet rozborov a počet realizovaných hodín rozborov, ktoré boli pre neho realizované a meno cvičného učiteľa, ktorý rozbor vykonal; zoznam bude poskytnutý učiteľskou fakultou; </a:t>
            </a:r>
            <a:r>
              <a:rPr b="0" lang="sk-SK" sz="1400" spc="-1" strike="noStrike" u="sng">
                <a:solidFill>
                  <a:srgbClr val="0000ff"/>
                </a:solidFill>
                <a:uFillTx/>
                <a:latin typeface="Calibri"/>
                <a:hlinkClick r:id="rId2"/>
              </a:rPr>
              <a:t>https://www.minedu.sk/usmernenie-k-ssjn-pedagogicke-praxe-zoznam-studentov/</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oznam študentov učiteľských fakúlt, ktorí absolvovali pedagogickú prax v danom semestri financovanú z dotácie štátneho rozpočtu resp. z iných zdrojov (napr. dopytovo-orientované projekty); zoznam bude poskytnutý učiteľskou fakultou; </a:t>
            </a:r>
            <a:r>
              <a:rPr b="0" lang="sk-SK" sz="1400" spc="-1" strike="noStrike" u="sng">
                <a:solidFill>
                  <a:srgbClr val="0000ff"/>
                </a:solidFill>
                <a:uFillTx/>
                <a:latin typeface="Calibri"/>
                <a:hlinkClick r:id="rId3"/>
              </a:rPr>
              <a:t>https://www.minedu.sk/usmernenie-k-ssjn-pedagogicke-praxe-zoznam-studentov/</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é rozbory v písomnej forme podpísané cvičnými učiteľmi.</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účasťou overovania žiadosti o platbu budú aj nasledovné skutočnosti</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verovania potenciálneho dvojitého financovania – zoznamy poskytnuté prijímateľom budú overované vo vzťahu s údajmi MŠVVaŠ SR týkajúcich sa financovania pedagogických praxí zo štátneho rozpočtu - údaj o objeme finančných prostriedkov poskytnutých VŠ na základe dotačnej zmluvy (vyúčtovanie dotácie VŠ v súlade s platnou legislatívou – k 30.6.) ako aj o počte realizovaných rozborov.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verovania potenciálneho duplicitného financovania rozborov v rámci národných a dopytovoorientovaných projektoch - zoznamy poskytnuté prijímateľom budú overované vo vzťahu k zoznamom poskytnutých inými prijímateľmi/projekty, v ktorých sú financované pedagogické prax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X. - ŠSJN</a:t>
            </a:r>
            <a:endParaRPr b="0" lang="en-US" sz="4400" spc="-1" strike="noStrike">
              <a:solidFill>
                <a:srgbClr val="000000"/>
              </a:solidFill>
              <a:latin typeface="Calibri"/>
            </a:endParaRPr>
          </a:p>
        </p:txBody>
      </p:sp>
      <p:sp>
        <p:nvSpPr>
          <p:cNvPr id="69" name=""/>
          <p:cNvSpPr txBox="1"/>
          <p:nvPr/>
        </p:nvSpPr>
        <p:spPr>
          <a:xfrm>
            <a:off x="499680" y="1052640"/>
            <a:ext cx="8186760" cy="518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Overovanie počas kontroly na mieste</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Kontroly na mieste sa budú vykonávať za účelom uistenia sa, že sa rozbory reálne vykonávajú v deklarovanom rozsahu v projekt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Kontrola na mieste sa bude vykonávať primárne ako neohlásená kontrola na mieste. Predmetom kontroly bude overenie konania aktivity, overenie počtu osôb, prípadne rozhovor s účastníkmi za účelom overenia si konania aktivity, prípadne spokojnosti s realizovaným aktivity.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Na každom dopytovo-orientovanom projekte musí byť vykonaná min. 1 kontrola na mieste počas jeho realizáci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yšší počet kontrol na mieste sa uskutoční v prípade vyhodnotenia projektu ako rizikový (napr. na základe medializovaných káuz, podaných podnetov na SO).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Kontroly na mieste budú vykonávané v súlade s harmonogramom kontrol na mieste na príslušný kalendárny rok, ktorý bude vychádzať z analýzy rizík. Predmetom kontroly na mieste bude overenie počtu a rozsahu pedagogických praxí. Predmetom kontroly bude overenie, či realizácia praxí prebehla v súlade s projekt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X.</a:t>
            </a:r>
            <a:endParaRPr b="0" lang="en-US" sz="4400" spc="-1" strike="noStrike">
              <a:solidFill>
                <a:srgbClr val="000000"/>
              </a:solidFill>
              <a:latin typeface="Calibri"/>
            </a:endParaRPr>
          </a:p>
        </p:txBody>
      </p:sp>
      <p:sp>
        <p:nvSpPr>
          <p:cNvPr id="71" name=""/>
          <p:cNvSpPr txBox="1"/>
          <p:nvPr/>
        </p:nvSpPr>
        <p:spPr>
          <a:xfrm>
            <a:off x="499680" y="1052640"/>
            <a:ext cx="8186760" cy="5184720"/>
          </a:xfrm>
          <a:prstGeom prst="rect">
            <a:avLst/>
          </a:prstGeom>
          <a:noFill/>
          <a:ln w="0">
            <a:noFill/>
          </a:ln>
        </p:spPr>
        <p:txBody>
          <a:bodyPr anchor="t">
            <a:normAutofit/>
          </a:bodyPr>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Nepriame výdavky sa uplatňujú </a:t>
            </a:r>
            <a:r>
              <a:rPr b="1" lang="sk-SK" sz="1600" spc="-1" strike="noStrike" u="sng">
                <a:solidFill>
                  <a:srgbClr val="ff0000"/>
                </a:solidFill>
                <a:uFillTx/>
                <a:latin typeface="Calibri"/>
              </a:rPr>
              <a:t>ako 15% paušálna sadzba z priamych personálnych výdavkov (presne 15%)</a:t>
            </a:r>
            <a:r>
              <a:rPr b="1" lang="sk-SK" sz="1600" spc="-1" strike="noStrike">
                <a:solidFill>
                  <a:srgbClr val="000000"/>
                </a:solidFill>
                <a:latin typeface="Calibri"/>
              </a:rPr>
              <a:t>. V každej žiadosti o platbu obsahujúcej priame personálne výdavky, môže byť nároková 15% paušálna sadzba na nepriame výdavky; ekonomické klasifikácia 637033</a:t>
            </a:r>
            <a:endParaRPr b="0" lang="en-US" sz="16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obné výdavky prijímateľa, resp. partnera, ktoré súvisia s výkonom týchto činností:</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ípravná fáza realizácie projektu (napr. príprava žiadosti o NFP);</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ávne poradenstvo (napr. spisovanie listín o právnych úkonoch, spracúvanie právnych rozb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ublicita a informovanosť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účtovníctva;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agendy personalistiky a miez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rejné obstarávanie (vrátane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bslužné činnosti (upratovanie, čistenie, rozmnožovanie materiálov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pravy a údržbu majetku využívaného pre účely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vozidla využívaného personálom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kontrola a odborný dohľad (vrátane riadenia organizácie),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výdavky na obstaranie služieb nevyhnutných pre vyššie uvedené činnosti:</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služby súvisiace s publicitou a informovanosťou spojenou s realizáciou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účtovníctva;</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agendy personalistiky a miez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verejného obstarávania,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hygieny (upratovanie, čistenie a pod.);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XI.</a:t>
            </a:r>
            <a:endParaRPr b="0" lang="en-US" sz="4400" spc="-1" strike="noStrike">
              <a:solidFill>
                <a:srgbClr val="000000"/>
              </a:solidFill>
              <a:latin typeface="Calibri"/>
            </a:endParaRPr>
          </a:p>
        </p:txBody>
      </p:sp>
      <p:sp>
        <p:nvSpPr>
          <p:cNvPr id="73" name=""/>
          <p:cNvSpPr txBox="1"/>
          <p:nvPr/>
        </p:nvSpPr>
        <p:spPr>
          <a:xfrm>
            <a:off x="499680" y="1052640"/>
            <a:ext cx="8186760" cy="5184720"/>
          </a:xfrm>
          <a:prstGeom prst="rect">
            <a:avLst/>
          </a:prstGeom>
          <a:noFill/>
          <a:ln w="0">
            <a:noFill/>
          </a:ln>
        </p:spPr>
        <p:txBody>
          <a:bodyPr anchor="t">
            <a:normAutofit/>
          </a:bodyPr>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opráv a údržby majetku využívaného pre účely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epravy tovaru a osôb, okrem osôb cieľovej skupiny a odborného personálu (napr. lekt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kontroly a odborného dohľad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ávneho poradenstva.</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bežné výdavky na obstaranie majetku; okrem majetku, ktorý výlučne používa odborný personál a osoby cieľovej skupiny,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tatné výdavky</a:t>
            </a:r>
            <a:r>
              <a:rPr b="0" lang="sk-SK" sz="1100" spc="-1" strike="noStrike">
                <a:solidFill>
                  <a:srgbClr val="000000"/>
                </a:solidFill>
                <a:latin typeface="Calibri"/>
              </a:rPr>
              <a: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enájom zariadenia/vybavenia a priestorov, ktoré sú využívané na účely projektu;  okrem zariadenia/vybavenia a priestorov, ktoré sa používa výlučne v rámci hlavných aktivít projektu a využíva ho len cieľová skupina, prípadne odborný personál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šetky výdavky súvisiace s publicitou a informovanosťou spojenou s realizáciou projektu, napr. propagačné predmety a letáky, tlačové konferencie o projekte (vrátane občerstvenia, prenájmu priestorov a pod.), publikovaním článkov o projekte, televíznych a rozhlasových relácií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štovné;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telekomunikačné poplatky;</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niny (poštové známky a kolky, stravné poukážk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stovné náhrad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revádzku vozidla využívaného pri vykonávaní činnosti pre projek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energie ako sú voda, plyn, elektrická energia a pod., ktoré vznikli v súvislosti s vykonávanými činnosťam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dpisy majetku využívaného pri činnostiach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obstaranie spotrebného tovaru a prevádzkového materiálu (papier, písacie potreby, čistiace prostriedky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úhradu poplatkov, napr. notárskych, správnych, bankových poplatk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oradenstvo (právne, daňové, účtovné a po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istenie majetk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správa informačných systémov.</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75" name=""/>
          <p:cNvSpPr txBox="1"/>
          <p:nvPr/>
        </p:nvSpPr>
        <p:spPr>
          <a:xfrm>
            <a:off x="468000" y="1268280"/>
            <a:ext cx="8186760" cy="4897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Calibri"/>
              </a:rPr>
              <a:t>všetky výdavky, ktoré nie sú uvedené v zozname oprávnených výdavko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77"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aušálna sadzba </a:t>
            </a:r>
            <a:r>
              <a:rPr b="0" lang="sk-SK" sz="1600" spc="-1" strike="noStrike">
                <a:solidFill>
                  <a:srgbClr val="000000"/>
                </a:solidFill>
                <a:latin typeface="Calibri"/>
              </a:rPr>
              <a:t>na </a:t>
            </a:r>
            <a:r>
              <a:rPr b="1" lang="sk-SK" sz="1600" spc="-1" strike="noStrike">
                <a:solidFill>
                  <a:srgbClr val="000000"/>
                </a:solidFill>
                <a:latin typeface="Calibri"/>
              </a:rPr>
              <a:t>nepriame výdavky vo výške 15 % oprávnených priamych nákladov na zamestnancov </a:t>
            </a:r>
            <a:r>
              <a:rPr b="0" lang="sk-SK" sz="1600" spc="-1" strike="noStrike">
                <a:solidFill>
                  <a:srgbClr val="000000"/>
                </a:solidFill>
                <a:latin typeface="Calibri"/>
              </a:rPr>
              <a:t>(všeobecné nariadenie, čl. 68  písm. b)</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štandardná stupnica jednotkových nákladov - prax študentov učiteľských fakúlt – prax budúcich učiteľov</a:t>
            </a:r>
            <a:r>
              <a:rPr b="0" lang="sk-SK" sz="1600" spc="-1" strike="noStrike">
                <a:solidFill>
                  <a:srgbClr val="000000"/>
                </a:solidFill>
                <a:latin typeface="Calibri"/>
              </a:rPr>
              <a:t> - hodina priameho rozboru  jednotky priamej vyučovacej činnosti (vyučovacia hodina v škole) alebo priamej výchovnej činnosti (školské zariadenie) študenta cvičným učiteľom</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79" name=""/>
          <p:cNvSpPr txBox="1"/>
          <p:nvPr/>
        </p:nvSpPr>
        <p:spPr>
          <a:xfrm>
            <a:off x="499680" y="1125000"/>
            <a:ext cx="8186760" cy="54723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ŽoNFP – časti 7.2, 7.4, 11 a rozpočtu ako prílohy o ŽoNFP</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 resp. dátumom uvedeným v zmluve o NFP ako začiatok realizácie projektu</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81" name=""/>
          <p:cNvSpPr txBox="1"/>
          <p:nvPr/>
        </p:nvSpPr>
        <p:spPr>
          <a:xfrm>
            <a:off x="539640" y="1125360"/>
            <a:ext cx="8229600" cy="5112000"/>
          </a:xfrm>
          <a:prstGeom prst="rect">
            <a:avLst/>
          </a:prstGeom>
          <a:noFill/>
          <a:ln w="0">
            <a:noFill/>
          </a:ln>
        </p:spPr>
        <p:txBody>
          <a:bodyPr anchor="t">
            <a:normAutofit fontScale="99000"/>
          </a:bodyPr>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5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podaktivitou v rámci hlavnej aktivity v časti Spôsob realizácie aktivít projektu ŽoNFP</a:t>
            </a:r>
            <a:r>
              <a:rPr b="0" lang="sk-SK" sz="1400" spc="-1" strike="noStrike">
                <a:solidFill>
                  <a:srgbClr val="000000"/>
                </a:solidFill>
                <a:latin typeface="Calibri"/>
              </a:rPr>
              <a:t>; ide o pracovné činnosti uvedené v prílohe č.1a rozpočet v časti 3 „Koordinácia projektu“, 3.1 „Personálne výdavky interné - koordinačné činnosti; priradiť všetky merateľné ukazovatele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83"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a:t>
            </a:r>
            <a:endParaRPr b="0" lang="en-US" sz="4000" spc="-1" strike="noStrike">
              <a:solidFill>
                <a:srgbClr val="000000"/>
              </a:solidFill>
              <a:latin typeface="Calibri"/>
            </a:endParaRPr>
          </a:p>
        </p:txBody>
      </p:sp>
      <p:sp>
        <p:nvSpPr>
          <p:cNvPr id="85"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eukazovanie splnenia min. kvalifikačných a odborných požiadaviek </a:t>
            </a:r>
            <a:r>
              <a:rPr b="0" lang="sk-SK" sz="14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pracovných pozícií na riadenie a koordináciu  - minimálne kvalifikačné predpoklady stanovilo MŠVVaŠ SR ako vyhlasovateľ výzvy v prílohe č. 5 výzv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borný personál, t.j. pracovné pozície, ktoré budú realizovať jednotlivé činnosti/aktivity v projekte -  minimálne kvalifikačné a odborné požiadavky si môže stanoviť v projekte žiadateľ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ealizáciu aktivít projektu v rámci žiadosti o NFP nie je možné súbežne financovať z iných zdrojov </a:t>
            </a:r>
            <a:r>
              <a:rPr b="0" lang="sk-SK" sz="14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musí preukázať, že cena práce je primeraná cene práce v organizácii resp. na trhu prác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Čo sa týka preukazovania oprávnenosti personálnych výdavkov (ekon. klasifikácie 610620, 637027), </a:t>
            </a:r>
            <a:r>
              <a:rPr b="0" lang="sk-SK" sz="1400" spc="-1" strike="noStrike">
                <a:solidFill>
                  <a:srgbClr val="000000"/>
                </a:solidFill>
                <a:latin typeface="Calibri"/>
              </a:rPr>
              <a:t>tieto musia </a:t>
            </a:r>
            <a:r>
              <a:rPr b="1" lang="sk-SK" sz="1400" spc="-1" strike="noStrike">
                <a:solidFill>
                  <a:srgbClr val="000000"/>
                </a:solidFill>
                <a:latin typeface="Calibri"/>
              </a:rPr>
              <a:t>zodpovedať cenám práce primeraným v organizácii</a:t>
            </a:r>
            <a:r>
              <a:rPr b="0" lang="sk-SK" sz="1400" spc="-1" strike="noStrike">
                <a:solidFill>
                  <a:srgbClr val="000000"/>
                </a:solidFill>
                <a:latin typeface="Calibri"/>
              </a:rPr>
              <a:t>. 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r>
              <a:rPr b="0" lang="sk-SK"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 </a:t>
            </a:r>
            <a:r>
              <a:rPr b="1" lang="sk-SK" sz="1600" spc="-1" strike="noStrike">
                <a:solidFill>
                  <a:srgbClr val="000000"/>
                </a:solidFill>
                <a:latin typeface="Calibri"/>
              </a:rPr>
              <a:t>verejný sektor</a:t>
            </a:r>
            <a:r>
              <a:rPr b="0" lang="sk-SK" sz="1600" spc="-1" strike="noStrike">
                <a:solidFill>
                  <a:srgbClr val="000000"/>
                </a:solidFill>
                <a:latin typeface="Calibri"/>
              </a:rPr>
              <a:t> - </a:t>
            </a:r>
            <a:r>
              <a:rPr b="1" lang="sk-SK" sz="1600" spc="-1" strike="noStrike">
                <a:solidFill>
                  <a:srgbClr val="000000"/>
                </a:solidFill>
                <a:latin typeface="Calibri"/>
              </a:rPr>
              <a:t>5%</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100 001 EUR               </a:t>
            </a:r>
            <a:r>
              <a:rPr b="1" lang="sk-SK" sz="1600" spc="-1" strike="noStrike">
                <a:solidFill>
                  <a:srgbClr val="000000"/>
                </a:solidFill>
                <a:latin typeface="Calibri"/>
              </a:rPr>
              <a:t>Max. výška NFP</a:t>
            </a:r>
            <a:r>
              <a:rPr b="0" lang="sk-SK" sz="1600" spc="-1" strike="noStrike">
                <a:solidFill>
                  <a:srgbClr val="000000"/>
                </a:solidFill>
                <a:latin typeface="Calibri"/>
              </a:rPr>
              <a:t>: 500 000 EUR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Zmeny oproti PO 2007-2013</a:t>
            </a:r>
            <a:endParaRPr b="0" lang="en-US" sz="4400" spc="-1" strike="noStrike">
              <a:solidFill>
                <a:srgbClr val="000000"/>
              </a:solidFill>
              <a:latin typeface="Calibri"/>
            </a:endParaRPr>
          </a:p>
        </p:txBody>
      </p:sp>
      <p:sp>
        <p:nvSpPr>
          <p:cNvPr id="49" name="PlaceHolder 2"/>
          <p:cNvSpPr>
            <a:spLocks noGrp="1"/>
          </p:cNvSpPr>
          <p:nvPr>
            <p:ph/>
          </p:nvPr>
        </p:nvSpPr>
        <p:spPr>
          <a:xfrm>
            <a:off x="395280" y="1197000"/>
            <a:ext cx="8229600" cy="4968720"/>
          </a:xfrm>
          <a:prstGeom prst="rect">
            <a:avLst/>
          </a:prstGeom>
          <a:noFill/>
          <a:ln w="0">
            <a:noFill/>
          </a:ln>
        </p:spPr>
        <p:txBody>
          <a:bodyPr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ie </a:t>
            </a:r>
            <a:r>
              <a:rPr b="1" lang="sk-SK" sz="1600" spc="-1" strike="noStrike">
                <a:solidFill>
                  <a:srgbClr val="000000"/>
                </a:solidFill>
                <a:latin typeface="Calibri"/>
              </a:rPr>
              <a:t>zjednodušeného vykazovania výdavkov - </a:t>
            </a:r>
            <a:r>
              <a:rPr b="0" lang="sk-SK" sz="1600" spc="-1" strike="noStrike">
                <a:solidFill>
                  <a:srgbClr val="000000"/>
                </a:solidFill>
                <a:latin typeface="Calibri"/>
              </a:rPr>
              <a:t>výdavky formou paušálnej sadzby na pokrytie zostávajúcich oprávnených nákladov na operáciu/projekt</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časť nepriamych personálnych výdavkov presunutá do priamych výdavkov – časť 3 rozpočtu (projektový manažér, manažér monitorovania, finančný manažér, administratívni zamestnanci) – výdavky spojené s tými prac. pozíciami ostávajú v paušálnej sadzbe (napr. stravné, cestovné náhrady, nájom priestorov)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iadenie viazané na časť 3 rozpočtu – samostatná aktivita + k nej priradené všetky MÚ</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kvalifikačné predpoklady pre riadenie projektu projektový manažér, manažér monitorovania, finančný manažér, administratívni zamestnanci (vplyv na oprávnenosť výdavkov) – príloha č. 5 výzv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podmienky na preukázanie hospodárnosti a efektív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mena číselníka výdavkov - podľa číselníka v metodickom pokyne vydanom CKO č. 6 do žiadosti o NFP,   ekonomické klasifikácie sa uvádzajú iba rozpočet- exceli ako samostatnej prílohe (kvôli Žo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adený dôraz na preukazovanie hodnoty za peniaze – hospodárnosť, efektívnosť</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a:t>
            </a:r>
            <a:endParaRPr b="0" lang="en-US" sz="4400" spc="-1" strike="noStrike">
              <a:solidFill>
                <a:srgbClr val="000000"/>
              </a:solidFill>
              <a:latin typeface="Calibri"/>
            </a:endParaRPr>
          </a:p>
        </p:txBody>
      </p:sp>
      <p:sp>
        <p:nvSpPr>
          <p:cNvPr id="51" name=""/>
          <p:cNvSpPr txBox="1"/>
          <p:nvPr/>
        </p:nvSpPr>
        <p:spPr>
          <a:xfrm>
            <a:off x="499680" y="1197000"/>
            <a:ext cx="818676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Calibri"/>
              </a:rPr>
              <a:t>52 - Osobné výdavky</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521 - Mzdové výdavky (vrátane odmien za prácu vykonávanú mimo pracovného pomeru, platov, povinných odvodov za zamestnávateľa a iných zákonných náhrad)</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352 - Poskytnutie dotácií, príspevkov voči tretím osobám </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910 - Jednotkové výdavky</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903 - Paušálna sadzba na nepriame výdavky projektu ( nariadenie 1303/2013, čl. 68 písm. b)</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a:t>
            </a:r>
            <a:endParaRPr b="0" lang="en-US" sz="4400" spc="-1" strike="noStrike">
              <a:solidFill>
                <a:srgbClr val="000000"/>
              </a:solidFill>
              <a:latin typeface="Calibri"/>
            </a:endParaRPr>
          </a:p>
        </p:txBody>
      </p:sp>
      <p:sp>
        <p:nvSpPr>
          <p:cNvPr id="53" name=""/>
          <p:cNvSpPr txBox="1"/>
          <p:nvPr/>
        </p:nvSpPr>
        <p:spPr>
          <a:xfrm>
            <a:off x="499680" y="1052640"/>
            <a:ext cx="8186760" cy="518472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koordinačné činnosti - </a:t>
            </a:r>
            <a:r>
              <a:rPr b="0" lang="sk-SK" sz="1400" spc="-1" strike="noStrike">
                <a:solidFill>
                  <a:srgbClr val="000000"/>
                </a:solidFill>
                <a:latin typeface="Calibri"/>
              </a:rPr>
              <a:t>výdavky vzniknuté na základe pracovnoprávnych vzťahov alebo obdobných vzťahov (napr. zákonník práce, zákon o štátnej službe,...) - ide o pracovné činnosti uvedené v prílohe č.1a rozpočet v časti 3 „Koordinácia projektu“, 3.1 „Personálne výdavky interné - koordinačné činnosti; tieto výdavky </a:t>
            </a:r>
            <a:r>
              <a:rPr b="1" lang="sk-SK" sz="1400" spc="-1" strike="noStrike">
                <a:solidFill>
                  <a:srgbClr val="000000"/>
                </a:solidFill>
                <a:latin typeface="Calibri"/>
              </a:rPr>
              <a:t>nesmú tvoriť podstatnú časť rozpočtu</a:t>
            </a:r>
            <a:r>
              <a:rPr b="0" lang="sk-SK" sz="1400" spc="-1" strike="noStrike">
                <a:solidFill>
                  <a:srgbClr val="000000"/>
                </a:solidFill>
                <a:latin typeface="Calibri"/>
              </a:rPr>
              <a:t>; musia byť primerané rozsahu, obsahu a náročnosti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 - </a:t>
            </a:r>
            <a:r>
              <a:rPr b="0" lang="sk-SK" sz="1400" spc="-1" strike="noStrike">
                <a:solidFill>
                  <a:srgbClr val="000000"/>
                </a:solidFill>
                <a:latin typeface="Calibri"/>
              </a:rPr>
              <a:t>výdavky vzniknuté na základe pracovnoprávnych vzťahov alebo obdobných vzťahov (napr. zákonník práce, zákon o štátnej službe,...) v prípade stáži pôjde o refundáciu mzdy pedagogického a odborného zamestnanca školy alebo školského zariadenia, v ktorom študent prax vykonáva;  v prípade tvorby metodických materiálov budú ich tvorcovia zamestnaní u prijímateľa na pracovnú zmluvu (napr. čiastočný úväzok)</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aušálna sadzba </a:t>
            </a:r>
            <a:r>
              <a:rPr b="0" lang="sk-SK" sz="1400" spc="-1" strike="noStrike">
                <a:solidFill>
                  <a:srgbClr val="000000"/>
                </a:solidFill>
                <a:latin typeface="Calibri"/>
              </a:rPr>
              <a:t>na </a:t>
            </a:r>
            <a:r>
              <a:rPr b="1" lang="sk-SK" sz="1400" spc="-1" strike="noStrike">
                <a:solidFill>
                  <a:srgbClr val="000000"/>
                </a:solidFill>
                <a:latin typeface="Calibri"/>
              </a:rPr>
              <a:t>nepriame výdavky vo výške 15 % oprávnených priamych nákladov na zamestnancov </a:t>
            </a:r>
            <a:r>
              <a:rPr b="0" lang="sk-SK" sz="1400" spc="-1" strike="noStrike">
                <a:solidFill>
                  <a:srgbClr val="000000"/>
                </a:solidFill>
                <a:latin typeface="Calibri"/>
              </a:rPr>
              <a:t>(všeobecné nariadenie, čl. 68  písm. b)</a:t>
            </a:r>
            <a:r>
              <a:rPr b="1" lang="sk-SK" sz="1400" spc="-1" strike="noStrike">
                <a:solidFill>
                  <a:srgbClr val="000000"/>
                </a:solidFill>
                <a:latin typeface="Calibri"/>
              </a:rPr>
              <a:t>. </a:t>
            </a:r>
            <a:r>
              <a:rPr b="0" lang="sk-SK" sz="1400" spc="-1" strike="noStrike">
                <a:solidFill>
                  <a:srgbClr val="000000"/>
                </a:solidFill>
                <a:latin typeface="Calibri"/>
              </a:rPr>
              <a:t>Priamymi personálnymi výdavkami sú interné personálne výdavky (t. j. ekon. klasifikácia 610620 – pracovný pomer; ekon. klasifikácia 637027 – dohody zamestnancov mimo pracovného pomeru a    k nim súvisiace/prislúchajúce odvody – ekon. klasifikácia 610620 resp. zo skupiny výdavkov 521 a zo skupiny výdavkov 352). Podľa dokumentu „Usmernenia týkajúce sa zjednodušených možností vykazovania nákladov: EŠIF“ dávky alebo výplaty vyplatené v prospech účastníkov projektu(ov) v rámci ESF sa nepovažujú za priame náklady(výdavky) na zamestnancov; </a:t>
            </a:r>
            <a:r>
              <a:rPr b="1" lang="sk-SK" sz="1400" spc="-1" strike="noStrike">
                <a:solidFill>
                  <a:srgbClr val="000000"/>
                </a:solidFill>
                <a:latin typeface="Calibri"/>
              </a:rPr>
              <a:t>do  základne pre výpočet paušálnej sadzby nie je možné zahrnúť štandardnú stupnicu jednotkových nákladov uvedenú nižšie v bode č. 4.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štandardná stupnica jednotkových nákladov - prax študentov učiteľských fakúlt – prax budúcich učiteľov</a:t>
            </a:r>
            <a:r>
              <a:rPr b="0" lang="sk-SK" sz="1400" spc="-1" strike="noStrike">
                <a:solidFill>
                  <a:srgbClr val="000000"/>
                </a:solidFill>
                <a:latin typeface="Calibri"/>
              </a:rPr>
              <a:t> - hodina priameho rozboru  jednotky priamej vyučovacej činnosti (vyučovacia hodina v škole) alebo priamej výchovnej činnosti (školské zariadenie) študenta cvičným učiteľom – týka sa projektov obsahujúcich pedagogické praxe – bližšie informácie sú uvedené v prílohe č. 6 výzv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I. - ŠSJN</a:t>
            </a:r>
            <a:endParaRPr b="0" lang="en-US" sz="4400" spc="-1" strike="noStrike">
              <a:solidFill>
                <a:srgbClr val="000000"/>
              </a:solidFill>
              <a:latin typeface="Calibri"/>
            </a:endParaRPr>
          </a:p>
        </p:txBody>
      </p:sp>
      <p:sp>
        <p:nvSpPr>
          <p:cNvPr id="55" name=""/>
          <p:cNvSpPr txBox="1"/>
          <p:nvPr/>
        </p:nvSpPr>
        <p:spPr>
          <a:xfrm>
            <a:off x="493200" y="1197000"/>
            <a:ext cx="8186760" cy="49687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e46c0a"/>
                </a:solidFill>
                <a:latin typeface="Calibri"/>
              </a:rPr>
              <a:t>štandardná stupnica jednotkových nákladov - prax študentov učiteľských fakúlt – prax budúcich učiteľov - hodina priameho rozboru jednotky priamej vyučovacej činnosti (vyučovacia hodina v škole) alebo priamej výchovnej činnosti (školské zariadenie) študenta cvičným učiteľom</a:t>
            </a:r>
            <a:endParaRPr b="0" lang="en-US" sz="18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avedenie </a:t>
            </a:r>
            <a:r>
              <a:rPr b="1" lang="sk-SK" sz="1600" spc="-1" strike="noStrike">
                <a:solidFill>
                  <a:srgbClr val="000000"/>
                </a:solidFill>
                <a:latin typeface="Calibri"/>
              </a:rPr>
              <a:t>jednotkových nákladov na realizáciu praxe budúcich učiteľov verejných vysokých škôl </a:t>
            </a:r>
            <a:r>
              <a:rPr b="0" lang="sk-SK" sz="1600" spc="-1" strike="noStrike">
                <a:solidFill>
                  <a:srgbClr val="000000"/>
                </a:solidFill>
                <a:latin typeface="Calibri"/>
              </a:rPr>
              <a:t>(t.j. študentov učiteľských fakúlt), v projektoch, ktoré sa zameriavajú na zvýšenie kvality vysokoškolského vzdelávania- oblasť vzdelávania a prípravy budúcich učiteľov regionálneho školstva (MŠ, ZŠ, SŠ).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Učiteľskými fakultami sú fakulty pripravujúce na učiteľské povolanie (najmä fakulty pedagogické, filozofické, prírodovedecké, športu, teologické a pod.)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edagogická prax sa týka </a:t>
            </a:r>
            <a:r>
              <a:rPr b="1" lang="sk-SK" sz="1600" spc="-1" strike="noStrike">
                <a:solidFill>
                  <a:srgbClr val="000000"/>
                </a:solidFill>
                <a:latin typeface="Calibri"/>
              </a:rPr>
              <a:t>študentov dennej formy štúdia v študijných odboroch učiteľstvo akademických predmetov, učiteľstvo profesijných predmetov a praktickej prípravy, učiteľstvo umelecko-výchovných a výchovných predmetov, pedagogika, predškolská a elementárna pedagogika a špeciálna pedagogika a liečebná pedagogika</a:t>
            </a:r>
            <a:r>
              <a:rPr b="0" lang="sk-SK"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je tvorená dotáciou na hodinu rozboru na študenta v súlade s Metodikou rozpisu dotácií zo štátneho rozpočtu verejným vysokým školá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II. - ŠSJN</a:t>
            </a:r>
            <a:endParaRPr b="0" lang="en-US" sz="4400" spc="-1" strike="noStrike">
              <a:solidFill>
                <a:srgbClr val="000000"/>
              </a:solidFill>
              <a:latin typeface="Calibri"/>
            </a:endParaRPr>
          </a:p>
        </p:txBody>
      </p:sp>
      <p:sp>
        <p:nvSpPr>
          <p:cNvPr id="57" name=""/>
          <p:cNvSpPr txBox="1"/>
          <p:nvPr/>
        </p:nvSpPr>
        <p:spPr>
          <a:xfrm>
            <a:off x="499680" y="1267920"/>
            <a:ext cx="8186760" cy="496908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Calibri"/>
              </a:rPr>
              <a:t>štandardná stupnica jednotkových nákladov je 10,63 EUR na hodinu priameho rozboru na študenta</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cieľom pedagogickej praxe, ako súčasti pedagogicko-profesijnej zložky učiteľského vzdelávania, je rozvoj profesijných kompetencií študentov a konfrontácia ich teoretických vedomostí, predmetných schopností a skúseností so školskou praxou.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Pedagogická prax sa </a:t>
            </a:r>
            <a:r>
              <a:rPr b="1" lang="sk-SK" sz="1800" spc="-1" strike="noStrike">
                <a:solidFill>
                  <a:srgbClr val="000000"/>
                </a:solidFill>
                <a:latin typeface="Calibri"/>
              </a:rPr>
              <a:t>realizuje najmä v cvičných školách a cvičných školských zariadeniach </a:t>
            </a:r>
            <a:r>
              <a:rPr b="0" lang="sk-SK" sz="1800" spc="-1" strike="noStrike">
                <a:solidFill>
                  <a:srgbClr val="000000"/>
                </a:solidFill>
                <a:latin typeface="Calibri"/>
              </a:rPr>
              <a:t>uvedených v § 37 zákona č. 131/2002 Z. z. o vysokých školách a o zmene a doplnení niektorých zákonov v znení neskorších predpisov, ďalej len „cvičné školy“.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Cvičná škola alebo cvičné školské zariadenie je inštitúcia, s ktorou verejná vysoká škola uzatvára zmluvu o spolupráci (v zmysle § 37 ods. 2) zákona o vysokých školách.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ýber cvičných škôl a cvičných zariadení v projekte/projektoch musí byť transparentný.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Pedagogickú prax študentov verejnej vysokej školy v cvičnej škole vedie cvičný učiteľ cvičnej školy alebo cvičného zariadenia.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V. - ŠSJN</a:t>
            </a:r>
            <a:endParaRPr b="0" lang="en-US" sz="4400" spc="-1" strike="noStrike">
              <a:solidFill>
                <a:srgbClr val="000000"/>
              </a:solidFill>
              <a:latin typeface="Calibri"/>
            </a:endParaRPr>
          </a:p>
        </p:txBody>
      </p:sp>
      <p:sp>
        <p:nvSpPr>
          <p:cNvPr id="59" name=""/>
          <p:cNvSpPr txBox="1"/>
          <p:nvPr/>
        </p:nvSpPr>
        <p:spPr>
          <a:xfrm>
            <a:off x="499680" y="1267920"/>
            <a:ext cx="8186760" cy="49690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Jednotkové náklady sa týkajú </a:t>
            </a:r>
            <a:r>
              <a:rPr b="1" lang="sk-SK" sz="1800" spc="-1" strike="noStrike">
                <a:solidFill>
                  <a:srgbClr val="e46c0a"/>
                </a:solidFill>
                <a:latin typeface="Calibri"/>
              </a:rPr>
              <a:t>pedagogických praxí nad rámec ich financovania zo štátneho rozpočtu</a:t>
            </a:r>
            <a:r>
              <a:rPr b="0" lang="sk-SK" sz="1800" spc="-1" strike="noStrike">
                <a:solidFill>
                  <a:srgbClr val="000000"/>
                </a:solidFill>
                <a:latin typeface="Calibri"/>
              </a:rPr>
              <a:t>:</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inovované pedagogické praxe - inovácia a overenie existujúcich druhov pedagogických praxí v rámci študijných programov VŠ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nový model/typ pedagogických praxí - vytvorenie a overenie nového modelu pedagogických praxí,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zvýšený počet praxí nad rámec praxí definovaných v študijných programoch vysokých škôl - pedagogické praxe nad rámec súčasného rozsahu praxí realizovaných v študijných programoch VŠ</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rámci štandardnej stupnice sa budú preplácať výdavky súvisiace s činnosťou cvičného učiteľa, ktorý vykonáva rozbor/analýzu každej priamej vyučovacej alebo priamej výchovnej činnosti študenta, ktorú priamo odučí počas prax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Cvičný učiteľ realizuje rozbory mimo svojej pracovnej náplne, t.j, nad rámec svojho pracovnoprávneho pomeru v škole. Cvičný učiteľ vykonáva rozbory na základe dohody mimo pracovného pomeru (dohody o vykonaní prác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9-08-05T05:39:48Z</dcterms:modified>
  <cp:revision>149</cp:revision>
  <dc:subject/>
  <dc:title>Snímka 1</dc:title>
</cp:coreProperties>
</file>