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0454E-36A1-4070-B7BC-C5F6FC0FA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A98A9-F435-49E6-B15C-F82CD0B23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B4613-42A0-4DC3-993D-E8FB83250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31F22-4605-4278-AFA5-A99175702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B1BBB-80B9-4AED-AA3D-1E99CBD61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0C4BE-4ADD-49B0-8AC0-2765EDBC6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E917D-D871-4CEE-9EB8-C7D059D06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7DD54-FEED-4026-B456-58ACDCF78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2AD70-5C56-4F7E-AC43-2DC4DB622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7D4ED-EE55-4B83-8947-8EC704798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DC022-5E8E-4615-AC17-DA929F37B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D8BFE-9DED-4F0F-9C11-AE65BF509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0C00B-B552-48A4-89FC-9215919FD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5243-C8C6-4E9E-AAEC-703303FE9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DB68E-5C5B-4EC3-8481-FB5FC4452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FB5A2-DE30-42E0-B3FA-8763D3905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8952C-676E-465B-8DFF-8D2AA0F1B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0AEC1-13C3-44EC-BD74-6067112F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7023E-42E0-4525-90C3-AFE80E11A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5582A-A609-4E88-8715-B6BDE2B7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634C1-EFEA-449F-84C9-A9458C06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DD89-51F0-4925-B332-AEF4856A2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8B58-A801-471D-B3F9-55DE79B1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E758-5E79-4360-943B-FD2DC4598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9767-7210-44DA-A4C5-E3F1F3A22F6C}"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E907-560A-4103-B47B-5BA6D73762BE}"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Výzva na predkladanie žiadostí o NFP „Skvalitnenie prípravy budúcich pedagogických a odborných zamestnancov“, kód OPLZ-PO1/2019/DOP/1.3.1-01</a:t>
            </a:r>
            <a:endParaRPr b="0" lang="en-US" sz="2800" spc="-1" strike="noStrike">
              <a:solidFill>
                <a:srgbClr val="000000"/>
              </a:solidFill>
              <a:latin typeface="Calibri"/>
            </a:endParaRPr>
          </a:p>
        </p:txBody>
      </p:sp>
      <p:sp>
        <p:nvSpPr>
          <p:cNvPr id="83" name="BlokTextu 5"/>
          <p:cNvSpPr/>
          <p:nvPr/>
        </p:nvSpPr>
        <p:spPr>
          <a:xfrm>
            <a:off x="0" y="587700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05.08.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2" name=""/>
          <p:cNvSpPr txBox="1"/>
          <p:nvPr/>
        </p:nvSpPr>
        <p:spPr>
          <a:xfrm>
            <a:off x="324000" y="980640"/>
            <a:ext cx="83311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ealizáciou stáže študentov nesmie dochádzať k duplicitnému financovaniu činností/výdavkov pedagogického a/alebo odborného zamestnanca súvisiacich s riadnou pracovnou náplňou pedagogického zamestnanca a/alebo odborného zamestnanca cvičnej školy alebo cvičného školského zariadenia, (t. j. činnosti vykonávaných ako súčasť výchovno-vzdelávacieho procesu).</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edmetom stáže nesmú byť činnosti realizované a financované výdavky súvisiace s činnosťou cvičného učiteľa, ktorý vykonáva rozbor/analýzu každej priamej vyučovacej alebo priamej výchovnej činnosti študenta, ktorú priamo odučí počas prax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4"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3) </a:t>
            </a:r>
            <a:r>
              <a:rPr b="1" lang="sk-SK" sz="2400" spc="-1" strike="noStrike">
                <a:solidFill>
                  <a:srgbClr val="000000"/>
                </a:solidFill>
                <a:latin typeface="Calibri"/>
              </a:rPr>
              <a:t>tvorba podporných vzdelávacích materiálov pre pedagogických zamestnancov cvičnej školy alebo cvičného školského zariadenia </a:t>
            </a:r>
            <a:r>
              <a:rPr b="0" lang="sk-SK" sz="2400" spc="-1" strike="noStrike">
                <a:solidFill>
                  <a:srgbClr val="000000"/>
                </a:solidFill>
                <a:latin typeface="Calibri"/>
              </a:rPr>
              <a:t>napr.: pracovné listy, pomôcky, hry, tvorivé materiály pre skupinovú prácu, a pod. a ich prezentácia a/alebo verejná oponentúr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ijímateľ je povinný vytvorené podporné vzdelávacie materiály zverejniť na svojom webovom sídle s uvedením licencie CC BY (https://sk.creativecommons.org/?page_id=6 ) tak aby tieto vzdelávacie materiály boli dostupné pre kohokoľvek na ďalšie používan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6"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4) </a:t>
            </a:r>
            <a:r>
              <a:rPr b="1" lang="sk-SK" sz="2400" spc="-1" strike="noStrike">
                <a:solidFill>
                  <a:srgbClr val="000000"/>
                </a:solidFill>
                <a:latin typeface="Calibri"/>
              </a:rPr>
              <a:t>Riadenie/koordinácia projektu </a:t>
            </a:r>
            <a:r>
              <a:rPr b="0" lang="sk-SK" sz="2400" spc="-1" strike="noStrike">
                <a:solidFill>
                  <a:srgbClr val="000000"/>
                </a:solidFill>
                <a:latin typeface="Calibri"/>
              </a:rPr>
              <a:t>– </a:t>
            </a:r>
            <a:r>
              <a:rPr b="0" lang="sk-SK" sz="2400" spc="-1" strike="noStrike">
                <a:solidFill>
                  <a:srgbClr val="ff0000"/>
                </a:solidFill>
                <a:latin typeface="Calibri"/>
              </a:rPr>
              <a:t>povinná ako samostatná podaktivita bez ohľadu na to, ktoré činnosti/podaktivity 1-3 bude žiadateľ realizovať</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8" name=""/>
          <p:cNvSpPr txBox="1"/>
          <p:nvPr/>
        </p:nvSpPr>
        <p:spPr>
          <a:xfrm>
            <a:off x="499680" y="1125360"/>
            <a:ext cx="8155080" cy="539928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u="sng">
                <a:solidFill>
                  <a:srgbClr val="000000"/>
                </a:solidFill>
                <a:uFillTx/>
                <a:latin typeface="Calibri"/>
              </a:rPr>
              <a:t>Všeobecn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Formulár ŽoNFP (bod 7.2 a 9)</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Výber škôl a školských zariadení musí byť transparentný</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Školy a školské zariadenia nesmú byť financované prevažne zo súkromných zdrojov (súkromné zdroje nepredstavujú 50% a viac)</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môže predložiť viacero žiadostí o NFP s rovnakými oprávnenými aktivitami a súčasne rovnakou cieľovou skupinou. V prípade, ak žiadateľ predloží viacero žiadostí o NFP, ktoré porušia čo i len jednu z uvedených podmienok, budú tieto žiadosti o NFP vylúčené zo schvaľovacieho procesu.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smie ukončiť fyzickú realizáciu hlavných aktivít projektu, t. j. plne zrealizovať všetky aktivity projektu, pred predložením ŽoNFP v rámci tejto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odmienky poskytnutia príspevku</a:t>
            </a:r>
            <a:endParaRPr b="0" lang="en-US" sz="3600" spc="-1" strike="noStrike">
              <a:solidFill>
                <a:srgbClr val="000000"/>
              </a:solidFill>
              <a:latin typeface="Calibri"/>
            </a:endParaRPr>
          </a:p>
        </p:txBody>
      </p:sp>
      <p:sp>
        <p:nvSpPr>
          <p:cNvPr id="110" name=""/>
          <p:cNvSpPr txBox="1"/>
          <p:nvPr/>
        </p:nvSpPr>
        <p:spPr>
          <a:xfrm>
            <a:off x="499680" y="1196640"/>
            <a:ext cx="8155080" cy="532764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Podmienka oprávnenosti žiadateľa (právna forma)</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4</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 Podmienka nebyť dlžníkom na daniach</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daniach u miestne príslušného správcu dane.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3. Podmienka nebyť dlžníkom poistného na zdravotnom poistení</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poistného na zdravotnom poistení v žiadnej zdravotnej poisťovni poskytujúcej verejné zdravotné poistenie v SR.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4. Podmienka ne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 Podmienka zákazu vedenia výkonu rozhodnutia voči žiadateľov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nesmie byť vedený výkon rozhodnutia ani vymáhacie konanie v súlade s článkom 71 všeobecného nariade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6. Podmienka, že voči žiadateľovi sa nenárokuje vrátenie pomoci na základe rozhodnutia EK, ktorým bola pomoc označená za neoprávnenú a nezlučiteľnú s vnútorným trh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nárokovať vrátenie pomoci na základe rozhodnutia Európskej komisie, ktorým bola pomoc označená za neoprávnenú a nezlučiteľnú so spoločným trhom.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Spôsob overenia: Čestné vyhlásenie žiadateľa v ŽoNFP (bod 1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7. Podmienka finančnej spôsobilosti spolufinancovania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musí byť finančne spôsobilý na spolufinancovanie projektu.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Sken dokumentu: napr. výpis z bankového účtu, resp. potvrdenie komerčnej banky, že žiadateľ disponuje požadovanou výškou finančných prostriedkov; úverová zmluva; Čestné vyhlásenie žiadateľa v ŽoNFP (bod 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8. Podmienka, že žiadateľ ani jeho štatutárny orgán, ani žiadny člen štatutárneho orgánu, ani prokurista/i, ani osoba splnomocnená zastupovať žiadateľa v konaní o ŽoNFP neboli právoplatne odsúdení za trestný čin korupcie, za trestný čin poškodzovania finančných záujmov Európskej únie, za trestný čin legalizácie príjmu z trestnej činnosti, za trestný čin založenia, zosnovania a podporovania zločineckej skupiny, alebo za trestný čin machinácie pri verejnom obstarávaní a verejnej dražbe</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jeho štatutárny orgán, žiadny člen štatutárneho orgánu, prokurista/i ani osoba splnomocnená zastupovať žiadateľa v konaní o ŽoNFP neboli právoplatne odsúdení podľa Trestného zákona za trestný čin (ďalej len „TČ“) korupcie, TČ poškodzovania finančných záujmov Európskej únie, TČ legalizácie príjmu z trestnej činnosti, TČ založenia, zosnovania a podporovania zločineckej skupiny alebo TČ machinácie pri verejnom obstarávaní a verejnej dražbe.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Čestné vyhlásenie žiadateľa v ŽoNFP (bod 1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9. Podmienka, že voči žiadateľovi nie je vedené konkurzné konanie, reštrukturalizačné konanie, nie je v konkurze ani v reštrukturalizáci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informácie</a:t>
            </a:r>
            <a:endParaRPr b="0" lang="en-US" sz="3600" spc="-1" strike="noStrike">
              <a:solidFill>
                <a:srgbClr val="000000"/>
              </a:solidFill>
              <a:latin typeface="Calibri"/>
            </a:endParaRPr>
          </a:p>
        </p:txBody>
      </p:sp>
      <p:sp>
        <p:nvSpPr>
          <p:cNvPr id="85" name=""/>
          <p:cNvSpPr txBox="1"/>
          <p:nvPr/>
        </p:nvSpPr>
        <p:spPr>
          <a:xfrm>
            <a:off x="352440" y="1458720"/>
            <a:ext cx="8331120" cy="539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ýzva v rámci prioritnej osi č. 1 Vzdelávanie OP Ľudské zdroje, špecifický cieľ 1.3.1 </a:t>
            </a:r>
            <a:r>
              <a:rPr b="0" i="1" lang="sk-SK" sz="2400" spc="-1" strike="noStrike">
                <a:solidFill>
                  <a:srgbClr val="000000"/>
                </a:solidFill>
                <a:latin typeface="Calibri"/>
              </a:rPr>
              <a:t>Zvýšiť kvalitu VŠ vzdelávania a rozvoj ľudských zdrojov v oblasti výskumu a vývoja s cieľom dosiahnuť prepojenie VŠ vzdelávania s potrebami trhu prá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hlásenie výzvy dňa 26.07.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tvorená výzva (systém hodnotiacich kô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Uzávierka 1. hodnotiaceho kola </a:t>
            </a:r>
            <a:r>
              <a:rPr b="1" lang="sk-SK" sz="2400" spc="-1" strike="noStrike">
                <a:solidFill>
                  <a:srgbClr val="000000"/>
                </a:solidFill>
                <a:latin typeface="Calibri"/>
              </a:rPr>
              <a:t>30.09.2019</a:t>
            </a:r>
            <a:r>
              <a:rPr b="0" lang="sk-SK" sz="2400" spc="-1" strike="noStrike">
                <a:solidFill>
                  <a:srgbClr val="000000"/>
                </a:solidFill>
                <a:latin typeface="Calibri"/>
              </a:rPr>
              <a:t>, 2. kolo </a:t>
            </a:r>
            <a:r>
              <a:rPr b="1" lang="sk-SK" sz="2400" spc="-1" strike="noStrike">
                <a:solidFill>
                  <a:srgbClr val="000000"/>
                </a:solidFill>
                <a:latin typeface="Calibri"/>
              </a:rPr>
              <a:t>15.11.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Celé územie Slovensk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15 mil. EUR (z toho pre BSK 1,5 mil.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na projekt 100 001 EUR- 500 000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Dĺžka trvania realizácie aktivít od 18 do 36 mesiac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0. Podmienka, že voči žiadateľovi ktorým je právnická osoba, nemá právoplatným rozsudkom uložený trest zákazu prijímať dotácie alebo subvencie, trest zákazu prijímať pomoc a podporu poskytovanú z fondov EÚ alebo trest zákazu činnosti vo verejnom obstarávaní podľa osobitného predpis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260280"/>
            <a:ext cx="8186760" cy="58327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1. </a:t>
            </a:r>
            <a:r>
              <a:rPr b="1" lang="pl-PL" sz="2400" spc="-1" strike="noStrike">
                <a:solidFill>
                  <a:srgbClr val="000000"/>
                </a:solidFill>
                <a:latin typeface="Calibri"/>
              </a:rPr>
              <a:t>Podmienka oprávnenosti cieľovej skupiny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2. Podmienka, že hlavné aktivity projektu sú vo vecnom súlade s oprávnenými aktivitami OP ĽZ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y 6-12 pp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3. Podmienka, že výdavky projektu sú oprávnené a nárokovaná výška výdavkov je oprávnená na financovanie z OP ĽZ</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samostatná ppt k podmienke (výdavk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4. Podmienka, že projekt je realizovaný na oprávnenom územ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ým miestom realizácie aktivít projektu sú všetky kraje menej rozvinutého regiónu a viac rozvinutý región.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Geografická oprávnenosť žiadateľa (oprávnené miesto realizácie projektu) sa určuje prostredníctvom toho, z ktorého regiónu Slovenskej republiky pochádza cieľová skupina v projekte, pričom pri študentoch vysokej školy sa za rozhodujúce považuje sídlo vysokej školy/fakulty, ktorej sú študentami.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5 a 6)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15. Podmienka splnenia kritérií pre výber projektov</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oNFP musí splniť kritériá pre výber projektov, ktoré boli schválené prostredníctvom monitorovacieho výboru pre OP ĽZ a sú prílohou č. 7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zn.: Podmienka nie je preukazovaná zo strany žiadateľa samostatnou prílohou. Informácie potrebné k vyhodnoteniu doplňujúceho kritéria uvedie žiadateľ vo formulári ŽoNFP (bod 7.2).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6. Podmienka relevantného spôsobu financova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tejto výzvy sa uplatňuje spôsob financovania prostredníctvom: refundácie, formou zálohových platieb, a/alebo formou kombinácie zálohových platieb a refundácie v súlade s platným Systémom finančného riadenia EŠI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oskytovaného príspevku: nenávratný finančný príspev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áto podmienka nie je predmetom preukázania splnenia zo strany žiadateľa pri predložení žiadosti o NFP.</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7. Podmienka neporušenia zákazu nelegálneho zamestnávania štátneho príslušníka tretej krajiny žiadateľom za obdobie 5 rokov predchádzajúcich podaniu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nesmie porušiť zákaz nelegálnej práce a nelegálneho zamestnávania podľa osobitného predpisu za obdobie 5 rokov predchádzajúcich predloženiu žiadosti o 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Čestné vyhlásenie Formulár ŽoNFP časť 15</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8. Podmienky týkajúce sa štátnej pomoci a vyplývajúce zo schém štátnej pomoci/pomoci de minimi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é aktivity tak, ako sú stanovené touto výzvou nie sú poskytovaním štátnej pomoci a teda vo vzťahu k oprávneným aktivitám sa neuplatňujú pravidlá štátnej pomoci. Žiadateľ/prijímateľ si je vedomý, že štátnou pomocou sa v tejto súvislosti rozumie každá pomoc v akejkoľvek forme, ktorú poskytuje na podnikanie alebo v súvislosti s ním poskytovateľ priamo alebo nepriamo z prostriedkov štátneho rozpočtu, zo svojho rozpočtu alebo z vlastných zdrojov podniku, pričom však nezáleží na právnej forme žiadateľa/prijímateľa a spôsobe jeho financovani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orma preukázania: Nie je predmetom preukazovania zo strany žiadateľ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9. Oprávnenosť z hľadiska súladu s H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dložená ŽoNFP, musí byť v súlade s horizontálnymi princípmi rovnosť mužov a žien a nediskriminácia a udržateľný rozvoj na roky 2014 – 2020 a v čl. 7 a 8 všeobecného nariade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5 a časť 7.2) a Čestné vyhlásenie žiadateľa v ŽoNFP (bod 15)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súladu s HP nie je preukazovaná zo strany žiadateľa samostatnou prílohou.</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0. Minimálna a maximálna výška príspevku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výška príspevku na projekt je 100 001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výška príspevku na projekt je 500 000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Žiadateľ je povinný plniť podmienku minimálnej výšky príspevku do momentu poskytnutia súčinnosti podľa § 25 ods. 4 zákona o príspevku z EŠIF v prípade vydania rozhodnutia o schválení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11) a Rozpočet projektu s podrobným komentárom (Príloha č. 1a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50560" y="260280"/>
            <a:ext cx="8186760" cy="583272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1. Časová oprávnenosť realizácie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dĺžka na realizáciu aktivít projektu – 18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dĺžka na realizáciu aktivít projektu je 36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9)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2. Podmienky poskytnutia príspevku z hľadiska definovania merateľných ukazovateľov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erateľné ukazovatele projektu pre túto výzvu sú definované v prílohe č. 3 Zoznam povinných merateľných ukazovateľov projektu merateľných ukazovateľov (ďalej „MU“), vrátane ukazovateľov relevantných k HP a iných údajov tejto výzvy. Všetky MU vo výzve v prílohe č. 3 sú definované ako povinné.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y 9, 10.1 a 10.2)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3. Podmienka zákazu predloženia viacero ŽoNFP vo vzťahu k prebiehajúcemu alebo ukončenému schvaľovaciemu procesu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ie je oprávnený predložiť viacero ŽoNFP v rámci tejto výzvy resp. hodnotiaceho kola tejto výzvy pre rovnaké aktivity a zároveň rovnakú cieľovú skupinu ak konanie o predmetnej ŽoNFP stále trvá resp. bolo vydané Rozhodnutie o schválení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o NFP v časti 15 žiadosti o 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59920"/>
            <a:ext cx="8186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6" name=""/>
          <p:cNvSpPr txBox="1"/>
          <p:nvPr/>
        </p:nvSpPr>
        <p:spPr>
          <a:xfrm>
            <a:off x="395280" y="1052640"/>
            <a:ext cx="833112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ulár ŽoNFP s prílohami (ŽoNFP, rozpočet, doplňujúce informácie k administratívnej a prevádzkovej kapacite, prieskum trhu, plnomocenstvo, životopis, čestné vyhlásenie, formulár žiadosti o výpis z registra trest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íručka pre žiadateľa pre prioritnú os 1 Vzdelávanie OP ĽZ, verzia 6.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povinných merateľných ukazovateľov, vrátane ukazovateľov relevantných k HP a iných údaj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oprávnených a neoprávnených výdavk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iadenie projektu – vytypované pozície – náplň činnosti a kvalifikačné predpoklad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edkladanie projektov</a:t>
            </a:r>
            <a:endParaRPr b="0" lang="en-US" sz="3600" spc="-1" strike="noStrike">
              <a:solidFill>
                <a:srgbClr val="000000"/>
              </a:solidFill>
              <a:latin typeface="Calibri"/>
            </a:endParaRPr>
          </a:p>
        </p:txBody>
      </p:sp>
      <p:sp>
        <p:nvSpPr>
          <p:cNvPr id="87" name=""/>
          <p:cNvSpPr txBox="1"/>
          <p:nvPr/>
        </p:nvSpPr>
        <p:spPr>
          <a:xfrm>
            <a:off x="355680" y="1052640"/>
            <a:ext cx="8331120" cy="489744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edkladanie projektov – MŠVVaŠ SR (nie Výskumná agentúra/ASFE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ojekty sa predkladajú cez ITMS2014+ (neplatia prístupy z minulosti)</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ísomná verzia osobne/poštou/kuriérom</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elektronická verzia – možnosť využiť elektronickú schránk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Minimalizovanie počtu predkladaných dokumentov zo strany žiadateľov (potvrdeni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o predložení projektu administratívna kontrola (možnosť zaslať výzvu na doplnenie chýbajúcich náležitostí/klarifikáciu), odborné hodnotenie, vydanie Rozhodnutí o schválení/neschválení ŽoNFP, v Rozhodnutí môžu byť podmienky, uzavretie Zmluvy o poskytnutí NFP</a:t>
            </a:r>
            <a:endParaRPr b="0" lang="en-US" sz="23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8" name=""/>
          <p:cNvSpPr txBox="1"/>
          <p:nvPr/>
        </p:nvSpPr>
        <p:spPr>
          <a:xfrm>
            <a:off x="324000" y="1267920"/>
            <a:ext cx="833112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andardná stupnica jednotkových nákladov-prax študentov učiteľských fakúlt-prax budúcich učiteľov-hodina priameho rozboru jednotky vyučovacej činnosti (vyučovacia hodina v škole) alebo priamej výchovnej činnosti (školské zariadenie) študenta cvičným učiteľo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pre výber projektov OP ĽZ a metodika ich uplatňo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formácia pre žiadateľov o nenávratný finančný príspevok, resp. o príspevok, ktorá je zverejnená na webovom sídle http://www.olaf.vlada.gov.sk/system-vcasneho-odhalovania-rizika-a-vylucenia-e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Ďalšie podporné dokumenty a informácie (zoznam odkaz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í žiadatelia</a:t>
            </a:r>
            <a:endParaRPr b="0" lang="en-US" sz="3600" spc="-1" strike="noStrike">
              <a:solidFill>
                <a:srgbClr val="000000"/>
              </a:solidFill>
              <a:latin typeface="Calibri"/>
            </a:endParaRPr>
          </a:p>
        </p:txBody>
      </p:sp>
      <p:sp>
        <p:nvSpPr>
          <p:cNvPr id="89" name=""/>
          <p:cNvSpPr txBox="1"/>
          <p:nvPr/>
        </p:nvSpPr>
        <p:spPr>
          <a:xfrm>
            <a:off x="250560" y="836640"/>
            <a:ext cx="8404200" cy="1224000"/>
          </a:xfrm>
          <a:prstGeom prst="rect">
            <a:avLst/>
          </a:prstGeom>
          <a:noFill/>
          <a:ln w="0">
            <a:noFill/>
          </a:ln>
        </p:spPr>
        <p:txBody>
          <a:bodyPr anchor="t">
            <a:normAutofit fontScale="4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Verejné vysoké školy </a:t>
            </a:r>
            <a:r>
              <a:rPr b="0" lang="sk-SK" sz="2400" spc="-1" strike="noStrike">
                <a:solidFill>
                  <a:srgbClr val="000000"/>
                </a:solidFill>
                <a:latin typeface="Calibri"/>
              </a:rPr>
              <a:t>v zmysle § 2 ods. 2 písm. a) zákona č. 131/2002 Z. z. o vysokých školách a o zmene a doplnení niektorých zákonov v znení neskorších predpisov</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Žiadosť o NFP nemôže predložiť fakulta</a:t>
            </a:r>
            <a:r>
              <a:rPr b="0" lang="sk-SK" sz="2400" spc="-1" strike="noStrike">
                <a:solidFill>
                  <a:srgbClr val="000000"/>
                </a:solidFill>
                <a:latin typeface="Calibri"/>
              </a:rPr>
              <a:t>, predkladá výhradne vysoká škola (možnosť predložiť jednu alebo viac žiadostí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Identifikácia žiadateľa vo formulári žiadosti o NFP, podmienka nie je preukazovaná zo strany žiadateľa samostatnou prílohou</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Nadpis 1"/>
          <p:cNvSpPr/>
          <p:nvPr/>
        </p:nvSpPr>
        <p:spPr>
          <a:xfrm>
            <a:off x="1042920" y="2421000"/>
            <a:ext cx="785988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cieľové skupiny</a:t>
            </a:r>
            <a:endParaRPr b="0" lang="en-US" sz="3600" spc="-1" strike="noStrike">
              <a:solidFill>
                <a:srgbClr val="000000"/>
              </a:solidFill>
              <a:latin typeface="Calibri"/>
            </a:endParaRPr>
          </a:p>
        </p:txBody>
      </p:sp>
      <p:sp>
        <p:nvSpPr>
          <p:cNvPr id="92" name=""/>
          <p:cNvSpPr txBox="1"/>
          <p:nvPr/>
        </p:nvSpPr>
        <p:spPr>
          <a:xfrm>
            <a:off x="250560" y="764640"/>
            <a:ext cx="8404200" cy="1295640"/>
          </a:xfrm>
          <a:prstGeom prst="rect">
            <a:avLst/>
          </a:prstGeom>
          <a:noFill/>
          <a:ln w="0">
            <a:noFill/>
          </a:ln>
        </p:spPr>
        <p:txBody>
          <a:bodyPr anchor="t">
            <a:normAutofit fontScale="60000"/>
          </a:bodyPr>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udenti dennej formy štúdia prvého a/alebo druhého stupňa VŠ v odboroch pripravujúcich budúcich pedagogických a/alebo odborných zamestnancov</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podmienka nie je preukazovaná zo strany žiadateľa samostatnou prílohou</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4" name=""/>
          <p:cNvSpPr txBox="1"/>
          <p:nvPr/>
        </p:nvSpPr>
        <p:spPr>
          <a:xfrm>
            <a:off x="499680" y="1052640"/>
            <a:ext cx="8155080" cy="54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Znenie aktivity v ITMS2014+ (názov typu aktivity z textu OPĽZ):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V žiadosti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zadefinuje v časti 9 jednu hlavnú aktivitu priradenú k typu aktivity </a:t>
            </a: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 </a:t>
            </a:r>
            <a:r>
              <a:rPr b="0" lang="sk-SK" sz="2400" spc="-1" strike="noStrike">
                <a:solidFill>
                  <a:srgbClr val="000000"/>
                </a:solidFill>
                <a:latin typeface="Calibri"/>
              </a:rPr>
              <a:t>a v časti 7.2 popíše činnosti/podaktivity v rámci hlavnej aktivit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6" name=""/>
          <p:cNvSpPr txBox="1"/>
          <p:nvPr/>
        </p:nvSpPr>
        <p:spPr>
          <a:xfrm>
            <a:off x="499680" y="1125360"/>
            <a:ext cx="8155080" cy="539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Oprávnené činnosti/podaktivity hlavnej aktivity v rámci výzvy – časť 7.2:</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1) prax študentov učiteľských fakúlt –prax budúcich učiteľov - štandardná stupnica jednotkových nákladov </a:t>
            </a:r>
            <a:r>
              <a:rPr b="1" lang="sk-SK" sz="2400" spc="-1" strike="noStrike">
                <a:solidFill>
                  <a:srgbClr val="000000"/>
                </a:solidFill>
                <a:latin typeface="Calibri"/>
              </a:rPr>
              <a:t>hodina priameho rozboru jednotky priamej vyučovacej činnosti </a:t>
            </a:r>
            <a:r>
              <a:rPr b="0" lang="sk-SK" sz="2400" spc="-1" strike="noStrike">
                <a:solidFill>
                  <a:srgbClr val="000000"/>
                </a:solidFill>
                <a:latin typeface="Calibri"/>
              </a:rPr>
              <a:t>(vyučovacia hodina v škole) </a:t>
            </a:r>
            <a:r>
              <a:rPr b="1" lang="sk-SK" sz="2400" spc="-1" strike="noStrike">
                <a:solidFill>
                  <a:srgbClr val="000000"/>
                </a:solidFill>
                <a:latin typeface="Calibri"/>
              </a:rPr>
              <a:t>alebo priamej výchovnej činnosti </a:t>
            </a:r>
            <a:r>
              <a:rPr b="0" lang="sk-SK" sz="2400" spc="-1" strike="noStrike">
                <a:solidFill>
                  <a:srgbClr val="000000"/>
                </a:solidFill>
                <a:latin typeface="Calibri"/>
              </a:rPr>
              <a:t>(školské zariadenie) </a:t>
            </a:r>
            <a:r>
              <a:rPr b="1" lang="sk-SK" sz="2400" spc="-1" strike="noStrike">
                <a:solidFill>
                  <a:srgbClr val="000000"/>
                </a:solidFill>
                <a:latin typeface="Calibri"/>
              </a:rPr>
              <a:t>študenta cvičným učiteľom </a:t>
            </a:r>
            <a:r>
              <a:rPr b="0" lang="sk-SK" sz="2400" spc="-1" strike="noStrike">
                <a:solidFill>
                  <a:srgbClr val="000000"/>
                </a:solidFill>
                <a:latin typeface="Calibri"/>
              </a:rPr>
              <a:t>v súlade </a:t>
            </a:r>
            <a:r>
              <a:rPr b="0" lang="sk-SK" sz="2400" spc="-1" strike="noStrike" u="sng">
                <a:solidFill>
                  <a:srgbClr val="000000"/>
                </a:solidFill>
                <a:uFillTx/>
                <a:latin typeface="Calibri"/>
              </a:rPr>
              <a:t>s prílohou č. 6 tejto výzv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u="sng">
                <a:solidFill>
                  <a:srgbClr val="000000"/>
                </a:solidFill>
                <a:uFillTx/>
                <a:latin typeface="Calibri"/>
              </a:rPr>
              <a:t>Týka sa výhradne študijných odborov: </a:t>
            </a:r>
            <a:r>
              <a:rPr b="0" lang="sk-SK" sz="2400" spc="-1" strike="noStrike">
                <a:solidFill>
                  <a:srgbClr val="000000"/>
                </a:solidFill>
                <a:latin typeface="Calibri"/>
              </a:rPr>
              <a:t>učiteľstvo akademických predmetov, učiteľstvo profesijných predmetov a praktickej prípravy, učiteľstvo umelecko-výchovných a výchovných predmetov, pedagogika, predškolská a elementárna pedagogika, špeciálna pedagogika, liečebná pedagogika nad rámec ich financovania zo štátneho rozpoč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8" name=""/>
          <p:cNvSpPr txBox="1"/>
          <p:nvPr/>
        </p:nvSpPr>
        <p:spPr>
          <a:xfrm>
            <a:off x="395280" y="1052640"/>
            <a:ext cx="8259840" cy="54720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ovované pedagogické praxe - inovácia a overenie existujúcich druhov pedagogických praxí v rámci študijných programov VŠ</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nový model/typ pedagogických praxí - vytvorenie a overenie nového modelu pedagogických praxí,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výšený počet praxí nad rámec praxí definovaných v študijných programoch vysokých škôl- pedagogické praxe nad rámec súčasného rozsahu praxí realizovaných v študijných programoch VŠ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v časti 7.2 ŽoNFP popíše, ktorú/ktoré z vyššie uvedených troch možností plánuje realizovať (môže aj všetky tri)</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ozsah resp. strop pedagogických praxí financovaných v rámci štandardnej stupnice jednotkových nákladov je pre túto výzvu stanovený nasledovne – max. 140 043 rozborov/projek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0" name=""/>
          <p:cNvSpPr txBox="1"/>
          <p:nvPr/>
        </p:nvSpPr>
        <p:spPr>
          <a:xfrm>
            <a:off x="324000" y="980640"/>
            <a:ext cx="8331120" cy="5543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2) </a:t>
            </a:r>
            <a:r>
              <a:rPr b="1" lang="sk-SK" sz="2400" spc="-1" strike="noStrike">
                <a:solidFill>
                  <a:srgbClr val="000000"/>
                </a:solidFill>
                <a:latin typeface="Calibri"/>
              </a:rPr>
              <a:t>stáž študentov študijných programov vysokých škôl pripravujúcich budúcich pedagogických a/alebo odborných zamestnancov</a:t>
            </a:r>
            <a:r>
              <a:rPr b="0" lang="sk-SK" sz="2400" spc="-1" strike="noStrike">
                <a:solidFill>
                  <a:srgbClr val="000000"/>
                </a:solidFill>
                <a:latin typeface="Calibri"/>
              </a:rPr>
              <a:t>: </a:t>
            </a:r>
            <a:r>
              <a:rPr b="0" i="1" lang="sk-SK" sz="2400" spc="-1" strike="noStrike">
                <a:solidFill>
                  <a:srgbClr val="000000"/>
                </a:solidFill>
                <a:latin typeface="Calibri"/>
              </a:rPr>
              <a:t>Stáž študentov je forma praktickej skúsenosti realizovaná v škole a/alebo školskom zariadení zaradenom do Siete škôl a školských zariadení</a:t>
            </a:r>
            <a:r>
              <a:rPr b="0" lang="sk-SK"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je povinný v časti 7.2 popísať spôsob realizácie stáže a jej výstup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čas implementácie projektu je prijímateľ povinný pred spustením tejto činnosti predložiť poskytovateľovi plán stáž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Paľková Veronika</cp:lastModifiedBy>
  <dcterms:modified xsi:type="dcterms:W3CDTF">2019-08-05T07:28:31Z</dcterms:modified>
  <cp:revision>175</cp:revision>
  <dc:subject/>
  <dc:title>Snímka 1</dc:title>
</cp:coreProperties>
</file>