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D8F4D-8B0E-4232-8C23-C1D289E6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D38F9-9E2C-497F-B6D8-D0802ED6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89403-43B8-4909-A66C-0F1ED559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35F1D-E20A-4DAF-8121-34A60DE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B5F9-0BE3-419F-9564-73C65612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C1229-6701-4B42-932D-2415AF0F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B8CD2-0F9E-448F-88D8-980538B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887EF-8452-45F9-B9DE-68903984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365B9-2164-4B3E-A82B-51A861BE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9DDD0-0821-4209-B46B-3BF90891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381E1-793C-400E-AA65-B4D01AA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1ADF1-7D17-42C7-876D-B67630CA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520BF-3B6F-461E-A6EA-F227781A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D0C73-FA92-471B-BD02-7F2C1DC5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9F920-0796-45CC-AA9A-69F33635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0AE5-0C4D-4670-A331-99236841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2F9BE-EC12-4FAD-B544-2574CB3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5497D-A652-44D2-8137-F53A6DF0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7994D-1081-4688-8397-05EE948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21B35-96B7-4588-8433-9327CE76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E510F-248E-4BCB-9002-5386D82D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4CC17-BF48-4A9C-AB90-C854DAA7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2F05F-9667-437A-95ED-BE3BA2D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6E0A7-E1C6-446E-997B-926FB3A6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73960-F58F-411F-A07B-AF1E9A50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FF617-16AC-4951-9B1E-F0DA725C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B870C-826D-4608-9D9F-D85F96D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FAE7C-E3B8-4E36-B654-D7DC821B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D294B-5DCF-47E8-9B27-BDAEA0E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B45CF-1A07-49F2-AFF6-8FA5A06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B2F-33FB-427E-A590-A7030C6C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84C43-ECBC-42A0-B227-79ADDA08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A570F-16BC-4CFF-A355-C116DECE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083A3-F84C-4380-9260-2074AE9B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7CF00-F3A8-450A-9284-14B8C7C6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653D3-B24D-4FC5-880E-10D6C55E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86B1-432E-4772-8E59-31AECABB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82F42-F48B-4716-80D5-520DB1A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26A70-C172-4899-9A4D-B5AD72A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AFC99-6494-4F9C-8D5F-8E6E642B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5AAF0-4C30-454F-B083-D79C95E0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B44-38C2-4EBC-B3D2-857F10AF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76FFF-94A4-44DE-9DEC-4403F0C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1F0F5-8BB8-47F5-9639-97F1514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0AB54-1A57-43F8-B765-8AADA227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869E2-41B6-4514-80DC-AB1FF4AF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514D4-C346-40D6-A2B1-7DFF373B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30AC3-56DD-4EC5-9010-CB8E4386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DE753-4EAA-45EF-B353-FDFF0761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D4D7B-BA7A-4314-8BB7-598464FC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9B610-CB85-4490-8BF9-D0991394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018EC-0735-4AFD-8AF6-EF277493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E02-A3A5-4938-9593-0ADBECA6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300FA-1EBB-469B-A663-C145D511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D286D-312D-448F-94D3-1DE6BC5B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CC89F-D480-4C69-9A3C-077F3732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120A9-761D-4296-B002-9BB585C9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781D5-F0DC-4F9A-B038-4112F0BB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64A9C-8B9A-4AF9-AED9-2BC71C8D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C25F5-CF2F-46FB-970D-4A940B2C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7083D-1711-40AC-879C-0360317D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454FB-E2CD-4966-81E6-61ED153D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D704C-792E-4504-A19E-D31271EE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476-E43F-499E-8BF4-EFF7361D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03F63-3218-416A-B7A1-4C5EC726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6A00A-2219-428C-8F32-66581335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E189D-1FF5-43B3-B226-551C1680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0215A-CB26-49A6-A481-5FD7F8AA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0F432-3D9E-4B70-AA6A-7271EA55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CBF0A-8CA0-4D03-BDE2-1CE31142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BB571-AC9C-4E6B-A7C0-2529648F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DC0AB-3021-4720-810E-5038412D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00146-4A5F-43BA-A85A-5A44AC13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520-8965-4D06-982A-2AA64DB7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732-D141-4A36-BE77-12BE9593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581-1186-45AF-B5C0-0BB0C8ED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FD4-3C37-42FD-A01C-76EF4EC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DF2-8F15-45C8-9B8E-A1D17184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3B3-9663-4320-B34E-7DF83EC5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49A-CAA1-4427-882F-EDDB2BB6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1A7-CF3A-495B-A730-D4F9B89D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7E9D-B43A-42F6-8D46-7244C5E5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373B-39E6-4A3A-B5B3-7E013C88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0DFC-E42D-4DD6-989D-1130B4D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4932-E1B9-47A4-A4E5-E63B7547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443C-9FA4-47EB-94DD-65C3AC70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7A0B-065E-44E1-845C-896A3B03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25DF-ADC7-41AC-A955-089162F6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A57B-BFA8-4B99-9CB8-BAE423E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DC95-4553-49C0-80C5-2F80B1D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9810-EA4E-43E6-9452-0F290913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5F3-413A-422E-A3ED-4E3C3DF9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C4E1-DDE6-4D61-9463-10A5C827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08F4-7109-44F2-91D9-DBCE1096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160F-C375-4ED0-AF6A-9DE730FA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5D19-37FB-4B8B-89BE-672CC443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D2B38-452F-48D0-8795-A01E9898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51A0-59A8-4810-B0B0-E911AD49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A4FF-0D3B-424E-B51F-7BAE8AEA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EB73-2CD3-48AB-BEAF-8673A493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A4271-7F5F-471A-8E18-FB156443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9E5B-4640-4E3E-824C-5940878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1F5C-5967-46DF-8A7F-60B0E9CA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66C31-D0C3-4B18-8802-8A0968A1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90AC-D340-4F11-AB82-F37E8814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6CC8-2F94-4360-A612-81479DA5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8F35F-9B89-4C4B-B668-62384075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24FC2-BD69-4AF8-9887-0960937A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52FF-77FE-48B6-A694-EE443371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3930-9F08-48FD-8BE7-A31FCCD7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1049-F8A7-4C0B-94C3-891D30D6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427D-E7F9-49AE-BBBD-C853D43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6A92-B569-4115-ADA0-8DBD9CE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91F5-CAE1-4778-8014-C71263B2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941E-0584-4B74-AF9B-B3478943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A2AD3-1771-4FDC-8FED-904F7E2F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41D7-FB94-4908-94D9-632A1BA5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A1F1-583D-4FCB-AC9D-49866AE9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8F22-A17F-454D-AD39-F7F964E7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A012B-7123-4DE3-935C-CCF59D16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320D-DDC8-47BA-B34E-F558CDE6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40BD-2D7B-413C-B429-9EF08D3C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02098-2F6E-40B6-874D-AECA04EE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02892-87E7-4D4A-9DE4-13D02B2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7FA1-573F-4936-BC14-9B355387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B45A-842D-4657-9876-3D8C81CD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EB00-3FBA-4AC0-B065-EA307163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22879-8216-452E-BD83-AB775946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4AF95-C2F5-48E7-86A1-CD62EE4F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72117-C24E-459F-8019-93602836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5CA3B-2AE1-416C-99D3-9C307124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6D2B-2FFB-4F0B-AC71-3EBD1C37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49F67-63E9-4A1D-8E45-8DA20AAC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B8566-59F7-4E95-851A-9B626DBD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349200" y="1219320"/>
            <a:ext cx="8337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CD55D-A0E3-41B9-90CE-A9FEC1DF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9C285-DBA1-4D1A-86ED-03154730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914E-B15D-4F27-9BC3-C588648C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FDAB5-7C5B-4078-A868-586DC2F6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49200" y="4243320"/>
            <a:ext cx="8337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B1E87-5316-4FFD-9206-0837D8A8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1680" y="209376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4920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21680" y="4243320"/>
            <a:ext cx="4068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E6C65-9DF0-49DD-A824-CE2A8E0D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6836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87520" y="209376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4920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6836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87520" y="4243320"/>
            <a:ext cx="268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C705-780B-4EF2-85DC-1B315576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DAFE7-799B-46C0-A23F-5287145C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A9F03-BD32-47E9-A3C8-8249C4D8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62280-D873-43DA-A8C1-8279F7D2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_x001d_UMA29156_ppt_kwad2_ROA_UK.gif                                  002BA636_x000c_Macintosh HD                   C4E2E1E0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4" marL="1981080" indent="-228600">
              <a:spcBef>
                <a:spcPts val="799"/>
              </a:spcBef>
              <a:buClr>
                <a:srgbClr val="001c3d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3" name="Picture 23" descr="_x0017_UMA29156_balk_onder.gif                                        002BA636_x000c_Macintosh HD                   C4E2E1E0:"/>
          <p:cNvPicPr/>
          <p:nvPr/>
        </p:nvPicPr>
        <p:blipFill>
          <a:blip r:embed="rId3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4" name="Text Box 24"/>
          <p:cNvSpPr/>
          <p:nvPr/>
        </p:nvSpPr>
        <p:spPr>
          <a:xfrm>
            <a:off x="250920" y="6411960"/>
            <a:ext cx="810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DG-HE Meeting: Towards a European Graduate Survey</a:t>
            </a:r>
            <a:endParaRPr b="0" lang="en-US" sz="1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B295-2C9C-43C4-B871-51C5A757B7EB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58D-8AE8-43B1-BC63-0A871A42FBFC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06D8-8CC6-4D06-A367-2248DB6957A9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F2E8-F482-403B-85DE-55FA674F671A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0B00-5730-4BEC-8110-C3EFE2FDF89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ratislav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776-2606-491A-80C7-38B0FED0E9C6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2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2" descr="_x001d_UMA29156_ppt_kwad2_ROA_UK.gif                                  002BA636_x000c_Macintosh HD                   C4E2E1E0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4" marL="1981080" indent="-228600">
              <a:spcBef>
                <a:spcPts val="799"/>
              </a:spcBef>
              <a:buClr>
                <a:srgbClr val="001c3d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634C-BEDD-453A-97BE-910A4C3D55BB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66D-2668-4C30-8A4A-185A279C8A8C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F1FE-631E-45C6-B87C-35B1C6ABE35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CC6D-7E83-4E29-9CB5-6DB497550A76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AEED-56CD-4DD0-9188-1A0D159C044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A88E-F65B-4B63-BBCC-9811D18BBDAC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urograduate.e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3" descr="_x0015_UMA29156_bg_A_ROA.gif                                          002BA636_x000c_Macintosh HD                   C4E2E1E0: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7513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7"/>
          <p:cNvSpPr/>
          <p:nvPr/>
        </p:nvSpPr>
        <p:spPr>
          <a:xfrm>
            <a:off x="0" y="1752480"/>
            <a:ext cx="152280" cy="1981440"/>
          </a:xfrm>
          <a:prstGeom prst="rect">
            <a:avLst/>
          </a:prstGeom>
          <a:solidFill>
            <a:srgbClr val="e84e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152280" y="1752480"/>
            <a:ext cx="8839440" cy="1981440"/>
          </a:xfrm>
          <a:prstGeom prst="rect">
            <a:avLst/>
          </a:prstGeom>
          <a:solidFill>
            <a:srgbClr val="00a2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8793000" y="1104840"/>
            <a:ext cx="0" cy="5676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33520" y="189072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wards a European Graduate Survey</a:t>
            </a:r>
            <a:endParaRPr b="0" lang="en-US" sz="2400" spc="-1" strike="noStrike">
              <a:solidFill>
                <a:srgbClr val="001c3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c3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ristoph Meng </a:t>
            </a:r>
            <a:endParaRPr b="0" lang="en-US" sz="24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577" name="Picture 7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1726920" cy="407880"/>
          </a:xfrm>
          <a:prstGeom prst="rect">
            <a:avLst/>
          </a:prstGeom>
          <a:ln w="0">
            <a:noFill/>
          </a:ln>
        </p:spPr>
      </p:pic>
      <p:pic>
        <p:nvPicPr>
          <p:cNvPr id="578" name="Grafik 43" descr=""/>
          <p:cNvPicPr/>
          <p:nvPr/>
        </p:nvPicPr>
        <p:blipFill>
          <a:blip r:embed="rId3"/>
          <a:stretch/>
        </p:blipFill>
        <p:spPr>
          <a:xfrm>
            <a:off x="542880" y="4005360"/>
            <a:ext cx="1258920" cy="549000"/>
          </a:xfrm>
          <a:prstGeom prst="rect">
            <a:avLst/>
          </a:prstGeom>
          <a:ln w="0">
            <a:noFill/>
          </a:ln>
        </p:spPr>
      </p:pic>
      <p:pic>
        <p:nvPicPr>
          <p:cNvPr id="579" name="Grafik 56" descr=""/>
          <p:cNvPicPr/>
          <p:nvPr/>
        </p:nvPicPr>
        <p:blipFill>
          <a:blip r:embed="rId4"/>
          <a:stretch/>
        </p:blipFill>
        <p:spPr>
          <a:xfrm>
            <a:off x="4548240" y="3943440"/>
            <a:ext cx="1079280" cy="776160"/>
          </a:xfrm>
          <a:prstGeom prst="rect">
            <a:avLst/>
          </a:prstGeom>
          <a:ln w="0">
            <a:noFill/>
          </a:ln>
        </p:spPr>
      </p:pic>
      <p:sp>
        <p:nvSpPr>
          <p:cNvPr id="580" name="Textfeld 2"/>
          <p:cNvSpPr/>
          <p:nvPr/>
        </p:nvSpPr>
        <p:spPr>
          <a:xfrm>
            <a:off x="395280" y="4743360"/>
            <a:ext cx="828036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alibri"/>
                <a:ea typeface="Times New Roman"/>
              </a:rPr>
              <a:t>Research Centre for Education and the Labour Market, Maastricht  University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alibri"/>
                <a:ea typeface="Times New Roman"/>
              </a:rPr>
              <a:t>German Centre for Higher Education Research and Science Studies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alibri"/>
                <a:ea typeface="Times New Roman"/>
              </a:rPr>
              <a:t>Institute for Advanced Studies, Vienna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alibri"/>
                <a:ea typeface="Times New Roman"/>
              </a:rPr>
              <a:t>Education Policy Centre, Charles University  (EPC), Prague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581" name="Picture 11" descr=""/>
          <p:cNvPicPr/>
          <p:nvPr/>
        </p:nvPicPr>
        <p:blipFill>
          <a:blip r:embed="rId5"/>
          <a:stretch/>
        </p:blipFill>
        <p:spPr>
          <a:xfrm>
            <a:off x="6227640" y="3819600"/>
            <a:ext cx="19162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Education – Job Match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Unemployment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Horizontal Mismatch 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Vertical Mismatch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Dubbel Mismatch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3d"/>
                </a:solidFill>
                <a:latin typeface="Verdana"/>
              </a:rPr>
              <a:t>5 years after graduation (Reflex study 2005: Master graduates)</a:t>
            </a:r>
            <a:endParaRPr b="1" lang="en-US" sz="2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601" name="Content Placeholder 3" descr=""/>
          <p:cNvPicPr/>
          <p:nvPr/>
        </p:nvPicPr>
        <p:blipFill>
          <a:blip r:embed="rId1"/>
          <a:stretch/>
        </p:blipFill>
        <p:spPr>
          <a:xfrm>
            <a:off x="298440" y="2043000"/>
            <a:ext cx="843912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49200" y="1298160"/>
            <a:ext cx="8337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Why panel study?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Allows to answer questions such as: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c3d"/>
                </a:solidFill>
                <a:latin typeface="Verdana"/>
              </a:rPr>
              <a:t>How important is a good start?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c3d"/>
                </a:solidFill>
                <a:latin typeface="Verdana"/>
              </a:rPr>
              <a:t>Can graduates recover from a bad start?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c3d"/>
                </a:solidFill>
                <a:latin typeface="Verdana"/>
              </a:rPr>
              <a:t>Do competency requirements depend on the time spent on the labour market?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49200" y="1298160"/>
            <a:ext cx="8337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Why panel study?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Allows to answer questions such as: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c3d"/>
                </a:solidFill>
                <a:latin typeface="Verdana"/>
              </a:rPr>
              <a:t>How important is a good start?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an graduates recover from a bad start?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c3d"/>
                </a:solidFill>
                <a:latin typeface="Verdana"/>
              </a:rPr>
              <a:t>Do competency requirements depend on the time spent on the labour market?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49200" y="1298160"/>
            <a:ext cx="8337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Why panel study? (Reflex study 2005)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607" name="Content Placeholder 3" descr=""/>
          <p:cNvPicPr/>
          <p:nvPr/>
        </p:nvPicPr>
        <p:blipFill>
          <a:blip r:embed="rId1"/>
          <a:stretch/>
        </p:blipFill>
        <p:spPr>
          <a:xfrm>
            <a:off x="347760" y="2090880"/>
            <a:ext cx="833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European Approach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What can we gain from a European approach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Some examples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Competencies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Higher Education characteristics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48243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Innovation progress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184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Competencies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Reflex Study (2005: 5 years after graduation)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Professional Expertise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Functional Flexibility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Innovation and Knowledge Management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Mobilization of Human Resources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Agenda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Background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Why a new initiative?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What can we gain from a European approach?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How to do it?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3d"/>
                </a:solidFill>
                <a:latin typeface="Verdana"/>
              </a:rPr>
              <a:t>Competencies requirements (Reflex Study 2005)</a:t>
            </a:r>
            <a:endParaRPr b="1" lang="en-US" sz="2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611280" y="2093760"/>
            <a:ext cx="770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3d"/>
                </a:solidFill>
                <a:latin typeface="Verdana"/>
              </a:rPr>
              <a:t>Competencies shortages (Reflex Study 2005)</a:t>
            </a:r>
            <a:endParaRPr b="1" lang="en-US" sz="2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900000" y="2093760"/>
            <a:ext cx="6208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337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3d"/>
                </a:solidFill>
                <a:latin typeface="Verdana"/>
              </a:rPr>
              <a:t>Competencies surpluses (Reflex Study 2005)</a:t>
            </a:r>
            <a:endParaRPr b="1" lang="en-US" sz="2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60680" y="209376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Knowing that your graduates have a shortage/surplus is important but not enough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How can you solve problem?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How to learn competencies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graphicFrame>
        <p:nvGraphicFramePr>
          <p:cNvPr id="627" name="Content Placeholder 5"/>
          <p:cNvGraphicFramePr/>
          <p:nvPr/>
        </p:nvGraphicFramePr>
        <p:xfrm>
          <a:off x="301680" y="2043000"/>
          <a:ext cx="8432640" cy="42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8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2043000"/>
                    <a:ext cx="843264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349200" y="2093760"/>
            <a:ext cx="8337600" cy="4114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c3d"/>
                </a:solidFill>
                <a:latin typeface="Verdana"/>
              </a:rPr>
              <a:t>Large differences in work experience as part of the curriculum</a:t>
            </a:r>
            <a:endParaRPr b="1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graphicFrame>
        <p:nvGraphicFramePr>
          <p:cNvPr id="631" name="Object 3"/>
          <p:cNvGraphicFramePr/>
          <p:nvPr/>
        </p:nvGraphicFramePr>
        <p:xfrm>
          <a:off x="395280" y="2205000"/>
          <a:ext cx="7993080" cy="432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5000"/>
                    <a:ext cx="7993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Eurograduate</a:t>
            </a: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Combining information: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What labour market requires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What higher education provides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Helps to understand: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How we can improve higher education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How we can help graduates to succeed on the labour market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How we can learn from each other 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Informs: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Policy advisors on both national and European level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Higher Education institutes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Stakeholders on the labour market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Future students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How to do it?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What the feasibility study tells us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1c3d"/>
                </a:solidFill>
                <a:latin typeface="Verdana"/>
              </a:rPr>
              <a:t>Research Design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1c3d"/>
                </a:solidFill>
                <a:latin typeface="Verdana"/>
              </a:rPr>
              <a:t>Focus on EU countries and open to further European countries</a:t>
            </a: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1c3d"/>
                </a:solidFill>
                <a:latin typeface="Verdana"/>
              </a:rPr>
              <a:t>Graduates with Bachelors’ and Masters’ degrees</a:t>
            </a: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1c3d"/>
                </a:solidFill>
                <a:latin typeface="Verdana"/>
              </a:rPr>
              <a:t>Panel surveys 1, 5, and 9  years after graduation</a:t>
            </a: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1c3d"/>
                </a:solidFill>
                <a:latin typeface="Verdana"/>
              </a:rPr>
              <a:t>Study repetitions every four years</a:t>
            </a: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1c3d"/>
                </a:solidFill>
                <a:latin typeface="Verdana"/>
              </a:rPr>
              <a:t>Start with cohorts 1 and 5 years after graduation</a:t>
            </a: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1c3d"/>
                </a:solidFill>
                <a:latin typeface="Verdana"/>
              </a:rPr>
              <a:t>Size of the sample: Country * Type of degree * Field of study</a:t>
            </a: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1c3d"/>
                </a:solidFill>
                <a:latin typeface="Verdana"/>
              </a:rPr>
              <a:t>A centralised online survey with country- and institution specific extensions</a:t>
            </a: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1c3d"/>
                </a:solidFill>
                <a:latin typeface="Verdana"/>
              </a:rPr>
              <a:t>A decentralised recruitment of graduates</a:t>
            </a: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1c3d"/>
                </a:solidFill>
                <a:latin typeface="Verdana"/>
              </a:rPr>
              <a:t>Global Planning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3d"/>
                </a:solidFill>
                <a:latin typeface="Verdana"/>
              </a:rPr>
              <a:t>Piloting phase (t0 en t1)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3d"/>
                </a:solidFill>
                <a:latin typeface="Verdana"/>
              </a:rPr>
              <a:t>EUROGRADUATE I (t2 – t4)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c3d"/>
                </a:solidFill>
                <a:latin typeface="Verdana"/>
              </a:rPr>
              <a:t>Organisational set-up of first round of EUROGRADUATE: </a:t>
            </a:r>
            <a:r>
              <a:rPr b="0" lang="en-US" sz="1800" spc="-1" strike="noStrike">
                <a:solidFill>
                  <a:srgbClr val="001c3d"/>
                </a:solidFill>
                <a:latin typeface="Verdana"/>
              </a:rPr>
              <a:t>t2-t3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c3d"/>
                </a:solidFill>
                <a:latin typeface="Verdana"/>
              </a:rPr>
              <a:t>Field phase: t3-t4</a:t>
            </a:r>
            <a:r>
              <a:rPr b="1" lang="en-GB" sz="1800" spc="-1" strike="noStrike">
                <a:solidFill>
                  <a:srgbClr val="001c3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1c3d"/>
                </a:solidFill>
                <a:latin typeface="Verdana"/>
              </a:rPr>
              <a:t>Data cleaning &amp; preparation of international data set: t4</a:t>
            </a:r>
            <a:endParaRPr b="0" lang="en-US" sz="14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1c3d"/>
                </a:solidFill>
                <a:latin typeface="Verdana"/>
              </a:rPr>
              <a:t>Data analysis and reporting: t5</a:t>
            </a:r>
            <a:endParaRPr b="0" lang="en-US" sz="14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49200" y="1371240"/>
            <a:ext cx="8337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Background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9200" y="2209320"/>
            <a:ext cx="83376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Recently published feasibility study: EUROGRADUATE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Demand for a European graduate study among stakeholders at national and European level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the transition of graduates to the labour market,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quality of the job match,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career prospects,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skills, competencies, and values of graduates,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mobility behaviour,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detailed information on the higher education received by graduates.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1c3d"/>
                </a:solidFill>
                <a:latin typeface="Verdana"/>
              </a:rPr>
              <a:t>More Information</a:t>
            </a:r>
            <a:r>
              <a:rPr b="1" lang="nl-NL" sz="3000" spc="-1" strike="noStrike">
                <a:solidFill>
                  <a:srgbClr val="001c3d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23640" y="2060640"/>
            <a:ext cx="8337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eurograduate.eu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37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1c3d"/>
                </a:solidFill>
                <a:latin typeface="Verdana"/>
              </a:rPr>
              <a:t>Dimensions of the relevance of higher education</a:t>
            </a:r>
            <a:endParaRPr b="1" lang="en-US" sz="22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587" name="Diagramm 6" descr=""/>
          <p:cNvPicPr/>
          <p:nvPr/>
        </p:nvPicPr>
        <p:blipFill>
          <a:blip r:embed="rId1"/>
          <a:stretch/>
        </p:blipFill>
        <p:spPr>
          <a:xfrm>
            <a:off x="324000" y="1596960"/>
            <a:ext cx="833904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Why not existing data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EU-LFS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Small numbers of respondents severely limits to analyse higher education graduates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Does it provide all the information you need?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Linking National Graduate Surveys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Only cross-sectional studies / no panel studies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Different approaches: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Timing (1/2 year, 1 year, 3 year etc)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Population (Bachelor, Masters)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Concepts used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Operationalization of concepts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Why not existing data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EU-LFS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Small numbers of respondents severely limits to analyse higher education graduates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Does it provide all the information you need</a:t>
            </a:r>
            <a:r>
              <a:rPr b="0" lang="en-GB" sz="2000" spc="-1" strike="noStrike">
                <a:solidFill>
                  <a:srgbClr val="001c3d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Linking National Graduate Surveys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Only cross-sectional studies /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no panel studies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Different approaches: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Timing (1/2 year, 1 year, 3 year etc)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Population (Bachelor, Masters)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Concepts used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1c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c3d"/>
                </a:solidFill>
                <a:latin typeface="Verdana"/>
              </a:rPr>
              <a:t>Operationalization of concepts </a:t>
            </a: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Unemployment rates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593" name="Content Placeholder 3" descr=""/>
          <p:cNvPicPr/>
          <p:nvPr/>
        </p:nvPicPr>
        <p:blipFill>
          <a:blip r:embed="rId1"/>
          <a:stretch/>
        </p:blipFill>
        <p:spPr>
          <a:xfrm>
            <a:off x="347760" y="2090880"/>
            <a:ext cx="833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3d"/>
                </a:solidFill>
                <a:latin typeface="Verdana"/>
              </a:rPr>
              <a:t>5 years after graduation (Reflex study 2005)</a:t>
            </a:r>
            <a:endParaRPr b="1" lang="en-US" sz="2000" spc="-1" strike="noStrike">
              <a:solidFill>
                <a:srgbClr val="001c3d"/>
              </a:solidFill>
              <a:latin typeface="Verdana"/>
            </a:endParaRPr>
          </a:p>
        </p:txBody>
      </p:sp>
      <p:pic>
        <p:nvPicPr>
          <p:cNvPr id="595" name="Content Placeholder 3" descr=""/>
          <p:cNvPicPr/>
          <p:nvPr/>
        </p:nvPicPr>
        <p:blipFill>
          <a:blip r:embed="rId1"/>
          <a:stretch/>
        </p:blipFill>
        <p:spPr>
          <a:xfrm>
            <a:off x="298440" y="2043000"/>
            <a:ext cx="843912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49200" y="1219320"/>
            <a:ext cx="8337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49200" y="209376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inding a job is a first step ….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inding a job that matches the study is a second step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9:02:05Z</dcterms:created>
  <dc:creator>Vormgeversassociatie / Sjoerd Kulsdom</dc:creator>
  <dc:description/>
  <dc:language>en-US</dc:language>
  <cp:lastModifiedBy>Piovarči Andrej</cp:lastModifiedBy>
  <cp:lastPrinted>2016-10-11T14:43:47Z</cp:lastPrinted>
  <dcterms:modified xsi:type="dcterms:W3CDTF">2016-10-13T07:17:10Z</dcterms:modified>
  <cp:revision>164</cp:revision>
  <dc:subject/>
  <dc:title>PowerPoint Presentation</dc:title>
</cp:coreProperties>
</file>